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9D1-2416-4001-897B-7429323E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9B0-1629-4DF7-B746-9FDCABFF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ED7-E67C-4CFA-811E-255CCD8E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16B-B3EA-421E-97CD-27188576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EF8-B246-4308-9B1C-3A49B570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DCB-2C1C-466A-88DD-636F209A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38E-7337-4F61-8ADD-876A487F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E57-DAFB-4036-A7AC-7C537837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101-99A1-4576-97C1-2AB51ADB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3F9-CFC5-4AF4-ACDD-4847196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90E-F7E1-44E0-8A6D-C30F70FD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4D8-DD2F-499D-8B51-AD913B2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5200-D63C-44BD-A341-1ADEC9291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onomareva.com/risunki/arhimed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operator-realty.ru/userfiles/italy_sicilia_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links.ru/upload/3e/f8/15/85/30a3e6ed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ptolemy.berkeley.edu/image/ptolemy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t-z-n.ru/prearch/photo/photoq135a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upload.wikimedia.org/wikipedia/commons/5/51/Archimedes_lever_%28Small%29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cs.drexel.edu/~crorres/Archimedes/Claw/claw_engraving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istorya.ru/imagens/ludi/arhimed/arh3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gbogatih.narod.ru/phdvig2.files/img6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istorya.ru/imagens/ludi/arhimed/Archimedes&apos;_screw.gif" TargetMode="External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Картинка 68 из 227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5867280" cy="666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4427640" y="333360"/>
            <a:ext cx="4356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Архимед- </a:t>
            </a:r>
            <a:r>
              <a:rPr b="0" i="1" lang="ru-RU" sz="3200" spc="-1" strike="noStrike">
                <a:solidFill>
                  <a:srgbClr val="3366ff"/>
                </a:solidFill>
                <a:latin typeface="Arial"/>
              </a:rPr>
              <a:t>древнегреческий математик, физик, инжен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9144000" cy="7317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полагаемая гробница  Архим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артинка 1 из 2"/>
          <p:cNvPicPr/>
          <p:nvPr/>
        </p:nvPicPr>
        <p:blipFill>
          <a:blip r:embed="rId2"/>
          <a:stretch/>
        </p:blipFill>
        <p:spPr>
          <a:xfrm>
            <a:off x="900000" y="1413000"/>
            <a:ext cx="6877080" cy="5160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-138600"/>
            <a:ext cx="9144000" cy="740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рхимед родился в Сиракузах, греческой колонии на острове Сиц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Картинка 6 из 208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557360"/>
            <a:ext cx="6624720" cy="495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1440"/>
            <a:ext cx="9144000" cy="716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цом Архимеда был математик и астроном Фидий, состоявший, как утверждает Плутарх, в близком родстве с Гиероном, тираном Сиракуз. Отец привил сыну с детства любовь к математике, механике и астрономии. Для обучения Архимед отправился в Александрию Египетскую — научный и культурный центр т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Картинка 6 из 8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2565360"/>
            <a:ext cx="4790880" cy="360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а 21 из 840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240" y="1916280"/>
            <a:ext cx="3836880" cy="460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332000" y="1916280"/>
            <a:ext cx="5759280" cy="21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генды Архимед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2880"/>
            <a:ext cx="9144000" cy="695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химед сумел определить, сделана ли корона царя Гиерона из чистого золота или ювелир подмешал туда значительное количество серебра. Удельный вес золота был известен, но трудность состояла в том, чтобы точно определить объём короны: ведь она имела неправильную форму! Архимед всё время размышлял над этой задачей. Как-то он принимал ванну, и тут ему пришла в голову блестящая идея: погружая корону в воду, можно определить её объём, измерив объём вытесненной ею воды. Согласно легенде, Архимед выскочил голый на улицу с криком «Эврика!» , то есть «Нашёл!». В этот момент был открыт основной закон гидростатики: закон Архиме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Картинка 7 из 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2637000"/>
            <a:ext cx="5186520" cy="389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2880"/>
            <a:ext cx="9144000" cy="695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ругая легенда рассказывает, что построенный Гиероном в подарок египетскому царю Птолемею тяжёлый многопалубный корабль «Сиракузия» никак не удавалось спустить на воду. Архимед соорудил систему блоков (полиспаст), с помощью которой он смог проделать эту работу одним движением руки. По легенде, Архимед заявил при этом: «Будь в моём распоряжении другая Земля, на которую можно было бы встать, я сдвинул бы с места нашу» (в другом варианте: «Дайте мне точку опоры, и я сдвину Землю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Файл:Archimedes lever (Small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2133720"/>
            <a:ext cx="6769080" cy="451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360"/>
            <a:ext cx="9144000" cy="686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ада Сираку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ый гений Архимеда с особой силой проявился во время осады Сиракуз римлянами в 212 году до н. э. в ходе Второй Пунической вой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Картинка 4 из 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1413000"/>
            <a:ext cx="3888000" cy="316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Картинка 33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4221000"/>
            <a:ext cx="4321080" cy="246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2880"/>
            <a:ext cx="9144000" cy="695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роенные Архимедом мощные метательные машины забрасывали рим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йска тяжёлыми камнями. Думая, что они будут в безопасности у самых стен города, римляне кинулись туда, но в это время лёгкие метательные машины близкого действия забросали их градом ядер. Мощные краны захватывали железными крюками корабли, приподнимали их кверху, а затем бросали вниз, так что корабли переворачивались и тону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Картинка 13 из 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916280"/>
            <a:ext cx="3978360" cy="4941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Картинка 21 из 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64000" y="141300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Картинка 1 из 25"/>
          <p:cNvPicPr/>
          <p:nvPr/>
        </p:nvPicPr>
        <p:blipFill>
          <a:blip r:embed="rId6"/>
          <a:stretch/>
        </p:blipFill>
        <p:spPr>
          <a:xfrm>
            <a:off x="4572000" y="3741840"/>
            <a:ext cx="4140360" cy="3116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 flipV="1" rot="10800000">
            <a:off x="-5040" y="-3960"/>
            <a:ext cx="9148680" cy="685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сказ о смерти Архимеда от рук римлян существует в нескольких версия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дна из вер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863640" y="6718320"/>
            <a:ext cx="8636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Файл:Edouard Vimont (1846-1930) Archimedes death.jpg"/>
          <p:cNvPicPr/>
          <p:nvPr/>
        </p:nvPicPr>
        <p:blipFill>
          <a:blip r:embed="rId2"/>
          <a:stretch/>
        </p:blipFill>
        <p:spPr>
          <a:xfrm>
            <a:off x="2484360" y="1916280"/>
            <a:ext cx="6085080" cy="4465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1:37:55Z</dcterms:created>
  <dc:creator>Admin</dc:creator>
  <dc:description/>
  <dc:language>en-US</dc:language>
  <cp:lastModifiedBy>Валерия</cp:lastModifiedBy>
  <dcterms:modified xsi:type="dcterms:W3CDTF">2013-11-13T16:19:28Z</dcterms:modified>
  <cp:revision>5</cp:revision>
  <dc:subject/>
  <dc:title>Слайд 1</dc:title>
</cp:coreProperties>
</file>