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A105-9175-43D7-91D2-CF56531DB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1B7A-AA0D-4B45-80B6-07AC486C0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D221-7B81-4239-ACC2-AB976A728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2151-6740-4632-8ACA-344FE8638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1ED7-0972-4146-8F74-F9324228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C68-7BC6-4795-9BBA-5BEDA59F7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9AE-EE3E-41DA-91F7-C429A737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1B1A-7864-454A-94ED-2CF72CDD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50B-F35A-4713-8679-241256AB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0EFB-E770-4365-B79F-FFD9D94A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838-77EA-4EBC-8C70-B5D5B7DC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DF68-F1B8-4F6E-BFC0-CA5EFF26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F3BC5-DAB7-416C-A679-B53C283338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ponomareva.com/risunki/arhimed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operator-realty.ru/userfiles/italy_sicilia_1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eblinks.ru/upload/3e/f8/15/85/30a3e6ed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ptolemy.berkeley.edu/image/ptolemy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t-z-n.ru/prearch/photo/photoq135a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upload.wikimedia.org/wikipedia/commons/5/51/Archimedes_lever_%28Small%29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cs.drexel.edu/~crorres/Archimedes/Claw/claw_engraving.jpg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www.istorya.ru/imagens/ludi/arhimed/arh3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gbogatih.narod.ru/phdvig2.files/img6.jpg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istorya.ru/imagens/ludi/arhimed/Archimedes&apos;_screw.gif" TargetMode="External"/><Relationship Id="rId5" Type="http://schemas.openxmlformats.org/officeDocument/2006/relationships/image" Target="../media/image15.pn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Картинка 68 из 2276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5867280" cy="666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4427640" y="333360"/>
            <a:ext cx="43560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66ff"/>
                </a:solidFill>
                <a:latin typeface="Arial"/>
              </a:rPr>
              <a:t>Архимед- </a:t>
            </a:r>
            <a:r>
              <a:rPr b="0" i="1" lang="ru-RU" sz="3200" spc="-1" strike="noStrike">
                <a:solidFill>
                  <a:srgbClr val="3366ff"/>
                </a:solidFill>
                <a:latin typeface="Arial"/>
              </a:rPr>
              <a:t>древнегреческий математик, физик, инжен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0"/>
            <a:ext cx="9144000" cy="73177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едполагаемая гробница  Архиме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Картинка 1 из 2"/>
          <p:cNvPicPr/>
          <p:nvPr/>
        </p:nvPicPr>
        <p:blipFill>
          <a:blip r:embed="rId2"/>
          <a:stretch/>
        </p:blipFill>
        <p:spPr>
          <a:xfrm>
            <a:off x="900000" y="1413000"/>
            <a:ext cx="6877080" cy="5160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-138600"/>
            <a:ext cx="9144000" cy="7405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Архимед родился в Сиракузах, греческой колонии на острове Сици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Картинка 6 из 2089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557360"/>
            <a:ext cx="6624720" cy="495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0" y="1440"/>
            <a:ext cx="9144000" cy="7166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цом Архимеда был математик и астроном Фидий, состоявший, как утверждает Плутарх, в близком родстве с Гиероном, тираном Сиракуз. Отец привил сыну с детства любовь к математике, механике и астрономии. Для обучения Архимед отправился в Александрию Египетскую — научный и культурный центр того вре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Картинка 6 из 84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067280" y="2565360"/>
            <a:ext cx="4790880" cy="3602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а 21 из 8400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240" y="1916280"/>
            <a:ext cx="3836880" cy="4608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0" y="0"/>
            <a:ext cx="9144000" cy="7165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1332000" y="1916280"/>
            <a:ext cx="5759280" cy="2108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Легенды Архимед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plit dir="in" orient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2880"/>
            <a:ext cx="9144000" cy="695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химед сумел определить, сделана ли корона царя Гиерона из чистого золота или ювелир подмешал туда значительное количество серебра. Удельный вес золота был известен, но трудность состояла в том, чтобы точно определить объём короны: ведь она имела неправильную форму! Архимед всё время размышлял над этой задачей. Как-то он принимал ванну, и тут ему пришла в голову блестящая идея: погружая корону в воду, можно определить её объём, измерив объём вытесненной ею воды. Согласно легенде, Архимед выскочил голый на улицу с криком «Эврика!» , то есть «Нашёл!». В этот момент был открыт основной закон гидростатики: закон Архиме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Картинка 7 из 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5280" y="2637000"/>
            <a:ext cx="5186520" cy="389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0" y="2880"/>
            <a:ext cx="9144000" cy="695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ругая легенда рассказывает, что построенный Гиероном в подарок египетскому царю Птолемею тяжёлый многопалубный корабль «Сиракузия» никак не удавалось спустить на воду. Архимед соорудил систему блоков (полиспаст), с помощью которой он смог проделать эту работу одним движением руки. По легенде, Архимед заявил при этом: «Будь в моём распоряжении другая Земля, на которую можно было бы встать, я сдвинул бы с места нашу» (в другом варианте: «Дайте мне точку опоры, и я сдвину Землю»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Файл:Archimedes lever (Small)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2133720"/>
            <a:ext cx="6769080" cy="4516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0" y="360"/>
            <a:ext cx="9144000" cy="686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ада Сираку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женерный гений Архимеда с особой силой проявился во время осады Сиракуз римлянами в 212 году до н. э. в ходе Второй Пунической вой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Картинка 4 из 4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1413000"/>
            <a:ext cx="3888000" cy="316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Картинка 33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4000" y="4221000"/>
            <a:ext cx="4321080" cy="246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0" y="2880"/>
            <a:ext cx="9144000" cy="6951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строенные Архимедом мощные метательные машины забрасывали рим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ойска тяжёлыми камнями. Думая, что они будут в безопасности у самых стен города, римляне кинулись туда, но в это время лёгкие метательные машины близкого действия забросали их градом ядер. Мощные краны захватывали железными крюками корабли, приподнимали их кверху, а затем бросали вниз, так что корабли переворачивались и тону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Картинка 13 из 2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1916280"/>
            <a:ext cx="3978360" cy="4941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Картинка 21 из 25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64000" y="1413000"/>
            <a:ext cx="3168720" cy="2187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2" descr="Картинка 1 из 25"/>
          <p:cNvPicPr/>
          <p:nvPr/>
        </p:nvPicPr>
        <p:blipFill>
          <a:blip r:embed="rId6"/>
          <a:stretch/>
        </p:blipFill>
        <p:spPr>
          <a:xfrm>
            <a:off x="4572000" y="3741840"/>
            <a:ext cx="4140360" cy="3116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 flipV="1" rot="10800000">
            <a:off x="-5040" y="-3960"/>
            <a:ext cx="9148680" cy="685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ассказ о смерти Архимеда от рук римлян существует в нескольких версия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дна из верс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863640" y="6718320"/>
            <a:ext cx="863640" cy="2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Файл:Edouard Vimont (1846-1930) Archimedes death.jpg"/>
          <p:cNvPicPr/>
          <p:nvPr/>
        </p:nvPicPr>
        <p:blipFill>
          <a:blip r:embed="rId2"/>
          <a:stretch/>
        </p:blipFill>
        <p:spPr>
          <a:xfrm>
            <a:off x="2484360" y="1916280"/>
            <a:ext cx="6085080" cy="4465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1:37:55Z</dcterms:created>
  <dc:creator>Admin</dc:creator>
  <dc:description/>
  <dc:language>en-US</dc:language>
  <cp:lastModifiedBy>Валерия</cp:lastModifiedBy>
  <dcterms:modified xsi:type="dcterms:W3CDTF">2013-11-13T16:19:28Z</dcterms:modified>
  <cp:revision>5</cp:revision>
  <dc:subject/>
  <dc:title>Слайд 1</dc:title>
</cp:coreProperties>
</file>