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gif" ContentType="image/gif"/>
  <Override PartName="/ppt/media/image7.gif" ContentType="image/gif"/>
  <Override PartName="/ppt/media/image10.jpeg" ContentType="image/jpeg"/>
  <Override PartName="/ppt/media/image25.gif" ContentType="image/gif"/>
  <Override PartName="/ppt/media/image6.gif" ContentType="image/gif"/>
  <Override PartName="/ppt/media/image5.gif" ContentType="image/gif"/>
  <Override PartName="/ppt/media/image13.png" ContentType="image/png"/>
  <Override PartName="/ppt/media/image11.jpeg" ContentType="image/jpeg"/>
  <Override PartName="/ppt/media/image9.jpeg" ContentType="image/jpeg"/>
  <Override PartName="/ppt/media/image4.gif" ContentType="image/gif"/>
  <Override PartName="/ppt/media/image15.wmf" ContentType="image/x-wmf"/>
  <Override PartName="/ppt/media/image12.png" ContentType="image/png"/>
  <Override PartName="/ppt/media/image24.gif" ContentType="image/gif"/>
  <Override PartName="/ppt/media/image2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1.gif" ContentType="image/gif"/>
  <Override PartName="/ppt/media/image19.gif" ContentType="image/gif"/>
  <Override PartName="/ppt/media/image1.png" ContentType="image/png"/>
  <Override PartName="/ppt/media/image2.png" ContentType="image/png"/>
  <Override PartName="/ppt/media/image22.gif" ContentType="image/gif"/>
  <Override PartName="/ppt/media/image3.gif" ContentType="image/gif"/>
  <Override PartName="/ppt/media/image14.wmf" ContentType="image/x-wmf"/>
  <Override PartName="/ppt/media/image2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003-0BFA-401C-85FB-F408AAE9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A24-1083-4244-B9D5-8BBAE831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6F7-74C8-4236-8B31-A64A446F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B526-D748-4D79-A414-D5024A58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47C4-5369-4A08-9E3E-576EF506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6EDB-4A1A-4EF3-96DD-41095CF5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4AC5-DEDB-4013-AB1D-60081DB1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749F-62A5-4611-BF96-CD86B4D3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DFF9-879B-400A-9AF7-1202C357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2469-3286-4AB4-BE54-494C3AB1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D817-AC9D-4053-B918-0B42E152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791-E1B1-489C-A867-2C3D5FBB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FB4A-C533-4A9C-B2A9-04707B42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4164-C10E-41F3-85FA-F38F92C6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D5AC-E576-4657-93C9-762DEE77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CCA1-E944-4892-BA51-179AB653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77F2-BDBE-476B-A51A-7FAF79C9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3C4-B8A5-4B5D-922D-1EBAF0F5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FB2-A8F7-46E4-B33F-4993A8E3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CF4-BF77-4EAA-9F93-F8DC66F4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212-08CF-446A-ACB2-8E3C0902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6E1-4864-4064-B1AD-3F56FCF7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FA2-BF98-40D3-A854-78EEB196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92F-82F0-411D-9A2E-7B7720B7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7580-6896-479A-819D-BFBAAA5D48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5E52-29BC-4DB5-A3A0-B4E9054CB0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hkola1-fed.1class.ru/" TargetMode="External"/><Relationship Id="rId2" Type="http://schemas.openxmlformats.org/officeDocument/2006/relationships/hyperlink" Target="http://shkola1-fed.1class.ru/pdd/" TargetMode="External"/><Relationship Id="rId3" Type="http://schemas.openxmlformats.org/officeDocument/2006/relationships/hyperlink" Target="file://images.yandex.ru/%3Flr=64&amp;source=wiz" TargetMode="External"/><Relationship Id="rId4" Type="http://schemas.openxmlformats.org/officeDocument/2006/relationships/hyperlink" Target="file://images.yandex.ru/yandsearch%3Ftext=&#1087;&#1076;&#1076;%20&#1076;&#1083;&#1103;%20&#1096;&#1082;&#1086;&#1083;&#1100;&#1085;&#1080;&#1082;&#1086;&#1074;&amp;lr=64&amp;noreask=1&amp;source=wiz" TargetMode="External"/><Relationship Id="rId5" Type="http://schemas.openxmlformats.org/officeDocument/2006/relationships/hyperlink" Target="http://sch72.mskzapad.ru/" TargetMode="External"/><Relationship Id="rId6" Type="http://schemas.openxmlformats.org/officeDocument/2006/relationships/hyperlink" Target="http://sch72.mskzapad.ru/files/sistema_raboty_po_pdd.doc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56760" y="64296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d1c1b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4d1c1b"/>
                </a:solidFill>
                <a:latin typeface="Calibri"/>
              </a:rPr>
              <a:t>МБОУ «СОШ № 92 с углубленным изучением  отдельных  предметов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«</a:t>
            </a:r>
            <a:r>
              <a:rPr b="1" i="1" lang="ru-RU" sz="4400" spc="-1" strike="noStrike">
                <a:solidFill>
                  <a:srgbClr val="006600"/>
                </a:solidFill>
                <a:latin typeface="Calibri"/>
              </a:rPr>
              <a:t>Система работ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Calibri"/>
              </a:rPr>
              <a:t>по правилам дорожного движен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8989"/>
                </a:solidFill>
                <a:latin typeface="Calibri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8989"/>
                </a:solidFill>
                <a:latin typeface="Calibri"/>
              </a:rPr>
              <a:t>                      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Чередниченко Татьяна Иван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                            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учитель начальных клас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3" descr="C:\Users\Антон\Desktop\SDC12123.JPG"/>
          <p:cNvPicPr/>
          <p:nvPr/>
        </p:nvPicPr>
        <p:blipFill>
          <a:blip r:embed="rId1"/>
          <a:stretch/>
        </p:blipFill>
        <p:spPr>
          <a:xfrm>
            <a:off x="1979640" y="3500280"/>
            <a:ext cx="4824360" cy="324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DSC00955"/>
          <p:cNvPicPr/>
          <p:nvPr/>
        </p:nvPicPr>
        <p:blipFill>
          <a:blip r:embed="rId2"/>
          <a:stretch/>
        </p:blipFill>
        <p:spPr>
          <a:xfrm rot="20929200">
            <a:off x="272520" y="380880"/>
            <a:ext cx="4249800" cy="3241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SC00922"/>
          <p:cNvPicPr/>
          <p:nvPr/>
        </p:nvPicPr>
        <p:blipFill>
          <a:blip r:embed="rId3"/>
          <a:srcRect l="3874" t="0" r="0" b="0"/>
          <a:stretch/>
        </p:blipFill>
        <p:spPr>
          <a:xfrm rot="700200">
            <a:off x="4444560" y="590040"/>
            <a:ext cx="4397400" cy="31496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200px-Stop_sign_MUTCD_svg.png"/>
          <p:cNvPicPr/>
          <p:nvPr/>
        </p:nvPicPr>
        <p:blipFill>
          <a:blip r:embed="rId4"/>
          <a:stretch/>
        </p:blipFill>
        <p:spPr>
          <a:xfrm>
            <a:off x="7236000" y="551664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4" descr="p1573c1.gif"/>
          <p:cNvPicPr/>
          <p:nvPr/>
        </p:nvPicPr>
        <p:blipFill>
          <a:blip r:embed="rId5"/>
          <a:stretch/>
        </p:blipFill>
        <p:spPr>
          <a:xfrm>
            <a:off x="7308720" y="4221000"/>
            <a:ext cx="1000080" cy="1000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HAPPYBOY"/>
          <p:cNvPicPr/>
          <p:nvPr/>
        </p:nvPicPr>
        <p:blipFill>
          <a:blip r:embed="rId6"/>
          <a:stretch/>
        </p:blipFill>
        <p:spPr>
          <a:xfrm>
            <a:off x="3851280" y="2637000"/>
            <a:ext cx="865080" cy="1944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MIS105"/>
          <p:cNvPicPr/>
          <p:nvPr/>
        </p:nvPicPr>
        <p:blipFill>
          <a:blip r:embed="rId7"/>
          <a:stretch/>
        </p:blipFill>
        <p:spPr>
          <a:xfrm>
            <a:off x="250920" y="4221000"/>
            <a:ext cx="1608120" cy="2268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786880" cy="70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Calibri"/>
              </a:rPr>
              <a:t>1 класс.</a:t>
            </a:r>
            <a:br>
              <a:rPr sz="3200"/>
            </a:b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1. Ознакомительная экскурсия.</a:t>
            </a:r>
            <a:br>
              <a:rPr sz="3200"/>
            </a:b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2. Дорога в школу и домой.</a:t>
            </a:r>
            <a:br>
              <a:rPr sz="3200"/>
            </a:b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3. Какие опасности подстерегают на улицах и дорогах.</a:t>
            </a:r>
            <a:br>
              <a:rPr sz="3200"/>
            </a:b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4. Что такое транспорт.</a:t>
            </a:r>
            <a:br>
              <a:rPr sz="3200"/>
            </a:b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5. Светофор.</a:t>
            </a:r>
            <a:br>
              <a:rPr sz="3200"/>
            </a:b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6. Что такое проезжая часть дороги.</a:t>
            </a:r>
            <a:br>
              <a:rPr sz="3200"/>
            </a:b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7. Кого называют водителем, пешеходом, пассажиром.</a:t>
            </a:r>
            <a:br>
              <a:rPr sz="3200"/>
            </a:b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8. Мы – пассажиры.</a:t>
            </a:r>
            <a:br>
              <a:rPr sz="3200"/>
            </a:b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9. Пешеходный переход.</a:t>
            </a:r>
            <a:br>
              <a:rPr sz="3200"/>
            </a:b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10.Экскурсия «Я -  пешеход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D:\Мои Документы\Анимашки\транспорт\4724b299125d23ce8ebc609554f3edeb.gif"/>
          <p:cNvPicPr/>
          <p:nvPr/>
        </p:nvPicPr>
        <p:blipFill>
          <a:blip r:embed="rId1"/>
          <a:stretch/>
        </p:blipFill>
        <p:spPr>
          <a:xfrm>
            <a:off x="8072280" y="1928880"/>
            <a:ext cx="857520" cy="2071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:\Мои Документы\Анимашки\транспорт\8ea773902ef6822d2f2f710b1eb72427.gif"/>
          <p:cNvPicPr/>
          <p:nvPr/>
        </p:nvPicPr>
        <p:blipFill>
          <a:blip r:embed="rId2"/>
          <a:stretch/>
        </p:blipFill>
        <p:spPr>
          <a:xfrm>
            <a:off x="0" y="4714920"/>
            <a:ext cx="2023920" cy="1471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6600"/>
                </a:solidFill>
                <a:uFillTx/>
                <a:latin typeface="Calibri"/>
              </a:rPr>
              <a:t>2 класс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1. Правила поведения на тротуаре, пешеходной дорожке, обочине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2. История появления автомобиля и Правил дорожного движения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3. Права и обязанности пешехода и пассажира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4. Улица, дорога и дорожные знаки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5.Экскурсия «Дороги»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6. Регулируемый и нерегулируемый перекресток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7.Встреча с работником ГАИ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8. Правила поведения в общественном транспорте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9. Правила поведения при езде на велосипеде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10.Итоговая экскурсия по городу</a:t>
            </a:r>
            <a:r>
              <a:rPr b="0" lang="ru-RU" sz="4400" spc="-1" strike="noStrike">
                <a:solidFill>
                  <a:srgbClr val="632523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2" descr="http://de.trinixy.ru/pics4/20110124/znak_19.gif"/>
          <p:cNvPicPr/>
          <p:nvPr/>
        </p:nvPicPr>
        <p:blipFill>
          <a:blip r:embed="rId1"/>
          <a:stretch/>
        </p:blipFill>
        <p:spPr>
          <a:xfrm>
            <a:off x="357120" y="564372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http://smiles2.server.33b.ru/852a85c45b844805a87545cb1b624c20.gif"/>
          <p:cNvPicPr/>
          <p:nvPr/>
        </p:nvPicPr>
        <p:blipFill>
          <a:blip r:embed="rId2"/>
          <a:stretch/>
        </p:blipFill>
        <p:spPr>
          <a:xfrm>
            <a:off x="7000920" y="214200"/>
            <a:ext cx="1476360" cy="743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Calibri"/>
              </a:rPr>
              <a:t>3 класс.</a:t>
            </a:r>
            <a:br>
              <a:rPr sz="4000"/>
            </a:b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1.Правила перехода улицы при выходе из автобуса, троллейбуса, трамвая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2.Перекрёстки и их виды. Сигналы, подаваемые водителями транспортных средств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3.Виды транспортных средств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4. Причины дорожных аварий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5. Правила перехода проезжей части при отсутствии перекрестка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6. Правила движения группами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7. Дорожные знаки и их группы. 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8. Сигналы регулирования дорожного движения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9. Правила поведения на посадочных площадках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10. Экскурсия «Я-  пешеход</a:t>
            </a:r>
            <a:r>
              <a:rPr b="0" lang="ru-RU" sz="4400" spc="-1" strike="noStrike">
                <a:solidFill>
                  <a:srgbClr val="632523"/>
                </a:solidFill>
                <a:latin typeface="Calibri"/>
              </a:rPr>
              <a:t>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4" descr="http://www.gifmania.com.pt/sinais/senales-de-trafico/v-k-s_01.gif"/>
          <p:cNvPicPr/>
          <p:nvPr/>
        </p:nvPicPr>
        <p:blipFill>
          <a:blip r:embed="rId1"/>
          <a:stretch/>
        </p:blipFill>
        <p:spPr>
          <a:xfrm>
            <a:off x="571680" y="4071960"/>
            <a:ext cx="1143000" cy="12142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http://www.gifs.ch/Fahrzeuge/flugz/images/flugz012.gif"/>
          <p:cNvPicPr/>
          <p:nvPr/>
        </p:nvPicPr>
        <p:blipFill>
          <a:blip r:embed="rId2"/>
          <a:stretch/>
        </p:blipFill>
        <p:spPr>
          <a:xfrm>
            <a:off x="6500880" y="285840"/>
            <a:ext cx="1428840" cy="6094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http://www.gifs.ch/Fahrzeuge/flugz/images/flugz012.gif"/>
          <p:cNvPicPr/>
          <p:nvPr/>
        </p:nvPicPr>
        <p:blipFill>
          <a:blip r:embed="rId3"/>
          <a:stretch/>
        </p:blipFill>
        <p:spPr>
          <a:xfrm>
            <a:off x="1500120" y="357120"/>
            <a:ext cx="1428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686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Calibri"/>
              </a:rPr>
              <a:t>4 класс.</a:t>
            </a:r>
            <a:br>
              <a:rPr sz="44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1.Наш путь в школу и новые маршруты. Проверка знаний ПДД 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2. Движение группами и в колонне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3. Правила езды на велосипеде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4. Правила перехода с двусторонним и односторонним движением транспорта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5. Встреча с работниками ГАИ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6. Перекрестки и их виды. Дорожная разметка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7. Остановочный и тормозной путь автомобиля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8. Предупредительные сигналы водителя. Оборудование автомобилей специальными сигналами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9.Посещение детского городка ГИБДД . 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10.Экскурсия «Я пешеход»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3" descr="http://img-fotki.yandex.ru/get/4613/90916278.196/0_8aec6_7f601642_XL"/>
          <p:cNvPicPr/>
          <p:nvPr/>
        </p:nvPicPr>
        <p:blipFill>
          <a:blip r:embed="rId1"/>
          <a:stretch/>
        </p:blipFill>
        <p:spPr>
          <a:xfrm>
            <a:off x="7286760" y="4857840"/>
            <a:ext cx="161424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http://s8.rimg.info/b7d7af698348de2a3917b72b883dd468.gif"/>
          <p:cNvPicPr/>
          <p:nvPr/>
        </p:nvPicPr>
        <p:blipFill>
          <a:blip r:embed="rId2"/>
          <a:stretch/>
        </p:blipFill>
        <p:spPr>
          <a:xfrm>
            <a:off x="285840" y="1714680"/>
            <a:ext cx="78588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2920" y="571680"/>
            <a:ext cx="8786880" cy="60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Работа с родителями.</a:t>
            </a:r>
            <a:br>
              <a:rPr sz="3200"/>
            </a:b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Работа с родителями проходит на родительских собрания и праздниках для начальной школы по ПДД. На собраниях разбираются наиболее типичные ошибки детей при переходе дорог. Родители изучают памятки. </a:t>
            </a:r>
            <a:br>
              <a:rPr sz="3200"/>
            </a:b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Регулярно проходят встречи с инспектором, на которых родителей знакомят с обстановкой в районе, родители вносят свои предложения по установке дорожных знаков в проблемных местах, разбираются причины ДТП, участниками которых становятся дети. Эти встречи являются очень продуктивными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2" descr="http://s3.rimg.info/902c088374e98022fe01c8715e6deace.gif"/>
          <p:cNvPicPr/>
          <p:nvPr/>
        </p:nvPicPr>
        <p:blipFill>
          <a:blip r:embed="rId1"/>
          <a:stretch/>
        </p:blipFill>
        <p:spPr>
          <a:xfrm>
            <a:off x="214200" y="2428920"/>
            <a:ext cx="107172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Ожидаемые результаты.</a:t>
            </a:r>
            <a:br>
              <a:rPr sz="3600"/>
            </a:br>
            <a:r>
              <a:rPr b="1" i="1" lang="ru-RU" sz="3600" spc="-1" strike="noStrike">
                <a:solidFill>
                  <a:srgbClr val="006600"/>
                </a:solidFill>
                <a:latin typeface="Calibri"/>
              </a:rPr>
              <a:t>        Учащиеся должны:</a:t>
            </a:r>
            <a:br>
              <a:rPr sz="2400"/>
            </a:br>
            <a:r>
              <a:rPr b="0" lang="ru-RU" sz="2400" spc="-1" strike="noStrike">
                <a:solidFill>
                  <a:srgbClr val="632523"/>
                </a:solidFill>
                <a:latin typeface="Calibri"/>
              </a:rPr>
              <a:t>1.</a:t>
            </a: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Грамотно ( с учетом требований безопасности) составлять маршрут «дом – школа – дом».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2.Применять приемы самосохранения при возможном попадании в ДТП и ЧС в качестве пассажиров транспортных средств.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3.Вызывать государственные службы безопасности и спасения.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4.Ориентироваться в дорожных ситуациях ( распознавать опасности и принимать адекватные решения).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5.Соблюдать требования Правил безопасности на остановках маршрутного транспорта, при посадке и высадке из него.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6.Управлять велосипедом с соблюдением Правил и требований безопасности движения.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7.Применять приемы оказания первой (доврачебной) медицинской помощ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3" descr="http://s2.rimg.info/76194e4ba12952f673e45c8a4be504ff.gif"/>
          <p:cNvPicPr/>
          <p:nvPr/>
        </p:nvPicPr>
        <p:blipFill>
          <a:blip r:embed="rId1"/>
          <a:stretch/>
        </p:blipFill>
        <p:spPr>
          <a:xfrm>
            <a:off x="6286680" y="6000840"/>
            <a:ext cx="2214360" cy="6811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5" descr="http://s18.rimg.info/14a281a43807d0dd50ecc942371c4a69.gif"/>
          <p:cNvPicPr/>
          <p:nvPr/>
        </p:nvPicPr>
        <p:blipFill>
          <a:blip r:embed="rId2"/>
          <a:stretch/>
        </p:blipFill>
        <p:spPr>
          <a:xfrm>
            <a:off x="714240" y="285840"/>
            <a:ext cx="857520" cy="928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s42.radikal.ru/i096/1110/95/18a18bf6f45d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632523"/>
                </a:solidFill>
                <a:uFillTx/>
                <a:latin typeface="Calibri"/>
              </a:rPr>
              <a:t>Список литературы:</a:t>
            </a:r>
            <a:br>
              <a:rPr sz="3600"/>
            </a:b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1.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 Дорожная безопасность: обучение и воспитание младшего школьника: Учебно-методическое пособие для общеобразовательных учреждений и системы дополнительного образования / Под общ. ред. В.Н.Кирьянова. – М.: Издательский Дом Третий Рим, 2006.</a:t>
            </a:r>
            <a:br>
              <a:rPr sz="2000"/>
            </a:b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2. Изучаем правила дорожного движения: разработки уроков и тематических занятий в 1-4 классах / авт.-сост. Е.Ю. Лавлинскова.- Волгоград: Учитель, 2008.</a:t>
            </a:r>
            <a:br>
              <a:rPr sz="2000"/>
            </a:b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3. Воронова Е.А. Красный. Желтый. Зеленый! ПДД во внеклассной работе. Изд. 4-е. – Ростов н/Д: Феникс, 2009.</a:t>
            </a:r>
            <a:br>
              <a:rPr sz="2000"/>
            </a:b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4. Максимова Т.Н. Поурочные разработки по основам безопасности жизнедеятельности: 1-4 класс. – М.: ВАКО, 2008.</a:t>
            </a:r>
            <a:br>
              <a:rPr sz="2000"/>
            </a:b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5. Элькин Г.Н. Правила безопасного поведения на дороге. – СПб.: Издательский Дом «Литера», 2009.</a:t>
            </a:r>
            <a:br>
              <a:rPr sz="2000"/>
            </a:b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6. Шалаева Г.П. Азбука маленького пешехода. М.: Филол. о-во СЛОВО, Эксмо, 2008</a:t>
            </a:r>
            <a:br>
              <a:rPr sz="2000"/>
            </a:b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Интернет ресурсы:</a:t>
            </a:r>
            <a:br>
              <a:rPr sz="2000"/>
            </a:b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hkola1-fed.1class.ru</a:t>
            </a: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›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dd/</a:t>
            </a:r>
            <a:br>
              <a:rPr sz="2000"/>
            </a:b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images.yandex.ru</a:t>
            </a: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›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пдд для школьников</a:t>
            </a:r>
            <a:br>
              <a:rPr sz="2000"/>
            </a:b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sch72.mskzapad.ru</a:t>
            </a: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›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files/sistema_raboty_po_pdd.doc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32523"/>
                </a:solidFill>
                <a:latin typeface="Calibri"/>
              </a:rPr>
              <a:t>Сегодня </a:t>
            </a:r>
            <a:r>
              <a:rPr b="1" i="1" lang="ru-RU" sz="4400" spc="-1" strike="noStrike" u="sng">
                <a:solidFill>
                  <a:srgbClr val="632523"/>
                </a:solidFill>
                <a:uFillTx/>
                <a:latin typeface="Calibri"/>
              </a:rPr>
              <a:t>школа</a:t>
            </a:r>
            <a:r>
              <a:rPr b="1" i="1" lang="ru-RU" sz="4400" spc="-1" strike="noStrike">
                <a:solidFill>
                  <a:srgbClr val="632523"/>
                </a:solidFill>
                <a:latin typeface="Calibri"/>
              </a:rPr>
              <a:t> стремится обеспечить своим учащимся качественное, универсальное образование, обеспечить высокий уровень общей культуры, в том числе и культуры на дороге. Соблюдение правил безопасной жизни должно стать осознанной необходимостью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D:\Мои Документы\Анимашки\транспорт\4724b299125d23ce8ebc609554f3edeb.gif"/>
          <p:cNvPicPr/>
          <p:nvPr/>
        </p:nvPicPr>
        <p:blipFill>
          <a:blip r:embed="rId1"/>
          <a:stretch/>
        </p:blipFill>
        <p:spPr>
          <a:xfrm>
            <a:off x="214200" y="214200"/>
            <a:ext cx="655920" cy="1582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78688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32523"/>
                </a:solidFill>
                <a:latin typeface="Calibri"/>
              </a:rPr>
              <a:t>Для этого необходимо изменить устоявшиеся традиции восприятия проблемы; уйти от эпизодических мероприятий к системе работы, проводимой с детьми и их родителями; выйти за рамки традиционных форм и методов работы – как организационных, так и методических, и образовательных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D:\Мои Документы\Анимашки\транспорт\4724b299125d23ce8ebc609554f3edeb.gif"/>
          <p:cNvPicPr/>
          <p:nvPr/>
        </p:nvPicPr>
        <p:blipFill>
          <a:blip r:embed="rId1"/>
          <a:stretch/>
        </p:blipFill>
        <p:spPr>
          <a:xfrm>
            <a:off x="142920" y="2643120"/>
            <a:ext cx="65556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60160"/>
            <a:ext cx="8715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32523"/>
                </a:solidFill>
                <a:uFillTx/>
                <a:latin typeface="Calibri"/>
              </a:rPr>
              <a:t> </a:t>
            </a:r>
            <a:r>
              <a:rPr b="1" lang="ru-RU" sz="6000" spc="-1" strike="noStrike" u="sng">
                <a:solidFill>
                  <a:srgbClr val="632523"/>
                </a:solidFill>
                <a:uFillTx/>
                <a:latin typeface="Calibri"/>
              </a:rPr>
              <a:t>Цель</a:t>
            </a:r>
            <a:r>
              <a:rPr b="0" lang="ru-RU" sz="6000" spc="-1" strike="noStrike">
                <a:solidFill>
                  <a:srgbClr val="632523"/>
                </a:solidFill>
                <a:latin typeface="Calibri"/>
              </a:rPr>
              <a:t>:</a:t>
            </a:r>
            <a:br>
              <a:rPr sz="6000"/>
            </a:br>
            <a:r>
              <a:rPr b="0" lang="ru-RU" sz="44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06600"/>
                </a:solidFill>
                <a:latin typeface="Calibri"/>
              </a:rPr>
              <a:t>систематизация знаний детей по правилам дорожного движения, привитие навыков  правильного поведения на улицах города, в городском транспорт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D:\Мои Документы\Анимашки\транспорт\4724b299125d23ce8ebc609554f3edeb.gif"/>
          <p:cNvPicPr/>
          <p:nvPr/>
        </p:nvPicPr>
        <p:blipFill>
          <a:blip r:embed="rId1"/>
          <a:stretch/>
        </p:blipFill>
        <p:spPr>
          <a:xfrm>
            <a:off x="142920" y="214200"/>
            <a:ext cx="857160" cy="207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Задачи:</a:t>
            </a:r>
            <a:br>
              <a:rPr sz="4400"/>
            </a:br>
            <a:r>
              <a:rPr b="0" lang="ru-RU" sz="3600" spc="-1" strike="noStrike">
                <a:solidFill>
                  <a:srgbClr val="632523"/>
                </a:solidFill>
                <a:latin typeface="Calibri"/>
              </a:rPr>
              <a:t>- </a:t>
            </a: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учить детей правилам дорожного движения и культуры поведения в дорожном - транспортном процессе;</a:t>
            </a:r>
            <a:br>
              <a:rPr sz="2800"/>
            </a:br>
            <a:r>
              <a:rPr b="1" i="1" lang="ru-RU" sz="2800" spc="-1" strike="noStrike">
                <a:solidFill>
                  <a:srgbClr val="006600"/>
                </a:solidFill>
                <a:latin typeface="Calibri"/>
              </a:rPr>
              <a:t>-  познакомить с различными видами транспорта, с регулированием движения на улицах города , населенных пунктов;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- формировать у детей навыки и умения наблюдения за дорожной обстановкой   и  предвидения  опасных  ситуаций,  умение  обходить  их; </a:t>
            </a:r>
            <a:br>
              <a:rPr sz="2800"/>
            </a:br>
            <a:r>
              <a:rPr b="1" i="1" lang="ru-RU" sz="2800" spc="-1" strike="noStrike">
                <a:solidFill>
                  <a:srgbClr val="006600"/>
                </a:solidFill>
                <a:latin typeface="Calibri"/>
              </a:rPr>
              <a:t>- воспитывать дисциплинированность и сознательность в выполнении правил дорожного движения; заботу о своем здоровье и сохранности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D:\Мои Документы\Анимашки\транспорт\0504043af536cfca62cb627e1d14b384.gif"/>
          <p:cNvPicPr/>
          <p:nvPr/>
        </p:nvPicPr>
        <p:blipFill>
          <a:blip r:embed="rId1"/>
          <a:stretch/>
        </p:blipFill>
        <p:spPr>
          <a:xfrm>
            <a:off x="714240" y="214200"/>
            <a:ext cx="1643040" cy="714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D:\Мои Документы\Анимашки\транспорт\0504043af536cfca62cb627e1d14b384.gif"/>
          <p:cNvPicPr/>
          <p:nvPr/>
        </p:nvPicPr>
        <p:blipFill>
          <a:blip r:embed="rId2"/>
          <a:stretch/>
        </p:blipFill>
        <p:spPr>
          <a:xfrm>
            <a:off x="6215040" y="214200"/>
            <a:ext cx="1643040" cy="714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28620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32523"/>
                </a:solidFill>
                <a:latin typeface="Calibri"/>
              </a:rPr>
              <a:t>Три аспекта взаимодействия с транспортной системой города</a:t>
            </a: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: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- ребенок – пешеход; </a:t>
            </a:r>
            <a:br>
              <a:rPr sz="4400"/>
            </a:b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- ребенок – пассажир городского транспорта;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- ребенок – водитель детских транспортных средств (велосипед, санки, ролики и др.)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D:\Мои Документы\Анимашки\транспорт\d0560fef4abce6af2825cbc4c30615c8.gif"/>
          <p:cNvPicPr/>
          <p:nvPr/>
        </p:nvPicPr>
        <p:blipFill>
          <a:blip r:embed="rId1"/>
          <a:stretch/>
        </p:blipFill>
        <p:spPr>
          <a:xfrm>
            <a:off x="6858000" y="5286240"/>
            <a:ext cx="1928880" cy="1309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D:\Мои Документы\Анимашки\транспорт\8468c53b01704d1d82913a7bf4509bb7.gif"/>
          <p:cNvPicPr/>
          <p:nvPr/>
        </p:nvPicPr>
        <p:blipFill>
          <a:blip r:embed="rId2"/>
          <a:stretch/>
        </p:blipFill>
        <p:spPr>
          <a:xfrm>
            <a:off x="285840" y="3071880"/>
            <a:ext cx="1928880" cy="9381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http://www.topglobus.ru/skin/smile/s6123.gif"/>
          <p:cNvPicPr/>
          <p:nvPr/>
        </p:nvPicPr>
        <p:blipFill>
          <a:blip r:embed="rId3"/>
          <a:stretch/>
        </p:blipFill>
        <p:spPr>
          <a:xfrm>
            <a:off x="7858080" y="1571760"/>
            <a:ext cx="1071720" cy="1062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Работа по ПДД  проводится в трех направлениях:</a:t>
            </a:r>
            <a:br>
              <a:rPr sz="5400"/>
            </a:br>
            <a:r>
              <a:rPr b="1" lang="ru-RU" sz="5400" spc="-1" strike="noStrike">
                <a:solidFill>
                  <a:srgbClr val="006600"/>
                </a:solidFill>
                <a:latin typeface="Calibri"/>
              </a:rPr>
              <a:t>- работа с учащимися;</a:t>
            </a:r>
            <a:br>
              <a:rPr sz="5400"/>
            </a:br>
            <a:r>
              <a:rPr b="1" lang="ru-RU" sz="5400" spc="-1" strike="noStrike">
                <a:solidFill>
                  <a:srgbClr val="632523"/>
                </a:solidFill>
                <a:latin typeface="Calibri"/>
              </a:rPr>
              <a:t>- работа с родителями;</a:t>
            </a:r>
            <a:br>
              <a:rPr sz="5400"/>
            </a:br>
            <a:r>
              <a:rPr b="1" lang="ru-RU" sz="5400" spc="-1" strike="noStrike">
                <a:solidFill>
                  <a:srgbClr val="006600"/>
                </a:solidFill>
                <a:latin typeface="Calibri"/>
              </a:rPr>
              <a:t>- работа в социуме</a:t>
            </a:r>
            <a:r>
              <a:rPr b="1" i="1" lang="ru-RU" sz="54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2" descr="http://s2.rimg.info/9199b20fc4ced2955bd583b763ba464f.gif"/>
          <p:cNvPicPr/>
          <p:nvPr/>
        </p:nvPicPr>
        <p:blipFill>
          <a:blip r:embed="rId1"/>
          <a:stretch/>
        </p:blipFill>
        <p:spPr>
          <a:xfrm>
            <a:off x="7143840" y="1928880"/>
            <a:ext cx="1785960" cy="2071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5400" spc="-1" strike="noStrike">
                <a:solidFill>
                  <a:srgbClr val="632523"/>
                </a:solidFill>
                <a:latin typeface="Calibri"/>
              </a:rPr>
              <a:t>Работа проводится систематически и постоянно, охватывает все виды, не выделяется в самостоятельный раздел, а входит во все направления обучения и воспитания школьников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15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организованные формы обучения на уроках,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совместную деятельность взрослого и ребенка,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самостоятельную деятельность ребенка,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воспитание навыков поведения,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ознакомление с окружающим миром,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развитие речи,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технология;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изобразительное искусство;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игру;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физическое воспитани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D:\Мои Документы\Анимашки\транспорт\4724b299125d23ce8ebc609554f3edeb.gif"/>
          <p:cNvPicPr/>
          <p:nvPr/>
        </p:nvPicPr>
        <p:blipFill>
          <a:blip r:embed="rId1"/>
          <a:stretch/>
        </p:blipFill>
        <p:spPr>
          <a:xfrm>
            <a:off x="714240" y="4214880"/>
            <a:ext cx="857520" cy="2071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Антон</cp:lastModifiedBy>
  <dcterms:modified xsi:type="dcterms:W3CDTF">2013-02-18T14:18:08Z</dcterms:modified>
  <cp:revision>68</cp:revision>
  <dc:subject/>
  <dc:title>Слайд 1</dc:title>
</cp:coreProperties>
</file>