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7.gif" ContentType="image/gif"/>
  <Override PartName="/ppt/media/image10.jpeg" ContentType="image/jpeg"/>
  <Override PartName="/ppt/media/image25.gif" ContentType="image/gif"/>
  <Override PartName="/ppt/media/image6.gif" ContentType="image/gif"/>
  <Override PartName="/ppt/media/image5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4.gif" ContentType="image/gif"/>
  <Override PartName="/ppt/media/image15.wmf" ContentType="image/x-wmf"/>
  <Override PartName="/ppt/media/image12.png" ContentType="image/png"/>
  <Override PartName="/ppt/media/image24.gif" ContentType="image/gif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.png" ContentType="image/png"/>
  <Override PartName="/ppt/media/image22.gif" ContentType="image/gif"/>
  <Override PartName="/ppt/media/image3.gif" ContentType="image/gif"/>
  <Override PartName="/ppt/media/image14.wmf" ContentType="image/x-wmf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7AF-9B7B-4462-9D3D-6A899A2B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319-DC59-4414-8771-50A8157A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C32-34B9-42B3-95AC-34F50873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08E-69BA-4BD0-8EFE-A6DF7B11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77D-BAEF-45D3-8669-E0ACDE4B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ED08-3421-4E01-9A74-4CE3D7F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82C-BD55-49C2-9D12-85FD5260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57A-2D67-4696-9262-6B156E39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480-ED53-4F5A-9BEC-E11986B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4CB-8D7B-45A1-89F7-DBDA84D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A30-0995-4B92-8F70-D4F2EA5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FC0-0B02-44E8-98CD-AB0707A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473E-D9A5-459E-BC18-69BB06E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FC4E-282B-4F97-8F1F-543F65ED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B689-C297-4F92-BB97-FEA6F4AD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B406-5671-4169-A1E4-34F25DCC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0D3-B273-4B03-8477-E933F3FC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DB1-84E8-4102-94FA-904AB143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E3C-2ED2-4824-B7D5-0453E34E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69C-69D9-4902-85A6-DFABD792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FD3-9226-48B4-8093-AE6B5529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7E0-DBE3-486B-A4BB-DBF7000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587-4B3D-458B-9371-49411F7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626-D348-4A2A-B332-9A76723F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4A2-2710-4574-9783-B88CD82D4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87CC-9290-4EA1-8972-1743377F4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hkola1-fed.1class.ru/" TargetMode="External"/><Relationship Id="rId2" Type="http://schemas.openxmlformats.org/officeDocument/2006/relationships/hyperlink" Target="http://shkola1-fed.1class.ru/pdd/" TargetMode="External"/><Relationship Id="rId3" Type="http://schemas.openxmlformats.org/officeDocument/2006/relationships/hyperlink" Target="file://images.yandex.ru/%3Flr=64&amp;source=wiz" TargetMode="External"/><Relationship Id="rId4" Type="http://schemas.openxmlformats.org/officeDocument/2006/relationships/hyperlink" Target="file://images.yandex.ru/yandsearch%3Ftext=&#1087;&#1076;&#1076;%20&#1076;&#1083;&#1103;%20&#1096;&#1082;&#1086;&#1083;&#1100;&#1085;&#1080;&#1082;&#1086;&#1074;&amp;lr=64&amp;noreask=1&amp;source=wiz" TargetMode="External"/><Relationship Id="rId5" Type="http://schemas.openxmlformats.org/officeDocument/2006/relationships/hyperlink" Target="http://sch72.mskzapad.ru/" TargetMode="External"/><Relationship Id="rId6" Type="http://schemas.openxmlformats.org/officeDocument/2006/relationships/hyperlink" Target="http://sch72.mskzapad.ru/files/sistema_raboty_po_pdd.doc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56760" y="6429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d1c1b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4d1c1b"/>
                </a:solidFill>
                <a:latin typeface="Calibri"/>
              </a:rPr>
              <a:t>МБОУ «СОШ № 92 с углубленным изучением  отдельных  предметов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«</a:t>
            </a: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Система работ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по правилам дорожного движ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Calibri"/>
              </a:rPr>
              <a:t>                      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Чередниченко Татьяна Иван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                             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учитель начальных кла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C:\Users\Антон\Desktop\SDC12123.JPG"/>
          <p:cNvPicPr/>
          <p:nvPr/>
        </p:nvPicPr>
        <p:blipFill>
          <a:blip r:embed="rId1"/>
          <a:stretch/>
        </p:blipFill>
        <p:spPr>
          <a:xfrm>
            <a:off x="1979640" y="3500280"/>
            <a:ext cx="4824360" cy="32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DSC00955"/>
          <p:cNvPicPr/>
          <p:nvPr/>
        </p:nvPicPr>
        <p:blipFill>
          <a:blip r:embed="rId2"/>
          <a:stretch/>
        </p:blipFill>
        <p:spPr>
          <a:xfrm rot="20929200">
            <a:off x="272520" y="380880"/>
            <a:ext cx="4249800" cy="324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SC00922"/>
          <p:cNvPicPr/>
          <p:nvPr/>
        </p:nvPicPr>
        <p:blipFill>
          <a:blip r:embed="rId3"/>
          <a:srcRect l="3874" t="0" r="0" b="0"/>
          <a:stretch/>
        </p:blipFill>
        <p:spPr>
          <a:xfrm rot="700200">
            <a:off x="4444560" y="590040"/>
            <a:ext cx="4397400" cy="3149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200px-Stop_sign_MUTCD_svg.png"/>
          <p:cNvPicPr/>
          <p:nvPr/>
        </p:nvPicPr>
        <p:blipFill>
          <a:blip r:embed="rId4"/>
          <a:stretch/>
        </p:blipFill>
        <p:spPr>
          <a:xfrm>
            <a:off x="7236000" y="55166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4" descr="p1573c1.gif"/>
          <p:cNvPicPr/>
          <p:nvPr/>
        </p:nvPicPr>
        <p:blipFill>
          <a:blip r:embed="rId5"/>
          <a:stretch/>
        </p:blipFill>
        <p:spPr>
          <a:xfrm>
            <a:off x="7308720" y="422100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HAPPYBOY"/>
          <p:cNvPicPr/>
          <p:nvPr/>
        </p:nvPicPr>
        <p:blipFill>
          <a:blip r:embed="rId6"/>
          <a:stretch/>
        </p:blipFill>
        <p:spPr>
          <a:xfrm>
            <a:off x="3851280" y="2637000"/>
            <a:ext cx="865080" cy="194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MIS105"/>
          <p:cNvPicPr/>
          <p:nvPr/>
        </p:nvPicPr>
        <p:blipFill>
          <a:blip r:embed="rId7"/>
          <a:stretch/>
        </p:blipFill>
        <p:spPr>
          <a:xfrm>
            <a:off x="250920" y="4221000"/>
            <a:ext cx="160812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70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1 класс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1. Ознакомительная экскурсия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2. Дорога в школу и домой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3. Какие опасности подстерегают на улицах и дорогах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4. Что такое транспорт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5. Светофор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6. Что такое проезжая часть дороги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7. Кого называют водителем, пешеходом, пассажиром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8. Мы – пассажиры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9. Пешеходный переход.</a:t>
            </a:r>
            <a:br>
              <a:rPr sz="3200"/>
            </a:b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10.Экскурсия «Я -  пешеход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8072280" y="1928880"/>
            <a:ext cx="857520" cy="20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:\Мои Документы\Анимашки\транспорт\8ea773902ef6822d2f2f710b1eb72427.gif"/>
          <p:cNvPicPr/>
          <p:nvPr/>
        </p:nvPicPr>
        <p:blipFill>
          <a:blip r:embed="rId2"/>
          <a:stretch/>
        </p:blipFill>
        <p:spPr>
          <a:xfrm>
            <a:off x="0" y="4714920"/>
            <a:ext cx="202392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00"/>
                </a:solidFill>
                <a:uFillTx/>
                <a:latin typeface="Calibri"/>
              </a:rPr>
              <a:t>2 класс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. Правила поведения на тротуаре, пешеходной дорожке, обочин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2. История появления автомобиля и Правил дорожного движени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3. Права и обязанности пешехода и пассажир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4. Улица, дорога и дорожные знак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5.Экскурсия «Дороги»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6. Регулируемый и нерегулируемый перекресток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7.Встреча с работником ГА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8. Правила поведения в общественном транспорт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9. Правила поведения при езде на велосипед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0.Итоговая экскурсия по городу</a:t>
            </a: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2" descr="http://de.trinixy.ru/pics4/20110124/znak_19.gif"/>
          <p:cNvPicPr/>
          <p:nvPr/>
        </p:nvPicPr>
        <p:blipFill>
          <a:blip r:embed="rId1"/>
          <a:stretch/>
        </p:blipFill>
        <p:spPr>
          <a:xfrm>
            <a:off x="357120" y="56437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http://smiles2.server.33b.ru/852a85c45b844805a87545cb1b624c20.gif"/>
          <p:cNvPicPr/>
          <p:nvPr/>
        </p:nvPicPr>
        <p:blipFill>
          <a:blip r:embed="rId2"/>
          <a:stretch/>
        </p:blipFill>
        <p:spPr>
          <a:xfrm>
            <a:off x="7000920" y="214200"/>
            <a:ext cx="147636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3 класс.</a:t>
            </a:r>
            <a:br>
              <a:rPr sz="4000"/>
            </a:b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.Правила перехода улицы при выходе из автобуса, троллейбуса, трамва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2.Перекрёстки и их виды. Сигналы, подаваемые водителями транспортных средств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3.Виды транспортных средств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4. Причины дорожных аварий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5. Правила перехода проезжей части при отсутствии перекрестк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6. Правила движения группам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7. Дорожные знаки и их группы. 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8. Сигналы регулирования дорожного движени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9. Правила поведения на посадочных площадках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0. Экскурсия «Я-  пешеход</a:t>
            </a: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4" descr="http://www.gifmania.com.pt/sinais/senales-de-trafico/v-k-s_01.gif"/>
          <p:cNvPicPr/>
          <p:nvPr/>
        </p:nvPicPr>
        <p:blipFill>
          <a:blip r:embed="rId1"/>
          <a:stretch/>
        </p:blipFill>
        <p:spPr>
          <a:xfrm>
            <a:off x="571680" y="407196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http://www.gifs.ch/Fahrzeuge/flugz/images/flugz012.gif"/>
          <p:cNvPicPr/>
          <p:nvPr/>
        </p:nvPicPr>
        <p:blipFill>
          <a:blip r:embed="rId2"/>
          <a:stretch/>
        </p:blipFill>
        <p:spPr>
          <a:xfrm>
            <a:off x="6500880" y="285840"/>
            <a:ext cx="142884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http://www.gifs.ch/Fahrzeuge/flugz/images/flugz012.gif"/>
          <p:cNvPicPr/>
          <p:nvPr/>
        </p:nvPicPr>
        <p:blipFill>
          <a:blip r:embed="rId3"/>
          <a:stretch/>
        </p:blipFill>
        <p:spPr>
          <a:xfrm>
            <a:off x="1500120" y="357120"/>
            <a:ext cx="1428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Calibri"/>
              </a:rPr>
              <a:t>4 класс.</a:t>
            </a:r>
            <a:br>
              <a:rPr sz="44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.Наш путь в школу и новые маршруты. Проверка знаний ПДД 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2. Движение группами и в колонн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3. Правила езды на велосипеде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4. Правила перехода с двусторонним и односторонним движением транспорт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5. Встреча с работниками ГА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6. Перекрестки и их виды. Дорожная разметка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7. Остановочный и тормозной путь автомобиля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8. Предупредительные сигналы водителя. Оборудование автомобилей специальными сигналами.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9.Посещение детского городка ГИБДД . 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10.Экскурсия «Я пешеход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3" descr="http://img-fotki.yandex.ru/get/4613/90916278.196/0_8aec6_7f601642_XL"/>
          <p:cNvPicPr/>
          <p:nvPr/>
        </p:nvPicPr>
        <p:blipFill>
          <a:blip r:embed="rId1"/>
          <a:stretch/>
        </p:blipFill>
        <p:spPr>
          <a:xfrm>
            <a:off x="7286760" y="4857840"/>
            <a:ext cx="16142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http://s8.rimg.info/b7d7af698348de2a3917b72b883dd468.gif"/>
          <p:cNvPicPr/>
          <p:nvPr/>
        </p:nvPicPr>
        <p:blipFill>
          <a:blip r:embed="rId2"/>
          <a:stretch/>
        </p:blipFill>
        <p:spPr>
          <a:xfrm>
            <a:off x="285840" y="1714680"/>
            <a:ext cx="78588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920" y="571680"/>
            <a:ext cx="8786880" cy="60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Работа с родителями.</a:t>
            </a:r>
            <a:br>
              <a:rPr sz="3200"/>
            </a:b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абота с родителями проходит на родительских собрания и праздниках для начальной школы по ПДД. На собраниях разбираются наиболее типичные ошибки детей при переходе дорог. Родители изучают памятки. </a:t>
            </a: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Регулярно проходят встречи с инспектором, на которых родителей знакомят с обстановкой в районе, родители вносят свои предложения по установке дорожных знаков в проблемных местах, разбираются причины ДТП, участниками которых становятся дети. Эти встречи являются очень продуктивным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http://s3.rimg.info/902c088374e98022fe01c8715e6deace.gif"/>
          <p:cNvPicPr/>
          <p:nvPr/>
        </p:nvPicPr>
        <p:blipFill>
          <a:blip r:embed="rId1"/>
          <a:stretch/>
        </p:blipFill>
        <p:spPr>
          <a:xfrm>
            <a:off x="214200" y="2428920"/>
            <a:ext cx="1071720" cy="866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Ожидаемые результаты.</a:t>
            </a:r>
            <a:br>
              <a:rPr sz="3600"/>
            </a:br>
            <a:r>
              <a:rPr b="1" i="1" lang="ru-RU" sz="3600" spc="-1" strike="noStrike">
                <a:solidFill>
                  <a:srgbClr val="006600"/>
                </a:solidFill>
                <a:latin typeface="Calibri"/>
              </a:rPr>
              <a:t>        Учащиеся должны:</a:t>
            </a:r>
            <a:br>
              <a:rPr sz="2400"/>
            </a:b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1.</a:t>
            </a: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Грамотно ( с учетом требований безопасности) составлять маршрут «дом – школа – дом»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2.Применять приемы самосохранения при возможном попадании в ДТП и ЧС в качестве пассажиров транспортных средств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3.Вызывать государственные службы безопасности и спасения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4.Ориентироваться в дорожных ситуациях ( распознавать опасности и принимать адекватные решения)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5.Соблюдать требования Правил безопасности на остановках маршрутного транспорта, при посадке и высадке из него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6.Управлять велосипедом с соблюдением Правил и требований безопасности движения.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7.Применять приемы оказания первой (доврачебной) медицинской помо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http://s2.rimg.info/76194e4ba12952f673e45c8a4be504ff.gif"/>
          <p:cNvPicPr/>
          <p:nvPr/>
        </p:nvPicPr>
        <p:blipFill>
          <a:blip r:embed="rId1"/>
          <a:stretch/>
        </p:blipFill>
        <p:spPr>
          <a:xfrm>
            <a:off x="6286680" y="6000840"/>
            <a:ext cx="2214360" cy="6811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http://s18.rimg.info/14a281a43807d0dd50ecc942371c4a69.gif"/>
          <p:cNvPicPr/>
          <p:nvPr/>
        </p:nvPicPr>
        <p:blipFill>
          <a:blip r:embed="rId2"/>
          <a:stretch/>
        </p:blipFill>
        <p:spPr>
          <a:xfrm>
            <a:off x="714240" y="285840"/>
            <a:ext cx="857520" cy="928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s42.radikal.ru/i096/1110/95/18a18bf6f45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32523"/>
                </a:solidFill>
                <a:uFillTx/>
                <a:latin typeface="Calibri"/>
              </a:rPr>
              <a:t>Список литературы:</a:t>
            </a:r>
            <a:br>
              <a:rPr sz="3600"/>
            </a:b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1.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 Дорожная безопасность: обучение и воспитание младшего школьника: Учебно-методическое пособие для общеобразовательных учреждений и системы дополнительного образования / Под общ. ред. В.Н.Кирьянова. – М.: Издательский Дом Третий Рим, 2006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2. Изучаем правила дорожного движения: разработки уроков и тематических занятий в 1-4 классах / авт.-сост. Е.Ю. Лавлинскова.- Волгоград: Учитель, 2008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3. Воронова Е.А. Красный. Желтый. Зеленый! ПДД во внеклассной работе. Изд. 4-е. – Ростов н/Д: Феникс, 2009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4. Максимова Т.Н. Поурочные разработки по основам безопасности жизнедеятельности: 1-4 класс. – М.: ВАКО, 2008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5. Элькин Г.Н. Правила безопасного поведения на дороге. – СПб.: Издательский Дом «Литера», 2009.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6. Шалаева Г.П. Азбука маленького пешехода. М.: Филол. о-во СЛОВО, Эксмо, 2008</a:t>
            </a:r>
            <a:br>
              <a:rPr sz="2000"/>
            </a:b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Интернет ресурсы: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hkola1-fed.1class.ru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›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dd/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mages.yandex.ru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›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дд для школьников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ch72.mskzapad.ru</a:t>
            </a: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›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files/sistema_raboty_po_pdd.doc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Сегодня </a:t>
            </a:r>
            <a:r>
              <a:rPr b="1" i="1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школа</a:t>
            </a: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 стремится обеспечить своим учащимся качественное, универсальное образование, обеспечить высокий уровень общей культуры, в том числе и культуры на дороге. Соблюдение правил безопасной жизни должно стать осознанной необходимость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214200" y="214200"/>
            <a:ext cx="655920" cy="1582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32523"/>
                </a:solidFill>
                <a:latin typeface="Calibri"/>
              </a:rPr>
              <a:t>Для этого необходимо изменить устоявшиеся традиции восприятия проблемы; уйти от эпизодических мероприятий к системе работы, проводимой с детьми и их родителями; выйти за рамки традиционных форм и методов работы – как организационных, так и методических, и образовательны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142920" y="2643120"/>
            <a:ext cx="6555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60160"/>
            <a:ext cx="8715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32523"/>
                </a:solidFill>
                <a:uFillTx/>
                <a:latin typeface="Calibri"/>
              </a:rPr>
              <a:t> </a:t>
            </a:r>
            <a:r>
              <a:rPr b="1" lang="ru-RU" sz="6000" spc="-1" strike="noStrike" u="sng">
                <a:solidFill>
                  <a:srgbClr val="632523"/>
                </a:solidFill>
                <a:uFillTx/>
                <a:latin typeface="Calibri"/>
              </a:rPr>
              <a:t>Цель</a:t>
            </a:r>
            <a:r>
              <a:rPr b="0" lang="ru-RU" sz="6000" spc="-1" strike="noStrike">
                <a:solidFill>
                  <a:srgbClr val="632523"/>
                </a:solidFill>
                <a:latin typeface="Calibri"/>
              </a:rPr>
              <a:t>:</a:t>
            </a:r>
            <a:br>
              <a:rPr sz="6000"/>
            </a:b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систематизация знаний детей по правилам дорожного движения, привитие навыков  правильного поведения на улицах города, в городском транспор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142920" y="214200"/>
            <a:ext cx="8571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Задачи:</a:t>
            </a:r>
            <a:br>
              <a:rPr sz="4400"/>
            </a:br>
            <a:r>
              <a:rPr b="0" lang="ru-RU" sz="3600" spc="-1" strike="noStrike">
                <a:solidFill>
                  <a:srgbClr val="632523"/>
                </a:solidFill>
                <a:latin typeface="Calibri"/>
              </a:rPr>
              <a:t>- </a:t>
            </a: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учить детей правилам дорожного движения и культуры поведения в дорожном - транспортном процессе;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Calibri"/>
              </a:rPr>
              <a:t>-  познакомить с различными видами транспорта, с регулированием движения на улицах города , населенных пунктов;</a:t>
            </a:r>
            <a:br>
              <a:rPr sz="2800"/>
            </a:br>
            <a:r>
              <a:rPr b="1" i="1" lang="ru-RU" sz="2800" spc="-1" strike="noStrike">
                <a:solidFill>
                  <a:srgbClr val="632523"/>
                </a:solidFill>
                <a:latin typeface="Calibri"/>
              </a:rPr>
              <a:t>- формировать у детей навыки и умения наблюдения за дорожной обстановкой   и  предвидения  опасных  ситуаций,  умение  обходить  их; 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Calibri"/>
              </a:rPr>
              <a:t>- воспитывать дисциплинированность и сознательность в выполнении правил дорожного движения; заботу о своем здоровье и сохранности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D:\Мои Документы\Анимашки\транспорт\0504043af536cfca62cb627e1d14b384.gif"/>
          <p:cNvPicPr/>
          <p:nvPr/>
        </p:nvPicPr>
        <p:blipFill>
          <a:blip r:embed="rId1"/>
          <a:stretch/>
        </p:blipFill>
        <p:spPr>
          <a:xfrm>
            <a:off x="714240" y="214200"/>
            <a:ext cx="1643040" cy="7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Мои Документы\Анимашки\транспорт\0504043af536cfca62cb627e1d14b384.gif"/>
          <p:cNvPicPr/>
          <p:nvPr/>
        </p:nvPicPr>
        <p:blipFill>
          <a:blip r:embed="rId2"/>
          <a:stretch/>
        </p:blipFill>
        <p:spPr>
          <a:xfrm>
            <a:off x="6215040" y="214200"/>
            <a:ext cx="16430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Три аспекта взаимодействия с транспортной системой города</a:t>
            </a: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- ребенок – пешеход; 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- ребенок – пассажир городского транспорта;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- ребенок – водитель детских транспортных средств (велосипед, санки, ролики и др.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Мои Документы\Анимашки\транспорт\d0560fef4abce6af2825cbc4c30615c8.gif"/>
          <p:cNvPicPr/>
          <p:nvPr/>
        </p:nvPicPr>
        <p:blipFill>
          <a:blip r:embed="rId1"/>
          <a:stretch/>
        </p:blipFill>
        <p:spPr>
          <a:xfrm>
            <a:off x="6858000" y="5286240"/>
            <a:ext cx="1928880" cy="130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Мои Документы\Анимашки\транспорт\8468c53b01704d1d82913a7bf4509bb7.gif"/>
          <p:cNvPicPr/>
          <p:nvPr/>
        </p:nvPicPr>
        <p:blipFill>
          <a:blip r:embed="rId2"/>
          <a:stretch/>
        </p:blipFill>
        <p:spPr>
          <a:xfrm>
            <a:off x="285840" y="3071880"/>
            <a:ext cx="1928880" cy="938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http://www.topglobus.ru/skin/smile/s6123.gif"/>
          <p:cNvPicPr/>
          <p:nvPr/>
        </p:nvPicPr>
        <p:blipFill>
          <a:blip r:embed="rId3"/>
          <a:stretch/>
        </p:blipFill>
        <p:spPr>
          <a:xfrm>
            <a:off x="7858080" y="1571760"/>
            <a:ext cx="107172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Работа по ПДД  проводится в трех направлениях: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- работа с учащимися;</a:t>
            </a:r>
            <a:br>
              <a:rPr sz="5400"/>
            </a:b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- работа с родителями;</a:t>
            </a:r>
            <a:br>
              <a:rPr sz="5400"/>
            </a:br>
            <a:r>
              <a:rPr b="1" lang="ru-RU" sz="5400" spc="-1" strike="noStrike">
                <a:solidFill>
                  <a:srgbClr val="006600"/>
                </a:solidFill>
                <a:latin typeface="Calibri"/>
              </a:rPr>
              <a:t>- работа в социуме</a:t>
            </a:r>
            <a:r>
              <a:rPr b="1" i="1" lang="ru-RU" sz="54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2" descr="http://s2.rimg.info/9199b20fc4ced2955bd583b763ba464f.gif"/>
          <p:cNvPicPr/>
          <p:nvPr/>
        </p:nvPicPr>
        <p:blipFill>
          <a:blip r:embed="rId1"/>
          <a:stretch/>
        </p:blipFill>
        <p:spPr>
          <a:xfrm>
            <a:off x="7143840" y="1928880"/>
            <a:ext cx="178596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632523"/>
                </a:solidFill>
                <a:latin typeface="Calibri"/>
              </a:rPr>
              <a:t>Работа проводится систематически и постоянно, охватывает все виды, не выделяется в самостоятельный раздел, а входит во все направления обучения и воспитания школьников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15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организованные формы обучения на уроках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совместную деятельность взрослого и ребенка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самостоятельную деятельность ребенка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воспитание навыков поведения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ознакомление с окружающим миром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развитие речи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технология;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изобразительное искусство;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игру;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- физическое воспита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Мои Документы\Анимашки\транспорт\4724b299125d23ce8ebc609554f3edeb.gif"/>
          <p:cNvPicPr/>
          <p:nvPr/>
        </p:nvPicPr>
        <p:blipFill>
          <a:blip r:embed="rId1"/>
          <a:stretch/>
        </p:blipFill>
        <p:spPr>
          <a:xfrm>
            <a:off x="714240" y="4214880"/>
            <a:ext cx="85752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Антон</cp:lastModifiedBy>
  <dcterms:modified xsi:type="dcterms:W3CDTF">2013-02-18T14:18:08Z</dcterms:modified>
  <cp:revision>68</cp:revision>
  <dc:subject/>
  <dc:title>Слайд 1</dc:title>
</cp:coreProperties>
</file>