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camera.wav" ContentType="audio/x-wav"/>
  <Override PartName="/ppt/media/image22.jpeg" ContentType="image/jpeg"/>
  <Override PartName="/ppt/media/image9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881-31A5-4672-8413-6835369B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951-99D1-48D7-A8A9-E7CC8C87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270-BF58-4B8D-8146-49EF10E3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F71-0DED-4C8C-954A-3E193D33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A29-E285-459B-8FDB-4138CA6B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27A-7323-453F-B5BE-8A903156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610-C900-4F7C-938F-11D08C4C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E85-43BE-41E7-816C-FBF82745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E52-5E0E-4571-B129-C2246E66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40C-4F55-4D3B-A8D4-714630E8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696-63F3-41F6-8FD6-32D81DC0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1A7-FC79-4D13-BF86-3531E19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DFC6-CC65-440C-A527-CE882DC07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9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0720" y="3068640"/>
            <a:ext cx="464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ahoma"/>
              </a:rPr>
              <a:t>Эти маленькие 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ahoma"/>
              </a:rPr>
              <a:t>Распечатает ве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ahoma"/>
              </a:rPr>
              <a:t>А пока в них спят лис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ahoma"/>
              </a:rPr>
              <a:t>И растут во время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333360"/>
            <a:ext cx="60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чка - зачаточный побе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pic2204.jpg"/>
          <p:cNvPicPr/>
          <p:nvPr/>
        </p:nvPicPr>
        <p:blipFill>
          <a:blip r:embed="rId1"/>
          <a:stretch/>
        </p:blipFill>
        <p:spPr>
          <a:xfrm>
            <a:off x="324000" y="2852640"/>
            <a:ext cx="3960720" cy="26560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592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сс, благодаря которому образуется система побегов, называ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твле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097080" cy="25938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780000" y="1052640"/>
            <a:ext cx="48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деревьев ветвящиеся боковые побеги образу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крону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ьно разветвленная система побегов в кроне растения образуется вследствие многократного ветвления. Это хорошо можно видеть, например, 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ерезы, ,дуба, топол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оковые почки, осуществляя ветвление, увеличивают количество побегов у рас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27640" y="3573360"/>
            <a:ext cx="2643480" cy="29973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324000" y="4149720"/>
            <a:ext cx="52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ногих трав боковые побеги развиваются из самых нижних почек, находящихся в почве или у ее поверхности. Такое ветвление называю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ущение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о широко представлено у злаков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шеницы, мятлика, любки, тимофеевк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которых кустарников, например 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ешника, мал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1052640"/>
            <a:ext cx="38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заставить растение сильнее ветвиться, если удалить растущую верхушку побе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удалении верхушечной почки образуется много боковых побегов. Это свойство используется в садоводстве, огородничестве и цветовод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22100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ниевод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рищипк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ерхушки побега заставляют сильнее ветвиться, на­пример, огурцы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пусту-брокко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Наоборот, 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мидоров, георгин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лагодар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асынкованию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.е. удалению лишних боковых побегов — пасынков, создаются условия для лучшего развития главного побе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2720" y="549360"/>
            <a:ext cx="3246480" cy="30510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Сочетание ботаники и архитек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965680" cy="20275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24000" y="90756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езкой ветвей можно сформировать округлую или другую причудливую форму кроны у деревьев и кустарников. Такими приемами человек управляет ростом и ветвлением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150800"/>
            <a:ext cx="37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доводы-декораторы Кахетии (Хмаладзе) при обрезке самшита сформировали целый ряд фигур животных и перонажей и  сказок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1967040"/>
            <a:ext cx="3168720" cy="20286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4844880" y="4221000"/>
            <a:ext cx="428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нсай - создание миниатюрных деревье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понскими садов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4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годная обрезка деревьев и кустарни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" живых изгородей" в садах , парках, улицах городов и селений проводится с целью прекращения роста боковых побегов ,делающих "живые изгороди " более густ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950"/>
                            </p:stCondLst>
                            <p:childTnLst>
                              <p:par>
                                <p:cTn id="268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95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95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95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450"/>
                            </p:stCondLst>
                            <p:childTnLst>
                              <p:par>
                                <p:cTn id="28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950"/>
                            </p:stCondLst>
                            <p:childTnLst>
                              <p:par>
                                <p:cTn id="28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203280" cy="20289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6000" y="154080"/>
            <a:ext cx="3013200" cy="22111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59280" y="2492280"/>
            <a:ext cx="3030480" cy="20005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2879640" cy="18702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7280" y="4581360"/>
            <a:ext cx="2963880" cy="19497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621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се почки реализуют свои возможности вырасти в длинный или короткий годичный побег. Некоторые почки не развертываются в побеги в течение многих лет. При этом они остаются живыми, способными при определенных условиях развиться в листовой или цветоносный побег. Они словно спят, поэтому их называю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ящими почк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х можно найти на старых стволах или пнях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поля, дуба, жимолости, березы, черему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Спящие почки трогаются в рост, и из них вырастают облиственные побеги, образуя пневую поро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4608360" cy="24829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51640" y="3213000"/>
            <a:ext cx="2697120" cy="32403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66"/>
                </a:solidFill>
                <a:uFillTx/>
                <a:latin typeface="Times New Roman"/>
              </a:rPr>
              <a:t>Решите, правильно или неправильно то или иное суждение. Выпишите номера правильных 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1539720"/>
            <a:ext cx="7308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зимующие почки развиваются ве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ящие почки остаются живыми много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удалить растущую верхушку побега, то развитие побега прекрат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твление – это развертывание верхушечных п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гетативная почка состоит из чешуй, зачаточного стебля и зачаточных листь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чные чешуи – это видоизмененные листья п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всех растений почечные чешуи пропитаны смо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всех растений почки расположены на побегах пооче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очные и листовые почки одного и того же растения одинаковы по форме и по раз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хушечная почка может быть вегетативной и генерати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ю внутреннюю часть почки называют конусом нарас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27332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9966"/>
                </a:solidFill>
                <a:uFillTx/>
                <a:latin typeface="Times New Roman"/>
              </a:rPr>
              <a:t>Ответы</a:t>
            </a:r>
            <a:r>
              <a:rPr b="1" lang="en-US" sz="4400" spc="-1" strike="noStrike" u="sng">
                <a:solidFill>
                  <a:srgbClr val="339966"/>
                </a:solidFill>
                <a:uFillTx/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445140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4000" y="184464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, 3, 5, 6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95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45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471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76480" y="259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484280"/>
            <a:ext cx="42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гда береза перед ольхой лист распустит, лето будет сухое, если ольха наперед – мокр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народное ве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76360" y="314172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распусканием почек у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ого народа связано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 верований.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народные верования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ешь ты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77624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0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80000" y="62064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лупы можно увидеть, что на верхушке зачаточного стебля находится ростовая часть побега 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конус нарас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Здесь клетки делятся и тем обеспечивают нарастание массы клеток побега, из которых затем образуются новые зачаточные листья, почки, узлы стебля и их внутренние части. В некоторых почках на конусе нарастания образуются зачаточные цветки. Это цветковые (генеративные) п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2606760" cy="37432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324000" y="4149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онус нарастания у побега пы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843440"/>
            <a:ext cx="824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т и развитие побега из верхушечных почек обеспечивает рост главного стебля (или ствола) растения. Благодаря этому увеличивае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дл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тебля и выше к свету выносятся расположенные в его узлах листья и почки. В этом проявляется основная роль верхушечной почки.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ина роста - деление клеток меристемы (меристема находится на вершине конуса нараст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020000" y="3789360"/>
            <a:ext cx="1584360" cy="57636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9353" h="21600">
                <a:moveTo>
                  <a:pt x="0" y="0"/>
                </a:moveTo>
                <a:lnTo>
                  <a:pt x="59353" y="0"/>
                </a:lnTo>
                <a:lnTo>
                  <a:pt x="59353" y="21600"/>
                </a:lnTo>
                <a:lnTo>
                  <a:pt x="0" y="21600"/>
                </a:lnTo>
                <a:close/>
              </a:path>
              <a:path fill="lightenLess" w="59353" h="21600">
                <a:moveTo>
                  <a:pt x="0" y="0"/>
                </a:moveTo>
                <a:lnTo>
                  <a:pt x="59353" y="0"/>
                </a:lnTo>
                <a:lnTo>
                  <a:pt x="57953" y="1400"/>
                </a:lnTo>
                <a:lnTo>
                  <a:pt x="1400" y="1400"/>
                </a:lnTo>
                <a:close/>
              </a:path>
              <a:path fill="darken" w="59353" h="21600">
                <a:moveTo>
                  <a:pt x="59353" y="0"/>
                </a:moveTo>
                <a:lnTo>
                  <a:pt x="59353" y="21600"/>
                </a:lnTo>
                <a:lnTo>
                  <a:pt x="57953" y="20200"/>
                </a:lnTo>
                <a:lnTo>
                  <a:pt x="57953" y="1400"/>
                </a:lnTo>
                <a:close/>
              </a:path>
              <a:path fill="darkenLess" w="59353" h="21600">
                <a:moveTo>
                  <a:pt x="59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3" y="20200"/>
                </a:lnTo>
                <a:close/>
              </a:path>
              <a:path fill="lighten" w="59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Elodea shoot apical meristem"/>
          <p:cNvPicPr/>
          <p:nvPr/>
        </p:nvPicPr>
        <p:blipFill>
          <a:blip r:embed="rId1"/>
          <a:stretch/>
        </p:blipFill>
        <p:spPr>
          <a:xfrm>
            <a:off x="250920" y="26028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4320" y="364500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lode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shoot apical meristem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52320" y="594936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quiset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shoot apical meristem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Equisetum shoot apical meristem"/>
          <p:cNvPicPr/>
          <p:nvPr/>
        </p:nvPicPr>
        <p:blipFill>
          <a:blip r:embed="rId2"/>
          <a:stretch/>
        </p:blipFill>
        <p:spPr>
          <a:xfrm>
            <a:off x="5076720" y="2924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476360" y="5013360"/>
            <a:ext cx="1582920" cy="576360"/>
          </a:xfrm>
          <a:custGeom>
            <a:avLst/>
            <a:gdLst>
              <a:gd name="textAreaLeft" fmla="*/ 37080 w 1582920"/>
              <a:gd name="textAreaRight" fmla="*/ 1545840 w 158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9299" h="21600">
                <a:moveTo>
                  <a:pt x="0" y="0"/>
                </a:moveTo>
                <a:lnTo>
                  <a:pt x="59299" y="0"/>
                </a:lnTo>
                <a:lnTo>
                  <a:pt x="59299" y="21600"/>
                </a:lnTo>
                <a:lnTo>
                  <a:pt x="0" y="21600"/>
                </a:lnTo>
                <a:close/>
              </a:path>
              <a:path fill="lightenLess" w="59299" h="21600">
                <a:moveTo>
                  <a:pt x="0" y="0"/>
                </a:moveTo>
                <a:lnTo>
                  <a:pt x="59299" y="0"/>
                </a:lnTo>
                <a:lnTo>
                  <a:pt x="57899" y="1400"/>
                </a:lnTo>
                <a:lnTo>
                  <a:pt x="1400" y="1400"/>
                </a:lnTo>
                <a:close/>
              </a:path>
              <a:path fill="darken" w="59299" h="21600">
                <a:moveTo>
                  <a:pt x="59299" y="0"/>
                </a:moveTo>
                <a:lnTo>
                  <a:pt x="59299" y="21600"/>
                </a:lnTo>
                <a:lnTo>
                  <a:pt x="57899" y="20200"/>
                </a:lnTo>
                <a:lnTo>
                  <a:pt x="57899" y="1400"/>
                </a:lnTo>
                <a:close/>
              </a:path>
              <a:path fill="darkenLess" w="59299" h="21600">
                <a:moveTo>
                  <a:pt x="59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99" y="20200"/>
                </a:lnTo>
                <a:close/>
              </a:path>
              <a:path fill="lighten" w="59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3719" t="15819" r="36289" b="44957"/>
          <a:stretch/>
        </p:blipFill>
        <p:spPr>
          <a:xfrm>
            <a:off x="539640" y="1413000"/>
            <a:ext cx="3889440" cy="4324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76720" y="1916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азуха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7080" y="244332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297180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Междоузл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7440" y="350028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Уз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8160" y="40273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8880" y="455616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Боковая 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80320" y="508464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Верхушечная 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40000" y="404640"/>
            <a:ext cx="463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помним строение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га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ic2203.jpg"/>
          <p:cNvPicPr/>
          <p:nvPr/>
        </p:nvPicPr>
        <p:blipFill>
          <a:blip r:embed="rId1"/>
          <a:stretch/>
        </p:blipFill>
        <p:spPr>
          <a:xfrm>
            <a:off x="5003640" y="404640"/>
            <a:ext cx="3853080" cy="25848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54" name="" descr="pic2207.jpg"/>
          <p:cNvPicPr/>
          <p:nvPr/>
        </p:nvPicPr>
        <p:blipFill>
          <a:blip r:embed="rId2"/>
          <a:stretch/>
        </p:blipFill>
        <p:spPr>
          <a:xfrm>
            <a:off x="395280" y="404640"/>
            <a:ext cx="3916440" cy="25354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55" name="" descr="pic2209.jpg"/>
          <p:cNvPicPr/>
          <p:nvPr/>
        </p:nvPicPr>
        <p:blipFill>
          <a:blip r:embed="rId3"/>
          <a:stretch/>
        </p:blipFill>
        <p:spPr>
          <a:xfrm>
            <a:off x="3492360" y="3284640"/>
            <a:ext cx="2676600" cy="33573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Внешнее строение п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056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ка — это зачаточный, еще не развернувшийся побег. Если ветк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по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узи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конце зимы поставить в воду, то через несколько дней почки набухнут, у них начнут раздвигаться кожистые чешуйки и появятся нежные зеленые листья молодого побега. Этот побег вырос из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й вид п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20000" cy="201924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340000" y="321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284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32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5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5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9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15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5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15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33192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аружи почка покрыта плотными кожистыми листьями 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чечн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шу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ни пропитаны смолистыми веществами (бальзамами) и склеиваются краями между собой. Такой своеобразный колпак надежно скрывает внутренние части п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27010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670200" cy="25131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graphicFrame>
        <p:nvGraphicFramePr>
          <p:cNvPr id="66" name=""/>
          <p:cNvGraphicFramePr/>
          <p:nvPr/>
        </p:nvGraphicFramePr>
        <p:xfrm>
          <a:off x="468360" y="3284640"/>
          <a:ext cx="2712960" cy="1963800"/>
        </p:xfrm>
        <a:graphic>
          <a:graphicData uri="http://schemas.openxmlformats.org/drawingml/2006/table">
            <a:tbl>
              <a:tblPr/>
              <a:tblGrid>
                <a:gridCol w="271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643280" y="408816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зачаточный побег, который состоит из зачаточных стебля, листочков и п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816360" cy="30672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68720" y="1844640"/>
            <a:ext cx="302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 почке находятся только зачаточные вегетативные побеги (стебель, листья и почки), то ее называ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егетативно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о в почке помимо вегетативных зачатков могут формироваться еще и зачатки цветка (или нескольких цветков). Такую почку называ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цветочно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з нее затем вырастает побег, называемы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цветочн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генерат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Типы п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266688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58920" y="134064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разделяют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гетативные и цветоч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25495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4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29307" t="15698" r="0" b="2573"/>
          <a:stretch/>
        </p:blipFill>
        <p:spPr>
          <a:xfrm>
            <a:off x="1403280" y="404640"/>
            <a:ext cx="6553440" cy="489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03280" y="5877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Что такое конус нарастания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584280"/>
            <a:ext cx="424980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истема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т греч. meristós - делимый), образовательная ткань, ткань раст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го сохраняющая способность к делению и образованию новых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bamboo" descr=""/>
          <p:cNvPicPr/>
          <p:nvPr/>
        </p:nvPicPr>
        <p:blipFill>
          <a:blip r:embed="rId1"/>
          <a:stretch/>
        </p:blipFill>
        <p:spPr>
          <a:xfrm>
            <a:off x="5319720" y="836640"/>
            <a:ext cx="3330720" cy="53290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264240" y="4579200"/>
            <a:ext cx="47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бель кукурузы- 4 м за л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бель бамбука -1 м за с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бель эвкалипта -3 м за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блоня и тополь -до 1 м за л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573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Рису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330480"/>
            <a:ext cx="33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ки различных видов растений различаются по форме, цвету и расположению.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5146560" cy="196704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87280" y="4075200"/>
            <a:ext cx="6624720" cy="24987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57080" y="2924280"/>
            <a:ext cx="69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ожение по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тебле соотве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сторасположению у данн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17:57:25Z</dcterms:created>
  <dc:creator>User</dc:creator>
  <dc:description/>
  <dc:language>en-US</dc:language>
  <cp:lastModifiedBy>User</cp:lastModifiedBy>
  <dcterms:modified xsi:type="dcterms:W3CDTF">2005-05-30T19:29:22Z</dcterms:modified>
  <cp:revision>39</cp:revision>
  <dc:subject/>
  <dc:title>Слайд 1</dc:title>
</cp:coreProperties>
</file>