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3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24.jpeg" ContentType="image/jpeg"/>
  <Override PartName="/ppt/media/image3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26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camera.wav" ContentType="audio/x-wav"/>
  <Override PartName="/ppt/media/image22.jpeg" ContentType="image/jpeg"/>
  <Override PartName="/ppt/media/image9.png" ContentType="image/pn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1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92B5-3415-4278-BBDC-0A068305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1B7E-C59C-41F4-A975-4733104B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BD35-6627-4E34-A1A0-E9C53579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A74F-BEE6-4DF5-B3DF-51BF7FEE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403-986D-442C-9234-BBE0D633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704A-7A2A-42C1-95E8-834E79D3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6E32-F6C2-43F9-A65C-F49F9244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59DE-4A26-4084-BE88-98B7C681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5787-4045-4740-AA5C-63088EFC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5BA0-A00E-42E0-BA50-13D0D34F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7279-BFD9-4C16-B4FC-D69534ED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9769-47C3-4459-9CB9-5C656128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9F4F-EDD8-488E-8F33-9B1402A29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9.xm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00720" y="3068640"/>
            <a:ext cx="4643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Tahoma"/>
              </a:rPr>
              <a:t>Эти маленькие б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Tahoma"/>
              </a:rPr>
              <a:t>Распечатает вес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Tahoma"/>
              </a:rPr>
              <a:t>А пока в них спят лис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Tahoma"/>
              </a:rPr>
              <a:t>И растут во время 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76360" y="333360"/>
            <a:ext cx="6048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00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чка - зачаточный побе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100000">
                    <a:srgbClr val="0099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pic2204.jpg"/>
          <p:cNvPicPr/>
          <p:nvPr/>
        </p:nvPicPr>
        <p:blipFill>
          <a:blip r:embed="rId1"/>
          <a:stretch/>
        </p:blipFill>
        <p:spPr>
          <a:xfrm>
            <a:off x="324000" y="2852640"/>
            <a:ext cx="3960720" cy="265608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25920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цесс, благодаря которому образуется система побегов, называе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твлени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3097080" cy="259380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3780000" y="1052640"/>
            <a:ext cx="489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деревьев ветвящиеся боковые побеги образую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шую крону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льно разветвленная система побегов в кроне растения образуется вследствие многократного ветвления. Это хорошо можно видеть, например, у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березы, ,дуба, топол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Боковые почки, осуществляя ветвление, увеличивают количество побегов у раст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227640" y="3573360"/>
            <a:ext cx="2643480" cy="299736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324000" y="4149720"/>
            <a:ext cx="525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многих трав боковые побеги развиваются из самых нижних почек, находящихся в почве или у ее поверхности. Такое ветвление называю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ущение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о широко представлено у злаков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шеницы, мятлика, любки, тимофеевки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некоторых кустарников, например 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решника, мали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4360" y="1052640"/>
            <a:ext cx="388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но заставить растение сильнее ветвиться, если удалить растущую верхушку побе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удалении верхушечной почки образуется много боковых побегов. Это свойство используется в садоводстве, огородничестве и цветовод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4221000"/>
            <a:ext cx="820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тениевод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рищипк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ерхушки побега заставляют сильнее ветвиться, на­пример, огурцы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апусту-брокко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Наоборот, у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мидоров, георгин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благодар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асынкованию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.е. удалению лишних боковых побегов — пасынков, создаются условия для лучшего развития главного побе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92720" y="549360"/>
            <a:ext cx="3246480" cy="305100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</p:spTree>
  </p:cSld>
  <p:transition spd="med">
    <p:strips dir="r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Сочетание ботаники и архитекту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580000" y="1989000"/>
            <a:ext cx="2965680" cy="202752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324000" y="907560"/>
            <a:ext cx="84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езкой ветвей можно сформировать округлую или другую причудливую форму кроны у деревьев и кустарников. Такими приемами человек управляет ростом и ветвлением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4150800"/>
            <a:ext cx="374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доводы-декораторы Кахетии (Хмаладзе) при обрезке самшита сформировали целый ряд фигур животных и перонажей и  сказок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11280" y="1967040"/>
            <a:ext cx="3168720" cy="202860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4844880" y="4221000"/>
            <a:ext cx="428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нсай - создание миниатюрных деревьев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понскими садовод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44500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жегодная обрезка деревьев и кустарни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" живых изгородей" в садах , парках, улицах городов и селений проводится с целью прекращения роста боковых побегов ,делающих "живые изгороди " более густ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950"/>
                            </p:stCondLst>
                            <p:childTnLst>
                              <p:par>
                                <p:cTn id="268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95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950"/>
                            </p:stCondLst>
                            <p:childTnLst>
                              <p:par>
                                <p:cTn id="27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950"/>
                            </p:stCondLst>
                            <p:childTnLst>
                              <p:par>
                                <p:cTn id="280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450"/>
                            </p:stCondLst>
                            <p:childTnLst>
                              <p:par>
                                <p:cTn id="284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950"/>
                            </p:stCondLst>
                            <p:childTnLst>
                              <p:par>
                                <p:cTn id="288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203280" cy="202896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796000" y="154080"/>
            <a:ext cx="3013200" cy="221112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059280" y="2492280"/>
            <a:ext cx="3030480" cy="200052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68360" y="4653000"/>
            <a:ext cx="2879640" cy="187020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867280" y="4581360"/>
            <a:ext cx="2963880" cy="194976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</p:spTree>
  </p:cSld>
  <p:transition spd="med">
    <p:strips dir="rd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8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2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62100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се почки реализуют свои возможности вырасти в длинный или короткий годичный побег. Некоторые почки не развертываются в побеги в течение многих лет. При этом они остаются живыми, способными при определенных условиях развиться в листовой или цветоносный побег. Они словно спят, поэтому их называю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пящими почк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х можно найти на старых стволах или пнях, например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ополя, дуба, жимолости, березы, черемух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 Спящие почки трогаются в рост, и из них вырастают облиственные побеги, образуя пневую порос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4608360" cy="248292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651640" y="3213000"/>
            <a:ext cx="2697120" cy="324036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</p:spTree>
  </p:cSld>
  <p:transition spd="med">
    <p:strips dir="rd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9966"/>
                </a:solidFill>
                <a:uFillTx/>
                <a:latin typeface="Times New Roman"/>
              </a:rPr>
              <a:t>Решите, правильно или неправильно то или иное суждение. Выпишите номера правильных су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360" y="1539720"/>
            <a:ext cx="730872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 зимующие почки развиваются вес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ящие почки остаются живыми много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удалить растущую верхушку побега, то развитие побега прекрат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твление – это развертывание верхушечных поч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гетативная почка состоит из чешуй, зачаточного стебля и зачаточных листь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чечные чешуи – это видоизмененные листья п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всех растений почечные чешуи пропитаны смол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всех растений почки расположены на побегах поочере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очные и листовые почки одного и того же растения одинаковы по форме и по размер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хушечная почка может быть вегетативной и генератив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ю внутреннюю часть почки называют конусом нарас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127332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9966"/>
                </a:solidFill>
                <a:uFillTx/>
                <a:latin typeface="Times New Roman"/>
              </a:rPr>
              <a:t>Ответы</a:t>
            </a:r>
            <a:r>
              <a:rPr b="1" lang="en-US" sz="4400" spc="-1" strike="noStrike" u="sng">
                <a:solidFill>
                  <a:srgbClr val="339966"/>
                </a:solidFill>
                <a:uFillTx/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445140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24000" y="1844640"/>
            <a:ext cx="88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70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, 3, 5, 6,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950"/>
                            </p:stCondLst>
                            <p:childTnLst>
                              <p:par>
                                <p:cTn id="393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450"/>
                            </p:stCondLst>
                            <p:childTnLst>
                              <p:par>
                                <p:cTn id="4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1" dur="4716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76480" y="2599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484280"/>
            <a:ext cx="428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гда береза перед ольхой лист распустит, лето будет сухое, если ольха наперед – мокр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народное веро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76360" y="3141720"/>
            <a:ext cx="6264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 распусканием почек у 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усского народа связано 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ного верований. 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ие народные верования 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наешь ты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1776240" cy="1498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0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0"/>
                            </p:stCondLst>
                            <p:childTnLst>
                              <p:par>
                                <p:cTn id="421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780000" y="620640"/>
            <a:ext cx="50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омощью лупы можно увидеть, что на верхушке зачаточного стебля находится ростовая часть побега —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конус нараст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Здесь клетки делятся и тем обеспечивают нарастание массы клеток побега, из которых затем образуются новые зачаточные листья, почки, узлы стебля и их внутренние части. В некоторых почках на конусе нарастания образуются зачаточные цветки. Это цветковые (генеративные) поч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2606760" cy="374328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324000" y="414972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онус нарастания у побега пы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843440"/>
            <a:ext cx="824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т и развитие побега из верхушечных почек обеспечивает рост главного стебля (или ствола) растения. Благодаря этому увеличиваетс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дл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тебля и выше к свету выносятся расположенные в его узлах листья и почки. В этом проявляется основная роль верхушечной почки.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чина роста - деление клеток меристемы (меристема находится на вершине конуса нараст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7020000" y="3789360"/>
            <a:ext cx="1584360" cy="576360"/>
          </a:xfrm>
          <a:custGeom>
            <a:avLst/>
            <a:gdLst>
              <a:gd name="textAreaLeft" fmla="*/ 37080 w 1584360"/>
              <a:gd name="textAreaRight" fmla="*/ 1547280 w 1584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9353" h="21600">
                <a:moveTo>
                  <a:pt x="0" y="0"/>
                </a:moveTo>
                <a:lnTo>
                  <a:pt x="59353" y="0"/>
                </a:lnTo>
                <a:lnTo>
                  <a:pt x="59353" y="21600"/>
                </a:lnTo>
                <a:lnTo>
                  <a:pt x="0" y="21600"/>
                </a:lnTo>
                <a:close/>
              </a:path>
              <a:path fill="lightenLess" w="59353" h="21600">
                <a:moveTo>
                  <a:pt x="0" y="0"/>
                </a:moveTo>
                <a:lnTo>
                  <a:pt x="59353" y="0"/>
                </a:lnTo>
                <a:lnTo>
                  <a:pt x="57953" y="1400"/>
                </a:lnTo>
                <a:lnTo>
                  <a:pt x="1400" y="1400"/>
                </a:lnTo>
                <a:close/>
              </a:path>
              <a:path fill="darken" w="59353" h="21600">
                <a:moveTo>
                  <a:pt x="59353" y="0"/>
                </a:moveTo>
                <a:lnTo>
                  <a:pt x="59353" y="21600"/>
                </a:lnTo>
                <a:lnTo>
                  <a:pt x="57953" y="20200"/>
                </a:lnTo>
                <a:lnTo>
                  <a:pt x="57953" y="1400"/>
                </a:lnTo>
                <a:close/>
              </a:path>
              <a:path fill="darkenLess" w="59353" h="21600">
                <a:moveTo>
                  <a:pt x="59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53" y="20200"/>
                </a:lnTo>
                <a:close/>
              </a:path>
              <a:path fill="lighten" w="59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Elodea shoot apical meristem"/>
          <p:cNvPicPr/>
          <p:nvPr/>
        </p:nvPicPr>
        <p:blipFill>
          <a:blip r:embed="rId1"/>
          <a:stretch/>
        </p:blipFill>
        <p:spPr>
          <a:xfrm>
            <a:off x="250920" y="260280"/>
            <a:ext cx="4176720" cy="3132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04320" y="364500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Elode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shoot apical meristem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52320" y="594936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Equisetu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shoot apical meristem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Equisetum shoot apical meristem"/>
          <p:cNvPicPr/>
          <p:nvPr/>
        </p:nvPicPr>
        <p:blipFill>
          <a:blip r:embed="rId2"/>
          <a:stretch/>
        </p:blipFill>
        <p:spPr>
          <a:xfrm>
            <a:off x="5076720" y="2924280"/>
            <a:ext cx="3816360" cy="286200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1476360" y="5013360"/>
            <a:ext cx="1582920" cy="576360"/>
          </a:xfrm>
          <a:custGeom>
            <a:avLst/>
            <a:gdLst>
              <a:gd name="textAreaLeft" fmla="*/ 37080 w 1582920"/>
              <a:gd name="textAreaRight" fmla="*/ 1545840 w 1582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9299" h="21600">
                <a:moveTo>
                  <a:pt x="0" y="0"/>
                </a:moveTo>
                <a:lnTo>
                  <a:pt x="59299" y="0"/>
                </a:lnTo>
                <a:lnTo>
                  <a:pt x="59299" y="21600"/>
                </a:lnTo>
                <a:lnTo>
                  <a:pt x="0" y="21600"/>
                </a:lnTo>
                <a:close/>
              </a:path>
              <a:path fill="lightenLess" w="59299" h="21600">
                <a:moveTo>
                  <a:pt x="0" y="0"/>
                </a:moveTo>
                <a:lnTo>
                  <a:pt x="59299" y="0"/>
                </a:lnTo>
                <a:lnTo>
                  <a:pt x="57899" y="1400"/>
                </a:lnTo>
                <a:lnTo>
                  <a:pt x="1400" y="1400"/>
                </a:lnTo>
                <a:close/>
              </a:path>
              <a:path fill="darken" w="59299" h="21600">
                <a:moveTo>
                  <a:pt x="59299" y="0"/>
                </a:moveTo>
                <a:lnTo>
                  <a:pt x="59299" y="21600"/>
                </a:lnTo>
                <a:lnTo>
                  <a:pt x="57899" y="20200"/>
                </a:lnTo>
                <a:lnTo>
                  <a:pt x="57899" y="1400"/>
                </a:lnTo>
                <a:close/>
              </a:path>
              <a:path fill="darkenLess" w="59299" h="21600">
                <a:moveTo>
                  <a:pt x="592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899" y="20200"/>
                </a:lnTo>
                <a:close/>
              </a:path>
              <a:path fill="lighten" w="592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33719" t="15819" r="36289" b="44957"/>
          <a:stretch/>
        </p:blipFill>
        <p:spPr>
          <a:xfrm>
            <a:off x="539640" y="1413000"/>
            <a:ext cx="3889440" cy="4324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076720" y="191628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азуха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7080" y="2443320"/>
            <a:ext cx="11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76720" y="297180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Междоузл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7440" y="350028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Уз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78160" y="402732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Стеб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8880" y="455616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Боковая п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80320" y="5084640"/>
            <a:ext cx="33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Верхушечная п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340000" y="404640"/>
            <a:ext cx="4638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помним строение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бега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trips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5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pic2203.jpg"/>
          <p:cNvPicPr/>
          <p:nvPr/>
        </p:nvPicPr>
        <p:blipFill>
          <a:blip r:embed="rId1"/>
          <a:stretch/>
        </p:blipFill>
        <p:spPr>
          <a:xfrm>
            <a:off x="5003640" y="404640"/>
            <a:ext cx="3853080" cy="258480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pic>
        <p:nvPicPr>
          <p:cNvPr id="54" name="" descr="pic2207.jpg"/>
          <p:cNvPicPr/>
          <p:nvPr/>
        </p:nvPicPr>
        <p:blipFill>
          <a:blip r:embed="rId2"/>
          <a:stretch/>
        </p:blipFill>
        <p:spPr>
          <a:xfrm>
            <a:off x="395280" y="404640"/>
            <a:ext cx="3916440" cy="253548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pic>
        <p:nvPicPr>
          <p:cNvPr id="55" name="" descr="pic2209.jpg"/>
          <p:cNvPicPr/>
          <p:nvPr/>
        </p:nvPicPr>
        <p:blipFill>
          <a:blip r:embed="rId3"/>
          <a:stretch/>
        </p:blipFill>
        <p:spPr>
          <a:xfrm>
            <a:off x="3492360" y="3284640"/>
            <a:ext cx="2676600" cy="335736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</p:spTree>
  </p:cSld>
  <p:transition spd="med">
    <p:strips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Внешнее строение п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430560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чка — это зачаточный, еще не развернувшийся побег. Если ветку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в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опол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бузи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 конце зимы поставить в воду, то через несколько дней почки набухнут, у них начнут раздвигаться кожистые чешуйки и появятся нежные зеленые листья молодого побега. Этот побег вырос из п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87640" y="285264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ешний вид п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120000" cy="201924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2340000" y="3213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328464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72360" y="3213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ш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45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950"/>
                            </p:stCondLst>
                            <p:childTnLst>
                              <p:par>
                                <p:cTn id="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95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150"/>
                            </p:stCondLst>
                            <p:childTnLst>
                              <p:par>
                                <p:cTn id="1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150"/>
                            </p:stCondLst>
                            <p:childTnLst>
                              <p:par>
                                <p:cTn id="1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15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331920"/>
            <a:ext cx="475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наружи почка покрыта плотными кожистыми листьями 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очечны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ешуям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ни пропитаны смолистыми веществами (бальзамами) и склеиваются краями между собой. Такой своеобразный колпак надежно скрывает внутренние части поч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20000" y="270108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219640" y="260280"/>
            <a:ext cx="3670200" cy="251316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graphicFrame>
        <p:nvGraphicFramePr>
          <p:cNvPr id="66" name=""/>
          <p:cNvGraphicFramePr/>
          <p:nvPr/>
        </p:nvGraphicFramePr>
        <p:xfrm>
          <a:off x="468360" y="3284640"/>
          <a:ext cx="2712960" cy="1963800"/>
        </p:xfrm>
        <a:graphic>
          <a:graphicData uri="http://schemas.openxmlformats.org/drawingml/2006/table">
            <a:tbl>
              <a:tblPr/>
              <a:tblGrid>
                <a:gridCol w="2712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4643280" y="4088160"/>
            <a:ext cx="41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ч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 зачаточный побег, который состоит из зачаточных стебля, листочков и п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95280" y="3213000"/>
            <a:ext cx="3816360" cy="306720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</p:spTree>
  </p:cSld>
  <p:transition spd="med">
    <p:strips dir="r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68720" y="1844640"/>
            <a:ext cx="302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в почке находятся только зачаточные вегетативные побеги (стебель, листья и почки), то ее называю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вегетативно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о в почке помимо вегетативных зачатков могут формироваться еще и зачатки цветка (или нескольких цветков). Такую почку называю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цветочно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з нее затем вырастает побег, называемы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цветочны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генератив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Типы поч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2666880" cy="3600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258920" y="1340640"/>
            <a:ext cx="66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разделяют 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гетативные и цветоч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372360" y="2276640"/>
            <a:ext cx="2549520" cy="3313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4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9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4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29307" t="15698" r="0" b="2573"/>
          <a:stretch/>
        </p:blipFill>
        <p:spPr>
          <a:xfrm>
            <a:off x="1403280" y="404640"/>
            <a:ext cx="6553440" cy="4897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403280" y="5877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Что такое конус нарастания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584280"/>
            <a:ext cx="424980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ристема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т греч. meristós - делимый), образовательная ткань, ткань раст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го сохраняющая способность к делению и образованию новых 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bamboo" descr=""/>
          <p:cNvPicPr/>
          <p:nvPr/>
        </p:nvPicPr>
        <p:blipFill>
          <a:blip r:embed="rId1"/>
          <a:stretch/>
        </p:blipFill>
        <p:spPr>
          <a:xfrm>
            <a:off x="5319720" y="836640"/>
            <a:ext cx="3330720" cy="532908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264240" y="4579200"/>
            <a:ext cx="474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ебель кукурузы- 4 м за ле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ебель бамбука -1 м за су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ебель эвкалипта -3 м за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яблоня и тополь -до 1 м за ле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3573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Рису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ccff99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0920" y="330480"/>
            <a:ext cx="33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чки различных видов растений различаются по форме, цвету и расположению.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708360" y="404640"/>
            <a:ext cx="5146560" cy="196704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187280" y="4075200"/>
            <a:ext cx="6624720" cy="249876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757080" y="2924280"/>
            <a:ext cx="694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ожение поче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стебле соответств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сторасположению у данного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0T17:57:25Z</dcterms:created>
  <dc:creator>User</dc:creator>
  <dc:description/>
  <dc:language>en-US</dc:language>
  <cp:lastModifiedBy>User</cp:lastModifiedBy>
  <dcterms:modified xsi:type="dcterms:W3CDTF">2005-05-30T19:29:22Z</dcterms:modified>
  <cp:revision>39</cp:revision>
  <dc:subject/>
  <dc:title>Слайд 1</dc:title>
</cp:coreProperties>
</file>