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B46-8B55-4C9C-B783-F8BC3F4B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82F-385B-4D6B-9AFD-567D0AE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8E3-21D4-445C-A67C-5C0525C2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170-361D-4081-9F84-7FB9B0C8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1728-FAD2-4741-B46F-E8A13FC1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223A-FE25-4976-9B5F-813785F6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0A26-591B-4170-A515-28FC95B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91E7-4638-4EB4-BA7A-919417D2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048-6826-402D-BCA9-F3BC81A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6A84-29CA-42C6-8A73-66AE4170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0316-11DA-4349-84BD-79E2F68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3A6-D330-44DD-B7B7-8EC34033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FF16-3C77-4140-844E-C64ACC2A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19A4-2DE1-4A0D-ADB1-1389ABA0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F36B-25B1-4B21-99AA-7DCD8803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4CB-99D1-476F-BBC3-7C1891E5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2965-A882-40AD-95CB-DFE360B1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8EE-CDEA-40D0-8F52-5AC61E5C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C85-535B-4E31-9456-88D4FF1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75E-56D6-4C31-A7BD-4FDF13B5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D2A-F461-4C0D-AC76-D59E8851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EF6-09DF-4769-B369-BC0EEBE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7B0-6FDB-414F-8727-4A8F8F5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445-D271-4189-9D4B-1A28176A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7405-F6FC-4DCE-9E48-362C7A807C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EC1F-07A3-4396-8847-401BF85446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6600cc"/>
                </a:solidFill>
                <a:uFillTx/>
                <a:latin typeface="Comic Sans MS"/>
              </a:rPr>
              <a:t>Виды треугольников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-19440" y="5157720"/>
            <a:ext cx="475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врюкова Евгения Анатол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У СОШ № 5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мсомольск-на-Амур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Хабаровский кра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971640" y="112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971640" y="1773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 прямоугольный треугольник 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2556000" y="22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4643280" y="42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262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2303640" y="4797360"/>
            <a:ext cx="457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ишит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теты 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отенуза 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564000" y="522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F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211640" y="522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427640" y="58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2987640" y="242100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2987640" y="4365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2987640" y="2421000"/>
            <a:ext cx="1655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2987640" y="414972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971640" y="112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971640" y="1773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 прямоугольный треугольник 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2556000" y="22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4643280" y="42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62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3"/>
          <p:cNvSpPr/>
          <p:nvPr/>
        </p:nvSpPr>
        <p:spPr>
          <a:xfrm>
            <a:off x="395280" y="260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24000" y="765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 к рисун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95280" y="1341360"/>
            <a:ext cx="29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ериметр какого треугольника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BK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ил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KD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будет больше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468360" y="3141720"/>
            <a:ext cx="295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ишите тупоугольные треугольники, если они есть на рисунк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2195640" y="4797360"/>
            <a:ext cx="295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колько прямоугольных треугольников на рисунке? Запишите их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796000" y="486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ишите их гипотенуз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468360" y="270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24"/>
          <p:cNvSpPr/>
          <p:nvPr/>
        </p:nvSpPr>
        <p:spPr>
          <a:xfrm>
            <a:off x="3924360" y="148428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3924360" y="4221000"/>
            <a:ext cx="41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6"/>
          <p:cNvSpPr/>
          <p:nvPr/>
        </p:nvSpPr>
        <p:spPr>
          <a:xfrm>
            <a:off x="3924360" y="1484280"/>
            <a:ext cx="417672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7"/>
          <p:cNvSpPr/>
          <p:nvPr/>
        </p:nvSpPr>
        <p:spPr>
          <a:xfrm>
            <a:off x="3924360" y="1484280"/>
            <a:ext cx="316872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8"/>
          <p:cNvSpPr/>
          <p:nvPr/>
        </p:nvSpPr>
        <p:spPr>
          <a:xfrm>
            <a:off x="3924360" y="1484280"/>
            <a:ext cx="208764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33"/>
          <p:cNvSpPr/>
          <p:nvPr/>
        </p:nvSpPr>
        <p:spPr>
          <a:xfrm>
            <a:off x="3564000" y="1197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34"/>
          <p:cNvSpPr/>
          <p:nvPr/>
        </p:nvSpPr>
        <p:spPr>
          <a:xfrm>
            <a:off x="8101080" y="40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3635280" y="4149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687708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38"/>
          <p:cNvSpPr/>
          <p:nvPr/>
        </p:nvSpPr>
        <p:spPr>
          <a:xfrm>
            <a:off x="5796000" y="414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9"/>
          <p:cNvSpPr/>
          <p:nvPr/>
        </p:nvSpPr>
        <p:spPr>
          <a:xfrm flipH="1">
            <a:off x="6443280" y="407664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40"/>
          <p:cNvSpPr/>
          <p:nvPr/>
        </p:nvSpPr>
        <p:spPr>
          <a:xfrm flipH="1">
            <a:off x="7451640" y="4076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Group 41"/>
          <p:cNvGrpSpPr/>
          <p:nvPr/>
        </p:nvGrpSpPr>
        <p:grpSpPr>
          <a:xfrm>
            <a:off x="1619280" y="4437000"/>
            <a:ext cx="1119960" cy="459720"/>
            <a:chOff x="1619280" y="4437000"/>
            <a:chExt cx="1119960" cy="459720"/>
          </a:xfrm>
        </p:grpSpPr>
        <mc:AlternateContent>
          <mc:Choice xmlns:a14="http://schemas.microsoft.com/office/drawing/2010/main" Requires="a14">
            <p:sp>
              <p:nvSpPr>
                <p:cNvPr id="331" name="Object 42"/>
                <p:cNvSpPr txBox="1"/>
                <p:nvPr/>
              </p:nvSpPr>
              <p:spPr>
                <a:xfrm>
                  <a:off x="1619280" y="4508280"/>
                  <a:ext cx="3045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Text Box 43"/>
            <p:cNvSpPr/>
            <p:nvPr/>
          </p:nvSpPr>
          <p:spPr>
            <a:xfrm>
              <a:off x="1848240" y="443700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CBD,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3" name="Rectangle 44"/>
          <p:cNvSpPr/>
          <p:nvPr/>
        </p:nvSpPr>
        <p:spPr>
          <a:xfrm>
            <a:off x="1619640" y="2637000"/>
            <a:ext cx="153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mic Sans MS"/>
              </a:rPr>
              <a:t>CKD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&gt;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mic Sans MS"/>
              </a:rPr>
              <a:t>CB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45"/>
          <p:cNvSpPr/>
          <p:nvPr/>
        </p:nvSpPr>
        <p:spPr>
          <a:xfrm>
            <a:off x="539640" y="450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5" name="Group 46"/>
          <p:cNvGrpSpPr/>
          <p:nvPr/>
        </p:nvGrpSpPr>
        <p:grpSpPr>
          <a:xfrm>
            <a:off x="2700360" y="4437000"/>
            <a:ext cx="1116000" cy="459720"/>
            <a:chOff x="2700360" y="4437000"/>
            <a:chExt cx="1116000" cy="459720"/>
          </a:xfrm>
        </p:grpSpPr>
        <mc:AlternateContent>
          <mc:Choice xmlns:a14="http://schemas.microsoft.com/office/drawing/2010/main" Requires="a14">
            <p:sp>
              <p:nvSpPr>
                <p:cNvPr id="336" name="Object 47"/>
                <p:cNvSpPr txBox="1"/>
                <p:nvPr/>
              </p:nvSpPr>
              <p:spPr>
                <a:xfrm>
                  <a:off x="2700360" y="4508280"/>
                  <a:ext cx="3045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7" name="Text Box 48"/>
            <p:cNvSpPr/>
            <p:nvPr/>
          </p:nvSpPr>
          <p:spPr>
            <a:xfrm>
              <a:off x="2926800" y="443700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CKD,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8" name="Group 49"/>
          <p:cNvGrpSpPr/>
          <p:nvPr/>
        </p:nvGrpSpPr>
        <p:grpSpPr>
          <a:xfrm>
            <a:off x="3708360" y="4437000"/>
            <a:ext cx="981720" cy="459720"/>
            <a:chOff x="3708360" y="4437000"/>
            <a:chExt cx="981720" cy="459720"/>
          </a:xfrm>
        </p:grpSpPr>
        <mc:AlternateContent>
          <mc:Choice xmlns:a14="http://schemas.microsoft.com/office/drawing/2010/main" Requires="a14">
            <p:sp>
              <p:nvSpPr>
                <p:cNvPr id="339" name="Object 50"/>
                <p:cNvSpPr txBox="1"/>
                <p:nvPr/>
              </p:nvSpPr>
              <p:spPr>
                <a:xfrm>
                  <a:off x="3708360" y="4508280"/>
                  <a:ext cx="3045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Text Box 51"/>
            <p:cNvSpPr/>
            <p:nvPr/>
          </p:nvSpPr>
          <p:spPr>
            <a:xfrm>
              <a:off x="3908880" y="44370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CB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1" name="Group 52"/>
          <p:cNvGrpSpPr/>
          <p:nvPr/>
        </p:nvGrpSpPr>
        <p:grpSpPr>
          <a:xfrm>
            <a:off x="3851280" y="6093000"/>
            <a:ext cx="1073520" cy="459720"/>
            <a:chOff x="3851280" y="6093000"/>
            <a:chExt cx="1073520" cy="459720"/>
          </a:xfrm>
        </p:grpSpPr>
        <mc:AlternateContent>
          <mc:Choice xmlns:a14="http://schemas.microsoft.com/office/drawing/2010/main" Requires="a14">
            <p:sp>
              <p:nvSpPr>
                <p:cNvPr id="342" name="Object 53"/>
                <p:cNvSpPr txBox="1"/>
                <p:nvPr/>
              </p:nvSpPr>
              <p:spPr>
                <a:xfrm>
                  <a:off x="3851280" y="6164280"/>
                  <a:ext cx="3045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Text Box 54"/>
            <p:cNvSpPr/>
            <p:nvPr/>
          </p:nvSpPr>
          <p:spPr>
            <a:xfrm>
              <a:off x="4091760" y="609300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CFB,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4" name="Group 55"/>
          <p:cNvGrpSpPr/>
          <p:nvPr/>
        </p:nvGrpSpPr>
        <p:grpSpPr>
          <a:xfrm>
            <a:off x="5867280" y="6093000"/>
            <a:ext cx="988920" cy="459720"/>
            <a:chOff x="5867280" y="6093000"/>
            <a:chExt cx="988920" cy="459720"/>
          </a:xfrm>
        </p:grpSpPr>
        <mc:AlternateContent>
          <mc:Choice xmlns:a14="http://schemas.microsoft.com/office/drawing/2010/main" Requires="a14">
            <p:sp>
              <p:nvSpPr>
                <p:cNvPr id="345" name="Object 56"/>
                <p:cNvSpPr txBox="1"/>
                <p:nvPr/>
              </p:nvSpPr>
              <p:spPr>
                <a:xfrm>
                  <a:off x="5867280" y="6164280"/>
                  <a:ext cx="3045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Text Box 57"/>
            <p:cNvSpPr/>
            <p:nvPr/>
          </p:nvSpPr>
          <p:spPr>
            <a:xfrm>
              <a:off x="6088680" y="6093000"/>
              <a:ext cx="76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CF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7" name="Group 58"/>
          <p:cNvGrpSpPr/>
          <p:nvPr/>
        </p:nvGrpSpPr>
        <p:grpSpPr>
          <a:xfrm>
            <a:off x="4859280" y="6093000"/>
            <a:ext cx="1069560" cy="459720"/>
            <a:chOff x="4859280" y="6093000"/>
            <a:chExt cx="1069560" cy="459720"/>
          </a:xfrm>
        </p:grpSpPr>
        <mc:AlternateContent>
          <mc:Choice xmlns:a14="http://schemas.microsoft.com/office/drawing/2010/main" Requires="a14">
            <p:sp>
              <p:nvSpPr>
                <p:cNvPr id="348" name="Object 59"/>
                <p:cNvSpPr txBox="1"/>
                <p:nvPr/>
              </p:nvSpPr>
              <p:spPr>
                <a:xfrm>
                  <a:off x="4859280" y="6164280"/>
                  <a:ext cx="3045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Text Box 60"/>
            <p:cNvSpPr/>
            <p:nvPr/>
          </p:nvSpPr>
          <p:spPr>
            <a:xfrm>
              <a:off x="5097240" y="609300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mic Sans MS"/>
                </a:rPr>
                <a:t>CFK,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0" name="Text Box 61"/>
          <p:cNvSpPr/>
          <p:nvPr/>
        </p:nvSpPr>
        <p:spPr>
          <a:xfrm>
            <a:off x="2771640" y="609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62"/>
          <p:cNvSpPr/>
          <p:nvPr/>
        </p:nvSpPr>
        <p:spPr>
          <a:xfrm>
            <a:off x="5867280" y="5516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B, CK, C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395280" y="260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24000" y="765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рны ли утвержд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24000" y="148428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) Равносторонний треугольник является равнобедренны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324000" y="249228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) Равнобедренный треугольник обязательно является остроугольны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24000" y="350028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) Равносторонний треугольник обязательно остроуголь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877080" y="1628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77080" y="256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694836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95280" y="170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По сторон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35640" y="3716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По угл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10">
            <a:hlinkClick r:id="rId1" action="ppaction://hlinksldjump"/>
          </p:cNvPr>
          <p:cNvSpPr/>
          <p:nvPr/>
        </p:nvSpPr>
        <p:spPr>
          <a:xfrm rot="13501800">
            <a:off x="4535280" y="116028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11">
            <a:hlinkClick r:id="rId2" action="ppaction://hlinksldjump"/>
          </p:cNvPr>
          <p:cNvSpPr/>
          <p:nvPr/>
        </p:nvSpPr>
        <p:spPr>
          <a:xfrm rot="17923200">
            <a:off x="4658400" y="2066400"/>
            <a:ext cx="203040" cy="957240"/>
          </a:xfrm>
          <a:prstGeom prst="downArrow">
            <a:avLst>
              <a:gd name="adj1" fmla="val 50000"/>
              <a:gd name="adj2" fmla="val 11786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12"/>
          <p:cNvSpPr/>
          <p:nvPr/>
        </p:nvSpPr>
        <p:spPr>
          <a:xfrm rot="6436200">
            <a:off x="4677120" y="3251880"/>
            <a:ext cx="220680" cy="863640"/>
          </a:xfrm>
          <a:prstGeom prst="downArrow">
            <a:avLst>
              <a:gd name="adj1" fmla="val 50000"/>
              <a:gd name="adj2" fmla="val 9783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13"/>
          <p:cNvSpPr/>
          <p:nvPr/>
        </p:nvSpPr>
        <p:spPr>
          <a:xfrm rot="16056600">
            <a:off x="4678920" y="1665720"/>
            <a:ext cx="217800" cy="863640"/>
          </a:xfrm>
          <a:prstGeom prst="downArrow">
            <a:avLst>
              <a:gd name="adj1" fmla="val 50000"/>
              <a:gd name="adj2" fmla="val 991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14"/>
          <p:cNvSpPr/>
          <p:nvPr/>
        </p:nvSpPr>
        <p:spPr>
          <a:xfrm rot="3890400">
            <a:off x="4750920" y="425772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15"/>
          <p:cNvSpPr/>
          <p:nvPr/>
        </p:nvSpPr>
        <p:spPr>
          <a:xfrm rot="5400000">
            <a:off x="4679280" y="375264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435640" y="981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5280" y="2602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реугольники делятся на вид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5435640" y="1773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равнобедрен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5435640" y="2565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разносторон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1187280" y="3357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187280" y="4005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остроуголь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1187280" y="458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тупоуголь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8780760" y="6490440"/>
            <a:ext cx="264600" cy="3682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8780760" y="6490440"/>
            <a:ext cx="264600" cy="3682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971640" y="98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116000" y="981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исуйте треугольник АВС: АВ = ВС = А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3059280" y="2636640"/>
            <a:ext cx="108108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059280" y="4292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9"/>
          <p:cNvSpPr/>
          <p:nvPr/>
        </p:nvSpPr>
        <p:spPr>
          <a:xfrm flipH="1" flipV="1">
            <a:off x="4140360" y="2636640"/>
            <a:ext cx="107928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700360" y="4076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148360" y="400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92436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4"/>
          <p:cNvSpPr/>
          <p:nvPr/>
        </p:nvSpPr>
        <p:spPr>
          <a:xfrm flipV="1">
            <a:off x="4500720" y="328428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3492360" y="3357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421164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68360" y="4653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403280" y="4724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Равносторонний треуголь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8780760" y="6490440"/>
            <a:ext cx="264600" cy="3682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12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403280" y="1125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исуйте треугольник АВС: АВ = ВС    А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6877080" y="1197000"/>
                <a:ext cx="357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Line 8"/>
          <p:cNvSpPr/>
          <p:nvPr/>
        </p:nvSpPr>
        <p:spPr>
          <a:xfrm flipV="1">
            <a:off x="2124000" y="2492280"/>
            <a:ext cx="2232000" cy="18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9"/>
          <p:cNvSpPr/>
          <p:nvPr/>
        </p:nvSpPr>
        <p:spPr>
          <a:xfrm flipH="1" flipV="1">
            <a:off x="4356000" y="2492280"/>
            <a:ext cx="2232000" cy="18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2124000" y="436572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692360" y="4076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6588000" y="4149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140360" y="2133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3203640" y="3213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5148360" y="3213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3635280" y="3933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0"/>
          <p:cNvSpPr/>
          <p:nvPr/>
        </p:nvSpPr>
        <p:spPr>
          <a:xfrm rot="19217400">
            <a:off x="1980000" y="2923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боковая сторо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1"/>
          <p:cNvSpPr/>
          <p:nvPr/>
        </p:nvSpPr>
        <p:spPr>
          <a:xfrm rot="2382600">
            <a:off x="4499640" y="299700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боковая сторо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826920" y="472428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Равнобедренный треуголь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179280" y="184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АВ = ВС – боковые сторо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17928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АС - 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8780760" y="6490440"/>
            <a:ext cx="264600" cy="3682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1268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187280" y="1268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исуйте треугольник АВС: АВ    ВС    А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826920" y="472428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Разносторонний треуголь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7020000" y="134136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300720" y="134136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Line 10"/>
          <p:cNvSpPr/>
          <p:nvPr/>
        </p:nvSpPr>
        <p:spPr>
          <a:xfrm flipV="1">
            <a:off x="2050920" y="2492280"/>
            <a:ext cx="1297080" cy="18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3348000" y="2492280"/>
            <a:ext cx="410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2050920" y="3500280"/>
            <a:ext cx="540072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619280" y="4076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451640" y="328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203640" y="2060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8780760" y="6490440"/>
            <a:ext cx="264600" cy="3682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50920" y="1125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826920" y="472428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Прямоугольный треуголь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1125360"/>
            <a:ext cx="75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рисуйте треугольник АВС, в котором       - прямо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6084720" y="1125360"/>
            <a:ext cx="934920" cy="459720"/>
            <a:chOff x="6084720" y="1125360"/>
            <a:chExt cx="934920" cy="459720"/>
          </a:xfrm>
        </p:grpSpPr>
        <mc:AlternateContent>
          <mc:Choice xmlns:a14="http://schemas.microsoft.com/office/drawing/2010/main" Requires="a14">
            <p:sp>
              <p:nvSpPr>
                <p:cNvPr id="218" name="Object 10"/>
                <p:cNvSpPr txBox="1"/>
                <p:nvPr/>
              </p:nvSpPr>
              <p:spPr>
                <a:xfrm>
                  <a:off x="6084720" y="119664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11"/>
            <p:cNvSpPr/>
            <p:nvPr/>
          </p:nvSpPr>
          <p:spPr>
            <a:xfrm>
              <a:off x="6372000" y="1125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" name="Line 12"/>
          <p:cNvSpPr/>
          <p:nvPr/>
        </p:nvSpPr>
        <p:spPr>
          <a:xfrm>
            <a:off x="2268360" y="20606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2268360" y="4076640"/>
            <a:ext cx="158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2268360" y="2060640"/>
            <a:ext cx="158292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68360" y="386064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835280" y="3789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851280" y="3716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0509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2627280" y="371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кат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20"/>
          <p:cNvSpPr/>
          <p:nvPr/>
        </p:nvSpPr>
        <p:spPr>
          <a:xfrm rot="16200000">
            <a:off x="1639080" y="29052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кат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21"/>
          <p:cNvSpPr/>
          <p:nvPr/>
        </p:nvSpPr>
        <p:spPr>
          <a:xfrm rot="3187800">
            <a:off x="2248560" y="2797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ипотенуз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4067280" y="1844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АВ и АС – боковые сторо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4067280" y="242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С - гипотенуз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24"/>
          <p:cNvGrpSpPr/>
          <p:nvPr/>
        </p:nvGrpSpPr>
        <p:grpSpPr>
          <a:xfrm>
            <a:off x="5580000" y="3860640"/>
            <a:ext cx="1152000" cy="459720"/>
            <a:chOff x="5580000" y="3860640"/>
            <a:chExt cx="1152000" cy="459720"/>
          </a:xfrm>
        </p:grpSpPr>
        <mc:AlternateContent>
          <mc:Choice xmlns:a14="http://schemas.microsoft.com/office/drawing/2010/main" Requires="a14">
            <p:sp>
              <p:nvSpPr>
                <p:cNvPr id="233" name="Object 25"/>
                <p:cNvSpPr txBox="1"/>
                <p:nvPr/>
              </p:nvSpPr>
              <p:spPr>
                <a:xfrm>
                  <a:off x="5580000" y="3931920"/>
                  <a:ext cx="455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Text Box 26"/>
            <p:cNvSpPr/>
            <p:nvPr/>
          </p:nvSpPr>
          <p:spPr>
            <a:xfrm>
              <a:off x="5933880" y="386064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С 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" name="Group 27"/>
          <p:cNvGrpSpPr/>
          <p:nvPr/>
        </p:nvGrpSpPr>
        <p:grpSpPr>
          <a:xfrm>
            <a:off x="4859280" y="3860640"/>
            <a:ext cx="934920" cy="459720"/>
            <a:chOff x="4859280" y="3860640"/>
            <a:chExt cx="934920" cy="459720"/>
          </a:xfrm>
        </p:grpSpPr>
        <mc:AlternateContent>
          <mc:Choice xmlns:a14="http://schemas.microsoft.com/office/drawing/2010/main" Requires="a14">
            <p:sp>
              <p:nvSpPr>
                <p:cNvPr id="236" name="Object 28"/>
                <p:cNvSpPr txBox="1"/>
                <p:nvPr/>
              </p:nvSpPr>
              <p:spPr>
                <a:xfrm>
                  <a:off x="4859280" y="393192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Text Box 29"/>
            <p:cNvSpPr/>
            <p:nvPr/>
          </p:nvSpPr>
          <p:spPr>
            <a:xfrm>
              <a:off x="5146560" y="3860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В,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30"/>
          <p:cNvSpPr/>
          <p:nvPr/>
        </p:nvSpPr>
        <p:spPr>
          <a:xfrm>
            <a:off x="6372360" y="3860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стры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8780760" y="6490440"/>
            <a:ext cx="264600" cy="3682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50920" y="1125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826920" y="472428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Остроугольный треуголь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11280" y="1125360"/>
            <a:ext cx="75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рисуйте треугольник АВС, в котором       - остры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" name="Group 8"/>
          <p:cNvGrpSpPr/>
          <p:nvPr/>
        </p:nvGrpSpPr>
        <p:grpSpPr>
          <a:xfrm>
            <a:off x="6084720" y="1125360"/>
            <a:ext cx="934920" cy="459720"/>
            <a:chOff x="6084720" y="1125360"/>
            <a:chExt cx="934920" cy="459720"/>
          </a:xfrm>
        </p:grpSpPr>
        <mc:AlternateContent>
          <mc:Choice xmlns:a14="http://schemas.microsoft.com/office/drawing/2010/main" Requires="a14">
            <p:sp>
              <p:nvSpPr>
                <p:cNvPr id="244" name="Object 9"/>
                <p:cNvSpPr txBox="1"/>
                <p:nvPr/>
              </p:nvSpPr>
              <p:spPr>
                <a:xfrm>
                  <a:off x="6084720" y="119664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Text Box 10"/>
            <p:cNvSpPr/>
            <p:nvPr/>
          </p:nvSpPr>
          <p:spPr>
            <a:xfrm>
              <a:off x="6372000" y="1125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" name="Text Box 14"/>
          <p:cNvSpPr/>
          <p:nvPr/>
        </p:nvSpPr>
        <p:spPr>
          <a:xfrm>
            <a:off x="755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630072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940360" y="17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5796000" y="4076640"/>
            <a:ext cx="1152000" cy="459720"/>
            <a:chOff x="5796000" y="4076640"/>
            <a:chExt cx="1152000" cy="459720"/>
          </a:xfrm>
        </p:grpSpPr>
        <mc:AlternateContent>
          <mc:Choice xmlns:a14="http://schemas.microsoft.com/office/drawing/2010/main" Requires="a14">
            <p:sp>
              <p:nvSpPr>
                <p:cNvPr id="250" name="Object 18"/>
                <p:cNvSpPr txBox="1"/>
                <p:nvPr/>
              </p:nvSpPr>
              <p:spPr>
                <a:xfrm>
                  <a:off x="5796000" y="4147920"/>
                  <a:ext cx="455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Text Box 19"/>
            <p:cNvSpPr/>
            <p:nvPr/>
          </p:nvSpPr>
          <p:spPr>
            <a:xfrm>
              <a:off x="6149880" y="407664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С 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5075280" y="4076640"/>
            <a:ext cx="934920" cy="459720"/>
            <a:chOff x="5075280" y="4076640"/>
            <a:chExt cx="934920" cy="459720"/>
          </a:xfrm>
        </p:grpSpPr>
        <mc:AlternateContent>
          <mc:Choice xmlns:a14="http://schemas.microsoft.com/office/drawing/2010/main" Requires="a14">
            <p:sp>
              <p:nvSpPr>
                <p:cNvPr id="253" name="Object 21"/>
                <p:cNvSpPr txBox="1"/>
                <p:nvPr/>
              </p:nvSpPr>
              <p:spPr>
                <a:xfrm>
                  <a:off x="5075280" y="414792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Text Box 22"/>
            <p:cNvSpPr/>
            <p:nvPr/>
          </p:nvSpPr>
          <p:spPr>
            <a:xfrm>
              <a:off x="5362560" y="407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В,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5" name="Text Box 23"/>
          <p:cNvSpPr/>
          <p:nvPr/>
        </p:nvSpPr>
        <p:spPr>
          <a:xfrm>
            <a:off x="6588000" y="4076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стры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1258920" y="3860640"/>
            <a:ext cx="504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25"/>
          <p:cNvSpPr/>
          <p:nvPr/>
        </p:nvSpPr>
        <p:spPr>
          <a:xfrm flipV="1">
            <a:off x="1258920" y="2060640"/>
            <a:ext cx="468144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5940360" y="2060640"/>
            <a:ext cx="36036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8780760" y="6490440"/>
            <a:ext cx="264600" cy="36828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125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54200" y="4724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Тупоугольный треуголь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11280" y="1125360"/>
            <a:ext cx="75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рисуйте треугольник АВС, в котором       - тупо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6084720" y="1125360"/>
            <a:ext cx="934920" cy="459720"/>
            <a:chOff x="6084720" y="1125360"/>
            <a:chExt cx="934920" cy="459720"/>
          </a:xfrm>
        </p:grpSpPr>
        <mc:AlternateContent>
          <mc:Choice xmlns:a14="http://schemas.microsoft.com/office/drawing/2010/main" Requires="a14">
            <p:sp>
              <p:nvSpPr>
                <p:cNvPr id="264" name="Object 9"/>
                <p:cNvSpPr txBox="1"/>
                <p:nvPr/>
              </p:nvSpPr>
              <p:spPr>
                <a:xfrm>
                  <a:off x="6084720" y="119664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Text Box 10"/>
            <p:cNvSpPr/>
            <p:nvPr/>
          </p:nvSpPr>
          <p:spPr>
            <a:xfrm>
              <a:off x="6372000" y="1125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6" name="Text Box 11"/>
          <p:cNvSpPr/>
          <p:nvPr/>
        </p:nvSpPr>
        <p:spPr>
          <a:xfrm>
            <a:off x="219564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30072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042920" y="198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Group 14"/>
          <p:cNvGrpSpPr/>
          <p:nvPr/>
        </p:nvGrpSpPr>
        <p:grpSpPr>
          <a:xfrm>
            <a:off x="5796000" y="4076640"/>
            <a:ext cx="1152000" cy="459720"/>
            <a:chOff x="5796000" y="4076640"/>
            <a:chExt cx="1152000" cy="459720"/>
          </a:xfrm>
        </p:grpSpPr>
        <mc:AlternateContent>
          <mc:Choice xmlns:a14="http://schemas.microsoft.com/office/drawing/2010/main" Requires="a14">
            <p:sp>
              <p:nvSpPr>
                <p:cNvPr id="270" name="Object 15"/>
                <p:cNvSpPr txBox="1"/>
                <p:nvPr/>
              </p:nvSpPr>
              <p:spPr>
                <a:xfrm>
                  <a:off x="5796000" y="4147920"/>
                  <a:ext cx="455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Text Box 16"/>
            <p:cNvSpPr/>
            <p:nvPr/>
          </p:nvSpPr>
          <p:spPr>
            <a:xfrm>
              <a:off x="6149880" y="407664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С 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2" name="Group 17"/>
          <p:cNvGrpSpPr/>
          <p:nvPr/>
        </p:nvGrpSpPr>
        <p:grpSpPr>
          <a:xfrm>
            <a:off x="5075280" y="4076640"/>
            <a:ext cx="934920" cy="459720"/>
            <a:chOff x="5075280" y="4076640"/>
            <a:chExt cx="934920" cy="459720"/>
          </a:xfrm>
        </p:grpSpPr>
        <mc:AlternateContent>
          <mc:Choice xmlns:a14="http://schemas.microsoft.com/office/drawing/2010/main" Requires="a14">
            <p:sp>
              <p:nvSpPr>
                <p:cNvPr id="273" name="Object 18"/>
                <p:cNvSpPr txBox="1"/>
                <p:nvPr/>
              </p:nvSpPr>
              <p:spPr>
                <a:xfrm>
                  <a:off x="5075280" y="414792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Text Box 19"/>
            <p:cNvSpPr/>
            <p:nvPr/>
          </p:nvSpPr>
          <p:spPr>
            <a:xfrm>
              <a:off x="5362560" y="407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В,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Text Box 20"/>
          <p:cNvSpPr/>
          <p:nvPr/>
        </p:nvSpPr>
        <p:spPr>
          <a:xfrm>
            <a:off x="6588000" y="4076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стры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1403280" y="234936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2700360" y="3860640"/>
            <a:ext cx="35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1403280" y="2349360"/>
            <a:ext cx="482436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5"/>
          <p:cNvSpPr/>
          <p:nvPr/>
        </p:nvSpPr>
        <p:spPr>
          <a:xfrm>
            <a:off x="971640" y="1125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971640" y="1773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 равнобедренный треугольник АК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7"/>
          <p:cNvSpPr/>
          <p:nvPr/>
        </p:nvSpPr>
        <p:spPr>
          <a:xfrm flipV="1">
            <a:off x="2411280" y="2708280"/>
            <a:ext cx="172908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2411280" y="436572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4140360" y="2708280"/>
            <a:ext cx="165564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3059280" y="35002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11"/>
          <p:cNvSpPr/>
          <p:nvPr/>
        </p:nvSpPr>
        <p:spPr>
          <a:xfrm flipH="1">
            <a:off x="4932360" y="3573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2050920" y="4076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5796000" y="40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3851280" y="220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2303640" y="4797360"/>
            <a:ext cx="457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ишит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ковые стороны 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ание 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5076720" y="522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АК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5724360" y="522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4572000" y="58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3:07:40Z</dcterms:created>
  <dc:creator>XXX</dc:creator>
  <dc:description/>
  <dc:language>en-US</dc:language>
  <cp:lastModifiedBy>USER</cp:lastModifiedBy>
  <dcterms:modified xsi:type="dcterms:W3CDTF">2013-11-13T12:44:57Z</dcterms:modified>
  <cp:revision>22</cp:revision>
  <dc:subject/>
  <dc:title>Виды треугольников</dc:title>
</cp:coreProperties>
</file>