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A32D-AAB5-44B7-A70E-0E382B760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791-BE52-4CB5-ABA3-D8E97BA4F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52B1-FFD7-42BE-822F-6A2063CC91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37C9-10CB-4CBE-9DCA-9FDD6DBB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ADEC7-9525-426B-BA9C-1F060E8F7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953F-D248-47A1-AD44-B3B9BC0B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71940-1AB9-42AB-81FD-B7943F760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0485A-4FDA-402E-B717-726C20B70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65F2-550D-43D1-B506-01821D35C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868D3-CFDA-4D3B-ADAE-6C23CDFC5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445DD-081D-4F6E-8CE3-B355466B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BF22-DBB1-4C36-8D8F-EE07662B0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F8BC4-6A15-4B18-B488-6DBC63983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387D8-54E0-4191-B170-AF5481DA7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9D8A-90A2-4F14-B690-8EEB6F4CE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6BD8A-93C3-4617-A123-7D2F89F1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4AC23-357A-4181-8BDD-F38E4C110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A2CC-9FCA-4804-9AF4-F857B5DC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05F4-9586-4E38-AF6D-97778BC8E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F2D9-15CA-47DF-A9F4-A6EB22AF8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7BE-355B-4BCE-B9F7-7653F0D4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1C06-7364-4469-8BA7-2AB618C4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BEFB-12D7-475B-8D1A-B89695A6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1134-11E6-4AB6-9543-75D7A9E7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ED0-1DD9-4EED-A60E-3AE68620B86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86FF-72A9-4D82-A031-490F3251631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79059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дейно-Нравственные искания Н.Л. Толстого, место Ясной Поляны в жизни и творчестве писател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896000" cy="27306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901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стоки великой жизни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дки Толстого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лавная история 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838680" cy="16858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919520" cy="2303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995640" y="4149720"/>
            <a:ext cx="1987560" cy="23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413400" y="2276640"/>
            <a:ext cx="2125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 Ясной поля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549960" cy="1870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2987640" cy="2371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003640" y="3645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877080" y="620640"/>
            <a:ext cx="20937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-5393880"/>
            <a:ext cx="166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693960" cy="1946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517840" cy="2586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0240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равственные искания писател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2614680" cy="2405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1893960" cy="2514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227640" y="2349360"/>
            <a:ext cx="2157480" cy="3024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1778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48:10Z</dcterms:created>
  <dc:creator>user</dc:creator>
  <dc:description/>
  <dc:language>en-US</dc:language>
  <cp:lastModifiedBy>user</cp:lastModifiedBy>
  <dcterms:modified xsi:type="dcterms:W3CDTF">2013-11-04T07:04:17Z</dcterms:modified>
  <cp:revision>2</cp:revision>
  <dc:subject/>
  <dc:title>Идейно-Нравственные искания Н.Л. Толстого, место Ясной Поляны в жизни и творчестве писателя</dc:title>
</cp:coreProperties>
</file>