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52F7-1C2C-46B4-BF40-FD0F2A545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4137-2838-4CDE-B7E6-A12777C82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EACC-BE34-41D5-8E9A-CC8685AE4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02C36-F9DD-4440-8C15-C1DCAECD1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449AE-BB1C-40F6-ABF4-8AA2DCEE3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B6FF-5413-4542-9889-FA40E0E0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D212-7274-489D-9F2B-E46706FC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6F7A1-ED60-4D4A-AC14-28DAB2C7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0C19D-1EC3-4DBF-8114-CF98205DF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0C4B-C0A5-4C69-8000-9A82F59D4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8E640-4ED1-4DEA-9DEC-052CE2B71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212-3EC5-4032-B429-ABC7195AD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AD877-CD91-4B63-AC9C-7C55B5EF0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75B94-96B7-41CA-BA65-47679EB1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28709-F4F1-45FD-834A-166A04EBE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AFA8F-F171-422B-A03A-4C1DB808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EE513-531F-42F8-BE65-34CA7C5C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E2B-0509-420F-A4AF-A3BA4EE39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FB5A-0609-4D17-A0D2-9E8043D1F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D4F-6095-4178-86D2-9D110689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A1C5-F889-471F-9D13-1E7AFA9F0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6A90-5662-43B3-B931-2A1A53CDF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C9C-B3B0-4DE8-9BA0-C5154B443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5957F-E8C3-441C-8ABB-E5B7F2C2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7C5A7-60A7-4A68-B1D6-7B864D53370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C57EC-9A4B-4322-AB55-BCE2BF0526E1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94760" y="228240"/>
            <a:ext cx="7905960" cy="25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Tahoma"/>
              </a:rPr>
              <a:t>Идейно-Нравственные искания Н.Л. Толстого, место Ясной Поляны в жизни и творчестве писателя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4" name="" descr=""/>
          <p:cNvPicPr/>
          <p:nvPr/>
        </p:nvPicPr>
        <p:blipFill>
          <a:blip r:embed="rId1"/>
          <a:stretch/>
        </p:blipFill>
        <p:spPr>
          <a:xfrm>
            <a:off x="395280" y="2565360"/>
            <a:ext cx="4896000" cy="2730600"/>
          </a:xfrm>
          <a:prstGeom prst="rect">
            <a:avLst/>
          </a:prstGeom>
          <a:ln w="0">
            <a:noFill/>
          </a:ln>
        </p:spPr>
      </p:pic>
      <p:pic>
        <p:nvPicPr>
          <p:cNvPr id="385" name="" descr=""/>
          <p:cNvPicPr/>
          <p:nvPr/>
        </p:nvPicPr>
        <p:blipFill>
          <a:blip r:embed="rId2"/>
          <a:stretch/>
        </p:blipFill>
        <p:spPr>
          <a:xfrm>
            <a:off x="6156360" y="2637000"/>
            <a:ext cx="19018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Истоки великой жизни.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Предки Толстого. </a:t>
            </a:r>
            <a:br>
              <a:rPr sz="4000"/>
            </a:b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Славная история рода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1"/>
          <a:stretch/>
        </p:blipFill>
        <p:spPr>
          <a:xfrm>
            <a:off x="1187280" y="2276640"/>
            <a:ext cx="3838680" cy="1685880"/>
          </a:xfrm>
          <a:prstGeom prst="rect">
            <a:avLst/>
          </a:prstGeom>
          <a:ln w="0">
            <a:noFill/>
          </a:ln>
        </p:spPr>
      </p:pic>
      <p:pic>
        <p:nvPicPr>
          <p:cNvPr id="388" name="" descr=""/>
          <p:cNvPicPr/>
          <p:nvPr/>
        </p:nvPicPr>
        <p:blipFill>
          <a:blip r:embed="rId2"/>
          <a:stretch/>
        </p:blipFill>
        <p:spPr>
          <a:xfrm>
            <a:off x="539640" y="4149720"/>
            <a:ext cx="1919520" cy="2303640"/>
          </a:xfrm>
          <a:prstGeom prst="rect">
            <a:avLst/>
          </a:prstGeom>
          <a:ln w="0">
            <a:noFill/>
          </a:ln>
        </p:spPr>
      </p:pic>
      <p:pic>
        <p:nvPicPr>
          <p:cNvPr id="389" name="" descr=""/>
          <p:cNvPicPr/>
          <p:nvPr/>
        </p:nvPicPr>
        <p:blipFill>
          <a:blip r:embed="rId3"/>
          <a:stretch/>
        </p:blipFill>
        <p:spPr>
          <a:xfrm>
            <a:off x="3995640" y="4149720"/>
            <a:ext cx="1987560" cy="2347920"/>
          </a:xfrm>
          <a:prstGeom prst="rect">
            <a:avLst/>
          </a:prstGeom>
          <a:ln w="0">
            <a:noFill/>
          </a:ln>
        </p:spPr>
      </p:pic>
      <p:pic>
        <p:nvPicPr>
          <p:cNvPr id="390" name="" descr=""/>
          <p:cNvPicPr/>
          <p:nvPr/>
        </p:nvPicPr>
        <p:blipFill>
          <a:blip r:embed="rId4"/>
          <a:stretch/>
        </p:blipFill>
        <p:spPr>
          <a:xfrm>
            <a:off x="6413400" y="2276640"/>
            <a:ext cx="2125800" cy="30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В Ясной поляне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3549960" cy="1870200"/>
          </a:xfrm>
          <a:prstGeom prst="rect">
            <a:avLst/>
          </a:prstGeom>
          <a:ln w="0">
            <a:noFill/>
          </a:ln>
        </p:spPr>
      </p:pic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900000" y="3645000"/>
            <a:ext cx="2987640" cy="237168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003640" y="3645000"/>
            <a:ext cx="3311640" cy="248436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6877080" y="620640"/>
            <a:ext cx="2093760" cy="270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320" y="-5393880"/>
            <a:ext cx="1666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55640" y="620640"/>
            <a:ext cx="3693960" cy="194652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5508720" y="620640"/>
            <a:ext cx="2517840" cy="25862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539640" y="3141720"/>
            <a:ext cx="3888000" cy="291636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4"/>
          <a:stretch/>
        </p:blipFill>
        <p:spPr>
          <a:xfrm>
            <a:off x="5148360" y="3860640"/>
            <a:ext cx="30240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ahoma"/>
              </a:rPr>
              <a:t>Нравственные искания писател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301680" y="1600200"/>
            <a:ext cx="2614680" cy="240516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3492360" y="2421000"/>
            <a:ext cx="1893960" cy="251460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6227640" y="2349360"/>
            <a:ext cx="2157480" cy="3024360"/>
          </a:xfrm>
          <a:prstGeom prst="rect">
            <a:avLst/>
          </a:prstGeom>
          <a:ln w="0">
            <a:noFill/>
          </a:ln>
        </p:spPr>
      </p:pic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1778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4T06:48:10Z</dcterms:created>
  <dc:creator>user</dc:creator>
  <dc:description/>
  <dc:language>en-US</dc:language>
  <cp:lastModifiedBy>user</cp:lastModifiedBy>
  <dcterms:modified xsi:type="dcterms:W3CDTF">2013-11-04T07:04:17Z</dcterms:modified>
  <cp:revision>2</cp:revision>
  <dc:subject/>
  <dc:title>Идейно-Нравственные искания Н.Л. Толстого, место Ясной Поляны в жизни и творчестве писателя</dc:title>
</cp:coreProperties>
</file>