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F89-2647-4BD2-B6FF-C37349F8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264-E5D5-4EB5-BD66-6B41312A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3BE3-7534-42E9-9408-BEB51AAB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B4B-768D-40B8-B7B3-66B4381C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9D7-F7A1-4289-BC25-4E780202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F9E-8108-476E-BC2F-86513D54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DE2-3917-488B-835C-93B6D051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8C9-7887-4F34-8D1F-911295E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103-248A-4345-95BB-6A07B236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C51-CFFC-476B-837B-A5B31E40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8FB-7AD2-4A5D-B435-3496C6D2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F32-E9AF-475A-A641-47319D2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C1B7-4136-457D-BCAF-2A2BA18FD0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ДУМАЙ, СЧИТАЙ, ОТГАДЫВАЙ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781000"/>
            <a:ext cx="6400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 ДЛЯ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КЛАССА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Грищенко Л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Музыкальная пауз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вучит песня «Дважды два четыр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4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адки - шут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5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то быстре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ставить слова, которые кроются под следующими числ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Расставить по порядку сл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6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Головолом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трые приме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7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то больш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помните и назовите как можно больше пословиц и поговорок, связанных с числ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ведение итогов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ручение памятных медале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и закончился наш конкурс. Кто выиграл – не зазнавайтесь, а кто проиграл – не расстраивайтесь. У вас есть время подтянуться, пополнить свои знания. И в следующий раз вы обязательно одержите побе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всем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амое родное, любимое слово на свет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Геометрическая фигура, у которой все стороны рав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Любимая цифра красного цвета в тетради учен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Запись со знаком равно между левой и правой част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Линия без начала и кон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-15804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5406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Название числа при сложе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Часть прямой, имеющая начало и коне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Шестой месяц года (начало длинных каникул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Двенадцатый месяц г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Знак для записи числ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ткуда пришло слово математи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древнегреческого языка «мантеин», что означает в переводе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читься приобретать знания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значит, что кто любит математику – тот любит знания. Математика все считает, все находит. С ее помощью ученые делают разные научные откры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трана чудес встречает нас, страна воображения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ечательные слова сказочника и математика Льюиса Кэррол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вают в трудной книж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троумные братиш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сять их, но братья э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читают все на све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1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атематическая разминк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ч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Цифры, займите свои мест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онкурс 2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Загадочны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гадайте загад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нкурс 3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гадай скорее реб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59:21Z</dcterms:created>
  <dc:creator>Admin</dc:creator>
  <dc:description/>
  <dc:language>en-US</dc:language>
  <cp:lastModifiedBy>user</cp:lastModifiedBy>
  <dcterms:modified xsi:type="dcterms:W3CDTF">2013-12-07T08:21:37Z</dcterms:modified>
  <cp:revision>3</cp:revision>
  <dc:subject/>
  <dc:title>ДУМАЙ, СЧИТАЙ, ОТГАДЫВАЙ </dc:title>
</cp:coreProperties>
</file>