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A26-F738-4333-8BA1-630C0987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4B8-5596-4E18-B704-11524A4C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5ED-D358-4610-97AE-7E3C80F4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14E-F749-4D51-91C4-2FDA77C0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B96-6438-45C7-BD3E-C48BD0FB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C53-E24B-45F3-9922-38C5CACE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1FC-7980-42AD-A61C-EAA44FA2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267-E064-47CF-9C98-67165DC6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A75-E1AF-4828-A4F2-0CE220A1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70E-78EC-4453-9267-F1090241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CF9-E2BD-4503-8B5F-C080E643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1C4-DB45-4FCA-9DE6-4CC31775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2832-32D0-4C6D-8F38-6E7495B106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УМАЙ, СЧИТАЙ, ОТГАДЫВАЙ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2781000"/>
            <a:ext cx="6400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 ДЛЯ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КЛАССА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Грищенко Л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Музыкальная пау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вучит песня «Дважды два четыр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курс 4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адки - шу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курс 5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то быстре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ставить слова, которые кроются под следующими числ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Расставить по порядку сл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курс 6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Головолом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итрые прим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курс 7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то больш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помните и назовите как можно больше пословиц и поговорок, связанных с числ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ведение итогов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ручение памятных медале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т и закончился наш конкурс. Кто выиграл – не зазнавайтесь, а кто проиграл – не расстраивайтесь. У вас есть время подтянуться, пополнить свои знания. И в следующий раз вы обязательно одержите побе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всем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амое родное, любимое слово на све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Геометрическая фигура, у которой все стороны рав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Любимая цифра красного цвета в тетради уче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Запись со знаком равно между левой и правой част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Линия без начала и кон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-1580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Название числа при слож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Часть прямой, имеющая начало и кон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Шестой месяц года (начало длинных каникул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Двенадцатый месяц г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Знак для записи числ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ткуда пришло слово математи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древнегреческого языка «мантеин», что означает в переводе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читься приобретать знания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значит, что кто любит математику – тот любит знания. Математика все считает, все находит. С ее помощью ученые делают разные научные откры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трана чудес встречает нас, страна воображения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мечательные слова сказочника и математика Льюиса Кэрро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вают в трудной книж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итроумные братиш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сять их, но братья э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читают все на св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курс 1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атематическая размин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ч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Цифры, займите свои мест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курс 2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Загадочны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гадайте загад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онкурс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гадай скорее реб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59:21Z</dcterms:created>
  <dc:creator>Admin</dc:creator>
  <dc:description/>
  <dc:language>en-US</dc:language>
  <cp:lastModifiedBy>user</cp:lastModifiedBy>
  <dcterms:modified xsi:type="dcterms:W3CDTF">2013-12-07T08:21:37Z</dcterms:modified>
  <cp:revision>3</cp:revision>
  <dc:subject/>
  <dc:title>ДУМАЙ, СЧИТАЙ, ОТГАДЫВАЙ </dc:title>
</cp:coreProperties>
</file>