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3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0FAC-A104-4C9F-9B3D-547BF1A8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CFD-3C61-409B-A442-C7A40448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19E5-9147-4227-84D0-BF6726D1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0261-4FA3-4D4D-81D9-EFBC8160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4A4D-A1CB-43B5-BA8C-D0DD1B33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3C43-1D1F-45D5-B930-B98F7980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F602-0728-47F6-B472-4494AC72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28AB-FEDE-4301-B0B7-69BF11CC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EF79-97C7-40D8-897F-D833535B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5504-6110-4014-8D2F-BF0C2E90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F79C-60B6-452C-9248-3FF962FC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5BC-9EC5-4BD3-A96C-B3F4079D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CE25-AA06-429E-8528-D51FCB5F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7482-5F2B-4878-A522-CE34DFBE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575E-E953-46C0-B30B-99270BEF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E465-41D2-4B6C-BCC6-97197585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AF2F-0209-4545-BC4F-D8F2355F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7023-6DBC-4F18-A376-F1518A18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D9A-2590-46B5-8099-51542F34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8E1-B83E-41B7-BE5B-D522B188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606-0AB1-433C-820D-3C30B72C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4326-5B2D-4727-8A8B-25FCB4B5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7BF4-4855-4168-B6E4-B4580AAE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C094-7A08-41F8-84D9-B93E24D3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8B9E-3EBC-4F93-B770-F5261F65C74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72AE-D3FA-49B1-9E64-089FC17675B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4D5iH-SsOlU"/>
          <p:cNvPicPr/>
          <p:nvPr/>
        </p:nvPicPr>
        <p:blipFill>
          <a:blip r:embed="rId1"/>
          <a:stretch/>
        </p:blipFill>
        <p:spPr>
          <a:xfrm>
            <a:off x="324000" y="1413000"/>
            <a:ext cx="3887640" cy="251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640"/>
          <p:cNvPicPr/>
          <p:nvPr/>
        </p:nvPicPr>
        <p:blipFill>
          <a:blip r:embed="rId2"/>
          <a:stretch/>
        </p:blipFill>
        <p:spPr>
          <a:xfrm>
            <a:off x="4716360" y="1413000"/>
            <a:ext cx="4105440" cy="2519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1639001"/>
          <p:cNvPicPr/>
          <p:nvPr/>
        </p:nvPicPr>
        <p:blipFill>
          <a:blip r:embed="rId3"/>
          <a:stretch/>
        </p:blipFill>
        <p:spPr>
          <a:xfrm>
            <a:off x="2411280" y="4076640"/>
            <a:ext cx="3959280" cy="25192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"/>
          <p:cNvSpPr/>
          <p:nvPr/>
        </p:nvSpPr>
        <p:spPr>
          <a:xfrm>
            <a:off x="3132000" y="3333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ип моллюск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2530440" y="260280"/>
            <a:ext cx="350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Нервная систем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516600" y="981000"/>
            <a:ext cx="42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ри пары ганглиев (нервных узлов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987640" y="1484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змноже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11280" y="2205000"/>
            <a:ext cx="41749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имущественно раздельнополы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плодотворение внутренне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витие с превращени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2982600" y="333360"/>
            <a:ext cx="361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Представите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5" descr="беззубка"/>
          <p:cNvPicPr/>
          <p:nvPr/>
        </p:nvPicPr>
        <p:blipFill>
          <a:blip r:embed="rId1"/>
          <a:stretch/>
        </p:blipFill>
        <p:spPr>
          <a:xfrm>
            <a:off x="971640" y="907920"/>
            <a:ext cx="3527280" cy="26654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179280" y="328464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еззуб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7" descr="перловица"/>
          <p:cNvPicPr/>
          <p:nvPr/>
        </p:nvPicPr>
        <p:blipFill>
          <a:blip r:embed="rId2"/>
          <a:stretch/>
        </p:blipFill>
        <p:spPr>
          <a:xfrm>
            <a:off x="4788000" y="1052640"/>
            <a:ext cx="3433680" cy="280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7236000" y="3429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ловиц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9" descr="жемчужина"/>
          <p:cNvPicPr/>
          <p:nvPr/>
        </p:nvPicPr>
        <p:blipFill>
          <a:blip r:embed="rId3"/>
          <a:stretch/>
        </p:blipFill>
        <p:spPr>
          <a:xfrm>
            <a:off x="2627280" y="3562200"/>
            <a:ext cx="3673440" cy="329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0"/>
          <p:cNvSpPr/>
          <p:nvPr/>
        </p:nvSpPr>
        <p:spPr>
          <a:xfrm>
            <a:off x="3851280" y="6237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жемчужи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1403280" y="26028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Класс головоногие моллюс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8" descr="FQGJROHFZWXOR2Q"/>
          <p:cNvPicPr/>
          <p:nvPr/>
        </p:nvPicPr>
        <p:blipFill>
          <a:blip r:embed="rId1"/>
          <a:stretch/>
        </p:blipFill>
        <p:spPr>
          <a:xfrm>
            <a:off x="3995640" y="3138480"/>
            <a:ext cx="4105440" cy="35463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9"/>
          <p:cNvSpPr/>
          <p:nvPr/>
        </p:nvSpPr>
        <p:spPr>
          <a:xfrm>
            <a:off x="684360" y="1916280"/>
            <a:ext cx="410364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ело состоит из головы и туловищ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га модифицирова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голове два крупных глаза и щупальц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250920" y="33336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Внутреннее строение головоногих моллюск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5" descr="4554929"/>
          <p:cNvPicPr/>
          <p:nvPr/>
        </p:nvPicPr>
        <p:blipFill>
          <a:blip r:embed="rId1"/>
          <a:stretch/>
        </p:blipFill>
        <p:spPr>
          <a:xfrm>
            <a:off x="4572000" y="1413000"/>
            <a:ext cx="3408480" cy="4105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6"/>
          <p:cNvSpPr/>
          <p:nvPr/>
        </p:nvSpPr>
        <p:spPr>
          <a:xfrm>
            <a:off x="4500720" y="148428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324000" y="1341360"/>
            <a:ext cx="37447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ганы дыхания – жабр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рвная система представлена крупными окологлоточными  ганглиями, образующими так называемый головной моз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делительная система – две пары поче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дельнополы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витие прямо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2843280" y="260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Представител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5" descr="осьминог"/>
          <p:cNvPicPr/>
          <p:nvPr/>
        </p:nvPicPr>
        <p:blipFill>
          <a:blip r:embed="rId1"/>
          <a:stretch/>
        </p:blipFill>
        <p:spPr>
          <a:xfrm>
            <a:off x="250920" y="765000"/>
            <a:ext cx="4140000" cy="43912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0" y="4221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ьмино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7" descr="кальмар"/>
          <p:cNvPicPr/>
          <p:nvPr/>
        </p:nvPicPr>
        <p:blipFill>
          <a:blip r:embed="rId2"/>
          <a:stretch/>
        </p:blipFill>
        <p:spPr>
          <a:xfrm>
            <a:off x="3203640" y="4076640"/>
            <a:ext cx="3851280" cy="24638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8"/>
          <p:cNvSpPr/>
          <p:nvPr/>
        </p:nvSpPr>
        <p:spPr>
          <a:xfrm>
            <a:off x="5724360" y="609300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льма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9" descr="каракатица"/>
          <p:cNvPicPr/>
          <p:nvPr/>
        </p:nvPicPr>
        <p:blipFill>
          <a:blip r:embed="rId3"/>
          <a:stretch/>
        </p:blipFill>
        <p:spPr>
          <a:xfrm>
            <a:off x="4788000" y="620640"/>
            <a:ext cx="4032000" cy="31449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0"/>
          <p:cNvSpPr/>
          <p:nvPr/>
        </p:nvSpPr>
        <p:spPr>
          <a:xfrm>
            <a:off x="7308720" y="3716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ракатиц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32400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Соотнесите системы внутренних органов с соответствующими им функция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50920" y="134136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68360" y="1557360"/>
            <a:ext cx="43196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рвная систем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овеносная систем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ищевая систем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ыхательная систем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делительная систем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ловая систем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4140360" y="148428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даление жидких продуктов распад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211640" y="198900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4284720" y="2133720"/>
            <a:ext cx="41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) Газообмен между организмом и окружающей средо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4140360" y="3213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) Переваривание пищ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4067280" y="386064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) связь организма с окружающей средой, объединение организма в единое цело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4284720" y="486900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) Воспроизведение потомств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284720" y="5661000"/>
            <a:ext cx="45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) Снабжение клеток и тканей кислородом и питательными веществам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7037E-007 L -1.38889E-006 -0.38588 E">
                                      <p:cBhvr>
                                        <p:cTn id="6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7 L 0.004 -0.51806 E">
                                      <p:cBhvr>
                                        <p:cTn id="9" dur="5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07407E-006 L 3.88889E-006 0.27292 E">
                                      <p:cBhvr>
                                        <p:cTn id="12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 L 0.00017 0.49769 E">
                                      <p:cBhvr>
                                        <p:cTn id="15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-2.5E-006 0.14699 E">
                                      <p:cBhvr>
                                        <p:cTn id="18" dur="5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1619280" y="18900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Ответьте на предложенные вопрос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79280" y="549360"/>
            <a:ext cx="7705800" cy="50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ую роль играет раковина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 каких моллюсков имеется голова с глазами и «рожками»?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ие новообразования находятся в пищеварительном тракте прудовика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ой характер имеет кровеносная система моллюсков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де очищается кровь от отработанных продуктов обмена веществ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де происходит газообмен у беззубки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ичинки каких моллюсков паразитируют на рыбах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им кислородом дышит прудовик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Picture 8" descr="MM900043731[1]"/>
          <p:cNvPicPr/>
          <p:nvPr/>
        </p:nvPicPr>
        <p:blipFill>
          <a:blip r:embed="rId1"/>
          <a:stretch/>
        </p:blipFill>
        <p:spPr>
          <a:xfrm>
            <a:off x="7524720" y="0"/>
            <a:ext cx="1254240" cy="15937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1"/>
          <p:cNvSpPr/>
          <p:nvPr/>
        </p:nvSpPr>
        <p:spPr>
          <a:xfrm>
            <a:off x="250920" y="836640"/>
            <a:ext cx="69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Связь с внешней средой, поглощение воздуха, прикрепление мышц, наружный скелет, защита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468360" y="1557360"/>
            <a:ext cx="72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головоногие, брюхоногие, двустворчатые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1835280" y="2060640"/>
            <a:ext cx="65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рот, язык с зубчиками, глотка, пищевод, желудок, печень, кишка, анус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6607800" y="249228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замкнутая, незамкнутая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1835280" y="3213000"/>
            <a:ext cx="63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желудок, печень, почка, сердце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4932360" y="3645000"/>
            <a:ext cx="42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легкие, жабры, клетки тела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18"/>
          <p:cNvSpPr/>
          <p:nvPr/>
        </p:nvSpPr>
        <p:spPr>
          <a:xfrm>
            <a:off x="6156360" y="4005360"/>
            <a:ext cx="273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головоногие, брюхоногие, двустворчатые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611280" y="4797360"/>
            <a:ext cx="66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атмосферным, растворенным в воде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Picture 21" descr="MM900283578[1]"/>
          <p:cNvPicPr/>
          <p:nvPr/>
        </p:nvPicPr>
        <p:blipFill>
          <a:blip r:embed="rId2"/>
          <a:stretch/>
        </p:blipFill>
        <p:spPr>
          <a:xfrm>
            <a:off x="5292720" y="5013360"/>
            <a:ext cx="3267000" cy="15080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2" descr="MM900283618[1]"/>
          <p:cNvPicPr/>
          <p:nvPr/>
        </p:nvPicPr>
        <p:blipFill>
          <a:blip r:embed="rId3"/>
          <a:stretch/>
        </p:blipFill>
        <p:spPr>
          <a:xfrm>
            <a:off x="468360" y="5157720"/>
            <a:ext cx="2087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1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324000" y="692280"/>
          <a:ext cx="8424720" cy="5905440"/>
        </p:xfrm>
        <a:graphic>
          <a:graphicData uri="http://schemas.openxmlformats.org/drawingml/2006/table">
            <a:tbl>
              <a:tblPr/>
              <a:tblGrid>
                <a:gridCol w="2808000"/>
                <a:gridCol w="2808360"/>
                <a:gridCol w="2808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звание моллю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оль в прир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озяйственное 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рюхоног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лио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злюбленная пища ки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иноградная ули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дукт питания; вредитель садов и виноград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лиз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сточник питания для жаб, кротов 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ничтожает огородные и полевые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1" name="Picture 307" descr="74229506"/>
          <p:cNvPicPr/>
          <p:nvPr/>
        </p:nvPicPr>
        <p:blipFill>
          <a:blip r:embed="rId1"/>
          <a:stretch/>
        </p:blipFill>
        <p:spPr>
          <a:xfrm>
            <a:off x="1187280" y="2349360"/>
            <a:ext cx="1951200" cy="12924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11" descr="улитка"/>
          <p:cNvPicPr/>
          <p:nvPr/>
        </p:nvPicPr>
        <p:blipFill>
          <a:blip r:embed="rId2"/>
          <a:stretch/>
        </p:blipFill>
        <p:spPr>
          <a:xfrm>
            <a:off x="324000" y="3933720"/>
            <a:ext cx="1606320" cy="1138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13" descr="голый"/>
          <p:cNvPicPr/>
          <p:nvPr/>
        </p:nvPicPr>
        <p:blipFill>
          <a:blip r:embed="rId3"/>
          <a:stretch/>
        </p:blipFill>
        <p:spPr>
          <a:xfrm>
            <a:off x="1403280" y="5516640"/>
            <a:ext cx="171468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179280" y="44280"/>
          <a:ext cx="8785440" cy="662004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звание моллюс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оль в прир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озяйственное 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вустворчатые моллю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ид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ильтраторы воды, поедаются другими животными (входят в цепи питания морских биоцентр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стриц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ильтраторы в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ребеш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мысловые моллюс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Жемчужница (морская, реч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туральный жемчу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рлов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зготовление пугови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рабельный черв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ильтраторы; ходы протачивают лишь для укр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тачивает ходы в деревянных частях подводных сооружений и разрушает 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95280" y="360360"/>
            <a:ext cx="7920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евние беспозвоночные животны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о мягкое, несегментированн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ковину изнутри выстилает мантия (кожная складка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ранство между внутренними органами заполнено паранхимо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 движения мускульная ног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вная система разбросанно-узлового тип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ая кровеносная систе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дце состоит из предсердия и желудоч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84360" y="26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684360" y="189000"/>
            <a:ext cx="63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Класс брюхоногие моллюс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6" descr="Vnesh"/>
          <p:cNvPicPr/>
          <p:nvPr/>
        </p:nvPicPr>
        <p:blipFill>
          <a:blip r:embed="rId1"/>
          <a:stretch/>
        </p:blipFill>
        <p:spPr>
          <a:xfrm>
            <a:off x="395280" y="1197000"/>
            <a:ext cx="7380360" cy="37591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2195640" y="5013360"/>
            <a:ext cx="645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Тело асимметричное, состоит из головы, туловища, ног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ога мускулистая, занимает всю брюшную сторону те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171000" y="260280"/>
            <a:ext cx="76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Внутреннее строение брюхоногих моллюск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5" descr="vnutrennee-stroenie-bolshogo-prudovika"/>
          <p:cNvPicPr/>
          <p:nvPr/>
        </p:nvPicPr>
        <p:blipFill>
          <a:blip r:embed="rId1"/>
          <a:stretch/>
        </p:blipFill>
        <p:spPr>
          <a:xfrm>
            <a:off x="1908000" y="1916280"/>
            <a:ext cx="4608720" cy="2547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179280" y="765000"/>
            <a:ext cx="659772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ган дыхания – лёгко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ищеварительная систем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о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язык с многочисленными роговыми зубчиками образует тёрку (радулу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лот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ищево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Желудо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ишечни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чен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7" descr="0006-006-Pischevaritelnaja-sistema"/>
          <p:cNvPicPr/>
          <p:nvPr/>
        </p:nvPicPr>
        <p:blipFill>
          <a:blip r:embed="rId2"/>
          <a:stretch/>
        </p:blipFill>
        <p:spPr>
          <a:xfrm>
            <a:off x="2340000" y="4508640"/>
            <a:ext cx="43927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971640" y="0"/>
            <a:ext cx="67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Органы выделения моллюс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5219640" y="1268280"/>
            <a:ext cx="254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чка с мочеточником, открывается рядом с анальным отверстие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916360" y="4437000"/>
            <a:ext cx="24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змнож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692360" y="5157720"/>
            <a:ext cx="71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ычно раздельнополые (но есть и гермафродиты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плодотворение перекрёстное, внутренн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е прямо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5" descr="malyj-prudovik"/>
          <p:cNvPicPr/>
          <p:nvPr/>
        </p:nvPicPr>
        <p:blipFill>
          <a:blip r:embed="rId1"/>
          <a:stretch/>
        </p:blipFill>
        <p:spPr>
          <a:xfrm>
            <a:off x="639720" y="54936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2639880" y="189000"/>
            <a:ext cx="31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Представител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5" descr="Limnaea_stagnalis"/>
          <p:cNvPicPr/>
          <p:nvPr/>
        </p:nvPicPr>
        <p:blipFill>
          <a:blip r:embed="rId1"/>
          <a:stretch/>
        </p:blipFill>
        <p:spPr>
          <a:xfrm>
            <a:off x="250920" y="260280"/>
            <a:ext cx="1904760" cy="23241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193680" y="249228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алый прудовик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7" descr="большой"/>
          <p:cNvPicPr/>
          <p:nvPr/>
        </p:nvPicPr>
        <p:blipFill>
          <a:blip r:embed="rId2"/>
          <a:stretch/>
        </p:blipFill>
        <p:spPr>
          <a:xfrm>
            <a:off x="5867280" y="404640"/>
            <a:ext cx="3002040" cy="22402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8"/>
          <p:cNvSpPr/>
          <p:nvPr/>
        </p:nvSpPr>
        <p:spPr>
          <a:xfrm>
            <a:off x="6576120" y="2397240"/>
            <a:ext cx="210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Большой прудовик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9" descr="виноградная"/>
          <p:cNvPicPr/>
          <p:nvPr/>
        </p:nvPicPr>
        <p:blipFill>
          <a:blip r:embed="rId3"/>
          <a:stretch/>
        </p:blipFill>
        <p:spPr>
          <a:xfrm>
            <a:off x="2771640" y="1197000"/>
            <a:ext cx="2952720" cy="1800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0"/>
          <p:cNvSpPr/>
          <p:nvPr/>
        </p:nvSpPr>
        <p:spPr>
          <a:xfrm>
            <a:off x="3074760" y="2781360"/>
            <a:ext cx="22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иноградная улитк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11" descr="голый"/>
          <p:cNvPicPr/>
          <p:nvPr/>
        </p:nvPicPr>
        <p:blipFill>
          <a:blip r:embed="rId4"/>
          <a:stretch/>
        </p:blipFill>
        <p:spPr>
          <a:xfrm>
            <a:off x="1619280" y="3645000"/>
            <a:ext cx="2232000" cy="2376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2"/>
          <p:cNvSpPr/>
          <p:nvPr/>
        </p:nvSpPr>
        <p:spPr>
          <a:xfrm>
            <a:off x="1800000" y="6165720"/>
            <a:ext cx="167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олый слизен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13" descr="катушка"/>
          <p:cNvPicPr/>
          <p:nvPr/>
        </p:nvPicPr>
        <p:blipFill>
          <a:blip r:embed="rId5"/>
          <a:stretch/>
        </p:blipFill>
        <p:spPr>
          <a:xfrm>
            <a:off x="5076720" y="3284640"/>
            <a:ext cx="3384720" cy="23446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5"/>
          <p:cNvSpPr/>
          <p:nvPr/>
        </p:nvSpPr>
        <p:spPr>
          <a:xfrm>
            <a:off x="6414840" y="595008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тушк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1058040" y="189000"/>
            <a:ext cx="62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Класс двустворчатые моллюс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5" descr="4"/>
          <p:cNvPicPr/>
          <p:nvPr/>
        </p:nvPicPr>
        <p:blipFill>
          <a:blip r:embed="rId1"/>
          <a:stretch/>
        </p:blipFill>
        <p:spPr>
          <a:xfrm>
            <a:off x="250920" y="1052640"/>
            <a:ext cx="4033800" cy="28796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2700360" y="4292640"/>
            <a:ext cx="5689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ело двусторонне-симметрично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стоит из туловища и ног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ковина из двух створо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ога мускулистая, в виде клина на брюшной части тел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735120" y="14112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25280" y="260280"/>
            <a:ext cx="77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Внутреннее строение двухстворчатых моллюск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5666400" y="105264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ганы дыха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7" descr="Krovenos"/>
          <p:cNvPicPr/>
          <p:nvPr/>
        </p:nvPicPr>
        <p:blipFill>
          <a:blip r:embed="rId1"/>
          <a:stretch/>
        </p:blipFill>
        <p:spPr>
          <a:xfrm>
            <a:off x="539640" y="907920"/>
            <a:ext cx="4445280" cy="39610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324000" y="1484280"/>
            <a:ext cx="25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5508720" y="1700280"/>
            <a:ext cx="25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ластинчатые жабры по бокам туловища, располагаются в мантийной полост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5"/>
          <p:cNvSpPr/>
          <p:nvPr/>
        </p:nvSpPr>
        <p:spPr>
          <a:xfrm>
            <a:off x="1403280" y="189000"/>
            <a:ext cx="53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Пищеварительная систем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06720" y="933480"/>
            <a:ext cx="48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ганы измельчения пищи отсутствую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8" descr="13418098810207"/>
          <p:cNvPicPr/>
          <p:nvPr/>
        </p:nvPicPr>
        <p:blipFill>
          <a:blip r:embed="rId1"/>
          <a:stretch/>
        </p:blipFill>
        <p:spPr>
          <a:xfrm>
            <a:off x="1979640" y="1341360"/>
            <a:ext cx="5337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6T16:31:16Z</dcterms:created>
  <dc:creator>Марина</dc:creator>
  <dc:description/>
  <dc:language>en-US</dc:language>
  <cp:lastModifiedBy>Преподаватель</cp:lastModifiedBy>
  <dcterms:modified xsi:type="dcterms:W3CDTF">2013-10-30T09:13:10Z</dcterms:modified>
  <cp:revision>5</cp:revision>
  <dc:subject/>
  <dc:title>Слайд 1</dc:title>
</cp:coreProperties>
</file>