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25.gif" ContentType="image/gif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3.jpeg" ContentType="image/jpeg"/>
  <Override PartName="/ppt/media/image26.gif" ContentType="image/gif"/>
  <Override PartName="/ppt/media/image20.jpeg" ContentType="image/jpeg"/>
  <Override PartName="/ppt/media/image15.jpeg" ContentType="image/jpeg"/>
  <Override PartName="/ppt/media/image24.gif" ContentType="image/gif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C1BE-87FF-4619-A1B8-70AAECEC2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49B8-1312-4FB8-A66A-10D7827E0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48BB-1B03-405E-B85C-0F2058B3C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D13A-49F1-4CB6-A71A-34DDE7FBC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C36D6-2990-4E08-9227-19AC9F3E7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157F0-5763-4219-A57F-A0BFA94B1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9F98C-12D1-4B37-BABB-DB7C1D0E9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E28B4-194A-4E18-A8A7-66F7C03E8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B5489-B82B-4748-8DBD-7813AFB82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8FF8A-0B85-4FF0-AAD3-48EA1F134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EB580-EFD3-432A-9DF3-8F89AA647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355D-62E4-4518-AEDA-1EFE6E389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26053-1F82-4479-9F1D-FD03D2A4A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7D0E4-25AC-4E03-8B13-6B68FC2F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2B0EC-18B8-4017-A4C3-9E2780F22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FCF02-5F7D-4D20-9576-A65E50228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39887-70B6-43BB-8D23-C0881A62B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CD7D-895F-48EF-9F14-018FB3643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25B1-6D9C-46C9-9A16-06BD085B0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8917-9310-47B0-BC3E-EA6F95286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DA66-02AD-46D9-AD40-80011E815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AEE7-425A-464D-A68F-EC41ABD6B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1CC1-DF38-44C2-9228-5D6409135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7BB1-2308-4B57-8A7E-0E856B34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9BB08-AB24-42AD-B8B1-219E43636891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A5978-BA58-475E-BB12-B5CED352A16D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gif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4D5iH-SsOlU"/>
          <p:cNvPicPr/>
          <p:nvPr/>
        </p:nvPicPr>
        <p:blipFill>
          <a:blip r:embed="rId1"/>
          <a:stretch/>
        </p:blipFill>
        <p:spPr>
          <a:xfrm>
            <a:off x="324000" y="1413000"/>
            <a:ext cx="3887640" cy="2519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640"/>
          <p:cNvPicPr/>
          <p:nvPr/>
        </p:nvPicPr>
        <p:blipFill>
          <a:blip r:embed="rId2"/>
          <a:stretch/>
        </p:blipFill>
        <p:spPr>
          <a:xfrm>
            <a:off x="4716360" y="1413000"/>
            <a:ext cx="4105440" cy="2519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1639001"/>
          <p:cNvPicPr/>
          <p:nvPr/>
        </p:nvPicPr>
        <p:blipFill>
          <a:blip r:embed="rId3"/>
          <a:stretch/>
        </p:blipFill>
        <p:spPr>
          <a:xfrm>
            <a:off x="2411280" y="4076640"/>
            <a:ext cx="3959280" cy="251928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7"/>
          <p:cNvSpPr/>
          <p:nvPr/>
        </p:nvSpPr>
        <p:spPr>
          <a:xfrm>
            <a:off x="3132000" y="33336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Тип моллюски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4"/>
          <p:cNvSpPr/>
          <p:nvPr/>
        </p:nvSpPr>
        <p:spPr>
          <a:xfrm>
            <a:off x="2530440" y="260280"/>
            <a:ext cx="350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Нервная систем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516600" y="981000"/>
            <a:ext cx="429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Три пары ганглиев (нервных узлов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2987640" y="148428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Размножени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611280" y="2205000"/>
            <a:ext cx="417492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еимущественно раздельнополы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плодотворение внутренне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Развитие с превращением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4"/>
          <p:cNvSpPr/>
          <p:nvPr/>
        </p:nvSpPr>
        <p:spPr>
          <a:xfrm>
            <a:off x="2982600" y="333360"/>
            <a:ext cx="361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Представител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7" name="Picture 5" descr="беззубка"/>
          <p:cNvPicPr/>
          <p:nvPr/>
        </p:nvPicPr>
        <p:blipFill>
          <a:blip r:embed="rId1"/>
          <a:stretch/>
        </p:blipFill>
        <p:spPr>
          <a:xfrm>
            <a:off x="971640" y="907920"/>
            <a:ext cx="3527280" cy="266544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6"/>
          <p:cNvSpPr/>
          <p:nvPr/>
        </p:nvSpPr>
        <p:spPr>
          <a:xfrm>
            <a:off x="179280" y="3284640"/>
            <a:ext cx="29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беззубк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9" name="Picture 7" descr="перловица"/>
          <p:cNvPicPr/>
          <p:nvPr/>
        </p:nvPicPr>
        <p:blipFill>
          <a:blip r:embed="rId2"/>
          <a:stretch/>
        </p:blipFill>
        <p:spPr>
          <a:xfrm>
            <a:off x="4788000" y="1052640"/>
            <a:ext cx="3433680" cy="280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8"/>
          <p:cNvSpPr/>
          <p:nvPr/>
        </p:nvSpPr>
        <p:spPr>
          <a:xfrm>
            <a:off x="7236000" y="342900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ерловиц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1" name="Picture 9" descr="жемчужина"/>
          <p:cNvPicPr/>
          <p:nvPr/>
        </p:nvPicPr>
        <p:blipFill>
          <a:blip r:embed="rId3"/>
          <a:stretch/>
        </p:blipFill>
        <p:spPr>
          <a:xfrm>
            <a:off x="2627280" y="3562200"/>
            <a:ext cx="3673440" cy="32958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10"/>
          <p:cNvSpPr/>
          <p:nvPr/>
        </p:nvSpPr>
        <p:spPr>
          <a:xfrm>
            <a:off x="3851280" y="6237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жемчужин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4"/>
          <p:cNvSpPr/>
          <p:nvPr/>
        </p:nvSpPr>
        <p:spPr>
          <a:xfrm>
            <a:off x="1403280" y="260280"/>
            <a:ext cx="61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Класс головоногие моллюск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4" name="Picture 8" descr="FQGJROHFZWXOR2Q"/>
          <p:cNvPicPr/>
          <p:nvPr/>
        </p:nvPicPr>
        <p:blipFill>
          <a:blip r:embed="rId1"/>
          <a:stretch/>
        </p:blipFill>
        <p:spPr>
          <a:xfrm>
            <a:off x="3995640" y="3138480"/>
            <a:ext cx="4105440" cy="354636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9"/>
          <p:cNvSpPr/>
          <p:nvPr/>
        </p:nvSpPr>
        <p:spPr>
          <a:xfrm>
            <a:off x="684360" y="1916280"/>
            <a:ext cx="410364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Тело состоит из головы и туловищ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ога модифицирован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а голове два крупных глаза и щупальц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4"/>
          <p:cNvSpPr/>
          <p:nvPr/>
        </p:nvSpPr>
        <p:spPr>
          <a:xfrm>
            <a:off x="250920" y="333360"/>
            <a:ext cx="77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Внутреннее строение головоногих моллюсков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7" name="Picture 5" descr="4554929"/>
          <p:cNvPicPr/>
          <p:nvPr/>
        </p:nvPicPr>
        <p:blipFill>
          <a:blip r:embed="rId1"/>
          <a:stretch/>
        </p:blipFill>
        <p:spPr>
          <a:xfrm>
            <a:off x="4572000" y="1413000"/>
            <a:ext cx="3408480" cy="410508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6"/>
          <p:cNvSpPr/>
          <p:nvPr/>
        </p:nvSpPr>
        <p:spPr>
          <a:xfrm>
            <a:off x="4500720" y="148428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324000" y="1341360"/>
            <a:ext cx="374472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рганы дыхания – жабры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ервная система представлена крупными окологлоточными  ганглиями, образующими так называемый головной мозг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ыделительная система – две пары почек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Раздельнополы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Развитие прямо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4"/>
          <p:cNvSpPr/>
          <p:nvPr/>
        </p:nvSpPr>
        <p:spPr>
          <a:xfrm>
            <a:off x="2843280" y="26028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Представител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1" name="Picture 5" descr="осьминог"/>
          <p:cNvPicPr/>
          <p:nvPr/>
        </p:nvPicPr>
        <p:blipFill>
          <a:blip r:embed="rId1"/>
          <a:stretch/>
        </p:blipFill>
        <p:spPr>
          <a:xfrm>
            <a:off x="250920" y="765000"/>
            <a:ext cx="4140000" cy="439128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6"/>
          <p:cNvSpPr/>
          <p:nvPr/>
        </p:nvSpPr>
        <p:spPr>
          <a:xfrm>
            <a:off x="0" y="4221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сьминог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3" name="Picture 7" descr="кальмар"/>
          <p:cNvPicPr/>
          <p:nvPr/>
        </p:nvPicPr>
        <p:blipFill>
          <a:blip r:embed="rId2"/>
          <a:stretch/>
        </p:blipFill>
        <p:spPr>
          <a:xfrm>
            <a:off x="3203640" y="4076640"/>
            <a:ext cx="3851280" cy="24638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8"/>
          <p:cNvSpPr/>
          <p:nvPr/>
        </p:nvSpPr>
        <p:spPr>
          <a:xfrm>
            <a:off x="5724360" y="6093000"/>
            <a:ext cx="19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альмар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5" name="Picture 9" descr="каракатица"/>
          <p:cNvPicPr/>
          <p:nvPr/>
        </p:nvPicPr>
        <p:blipFill>
          <a:blip r:embed="rId3"/>
          <a:stretch/>
        </p:blipFill>
        <p:spPr>
          <a:xfrm>
            <a:off x="4788000" y="620640"/>
            <a:ext cx="4032000" cy="314496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10"/>
          <p:cNvSpPr/>
          <p:nvPr/>
        </p:nvSpPr>
        <p:spPr>
          <a:xfrm>
            <a:off x="7308720" y="371628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аракатиц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4"/>
          <p:cNvSpPr/>
          <p:nvPr/>
        </p:nvSpPr>
        <p:spPr>
          <a:xfrm>
            <a:off x="324000" y="26028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mic Sans MS"/>
              </a:rPr>
              <a:t>Соотнесите системы внутренних органов с соответствующими им функциям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250920" y="1341360"/>
            <a:ext cx="42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468360" y="1557360"/>
            <a:ext cx="431964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ервная систем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ровеносная систем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ищевая систем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Дыхательная систем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ыделительная систем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оловая систем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4140360" y="1484280"/>
            <a:ext cx="46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Удаление жидких продуктов распад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4211640" y="1989000"/>
            <a:ext cx="439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4284720" y="2133720"/>
            <a:ext cx="41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2) Газообмен между организмом и окружающей средой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Text Box 10"/>
          <p:cNvSpPr/>
          <p:nvPr/>
        </p:nvSpPr>
        <p:spPr>
          <a:xfrm>
            <a:off x="4140360" y="321300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3) Переваривание пищ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4067280" y="3860640"/>
            <a:ext cx="41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4) связь организма с окружающей средой, объединение организма в единое цело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Text Box 12"/>
          <p:cNvSpPr/>
          <p:nvPr/>
        </p:nvSpPr>
        <p:spPr>
          <a:xfrm>
            <a:off x="4284720" y="4869000"/>
            <a:ext cx="43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5) Воспроизведение потомств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Text Box 13"/>
          <p:cNvSpPr/>
          <p:nvPr/>
        </p:nvSpPr>
        <p:spPr>
          <a:xfrm>
            <a:off x="4284720" y="5661000"/>
            <a:ext cx="45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6) Снабжение клеток и тканей кислородом и питательными веществам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3.7037E-007 L -1.38889E-006 -0.38588 E">
                                      <p:cBhvr>
                                        <p:cTn id="6" dur="5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3.7037E-007 L 0.004 -0.51806 E">
                                      <p:cBhvr>
                                        <p:cTn id="9" dur="5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4.07407E-006 L 3.88889E-006 0.27292 E">
                                      <p:cBhvr>
                                        <p:cTn id="12" dur="5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0 L 0.00017 0.49769 E">
                                      <p:cBhvr>
                                        <p:cTn id="15" dur="5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48148E-006 L -2.5E-006 0.14699 E">
                                      <p:cBhvr>
                                        <p:cTn id="18" dur="5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4"/>
          <p:cNvSpPr/>
          <p:nvPr/>
        </p:nvSpPr>
        <p:spPr>
          <a:xfrm>
            <a:off x="1619280" y="189000"/>
            <a:ext cx="575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mic Sans MS"/>
              </a:rPr>
              <a:t>Ответьте на предложенные вопрос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179280" y="549360"/>
            <a:ext cx="7705800" cy="50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акую роль играет раковина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У каких моллюсков имеется голова с глазами и «рожками»?                 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акие новообразования находятся в пищеварительном тракте прудовика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акой характер имеет кровеносная система моллюсков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Где очищается кровь от отработанных продуктов обмена веществ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Где происходит газообмен у беззубки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Личинки каких моллюсков паразитируют на рыбах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аким кислородом дышит прудовик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9" name="Picture 8" descr="MM900043731[1]"/>
          <p:cNvPicPr/>
          <p:nvPr/>
        </p:nvPicPr>
        <p:blipFill>
          <a:blip r:embed="rId1"/>
          <a:stretch/>
        </p:blipFill>
        <p:spPr>
          <a:xfrm>
            <a:off x="7524720" y="0"/>
            <a:ext cx="1254240" cy="159372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11"/>
          <p:cNvSpPr/>
          <p:nvPr/>
        </p:nvSpPr>
        <p:spPr>
          <a:xfrm>
            <a:off x="250920" y="836640"/>
            <a:ext cx="698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(Связь с внешней средой, поглощение воздуха, прикрепление мышц, наружный скелет, защита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Text Box 13"/>
          <p:cNvSpPr/>
          <p:nvPr/>
        </p:nvSpPr>
        <p:spPr>
          <a:xfrm>
            <a:off x="468360" y="1557360"/>
            <a:ext cx="72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(головоногие, брюхоногие, двустворчатые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Text Box 14"/>
          <p:cNvSpPr/>
          <p:nvPr/>
        </p:nvSpPr>
        <p:spPr>
          <a:xfrm>
            <a:off x="1835280" y="2060640"/>
            <a:ext cx="655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(рот, язык с зубчиками, глотка, пищевод, желудок, печень, кишка, анус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Text Box 15"/>
          <p:cNvSpPr/>
          <p:nvPr/>
        </p:nvSpPr>
        <p:spPr>
          <a:xfrm>
            <a:off x="6607800" y="2492280"/>
            <a:ext cx="270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(замкнутая, незамкнутая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Text Box 16"/>
          <p:cNvSpPr/>
          <p:nvPr/>
        </p:nvSpPr>
        <p:spPr>
          <a:xfrm>
            <a:off x="1835280" y="3213000"/>
            <a:ext cx="63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(желудок, печень, почка, сердце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Text Box 17"/>
          <p:cNvSpPr/>
          <p:nvPr/>
        </p:nvSpPr>
        <p:spPr>
          <a:xfrm>
            <a:off x="4932360" y="3645000"/>
            <a:ext cx="421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(легкие, жабры, клетки тела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Text Box 18"/>
          <p:cNvSpPr/>
          <p:nvPr/>
        </p:nvSpPr>
        <p:spPr>
          <a:xfrm>
            <a:off x="6156360" y="4005360"/>
            <a:ext cx="273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(головоногие, брюхоногие, двустворчатые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Text Box 19"/>
          <p:cNvSpPr/>
          <p:nvPr/>
        </p:nvSpPr>
        <p:spPr>
          <a:xfrm>
            <a:off x="611280" y="4797360"/>
            <a:ext cx="662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(атмосферным, растворенным в воде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8" name="Picture 21" descr="MM900283578[1]"/>
          <p:cNvPicPr/>
          <p:nvPr/>
        </p:nvPicPr>
        <p:blipFill>
          <a:blip r:embed="rId2"/>
          <a:stretch/>
        </p:blipFill>
        <p:spPr>
          <a:xfrm>
            <a:off x="5292720" y="5013360"/>
            <a:ext cx="3267000" cy="15080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2" descr="MM900283618[1]"/>
          <p:cNvPicPr/>
          <p:nvPr/>
        </p:nvPicPr>
        <p:blipFill>
          <a:blip r:embed="rId3"/>
          <a:stretch/>
        </p:blipFill>
        <p:spPr>
          <a:xfrm>
            <a:off x="468360" y="5157720"/>
            <a:ext cx="2087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0" name=""/>
          <p:cNvGraphicFramePr/>
          <p:nvPr/>
        </p:nvGraphicFramePr>
        <p:xfrm>
          <a:off x="324000" y="692280"/>
          <a:ext cx="8424720" cy="5905440"/>
        </p:xfrm>
        <a:graphic>
          <a:graphicData uri="http://schemas.openxmlformats.org/drawingml/2006/table">
            <a:tbl>
              <a:tblPr/>
              <a:tblGrid>
                <a:gridCol w="2808000"/>
                <a:gridCol w="2808360"/>
                <a:gridCol w="28083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азвание моллю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Роль в природ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Хозяйственное зна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брюхоног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лион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злюбленная пища ки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иноградная улит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родукт питания; вредитель садов и виноградни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лизен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сточник питания для жаб, кротов и т.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ничтожает огородные и полевые культу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1" name="Picture 307" descr="74229506"/>
          <p:cNvPicPr/>
          <p:nvPr/>
        </p:nvPicPr>
        <p:blipFill>
          <a:blip r:embed="rId1"/>
          <a:stretch/>
        </p:blipFill>
        <p:spPr>
          <a:xfrm>
            <a:off x="1187280" y="2349360"/>
            <a:ext cx="1951200" cy="12924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11" descr="улитка"/>
          <p:cNvPicPr/>
          <p:nvPr/>
        </p:nvPicPr>
        <p:blipFill>
          <a:blip r:embed="rId2"/>
          <a:stretch/>
        </p:blipFill>
        <p:spPr>
          <a:xfrm>
            <a:off x="324000" y="3933720"/>
            <a:ext cx="1606320" cy="11383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313" descr="голый"/>
          <p:cNvPicPr/>
          <p:nvPr/>
        </p:nvPicPr>
        <p:blipFill>
          <a:blip r:embed="rId3"/>
          <a:stretch/>
        </p:blipFill>
        <p:spPr>
          <a:xfrm>
            <a:off x="1403280" y="5516640"/>
            <a:ext cx="1714680" cy="10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"/>
          <p:cNvGraphicFramePr/>
          <p:nvPr/>
        </p:nvGraphicFramePr>
        <p:xfrm>
          <a:off x="179280" y="44280"/>
          <a:ext cx="8785440" cy="6620040"/>
        </p:xfrm>
        <a:graphic>
          <a:graphicData uri="http://schemas.openxmlformats.org/drawingml/2006/table">
            <a:tbl>
              <a:tblPr/>
              <a:tblGrid>
                <a:gridCol w="2928960"/>
                <a:gridCol w="2927520"/>
                <a:gridCol w="29289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азвание моллюс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Роль в природ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Хозяйственное зна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вустворчатые моллюс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мид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Фильтраторы воды, поедаются другими животными (входят в цепи питания морских биоцентро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стриц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Фильтраторы в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гребеш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ромысловые моллюс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Жемчужница (морская, речная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атуральный жемчу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ерловиц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зготовление пугови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орабельный черв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Фильтраторы; ходы протачивают лишь для укры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ротачивает ходы в деревянных частях подводных сооружений и разрушает и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395280" y="360360"/>
            <a:ext cx="79200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ревние беспозвоночные животны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ло мягкое, несегментированно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ковину изнутри выстилает мантия (кожная складка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странство между внутренними органами заполнено паранхимо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рган движения мускульная ног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рвная система разбросанно-узлового тип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витая кровеносная систем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рдце состоит из предсердия и желудочк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4"/>
          <p:cNvSpPr/>
          <p:nvPr/>
        </p:nvSpPr>
        <p:spPr>
          <a:xfrm>
            <a:off x="684360" y="260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684360" y="189000"/>
            <a:ext cx="635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Класс брюхоногие моллюск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Picture 6" descr="Vnesh"/>
          <p:cNvPicPr/>
          <p:nvPr/>
        </p:nvPicPr>
        <p:blipFill>
          <a:blip r:embed="rId1"/>
          <a:stretch/>
        </p:blipFill>
        <p:spPr>
          <a:xfrm>
            <a:off x="395280" y="1197000"/>
            <a:ext cx="7380360" cy="375912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7"/>
          <p:cNvSpPr/>
          <p:nvPr/>
        </p:nvSpPr>
        <p:spPr>
          <a:xfrm>
            <a:off x="2195640" y="5013360"/>
            <a:ext cx="6459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Тело асимметричное, состоит из головы, туловища, ног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Нога мускулистая, занимает всю брюшную сторону тел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4"/>
          <p:cNvSpPr/>
          <p:nvPr/>
        </p:nvSpPr>
        <p:spPr>
          <a:xfrm>
            <a:off x="171000" y="260280"/>
            <a:ext cx="765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Внутреннее строение брюхоногих моллюсков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Picture 5" descr="vnutrennee-stroenie-bolshogo-prudovika"/>
          <p:cNvPicPr/>
          <p:nvPr/>
        </p:nvPicPr>
        <p:blipFill>
          <a:blip r:embed="rId1"/>
          <a:stretch/>
        </p:blipFill>
        <p:spPr>
          <a:xfrm>
            <a:off x="1908000" y="1916280"/>
            <a:ext cx="4608720" cy="25477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6"/>
          <p:cNvSpPr/>
          <p:nvPr/>
        </p:nvSpPr>
        <p:spPr>
          <a:xfrm>
            <a:off x="179280" y="765000"/>
            <a:ext cx="6597720" cy="31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рган дыхания – лёгко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ищеварительная систем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рот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язык с многочисленными роговыми зубчиками образует тёрку (радулу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Глотк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ищевод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Желудок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ишечник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ечен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Picture 7" descr="0006-006-Pischevaritelnaja-sistema"/>
          <p:cNvPicPr/>
          <p:nvPr/>
        </p:nvPicPr>
        <p:blipFill>
          <a:blip r:embed="rId2"/>
          <a:stretch/>
        </p:blipFill>
        <p:spPr>
          <a:xfrm>
            <a:off x="2340000" y="4508640"/>
            <a:ext cx="439272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4"/>
          <p:cNvSpPr/>
          <p:nvPr/>
        </p:nvSpPr>
        <p:spPr>
          <a:xfrm>
            <a:off x="971640" y="0"/>
            <a:ext cx="671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Органы выделения моллюсков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5219640" y="1268280"/>
            <a:ext cx="2540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очка с мочеточником, открывается рядом с анальным отверстием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2916360" y="4437000"/>
            <a:ext cx="244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Размножен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1692360" y="5157720"/>
            <a:ext cx="712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бычно раздельнополые (но есть и гермафродиты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плодотворение перекрёстное, внутренне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звитие прямо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Picture 5" descr="malyj-prudovik"/>
          <p:cNvPicPr/>
          <p:nvPr/>
        </p:nvPicPr>
        <p:blipFill>
          <a:blip r:embed="rId1"/>
          <a:stretch/>
        </p:blipFill>
        <p:spPr>
          <a:xfrm>
            <a:off x="639720" y="549360"/>
            <a:ext cx="3600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4"/>
          <p:cNvSpPr/>
          <p:nvPr/>
        </p:nvSpPr>
        <p:spPr>
          <a:xfrm>
            <a:off x="2639880" y="189000"/>
            <a:ext cx="31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Представител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Picture 5" descr="Limnaea_stagnalis"/>
          <p:cNvPicPr/>
          <p:nvPr/>
        </p:nvPicPr>
        <p:blipFill>
          <a:blip r:embed="rId1"/>
          <a:stretch/>
        </p:blipFill>
        <p:spPr>
          <a:xfrm>
            <a:off x="250920" y="260280"/>
            <a:ext cx="1904760" cy="232416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6"/>
          <p:cNvSpPr/>
          <p:nvPr/>
        </p:nvSpPr>
        <p:spPr>
          <a:xfrm>
            <a:off x="193680" y="249228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Малый прудовик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Picture 7" descr="большой"/>
          <p:cNvPicPr/>
          <p:nvPr/>
        </p:nvPicPr>
        <p:blipFill>
          <a:blip r:embed="rId2"/>
          <a:stretch/>
        </p:blipFill>
        <p:spPr>
          <a:xfrm>
            <a:off x="5867280" y="404640"/>
            <a:ext cx="3002040" cy="22402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8"/>
          <p:cNvSpPr/>
          <p:nvPr/>
        </p:nvSpPr>
        <p:spPr>
          <a:xfrm>
            <a:off x="6576120" y="2397240"/>
            <a:ext cx="210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Большой прудовик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Picture 9" descr="виноградная"/>
          <p:cNvPicPr/>
          <p:nvPr/>
        </p:nvPicPr>
        <p:blipFill>
          <a:blip r:embed="rId3"/>
          <a:stretch/>
        </p:blipFill>
        <p:spPr>
          <a:xfrm>
            <a:off x="2771640" y="1197000"/>
            <a:ext cx="2952720" cy="180036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10"/>
          <p:cNvSpPr/>
          <p:nvPr/>
        </p:nvSpPr>
        <p:spPr>
          <a:xfrm>
            <a:off x="3074760" y="2781360"/>
            <a:ext cx="22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иноградная улитка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Picture 11" descr="голый"/>
          <p:cNvPicPr/>
          <p:nvPr/>
        </p:nvPicPr>
        <p:blipFill>
          <a:blip r:embed="rId4"/>
          <a:stretch/>
        </p:blipFill>
        <p:spPr>
          <a:xfrm>
            <a:off x="1619280" y="3645000"/>
            <a:ext cx="2232000" cy="237636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12"/>
          <p:cNvSpPr/>
          <p:nvPr/>
        </p:nvSpPr>
        <p:spPr>
          <a:xfrm>
            <a:off x="1800000" y="6165720"/>
            <a:ext cx="167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Голый слизень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Picture 13" descr="катушка"/>
          <p:cNvPicPr/>
          <p:nvPr/>
        </p:nvPicPr>
        <p:blipFill>
          <a:blip r:embed="rId5"/>
          <a:stretch/>
        </p:blipFill>
        <p:spPr>
          <a:xfrm>
            <a:off x="5076720" y="3284640"/>
            <a:ext cx="3384720" cy="234468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15"/>
          <p:cNvSpPr/>
          <p:nvPr/>
        </p:nvSpPr>
        <p:spPr>
          <a:xfrm>
            <a:off x="6414840" y="5950080"/>
            <a:ext cx="10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катушка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4"/>
          <p:cNvSpPr/>
          <p:nvPr/>
        </p:nvSpPr>
        <p:spPr>
          <a:xfrm>
            <a:off x="1058040" y="189000"/>
            <a:ext cx="62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Класс двустворчатые моллюск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Picture 5" descr="4"/>
          <p:cNvPicPr/>
          <p:nvPr/>
        </p:nvPicPr>
        <p:blipFill>
          <a:blip r:embed="rId1"/>
          <a:stretch/>
        </p:blipFill>
        <p:spPr>
          <a:xfrm>
            <a:off x="250920" y="1052640"/>
            <a:ext cx="4033800" cy="287964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6"/>
          <p:cNvSpPr/>
          <p:nvPr/>
        </p:nvSpPr>
        <p:spPr>
          <a:xfrm>
            <a:off x="2700360" y="4292640"/>
            <a:ext cx="568944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Тело двусторонне-симметрично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остоит из туловища и ног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Раковина из двух створок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ога мускулистая, в виде клина на брюшной части тел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4"/>
          <p:cNvSpPr/>
          <p:nvPr/>
        </p:nvSpPr>
        <p:spPr>
          <a:xfrm>
            <a:off x="735120" y="141120"/>
            <a:ext cx="2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125280" y="260280"/>
            <a:ext cx="77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Внутреннее строение двухстворчатых моллюсков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5666400" y="1052640"/>
            <a:ext cx="215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рганы дыхания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Picture 7" descr="Krovenos"/>
          <p:cNvPicPr/>
          <p:nvPr/>
        </p:nvPicPr>
        <p:blipFill>
          <a:blip r:embed="rId1"/>
          <a:stretch/>
        </p:blipFill>
        <p:spPr>
          <a:xfrm>
            <a:off x="539640" y="907920"/>
            <a:ext cx="4445280" cy="396108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8"/>
          <p:cNvSpPr/>
          <p:nvPr/>
        </p:nvSpPr>
        <p:spPr>
          <a:xfrm>
            <a:off x="324000" y="1484280"/>
            <a:ext cx="251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Text Box 9"/>
          <p:cNvSpPr/>
          <p:nvPr/>
        </p:nvSpPr>
        <p:spPr>
          <a:xfrm>
            <a:off x="5508720" y="1700280"/>
            <a:ext cx="252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ластинчатые жабры по бокам туловища, располагаются в мантийной полост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5"/>
          <p:cNvSpPr/>
          <p:nvPr/>
        </p:nvSpPr>
        <p:spPr>
          <a:xfrm>
            <a:off x="1403280" y="189000"/>
            <a:ext cx="532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Пищеварительная систем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306720" y="933480"/>
            <a:ext cx="48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рганы измельчения пищи отсутствуют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Picture 8" descr="13418098810207"/>
          <p:cNvPicPr/>
          <p:nvPr/>
        </p:nvPicPr>
        <p:blipFill>
          <a:blip r:embed="rId1"/>
          <a:stretch/>
        </p:blipFill>
        <p:spPr>
          <a:xfrm>
            <a:off x="1979640" y="1341360"/>
            <a:ext cx="533700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6T16:31:16Z</dcterms:created>
  <dc:creator>Марина</dc:creator>
  <dc:description/>
  <dc:language>en-US</dc:language>
  <cp:lastModifiedBy>Преподаватель</cp:lastModifiedBy>
  <dcterms:modified xsi:type="dcterms:W3CDTF">2013-10-30T09:13:10Z</dcterms:modified>
  <cp:revision>5</cp:revision>
  <dc:subject/>
  <dc:title>Слайд 1</dc:title>
</cp:coreProperties>
</file>