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wmf" ContentType="image/x-wmf"/>
  <Override PartName="/ppt/media/zal.wav" ContentType="audio/x-wav"/>
  <Override PartName="/ppt/media/image13.jpeg" ContentType="image/jpeg"/>
  <Override PartName="/ppt/media/image3.wmf" ContentType="image/x-wmf"/>
  <Override PartName="/ppt/media/image2.wmf" ContentType="image/x-wmf"/>
  <Override PartName="/ppt/media/image4.gif" ContentType="image/gif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074B-EC65-4B58-901C-6B5C7F67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F91-E56E-4532-910C-4DE1E855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F29-75F6-4E4B-A442-61A7E216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5584-A462-4FE9-80B1-DFE6FC4D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93D3-0889-4E2E-9A1D-37EF31A8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3AFD-7AEC-4844-B398-FF9A297B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F6B5-5379-4705-95F2-825D1C44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85DE-4C83-47DD-89ED-BDF0E3A0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7CD2-84D7-43F7-B39F-BC761231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1360-01FC-40E3-96F0-879C42A2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B057-C075-4F2D-840E-09BB350B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F307-2AC2-4661-87B3-3E06E8C4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40CC-79E9-436C-A8CD-CD2DD949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56B1-2AA0-4AA0-9FEE-F2A9DC17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48D6-335C-40D6-8A8B-ED736D9B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CFDD-753E-47C6-8762-E1EDD59D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33FD-3F15-4132-BCAC-6F4A9998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BCD-DBF9-4BF4-8258-2C32AD80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A7D9-E9BE-432A-B303-35DFE62A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389C-C253-45F9-A1AC-DA7B4969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B3C7-D741-411C-A0DA-FBDD0B39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FDBA-CF99-447E-89F5-75D4386E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6DC-8F85-42E4-8421-50F456E7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9A0-FC5F-409C-B9A8-A38B85CC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4C1A-6DAC-4DBB-B940-B073D5EC965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831D-C232-4A06-A19C-582C46D70C7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zal.wav"/><Relationship Id="rId5" Type="http://schemas.openxmlformats.org/officeDocument/2006/relationships/audio" Target="../media/zal.wav"/><Relationship Id="rId6" Type="http://schemas.openxmlformats.org/officeDocument/2006/relationships/audio" Target="../media/zal.wav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41708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ba2c4a"/>
                </a:solidFill>
                <a:latin typeface="Arial"/>
              </a:rPr>
              <a:t>Эпиграф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94920" y="198864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«…… не только основа всего мира, самый главный металл окружающей нас природы, оно – основа культуры и промышленности, оно – орудие войны и мирного труда. И трудно во всей таблице Менделеева найти другой элемент, который был бы так связан с прошлым, настоящим и будущими судьбами человечества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                                       </a:t>
            </a: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А. Е. Ферсман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j0187423"/>
          <p:cNvPicPr/>
          <p:nvPr/>
        </p:nvPicPr>
        <p:blipFill>
          <a:blip r:embed="rId1"/>
          <a:stretch/>
        </p:blipFill>
        <p:spPr>
          <a:xfrm>
            <a:off x="6705720" y="0"/>
            <a:ext cx="2066760" cy="2143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j0199727"/>
          <p:cNvPicPr/>
          <p:nvPr/>
        </p:nvPicPr>
        <p:blipFill>
          <a:blip r:embed="rId2"/>
          <a:stretch/>
        </p:blipFill>
        <p:spPr>
          <a:xfrm>
            <a:off x="0" y="0"/>
            <a:ext cx="2195640" cy="2157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J0200289"/>
          <p:cNvPicPr/>
          <p:nvPr/>
        </p:nvPicPr>
        <p:blipFill>
          <a:blip r:embed="rId3"/>
          <a:stretch/>
        </p:blipFill>
        <p:spPr>
          <a:xfrm>
            <a:off x="7429680" y="4500720"/>
            <a:ext cx="192852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Выберите правильные ответы, указав их  номера через запятую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Verdana"/>
              </a:rPr>
              <a:t>                                             </a:t>
            </a:r>
            <a:r>
              <a:rPr b="1" lang="ru-RU" sz="2000" spc="-1" strike="noStrike">
                <a:solidFill>
                  <a:srgbClr val="ff5050"/>
                </a:solidFill>
                <a:latin typeface="Verdana"/>
              </a:rPr>
              <a:t>Вариант 1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icrosoft Sans Serif"/>
              </a:rPr>
              <a:t>1. Железо – это активный щелочной металл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icrosoft Sans Serif"/>
              </a:rPr>
              <a:t>2. Железо легко куётс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icrosoft Sans Serif"/>
              </a:rPr>
              <a:t>3. Железо входит в состав сплава стал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icrosoft Sans Serif"/>
              </a:rPr>
              <a:t>4. На внешнем энергетическом уровне атома железа 2 электрон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icrosoft Sans Serif"/>
              </a:rPr>
              <a:t>5. Железо взаимодействует с разбавленными кислотам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icrosoft Sans Serif"/>
              </a:rPr>
              <a:t>6. С галогенами образует галогениды со степенью окисления +2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icrosoft Sans Serif"/>
              </a:rPr>
              <a:t>7. Железо  взаимодействует с кислородом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icrosoft Sans Serif"/>
              </a:rPr>
              <a:t>8. Железо содержится только в красных яблоках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Microsoft Sans Serif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Microsoft Sans Serif"/>
              </a:rPr>
              <a:t>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Microsoft Sans Serif"/>
              </a:rPr>
              <a:t>Вариант 2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1. Железо – это металл серебристо-белого цвет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2. Железо  обладает способностью намагничиватьс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3. Атомы железа проявляют окислительные свойств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4. На внешнем энергетическом уровне атома железа 1 электрон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5. Железо вытесняет медь из растворов ее солей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6. С галогенами образует соединения со степенью окисления +3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7. С раствором серной кислоты образует сульфат железа (II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8. Железо не встречается в природе в чистом вид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Microsoft Sans Serif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ff00"/>
                </a:solidFill>
                <a:latin typeface="Verdana"/>
              </a:rPr>
              <a:t>    </a:t>
            </a:r>
            <a:r>
              <a:rPr b="0" i="1" lang="ru-RU" sz="4000" spc="-1" strike="noStrike">
                <a:solidFill>
                  <a:srgbClr val="00ff00"/>
                </a:solidFill>
                <a:latin typeface="Verdana"/>
              </a:rPr>
              <a:t>1 вариан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ff00"/>
                </a:solidFill>
                <a:latin typeface="Verdana"/>
              </a:rPr>
              <a:t>      </a:t>
            </a:r>
            <a:r>
              <a:rPr b="0" i="1" lang="ru-RU" sz="4000" spc="-1" strike="noStrike">
                <a:solidFill>
                  <a:srgbClr val="00ff00"/>
                </a:solidFill>
                <a:latin typeface="Verdana"/>
              </a:rPr>
              <a:t>2,3,4,5,7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749920" y="1599840"/>
            <a:ext cx="3394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000"/>
                </a:solidFill>
                <a:latin typeface="Verdana"/>
              </a:rPr>
              <a:t>2 вариан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1" i="1" lang="ru-RU" sz="4000" spc="-1" strike="noStrike">
                <a:solidFill>
                  <a:srgbClr val="ffc000"/>
                </a:solidFill>
                <a:latin typeface="Verdana"/>
              </a:rPr>
              <a:t>1,2,5,6,7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13" descr="262"/>
          <p:cNvPicPr/>
          <p:nvPr/>
        </p:nvPicPr>
        <p:blipFill>
          <a:blip r:embed="rId1"/>
          <a:stretch/>
        </p:blipFill>
        <p:spPr>
          <a:xfrm>
            <a:off x="214200" y="3214800"/>
            <a:ext cx="4038840" cy="259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6" name="Picture 14" descr="images"/>
          <p:cNvPicPr/>
          <p:nvPr/>
        </p:nvPicPr>
        <p:blipFill>
          <a:blip r:embed="rId2"/>
          <a:stretch/>
        </p:blipFill>
        <p:spPr>
          <a:xfrm>
            <a:off x="5286240" y="3643200"/>
            <a:ext cx="3286440" cy="264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785680" y="428760"/>
            <a:ext cx="635796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c000"/>
                </a:solidFill>
                <a:uFillTx/>
                <a:latin typeface="Verdana"/>
              </a:rPr>
              <a:t>Домашнее задание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Verdana"/>
              </a:rPr>
              <a:t>  </a:t>
            </a:r>
            <a:r>
              <a:rPr b="0" i="1" lang="ru-RU" sz="3200" spc="-1" strike="noStrike">
                <a:solidFill>
                  <a:srgbClr val="ffc000"/>
                </a:solidFill>
                <a:latin typeface="Verdana"/>
              </a:rPr>
              <a:t>учебник п.14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Verdana"/>
              </a:rPr>
              <a:t>конспект в тетрадя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5050"/>
                </a:solidFill>
                <a:latin typeface="Verdana"/>
              </a:rPr>
              <a:t>«4»</a:t>
            </a:r>
            <a:r>
              <a:rPr b="0" i="1" lang="ru-RU" sz="3200" spc="-1" strike="noStrike">
                <a:solidFill>
                  <a:srgbClr val="ffc000"/>
                </a:solidFill>
                <a:latin typeface="Verdana"/>
              </a:rPr>
              <a:t>Найти города, в названиях которых встречается слово </a:t>
            </a:r>
            <a:r>
              <a:rPr b="0" i="1" lang="ru-RU" sz="3200" spc="-1" strike="noStrike">
                <a:solidFill>
                  <a:srgbClr val="ff0000"/>
                </a:solidFill>
                <a:latin typeface="Verdana"/>
              </a:rPr>
              <a:t>железо;</a:t>
            </a:r>
            <a:r>
              <a:rPr b="0" i="1" lang="ru-RU" sz="3200" spc="-1" strike="noStrike">
                <a:solidFill>
                  <a:srgbClr val="ffc000"/>
                </a:solidFill>
                <a:latin typeface="Verdana"/>
              </a:rPr>
              <a:t> записать названия крупных месторождений железных руд на территории Росс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2d050"/>
                </a:solidFill>
                <a:latin typeface="Verdana"/>
              </a:rPr>
              <a:t>«5»</a:t>
            </a:r>
            <a:r>
              <a:rPr b="0" i="1" lang="ru-RU" sz="3200" spc="-1" strike="noStrike">
                <a:solidFill>
                  <a:srgbClr val="ffc000"/>
                </a:solidFill>
                <a:latin typeface="Verdana"/>
              </a:rPr>
              <a:t>-цепочка стр.66 уч-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2" descr="E:\1191269027_c4112.jpg"/>
          <p:cNvPicPr/>
          <p:nvPr/>
        </p:nvPicPr>
        <p:blipFill>
          <a:blip r:embed="rId1"/>
          <a:stretch/>
        </p:blipFill>
        <p:spPr>
          <a:xfrm>
            <a:off x="244440" y="328680"/>
            <a:ext cx="2657520" cy="28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7200" spc="-1" strike="noStrike">
                <a:solidFill>
                  <a:srgbClr val="68eae7"/>
                </a:solidFill>
                <a:latin typeface="Arial"/>
              </a:rPr>
              <a:t>Железный век</a:t>
            </a:r>
            <a:br>
              <a:rPr sz="7200"/>
            </a:br>
            <a:r>
              <a:rPr b="0" i="1" lang="ru-RU" sz="7200" spc="-1" strike="noStrike">
                <a:solidFill>
                  <a:srgbClr val="68eae7"/>
                </a:solidFill>
                <a:latin typeface="Arial"/>
              </a:rPr>
              <a:t>или</a:t>
            </a:r>
            <a:br>
              <a:rPr sz="7200"/>
            </a:br>
            <a:r>
              <a:rPr b="0" i="1" lang="ru-RU" sz="7200" spc="-1" strike="noStrike">
                <a:solidFill>
                  <a:srgbClr val="68eae7"/>
                </a:solidFill>
                <a:latin typeface="Arial"/>
              </a:rPr>
              <a:t>немного из истории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изитная карточка атома желез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дание: </a:t>
            </a:r>
            <a:r>
              <a:rPr b="1" lang="ru-RU" sz="2000" spc="-1" strike="noStrike">
                <a:solidFill>
                  <a:srgbClr val="ffc000"/>
                </a:solidFill>
                <a:latin typeface="Verdana"/>
              </a:rPr>
              <a:t>охарактеризуйте положение химического элемента железа в ПСХЭ Д. И. Менделеева и особенности строения атома данного элемент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755640" y="3429000"/>
            <a:ext cx="538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e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железо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рядковый номер: 26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риод: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V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руппа: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III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дгруппа: побочна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лектронное строение атома: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6 протонов, 30 нейтронов, 26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7" descr="атомм"/>
          <p:cNvPicPr/>
          <p:nvPr/>
        </p:nvPicPr>
        <p:blipFill>
          <a:blip r:embed="rId1"/>
          <a:stretch/>
        </p:blipFill>
        <p:spPr>
          <a:xfrm>
            <a:off x="6372360" y="3500280"/>
            <a:ext cx="259236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Arial"/>
              </a:rPr>
              <a:t>Физические свойст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1628640"/>
            <a:ext cx="678672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Железо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- сравнительно мягкий ,ковкий, серебристо-серый метал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Температура плавления – 1535 </a:t>
            </a:r>
            <a:r>
              <a:rPr b="1" i="1" lang="ru-RU" sz="2000" spc="-1" strike="noStrike" baseline="30000">
                <a:solidFill>
                  <a:srgbClr val="ffc000"/>
                </a:solidFill>
                <a:latin typeface="Tahoma"/>
              </a:rPr>
              <a:t>0</a:t>
            </a: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Температура кипения около 2800 </a:t>
            </a:r>
            <a:r>
              <a:rPr b="1" i="1" lang="ru-RU" sz="2000" spc="-1" strike="noStrike" baseline="30000">
                <a:solidFill>
                  <a:srgbClr val="ffc000"/>
                </a:solidFill>
                <a:latin typeface="Tahoma"/>
              </a:rPr>
              <a:t>0</a:t>
            </a: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При температуре ниже 770 </a:t>
            </a:r>
            <a:r>
              <a:rPr b="0" i="1" lang="ru-RU" sz="20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С железо обладает ферромагнитными свойствам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(оно легко намагничивается, и из него можно изготовить магнит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ыше этой температуры ферромагнитные свойства железа исчезают, железо «размагничивается»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6" descr="железо"/>
          <p:cNvPicPr/>
          <p:nvPr/>
        </p:nvPicPr>
        <p:blipFill>
          <a:blip r:embed="rId1"/>
          <a:stretch/>
        </p:blipFill>
        <p:spPr>
          <a:xfrm>
            <a:off x="6664320" y="2000160"/>
            <a:ext cx="2479680" cy="4000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val 6"/>
          <p:cNvSpPr/>
          <p:nvPr/>
        </p:nvSpPr>
        <p:spPr>
          <a:xfrm>
            <a:off x="3505320" y="380880"/>
            <a:ext cx="243828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  <a:ea typeface="Times New Roman"/>
              </a:rPr>
              <a:t>F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6215040" y="1285920"/>
            <a:ext cx="18288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1371600" y="1295280"/>
            <a:ext cx="18288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Times New Roman"/>
              </a:rPr>
              <a:t>+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4071960" y="1714680"/>
            <a:ext cx="1676520" cy="1376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+2, +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3929040" y="3786120"/>
            <a:ext cx="2328840" cy="1447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O</a:t>
            </a:r>
            <a:r>
              <a:rPr b="0" lang="ru-RU" sz="3200" spc="-1" strike="noStrike" baseline="-30000">
                <a:solidFill>
                  <a:srgbClr val="ffffff"/>
                </a:solidFill>
                <a:latin typeface="Verdan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H</a:t>
            </a:r>
            <a:r>
              <a:rPr b="0" lang="ru-RU" sz="3200" spc="-1" strike="noStrike" baseline="-30000">
                <a:solidFill>
                  <a:srgbClr val="ffffff"/>
                </a:solidFill>
                <a:latin typeface="Verdana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6500880" y="2819520"/>
            <a:ext cx="226224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CI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Verdana"/>
                <a:ea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214200" y="2590920"/>
            <a:ext cx="3571920" cy="14475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S,Cu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Verdana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р-р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HCI,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р-р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Verdana"/>
                <a:ea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Line 13"/>
          <p:cNvSpPr/>
          <p:nvPr/>
        </p:nvSpPr>
        <p:spPr>
          <a:xfrm flipH="1">
            <a:off x="3124080" y="1143000"/>
            <a:ext cx="60984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4857840" y="12859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867280" y="990720"/>
            <a:ext cx="60984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Line 16"/>
          <p:cNvSpPr/>
          <p:nvPr/>
        </p:nvSpPr>
        <p:spPr>
          <a:xfrm flipH="1">
            <a:off x="1600200" y="2209680"/>
            <a:ext cx="380880" cy="381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5000760" y="3143160"/>
            <a:ext cx="0" cy="533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20"/>
          <p:cNvSpPr/>
          <p:nvPr/>
        </p:nvSpPr>
        <p:spPr>
          <a:xfrm>
            <a:off x="7086600" y="2209680"/>
            <a:ext cx="380880" cy="533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Прямоугольник 15"/>
          <p:cNvSpPr/>
          <p:nvPr/>
        </p:nvSpPr>
        <p:spPr>
          <a:xfrm>
            <a:off x="762120" y="54100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Запишите уравнения  реакций, указав окислитель и восстановител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Arial"/>
              </a:rPr>
              <a:t>Внимание!    </a:t>
            </a:r>
            <a:r>
              <a:rPr b="0" lang="ru-RU" sz="5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cc00"/>
                </a:solidFill>
                <a:latin typeface="Arial"/>
              </a:rPr>
              <a:t>Эксперимент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Picture 4" descr="D:\Жаренова Н. В\Полезные материалы\мальчик-химик.jpg"/>
          <p:cNvPicPr/>
          <p:nvPr/>
        </p:nvPicPr>
        <p:blipFill>
          <a:blip r:embed="rId1"/>
          <a:stretch/>
        </p:blipFill>
        <p:spPr>
          <a:xfrm>
            <a:off x="3780000" y="2706840"/>
            <a:ext cx="4998960" cy="3517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:\Documents and Settings\Админ\Рабочий стол\44\imgindex2.jpg"/>
          <p:cNvPicPr/>
          <p:nvPr/>
        </p:nvPicPr>
        <p:blipFill>
          <a:blip r:embed="rId2"/>
          <a:stretch/>
        </p:blipFill>
        <p:spPr>
          <a:xfrm>
            <a:off x="285840" y="2071800"/>
            <a:ext cx="3571920" cy="34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1428840" y="642960"/>
            <a:ext cx="7143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Verdana"/>
              </a:rPr>
              <a:t>Качественные реакции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ffff00"/>
                </a:solidFill>
                <a:latin typeface="Verdana"/>
              </a:rPr>
              <a:t>на ионы </a:t>
            </a: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F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²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Arial"/>
              </a:rPr>
              <a:t>⁺ </a:t>
            </a:r>
            <a:r>
              <a:rPr b="0" lang="ru-RU" sz="4000" spc="-1" strike="noStrike">
                <a:solidFill>
                  <a:srgbClr val="ffff00"/>
                </a:solidFill>
                <a:latin typeface="Calibri"/>
                <a:ea typeface="Arial"/>
              </a:rPr>
              <a:t>и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Arial"/>
              </a:rPr>
              <a:t> F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³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  <a:ea typeface="Arial"/>
              </a:rPr>
              <a:t>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TextBox 2"/>
          <p:cNvSpPr/>
          <p:nvPr/>
        </p:nvSpPr>
        <p:spPr>
          <a:xfrm>
            <a:off x="714240" y="2071800"/>
            <a:ext cx="75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Fe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  <a:ea typeface="Arial"/>
              </a:rPr>
              <a:t>³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  <a:ea typeface="Arial"/>
              </a:rPr>
              <a:t>⁺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реактив – роданид калия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KSCN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  ил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714240" y="2928960"/>
            <a:ext cx="75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желтая кровяная соль   –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K₄[Fe(CN)₆]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extBox 7"/>
          <p:cNvSpPr/>
          <p:nvPr/>
        </p:nvSpPr>
        <p:spPr>
          <a:xfrm flipH="1">
            <a:off x="928080" y="4214880"/>
            <a:ext cx="714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Verdana"/>
              </a:rPr>
              <a:t>Fe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  <a:ea typeface="Arial"/>
              </a:rPr>
              <a:t>²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  <a:ea typeface="Arial"/>
              </a:rPr>
              <a:t>⁺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реактив – красная кровяная соль -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K₃[Fe(CN)₆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иологическая роль желез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Picture 6" descr="logo витамины"/>
          <p:cNvPicPr/>
          <p:nvPr/>
        </p:nvPicPr>
        <p:blipFill>
          <a:blip r:embed="rId1"/>
          <a:stretch/>
        </p:blipFill>
        <p:spPr>
          <a:xfrm rot="21244800">
            <a:off x="899640" y="1413000"/>
            <a:ext cx="2381400" cy="1600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17_3_45"/>
          <p:cNvPicPr/>
          <p:nvPr/>
        </p:nvPicPr>
        <p:blipFill>
          <a:blip r:embed="rId2"/>
          <a:stretch/>
        </p:blipFill>
        <p:spPr>
          <a:xfrm rot="343200">
            <a:off x="5651280" y="1341000"/>
            <a:ext cx="2415960" cy="1811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lvbrxq6qvzruc1in2e6h3p89fp418q5n"/>
          <p:cNvPicPr/>
          <p:nvPr/>
        </p:nvPicPr>
        <p:blipFill>
          <a:blip r:embed="rId3"/>
          <a:stretch/>
        </p:blipFill>
        <p:spPr>
          <a:xfrm rot="252000">
            <a:off x="826560" y="494172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684360" y="3357720"/>
            <a:ext cx="775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Железо играет важную роль в жизнедеятельности земных организм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12" descr="yluogmjc2uiwo04hyficr92gqm28ibxs"/>
          <p:cNvPicPr/>
          <p:nvPr/>
        </p:nvPicPr>
        <p:blipFill>
          <a:blip r:embed="rId4"/>
          <a:stretch/>
        </p:blipFill>
        <p:spPr>
          <a:xfrm rot="21178800">
            <a:off x="6300360" y="501300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97" name="WordArt 14"/>
          <p:cNvSpPr txBox="1"/>
          <p:nvPr/>
        </p:nvSpPr>
        <p:spPr>
          <a:xfrm>
            <a:off x="3851280" y="5084640"/>
            <a:ext cx="165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Fe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92,-9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92,-9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46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Опорный конспект «Железо»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73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20:09:27Z</dcterms:created>
  <dc:creator>Ирина</dc:creator>
  <dc:description/>
  <dc:language>en-US</dc:language>
  <cp:lastModifiedBy>Химия</cp:lastModifiedBy>
  <dcterms:modified xsi:type="dcterms:W3CDTF">2013-11-14T06:42:43Z</dcterms:modified>
  <cp:revision>55</cp:revision>
  <dc:subject/>
  <dc:title>Железо</dc:title>
</cp:coreProperties>
</file>