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wmf" ContentType="image/x-wmf"/>
  <Override PartName="/ppt/media/zal.wav" ContentType="audio/x-wav"/>
  <Override PartName="/ppt/media/image13.jpeg" ContentType="image/jpeg"/>
  <Override PartName="/ppt/media/image3.wmf" ContentType="image/x-wmf"/>
  <Override PartName="/ppt/media/image2.wmf" ContentType="image/x-wmf"/>
  <Override PartName="/ppt/media/image4.gif" ContentType="image/gi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F14-C79F-4628-8F17-EA192D97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F45-EE66-48CA-8075-69DA4A7A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F0A-5F85-496B-A600-DE68757F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038-9A5C-476A-AB24-E25BDC6E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CCF5-2650-4CE8-B431-6DD06198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5AA4-DAE4-4E4C-AA71-0A573F8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8673-A141-4812-A1C9-E7058F95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50B4-E599-4EFF-BDC3-06700700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29A7-EB97-433B-AB0D-BC23CA8A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32ED-906A-4270-9DDA-C243F201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56F0-2C32-4F0A-8347-AD21A70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465-5678-49FE-85FE-BC8FFA87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CB30-4E3A-4348-BCED-CBC5805F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91E3-A0B5-4917-AE0B-2503C2A6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A804-7554-4AE2-BF53-1A0ED391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02F7-B31E-4D24-82E9-0287A7E6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4AC0-784B-4C57-B71C-FB7D6319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E74-5515-42B5-AF5E-2D31CA9F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250-3F6D-4DFD-880A-CE50F9CD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8F9-E52D-4CC6-9698-480C5420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849-478E-43F1-A45C-153AF877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24D-CC6E-4BCD-B6B8-92C287BB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F81-5F9B-45C3-BDE5-17334CF4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CB4-B2D8-44FD-81AA-7E92381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F293-603F-4F46-9F34-382EC8F2E2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BED8-3521-4E93-B045-5565F37E58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zal.wav"/><Relationship Id="rId5" Type="http://schemas.openxmlformats.org/officeDocument/2006/relationships/audio" Target="../media/zal.wav"/><Relationship Id="rId6" Type="http://schemas.openxmlformats.org/officeDocument/2006/relationships/audio" Target="../media/zal.wav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41708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a2c4a"/>
                </a:solidFill>
                <a:latin typeface="Arial"/>
              </a:rPr>
              <a:t>Эпиграф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94920" y="198864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«…… не только основа всего мира, самый главный металл окружающей нас природы, оно – основа культуры и промышленности, оно – орудие войны и мирного труда. И трудно во всей таблице Менделеева найти другой элемент, который был бы так связан с прошлым, настоящим и будущими судьбами человечества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                                       </a:t>
            </a: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А. Е. Ферсма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j0187423"/>
          <p:cNvPicPr/>
          <p:nvPr/>
        </p:nvPicPr>
        <p:blipFill>
          <a:blip r:embed="rId1"/>
          <a:stretch/>
        </p:blipFill>
        <p:spPr>
          <a:xfrm>
            <a:off x="6705720" y="0"/>
            <a:ext cx="2066760" cy="2143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0199727"/>
          <p:cNvPicPr/>
          <p:nvPr/>
        </p:nvPicPr>
        <p:blipFill>
          <a:blip r:embed="rId2"/>
          <a:stretch/>
        </p:blipFill>
        <p:spPr>
          <a:xfrm>
            <a:off x="0" y="0"/>
            <a:ext cx="2195640" cy="2157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J0200289"/>
          <p:cNvPicPr/>
          <p:nvPr/>
        </p:nvPicPr>
        <p:blipFill>
          <a:blip r:embed="rId3"/>
          <a:stretch/>
        </p:blipFill>
        <p:spPr>
          <a:xfrm>
            <a:off x="7429680" y="4500720"/>
            <a:ext cx="19285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ыберите правильные ответы, указав их  номера через запятую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Verdana"/>
              </a:rPr>
              <a:t>                                             </a:t>
            </a:r>
            <a:r>
              <a:rPr b="1" lang="ru-RU" sz="2000" spc="-1" strike="noStrike">
                <a:solidFill>
                  <a:srgbClr val="ff5050"/>
                </a:solidFill>
                <a:latin typeface="Verdana"/>
              </a:rPr>
              <a:t>Вариант 1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1. Железо – это активный щелочной металл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2. Железо легко куёт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3. Железо входит в состав сплава стал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4. На внешнем энергетическом уровне атома железа 2 электрон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5. Железо взаимодействует с разбавленными кислота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6. С галогенами образует галогениды со степенью окисления +2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7. Железо  взаимодействует с кислородо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8. Железо содержится только в красных яблок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Microsoft Sans Serif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Microsoft Sans Serif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icrosoft Sans Serif"/>
              </a:rPr>
              <a:t>Вариант 2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1. Железо – это металл серебристо-белого цве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2. Железо  обладает способностью намагничивать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3. Атомы железа проявляют окислительные свойств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4. На внешнем энергетическом уровне атома железа 1 электрон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5. Железо вытесняет медь из растворов ее соле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6. С галогенами образует соединения со степенью окисления +3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7. С раствором серной кислоты образует сульфат железа (II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8. Железо не встречается в природе в чистом вид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Microsoft Sans Serif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i="1" lang="ru-RU" sz="4000" spc="-1" strike="noStrike">
                <a:solidFill>
                  <a:srgbClr val="00ff00"/>
                </a:solidFill>
                <a:latin typeface="Verdana"/>
              </a:rPr>
              <a:t>1 вариан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Verdana"/>
              </a:rPr>
              <a:t>      </a:t>
            </a:r>
            <a:r>
              <a:rPr b="0" i="1" lang="ru-RU" sz="4000" spc="-1" strike="noStrike">
                <a:solidFill>
                  <a:srgbClr val="00ff00"/>
                </a:solidFill>
                <a:latin typeface="Verdana"/>
              </a:rPr>
              <a:t>2,3,4,5,7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4992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Verdana"/>
              </a:rPr>
              <a:t>2 вариан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ffc000"/>
                </a:solidFill>
                <a:latin typeface="Verdana"/>
              </a:rPr>
              <a:t>1,2,5,6,7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3" descr="262"/>
          <p:cNvPicPr/>
          <p:nvPr/>
        </p:nvPicPr>
        <p:blipFill>
          <a:blip r:embed="rId1"/>
          <a:stretch/>
        </p:blipFill>
        <p:spPr>
          <a:xfrm>
            <a:off x="214200" y="3214800"/>
            <a:ext cx="403884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6" name="Picture 14" descr="images"/>
          <p:cNvPicPr/>
          <p:nvPr/>
        </p:nvPicPr>
        <p:blipFill>
          <a:blip r:embed="rId2"/>
          <a:stretch/>
        </p:blipFill>
        <p:spPr>
          <a:xfrm>
            <a:off x="5286240" y="3643200"/>
            <a:ext cx="3286440" cy="264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785680" y="428760"/>
            <a:ext cx="63579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000"/>
                </a:solidFill>
                <a:uFillTx/>
                <a:latin typeface="Verdan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учебник п.14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конспект в тетрад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5050"/>
                </a:solidFill>
                <a:latin typeface="Verdana"/>
              </a:rPr>
              <a:t>«4»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Найти города, в названиях которых встречается слово 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железо;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 записать названия крупных месторождений железных руд на территории Росс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2d050"/>
                </a:solidFill>
                <a:latin typeface="Verdana"/>
              </a:rPr>
              <a:t>«5»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-цепочка стр.66 уч-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" descr="E:\1191269027_c4112.jpg"/>
          <p:cNvPicPr/>
          <p:nvPr/>
        </p:nvPicPr>
        <p:blipFill>
          <a:blip r:embed="rId1"/>
          <a:stretch/>
        </p:blipFill>
        <p:spPr>
          <a:xfrm>
            <a:off x="244440" y="328680"/>
            <a:ext cx="2657520" cy="28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7200" spc="-1" strike="noStrike">
                <a:solidFill>
                  <a:srgbClr val="68eae7"/>
                </a:solidFill>
                <a:latin typeface="Arial"/>
              </a:rPr>
              <a:t>Железный век</a:t>
            </a:r>
            <a:br>
              <a:rPr sz="7200"/>
            </a:br>
            <a:r>
              <a:rPr b="0" i="1" lang="ru-RU" sz="7200" spc="-1" strike="noStrike">
                <a:solidFill>
                  <a:srgbClr val="68eae7"/>
                </a:solidFill>
                <a:latin typeface="Arial"/>
              </a:rPr>
              <a:t>или</a:t>
            </a:r>
            <a:br>
              <a:rPr sz="7200"/>
            </a:br>
            <a:r>
              <a:rPr b="0" i="1" lang="ru-RU" sz="7200" spc="-1" strike="noStrike">
                <a:solidFill>
                  <a:srgbClr val="68eae7"/>
                </a:solidFill>
                <a:latin typeface="Arial"/>
              </a:rPr>
              <a:t>немного из истории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зитная карточка атома желе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: </a:t>
            </a: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характеризуйте положение химического элемента железа в ПСХЭ Д. И. Менделеева и особенности строения атома данного элемен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755640" y="3429000"/>
            <a:ext cx="538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железо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рядковый номер: 26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иод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V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уппа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II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группа: побоч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нное строение атома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6 протонов, 30 нейтронов, 26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7" descr="атомм"/>
          <p:cNvPicPr/>
          <p:nvPr/>
        </p:nvPicPr>
        <p:blipFill>
          <a:blip r:embed="rId1"/>
          <a:stretch/>
        </p:blipFill>
        <p:spPr>
          <a:xfrm>
            <a:off x="6372360" y="3500280"/>
            <a:ext cx="2592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1628640"/>
            <a:ext cx="678672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Железо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- сравнительно мягкий ,ковкий, серебристо-серый метал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Температура плавления – 1535 </a:t>
            </a:r>
            <a:r>
              <a:rPr b="1" i="1" lang="ru-RU" sz="2000" spc="-1" strike="noStrike" baseline="30000">
                <a:solidFill>
                  <a:srgbClr val="ffc000"/>
                </a:solidFill>
                <a:latin typeface="Tahoma"/>
              </a:rPr>
              <a:t>0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Температура кипения около 2800 </a:t>
            </a:r>
            <a:r>
              <a:rPr b="1" i="1" lang="ru-RU" sz="2000" spc="-1" strike="noStrike" baseline="30000">
                <a:solidFill>
                  <a:srgbClr val="ffc000"/>
                </a:solidFill>
                <a:latin typeface="Tahoma"/>
              </a:rPr>
              <a:t>0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и температуре ниже 770 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 железо обладает ферромагнитными свойства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оно легко намагничивается, и из него можно изготовить магнит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ше этой температуры ферромагнитные свойства железа исчезают, железо «размагничивается»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6" descr="железо"/>
          <p:cNvPicPr/>
          <p:nvPr/>
        </p:nvPicPr>
        <p:blipFill>
          <a:blip r:embed="rId1"/>
          <a:stretch/>
        </p:blipFill>
        <p:spPr>
          <a:xfrm>
            <a:off x="6664320" y="2000160"/>
            <a:ext cx="247968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6"/>
          <p:cNvSpPr/>
          <p:nvPr/>
        </p:nvSpPr>
        <p:spPr>
          <a:xfrm>
            <a:off x="3505320" y="380880"/>
            <a:ext cx="24382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Times New Roman"/>
              </a:rPr>
              <a:t>F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6215040" y="1285920"/>
            <a:ext cx="18288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1371600" y="1295280"/>
            <a:ext cx="18288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4071960" y="1714680"/>
            <a:ext cx="1676520" cy="137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+2, +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929040" y="3786120"/>
            <a:ext cx="232884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O</a:t>
            </a:r>
            <a:r>
              <a:rPr b="0" lang="ru-RU" sz="3200" spc="-1" strike="noStrike" baseline="-30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H</a:t>
            </a:r>
            <a:r>
              <a:rPr b="0" lang="ru-RU" sz="3200" spc="-1" strike="noStrike" baseline="-30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500880" y="2819520"/>
            <a:ext cx="226224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I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214200" y="2590920"/>
            <a:ext cx="3571920" cy="1447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,Cu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Verdana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р-р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HCI,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р-р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Verdana"/>
                <a:ea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Line 13"/>
          <p:cNvSpPr/>
          <p:nvPr/>
        </p:nvSpPr>
        <p:spPr>
          <a:xfrm flipH="1">
            <a:off x="3124080" y="1143000"/>
            <a:ext cx="6098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4857840" y="12859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867280" y="990720"/>
            <a:ext cx="6098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6"/>
          <p:cNvSpPr/>
          <p:nvPr/>
        </p:nvSpPr>
        <p:spPr>
          <a:xfrm flipH="1">
            <a:off x="1600200" y="2209680"/>
            <a:ext cx="38088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5000760" y="3143160"/>
            <a:ext cx="0" cy="533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7086600" y="2209680"/>
            <a:ext cx="380880" cy="533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762120" y="5410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пишите уравнения  реакций, указав окислитель и восстановител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Внимание!    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Эксперимент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4" descr="D:\Жаренова Н. В\Полезные материалы\мальчик-химик.jpg"/>
          <p:cNvPicPr/>
          <p:nvPr/>
        </p:nvPicPr>
        <p:blipFill>
          <a:blip r:embed="rId1"/>
          <a:stretch/>
        </p:blipFill>
        <p:spPr>
          <a:xfrm>
            <a:off x="3780000" y="2706840"/>
            <a:ext cx="4998960" cy="3517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Documents and Settings\Админ\Рабочий стол\44\imgindex2.jpg"/>
          <p:cNvPicPr/>
          <p:nvPr/>
        </p:nvPicPr>
        <p:blipFill>
          <a:blip r:embed="rId2"/>
          <a:stretch/>
        </p:blipFill>
        <p:spPr>
          <a:xfrm>
            <a:off x="285840" y="2071800"/>
            <a:ext cx="357192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1428840" y="642960"/>
            <a:ext cx="71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Качественные реакции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на ионы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F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⁺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  <a:ea typeface="Arial"/>
              </a:rPr>
              <a:t>и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 F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³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714240" y="207180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Fe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³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  <a:ea typeface="Arial"/>
              </a:rPr>
              <a:t>⁺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реактив – роданид кали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KSCN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 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714240" y="292896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желтая кровяная соль   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K₄[Fe(CN)₆]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Box 7"/>
          <p:cNvSpPr/>
          <p:nvPr/>
        </p:nvSpPr>
        <p:spPr>
          <a:xfrm flipH="1">
            <a:off x="928080" y="421488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Fe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²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  <a:ea typeface="Arial"/>
              </a:rPr>
              <a:t>⁺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реактив – красная кровяная соль -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K₃[Fe(CN)₆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иологическая роль желе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6" descr="logo витамины"/>
          <p:cNvPicPr/>
          <p:nvPr/>
        </p:nvPicPr>
        <p:blipFill>
          <a:blip r:embed="rId1"/>
          <a:stretch/>
        </p:blipFill>
        <p:spPr>
          <a:xfrm rot="21244800">
            <a:off x="899640" y="141300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7_3_45"/>
          <p:cNvPicPr/>
          <p:nvPr/>
        </p:nvPicPr>
        <p:blipFill>
          <a:blip r:embed="rId2"/>
          <a:stretch/>
        </p:blipFill>
        <p:spPr>
          <a:xfrm rot="343200">
            <a:off x="5651280" y="1341000"/>
            <a:ext cx="2415960" cy="181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lvbrxq6qvzruc1in2e6h3p89fp418q5n"/>
          <p:cNvPicPr/>
          <p:nvPr/>
        </p:nvPicPr>
        <p:blipFill>
          <a:blip r:embed="rId3"/>
          <a:stretch/>
        </p:blipFill>
        <p:spPr>
          <a:xfrm rot="252000">
            <a:off x="826560" y="49417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684360" y="3357720"/>
            <a:ext cx="775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Железо играет важную роль в жизнедеятельности земных организм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2" descr="yluogmjc2uiwo04hyficr92gqm28ibxs"/>
          <p:cNvPicPr/>
          <p:nvPr/>
        </p:nvPicPr>
        <p:blipFill>
          <a:blip r:embed="rId4"/>
          <a:stretch/>
        </p:blipFill>
        <p:spPr>
          <a:xfrm rot="21178800">
            <a:off x="6300360" y="50130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4"/>
          <p:cNvSpPr txBox="1"/>
          <p:nvPr/>
        </p:nvSpPr>
        <p:spPr>
          <a:xfrm>
            <a:off x="3851280" y="5084640"/>
            <a:ext cx="165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Fe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6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Опорный конспект «Железо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7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0:09:27Z</dcterms:created>
  <dc:creator>Ирина</dc:creator>
  <dc:description/>
  <dc:language>en-US</dc:language>
  <cp:lastModifiedBy>Химия</cp:lastModifiedBy>
  <dcterms:modified xsi:type="dcterms:W3CDTF">2013-11-14T06:42:43Z</dcterms:modified>
  <cp:revision>55</cp:revision>
  <dc:subject/>
  <dc:title>Железо</dc:title>
</cp:coreProperties>
</file>