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A42E-94A7-4342-AA60-0C401BFAC9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8BC21-FA87-48CC-AB4A-D8DA7215CF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139-C35A-48F3-91F5-C5D78CC6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72D-8081-4941-A4ED-017C55E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F7B-9E6A-4275-B77D-4560F246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3D6-010B-4196-9CF6-A154A392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D27-E84A-4A23-B077-1621862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7A6-D685-4799-94FE-F50234D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141-82EC-461A-9AD2-15002D5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14D-6FE1-4FE3-8318-EC391EF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DFC-2047-4BB6-AC61-D842B636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638-3CEA-416E-9A3C-414640C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6A2-4AEA-4686-B77C-C144570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5CE-BDCC-41D8-970A-4A26D9F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4968B4-F123-4152-825C-97AB5477F9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rmantovpoeziya.info/images/tarhany/house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900igr.net/datai/literatura/Odinochestvo-Lermontov/0008-007-Rabochij-kabinet-poeta-v-Tarkhanakh.jpg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g-gallery.ru/images/1354/0LermontovMYu_NapadenieGLM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s43.radikal.ru/i102/0903/64/352284c49250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useum.ru/rme/pic/ler_picb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razymama.ru/images/forumgallary/11098.jpe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mkob113.narod.ru/lrmntv/ler-90g.gif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online.ru/paintings/Shirobakina/upodnozhyagorymashukblizpyatigorsk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101/anchik3333.13/0_3a47b_8ae039f3_X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50.radikal.ru/i129/1107/21/ed535f181d0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velosamara.ru/report/2007/20070428Caucasis/large/skv_12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39.radikal.ru/i084/0810/d5/f78bad3b78c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-necropol.narod.ru/lermontov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6/581/76581697_MYUL_1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aduga.lekks.ru/pamyatnik/pic/33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ldn-knigi.lib.ru/R/Foto/Andron/a4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ynical.org/images/stories/literatura/lermontov1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900igr.net/datas/literatura/Odinochestvo-Lermontov/0007-007-Dom-muzej-M.JU.Lermontova-v-Tarkhanakh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900igr.net/datas/literatura/Lermontov-poet/0005-005-Brak-roditelej-Lermontova-bogatoj-naslednitsy-M.-M.-Arsenevoj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254240" y="493560"/>
            <a:ext cx="72151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814 – 184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521080" y="3476520"/>
            <a:ext cx="503856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Высочайший юноша вселенн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. Ахмаду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1A70B-C4AD-4732-9CE9-91D34137B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творчества в Тарханах были идеальны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-main-pic" descr="Картинка 7 из 2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160" y="1565280"/>
            <a:ext cx="4457520" cy="307656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8 из 2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11640" y="1636560"/>
            <a:ext cx="4459320" cy="3098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welcome2penza.ru/uploaded/attractions/25/frame/35.jpg"/>
          <p:cNvPicPr/>
          <p:nvPr/>
        </p:nvPicPr>
        <p:blipFill>
          <a:blip r:embed="rId5"/>
          <a:stretch/>
        </p:blipFill>
        <p:spPr>
          <a:xfrm>
            <a:off x="6897600" y="4708440"/>
            <a:ext cx="1928880" cy="2714760"/>
          </a:xfrm>
          <a:prstGeom prst="rect">
            <a:avLst/>
          </a:prstGeom>
          <a:ln w="0">
            <a:noFill/>
          </a:ln>
        </p:spPr>
      </p:pic>
      <p:sp>
        <p:nvSpPr>
          <p:cNvPr id="96" name="Номер слайда 8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B41D6-68FC-46DB-8193-084349BD0C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 fontScale="61000"/>
          </a:bodyPr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бе, Кавказ, суровый край земл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посвящаю снова стих небрежный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C329-A8F2-406E-B953-08B9873E9D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ундире Нижегородского драгунского пол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-main-pic" descr="Картинка 27 из 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13440" y="2440080"/>
            <a:ext cx="4459320" cy="364464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6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D1DA2-5A6C-456A-9256-D25E7FA9CB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-main-pic" descr="Картинка 1 из 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5440" y="1494000"/>
            <a:ext cx="41432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ая живописная работа Лермонтова «Крестовая г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21360" y="2397240"/>
            <a:ext cx="44560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30 из 4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96760" y="1565280"/>
            <a:ext cx="8643960" cy="557208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06F81-00C2-4E01-98E7-8319AFF693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шня близ Казб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-main-pic" descr="Картинка 19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5480" y="279360"/>
            <a:ext cx="8929800" cy="70722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EEE87-0293-40E7-B559-4438E21DCF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андашный рисунок Лермонтова «Тамань» (183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313CA-C301-4124-941B-4C7C94BB83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-main-pic" descr="Картинка 6 из 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68440" y="1565280"/>
            <a:ext cx="771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Иванович Одоевски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юст в Иши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B2450-B0D9-4BE1-B315-7DBCFE5BBC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6" descr="http://philatelia.ru/pict/cat5/dir1/3065ru.jpg"/>
          <p:cNvPicPr/>
          <p:nvPr/>
        </p:nvPicPr>
        <p:blipFill>
          <a:blip r:embed="rId1"/>
          <a:stretch/>
        </p:blipFill>
        <p:spPr>
          <a:xfrm>
            <a:off x="622440" y="1768320"/>
            <a:ext cx="4219560" cy="49881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7" descr="http://www.w-siberia.ru/files/tourresourses/images/памятник%20Одоевскому"/>
          <p:cNvPicPr/>
          <p:nvPr/>
        </p:nvPicPr>
        <p:blipFill>
          <a:blip r:embed="rId2"/>
          <a:stretch/>
        </p:blipFill>
        <p:spPr>
          <a:xfrm>
            <a:off x="5113440" y="2722680"/>
            <a:ext cx="44593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изод сражения при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лерик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исунок М.Ю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-main-pic" descr="Картинка 1 из 20"/>
          <p:cNvPicPr/>
          <p:nvPr/>
        </p:nvPicPr>
        <p:blipFill>
          <a:blip r:embed="rId1"/>
          <a:stretch/>
        </p:blipFill>
        <p:spPr>
          <a:xfrm>
            <a:off x="2190600" y="1768320"/>
            <a:ext cx="5694480" cy="498816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C7BC7-B94A-45C2-9F44-039D49E1B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ЗАЧЬЯ КОЛЫБЕЛЬНАЯ ПЕС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3280" y="1494000"/>
            <a:ext cx="4457520" cy="526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, младенец мой прекр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 смотрит месяц я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лыбель т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у сказывать я сказ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енку сп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ж дремли, закрывши глаз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амням струится Тер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щет мутный в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лой чечен ползет на бере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ит свой кинж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отец твой старый во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ен в б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, малютка, будь споко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8DE0D-5279-42FE-81F7-0E189DEFF4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14400"/>
            <a:ext cx="90694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3280" y="493200"/>
            <a:ext cx="445752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 узнаешь, будет врем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ное жит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о вденешь ногу в ст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озьмешь руж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едельце бое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ком разошью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, дитя мое род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13080" y="493200"/>
            <a:ext cx="445932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атырь ты будешь с в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азак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жать тебя я выйду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ахнешь руко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горьких слез украд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в ту ночь пролью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, мой ангел, тихо, слад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BA52C-82B8-46D8-AC9E-7A885FAD5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бакина Н.Е. Уподножья горы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шу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близ Пятигор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-main-pic" descr="Картинка 5 из 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1360" y="1565280"/>
            <a:ext cx="7358040" cy="56437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56EE4-8D6F-452A-B4FA-CF08B7FCD2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157320"/>
            <a:ext cx="90694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3280" y="493200"/>
            <a:ext cx="445752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у я тоской том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утешно ж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у целый день мол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очам га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у думать, что скуч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в чужом краю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 ж, пока забот не знае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113080" y="493200"/>
            <a:ext cx="445932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м тебе я на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к свя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его, моляся б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ь перед соб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, готовясь в бой оп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 мать свою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, младенец мой прекр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3CAE7-55FB-46A7-9CBB-70A4F0E25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глец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ун бежал быстрее лан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й, чем заяц от орл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л он в страхе с поля бран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кровь черкесская текл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ец и два родные бра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честь и вольность там лег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д пятой у супоста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их головы в пы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кровь течет и просит мщ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8271-C983-4555-B864-C8F2619832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-main-pic" descr="Картинка 15 из 43"/>
          <p:cNvPicPr/>
          <p:nvPr/>
        </p:nvPicPr>
        <p:blipFill>
          <a:blip r:embed="rId1"/>
          <a:stretch/>
        </p:blipFill>
        <p:spPr>
          <a:xfrm>
            <a:off x="503280" y="1474920"/>
            <a:ext cx="4032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-main-pic" descr="Картинка 33 из 302"/>
          <p:cNvPicPr/>
          <p:nvPr/>
        </p:nvPicPr>
        <p:blipFill>
          <a:blip r:embed="rId1"/>
          <a:stretch/>
        </p:blipFill>
        <p:spPr>
          <a:xfrm>
            <a:off x="825480" y="1708200"/>
            <a:ext cx="8286840" cy="5429160"/>
          </a:xfrm>
          <a:prstGeom prst="rect">
            <a:avLst/>
          </a:prstGeom>
          <a:ln w="0">
            <a:noFill/>
          </a:ln>
        </p:spPr>
      </p:pic>
      <p:sp>
        <p:nvSpPr>
          <p:cNvPr id="154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8EBE9-05E9-435E-BC5C-181E9416CF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http://lermontov.niv.ru/images/pictures/picture_22.jpg"/>
          <p:cNvPicPr/>
          <p:nvPr/>
        </p:nvPicPr>
        <p:blipFill>
          <a:blip r:embed="rId1"/>
          <a:stretch/>
        </p:blipFill>
        <p:spPr>
          <a:xfrm>
            <a:off x="792000" y="395280"/>
            <a:ext cx="8569440" cy="655308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AFCBE-6F47-46B5-AF1A-A7AEA54E2D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-main-pic" descr="Картинка 20 из 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5440" y="279360"/>
            <a:ext cx="9358200" cy="70009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45409-4970-470B-BA35-EF4D57FCC1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подножия Маш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-main-pic" descr="Картинка 9 из 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79440"/>
            <a:ext cx="5000760" cy="500076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18 из 5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11640" y="4137120"/>
            <a:ext cx="471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6D70D-E722-44DE-A36E-8894D2627D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6 из 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1360" y="279360"/>
            <a:ext cx="7715160" cy="700092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00E68-1DE4-4639-A8C4-09990D5B0F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-main-pic" descr="Картинка 6 из 133">
            <a:hlinkClick r:id="rId1"/>
          </p:cNvPr>
          <p:cNvPicPr/>
          <p:nvPr/>
        </p:nvPicPr>
        <p:blipFill>
          <a:blip r:embed="rId2"/>
          <a:srcRect l="0" t="0" r="0" b="-3182"/>
          <a:stretch/>
        </p:blipFill>
        <p:spPr>
          <a:xfrm>
            <a:off x="539640" y="422280"/>
            <a:ext cx="8215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89E1-944D-4B79-97E6-94ED9A6B11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овня-усыпальница и памятник над могилой Лермонтова в Тарха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9 из 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1720" y="1779480"/>
            <a:ext cx="3348360" cy="479736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106 из 4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5480" y="1636560"/>
            <a:ext cx="4214880" cy="535788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8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16DBD-910A-42CB-8EE1-3ED16A0BB1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850680"/>
            <a:ext cx="44532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ранний портрет, выполненный неизвестным худож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рет 8-летнего 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6" descr="http://er3ed.qrz.ru/lermontov/lermontov1.jpg"/>
          <p:cNvPicPr/>
          <p:nvPr/>
        </p:nvPicPr>
        <p:blipFill>
          <a:blip r:embed="rId1"/>
          <a:stretch/>
        </p:blipFill>
        <p:spPr>
          <a:xfrm>
            <a:off x="254160" y="2422440"/>
            <a:ext cx="3954240" cy="4356360"/>
          </a:xfrm>
          <a:prstGeom prst="rect">
            <a:avLst/>
          </a:prstGeom>
          <a:ln w="0">
            <a:noFill/>
          </a:ln>
        </p:spPr>
      </p:pic>
      <p:pic>
        <p:nvPicPr>
          <p:cNvPr id="83" name="i-main-pic" descr="Картинка 41 из 18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54720" y="3708360"/>
            <a:ext cx="264348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i-main-pic" descr="Картинка 8 из 18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54480" y="2565360"/>
            <a:ext cx="2998800" cy="38116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28D27-1B5D-4BFC-A28C-0A3BB05B1D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10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лизавета Алексеевна Арсеньева, бабушка поэ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-main-pic" descr="Картинка 1 из 1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8680" y="2136600"/>
            <a:ext cx="5104080" cy="379764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69 из 4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905280"/>
            <a:ext cx="4778280" cy="365436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0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4B5B-691F-4FEB-83D4-DBFEB5BA93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лазина Елена Александровна МБОУ «СОШ № 62» г. 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9:16:56Z</dcterms:created>
  <dc:creator/>
  <dc:description/>
  <dc:language>en-US</dc:language>
  <cp:lastModifiedBy>Елена Александровна</cp:lastModifiedBy>
  <dcterms:modified xsi:type="dcterms:W3CDTF">2013-11-15T14:18:49Z</dcterms:modified>
  <cp:revision>33</cp:revision>
  <dc:subject/>
  <dc:title>Слайд 1</dc:title>
</cp:coreProperties>
</file>