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3F7-DFFE-4388-BE97-54D008AF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4DE-B4B0-421D-B646-F16E0900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B04-7822-402C-8979-B1141FE1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95F-B295-4DF0-B566-06502574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E17A-80BE-4C48-8D94-6EECF99F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C96-5C6A-49C3-AEB9-3677848E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B962-904D-4FD9-B892-8E10F63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1EA-B0DC-49FF-B52B-856CABB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2012-2F10-4A5D-BA55-7F371064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3BC-7A23-4058-A4AA-DB49049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C356-62A2-430E-93B9-C43A0B4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FF9-3495-4484-81EA-2B5C117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6F0-1FA9-41DF-9D46-C0BE3F10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B87D-673F-4C6B-A6A8-B74F120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0566-CB34-416F-AF2F-EB2FAE9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0E3-22B8-44F8-A6E9-D4526ADC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0D3E-905E-425A-916F-DB24879C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B32-1A90-4647-894A-69D2EE0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20A-D1F3-4272-A4EF-FDC158F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A0D-DB07-4E6D-8F37-4B13E28D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7F1-7BFD-4B8C-9D30-A32E6C62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F01-B870-4E6E-85EC-9F30EEEB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EB7-78B2-4EEB-B418-5B7DD99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E43-1B24-4084-879B-BB554DB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E10-422F-41D9-ADC9-417FFF4E14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4948-AD46-4051-807E-295E0AEAE3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5003640" y="3933720"/>
            <a:ext cx="3600720" cy="1871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собенности разных календаре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778920" y="60213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ра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48360" y="4005360"/>
            <a:ext cx="338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Станисл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8 г.о.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диницы длинного счета  (календарь майя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91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кин – 1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уинал = 2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ун = 18 уиналов = 36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тун = 20 тунов = 72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ктун = 20 катунов = 144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иктун = 20 бактунов = 288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лабтун = 20 пиктунов = 576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инчилбтун = 20 калабтунов = 11520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лаутун = 20 кинчилбтунов = 230400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, тун и катун от 0 до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инал от 0 до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ун от 1 до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148360" y="162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19.19.17.19, 3 Кавак, 2 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0 или 22 декабря 2012 года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ний день текущего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.0.0.0.0, 4 Ахау, 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1 или 23 декабря 2012 года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ало новой Э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971640" y="1484280"/>
            <a:ext cx="7704000" cy="475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ламкий календарь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63943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харрам — араб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حـر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ар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صفـ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ль-авва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أو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-саании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آخ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ـثان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умаада ль-ууля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أو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умада ль-аахыр или джумаада с-саании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آخ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ـثان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жаб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جـب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абан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عـب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мадан (тюрк. рамазаан)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مض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вваль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و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ль-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و الـقـعـد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ль-хиджжа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و الحج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630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 в Древнем Риме и Юлианском календа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99840"/>
            <a:ext cx="38019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nt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ница дат юлианского и григорианского календар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1600200"/>
          <a:ext cx="7772400" cy="4853160"/>
        </p:xfrm>
        <a:graphic>
          <a:graphicData uri="http://schemas.openxmlformats.org/drawingml/2006/table">
            <a:tbl>
              <a:tblPr/>
              <a:tblGrid>
                <a:gridCol w="1641600"/>
                <a:gridCol w="1152360"/>
                <a:gridCol w="497844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(по Григорианскому календар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3.1300-08.03.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03.1400-09.03.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.1500-10.03.1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3.1700-11.03.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3.1800-12.03.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3.1900-13.03.2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3.2100-14.03.2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ранский календарь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1125360"/>
          <a:ext cx="7772400" cy="5543640"/>
        </p:xfrm>
        <a:graphic>
          <a:graphicData uri="http://schemas.openxmlformats.org/drawingml/2006/table">
            <a:tbl>
              <a:tblPr/>
              <a:tblGrid>
                <a:gridCol w="633240"/>
                <a:gridCol w="1656000"/>
                <a:gridCol w="2016000"/>
                <a:gridCol w="346716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игорианском календ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вар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марта-20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ибехе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апреля-21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д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мая-21ию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июня-22ию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июля-22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ри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августа-22сен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сентября-22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октября-21но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ноября-21дека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декабря-20янва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х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января-19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/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ф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февраля-20ма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лендарь май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алендаря майя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2.18.16.2.6, 3 Кими, 4 Со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2.18.16.2.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ата длинного сч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ольк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Со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аа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звания дней Цольки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981000"/>
          <a:ext cx="7772400" cy="5411880"/>
        </p:xfrm>
        <a:graphic>
          <a:graphicData uri="http://schemas.openxmlformats.org/drawingml/2006/table">
            <a:tbl>
              <a:tblPr/>
              <a:tblGrid>
                <a:gridCol w="633600"/>
                <a:gridCol w="3095640"/>
                <a:gridCol w="40431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дня (Солнечная печ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Дра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Ве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б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С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к-Ч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Зм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Соединитель Ми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Р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ая Звез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 Лу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 Со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я дней Цолькини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1600200"/>
          <a:ext cx="7772400" cy="4708440"/>
        </p:xfrm>
        <a:graphic>
          <a:graphicData uri="http://schemas.openxmlformats.org/drawingml/2006/table">
            <a:tbl>
              <a:tblPr/>
              <a:tblGrid>
                <a:gridCol w="633240"/>
                <a:gridCol w="2880000"/>
                <a:gridCol w="42591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дня (Солнечная печ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э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Обезья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Небесный Ст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Волшеб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 Ор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 Во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 Зем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цна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е Зерк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Бу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ха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чет дней (календарь майя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Имиш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Ик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Акбаль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Кан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Чик-Чан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Кими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Маник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– Ламат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– Мулук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Ок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Чуэн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– Эб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 – Бен (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Хиш (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Мен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Киб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Кабан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Эцнаб 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Кавак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Ахау (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– Имиш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– Ик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Акбаль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Кан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– Чик-Чан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 – Кими (6)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6:49:01Z</dcterms:created>
  <dc:creator>Ольга</dc:creator>
  <dc:description/>
  <dc:language>en-US</dc:language>
  <cp:lastModifiedBy>Дом</cp:lastModifiedBy>
  <dcterms:modified xsi:type="dcterms:W3CDTF">2013-11-15T18:19:10Z</dcterms:modified>
  <cp:revision>9</cp:revision>
  <dc:subject/>
  <dc:title>Особенности разных календарей</dc:title>
</cp:coreProperties>
</file>