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014C-289D-4504-A6F9-383D951D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5904-1EF0-4C61-B033-A57C21CC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074-DF98-4138-B116-540F6E4A6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DDFB-9B82-43E7-BE3D-FFA5DBC20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B5C21-E9D9-4A62-B18C-BB7F1C2F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5B12-9145-42AB-9411-D6F98C37F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F9C4-486F-4DC2-801E-F65DB96A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811B-7D2E-4CF8-8A1F-8DB210169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8A8A-1DC2-49DD-933F-5ECC24615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F2C6-5B74-49A9-852A-A5CAB7FC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3F89-BDB9-4FA9-8C2B-4A8E7CBFA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D24-76A8-415F-B566-DDE5836B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2FA5-3106-4789-A4A2-F434644F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CB4C-6BF0-441B-AA44-B5BAFFAA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7074-E8C1-455E-BF40-5B768135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C1CD-57B9-4F02-987F-CEED4FE46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63B53-D0B4-4CC2-BB12-59BDE04F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E255-4A50-43F1-9330-429323E88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8580-6549-49E7-BCFF-5DB34C63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1283-7935-46E9-9CE6-C29D7EB4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707-E68A-4965-8201-D49CD154A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D657-86B1-43B6-A056-FE5491186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2DF-A80B-4A67-99CA-B279062F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BDF7-5579-4676-B1E2-786D472F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AA4E-3924-400E-85CE-FE58DF3492B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F7F3-135F-4188-8F5A-76EF78135B1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AutoShape 5"/>
          <p:cNvSpPr/>
          <p:nvPr/>
        </p:nvSpPr>
        <p:spPr>
          <a:xfrm>
            <a:off x="5003640" y="3933720"/>
            <a:ext cx="3600720" cy="1871640"/>
          </a:xfrm>
          <a:prstGeom prst="foldedCorner">
            <a:avLst>
              <a:gd name="adj" fmla="val 125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0033"/>
                </a:solidFill>
                <a:latin typeface="Times New Roman"/>
              </a:rPr>
              <a:t>Особенности разных календарей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778920" y="602136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ара, 20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48360" y="4005360"/>
            <a:ext cx="3384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полн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кина Станислав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ица 2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 8 г.о.Сам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Единицы длинного счета  (календарь майя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91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кин – 1 д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уинал = 2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тун = 18 уиналов = 36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катун = 20 тунов = 720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бактун = 20 катунов = 14400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пиктун = 20 бактунов = 288000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калабтун = 20 пиктунов = 5760000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кинчилбтун = 20 калабтунов = 115200000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алаутун = 20 кинчилбтунов = 23040000000 д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ин, тун и катун от 0 до 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инал от 0 до 1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актун от 1 до 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5148360" y="1628640"/>
            <a:ext cx="309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2.19.19.17.19, 3 Кавак, 2 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`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н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`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20 или 22 декабря 2012 года)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следний день текущего цик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13.0.0.0.0, 4 Ахау, 3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`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ан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`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(21 или 23 декабря 2012 года)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чало новой Э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"/>
          <p:cNvSpPr/>
          <p:nvPr/>
        </p:nvSpPr>
        <p:spPr>
          <a:xfrm>
            <a:off x="971640" y="1484280"/>
            <a:ext cx="7704000" cy="47530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сламкий календарь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звание месяцев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83920"/>
            <a:ext cx="63943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харрам — араб.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حـرّ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фар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صفـ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`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ль-авва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ربـيع الأو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и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`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у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-саании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ربـيع الآخ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ربـيع الـثاني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жумаада ль-ууля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جمادى الأو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жумада ль-аахыр или джумаада с-саании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جمادى الآخ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جمادى الـثاني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джаб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رجـب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абан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شعـبا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мадан (тюрк. рамазаан)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رمضا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ن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вваль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شوّ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ا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уль-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`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ذو الـقـعـدة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уль-хиджжа — 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ذو الحجة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6304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звание месяцев в Древнем Риме и Юлианском календаре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040" y="1599840"/>
            <a:ext cx="3801960" cy="41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i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u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u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intili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xt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0480" indent="-42048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t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rili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u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u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l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gus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t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to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mber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nua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i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Разница дат юлианского и григорианского календарей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1600200"/>
          <a:ext cx="7772400" cy="4853160"/>
        </p:xfrm>
        <a:graphic>
          <a:graphicData uri="http://schemas.openxmlformats.org/drawingml/2006/table">
            <a:tbl>
              <a:tblPr/>
              <a:tblGrid>
                <a:gridCol w="1641600"/>
                <a:gridCol w="1152360"/>
                <a:gridCol w="4978440"/>
              </a:tblGrid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иод (по Григорианскому календарю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I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.03.1300-08.03.1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.03.1400-09.03.15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I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3.1500-10.03.1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VI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3.1700-11.03.1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3.1800-12.03.1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3.1900-13.03.2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X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3.2100-14.03.2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ранский календарь</a:t>
            </a: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звание месяце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14400" y="1125360"/>
          <a:ext cx="7772400" cy="5543640"/>
        </p:xfrm>
        <a:graphic>
          <a:graphicData uri="http://schemas.openxmlformats.org/drawingml/2006/table">
            <a:tbl>
              <a:tblPr/>
              <a:tblGrid>
                <a:gridCol w="633240"/>
                <a:gridCol w="1656000"/>
                <a:gridCol w="2016000"/>
                <a:gridCol w="346716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дн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ое 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ригорианском календа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рвард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марта-20апр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дибехеш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апреля-21м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д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мая-21ию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июня-22ию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да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июля-22авгус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ахрив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августа-22сентя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х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сентября-22октя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б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октября-21ноя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за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ноября-21декаб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декабря-20янва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ахм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января-19февра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/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сфан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февраля-20ма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алендарь май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112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та календаря майя: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12.18.16.2.6, 3 Кими, 4 Соц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12.18.16.2.6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дата длинного сче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 Ки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цольки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4 Со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хаа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Названия дней Цолькини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900000" y="981000"/>
          <a:ext cx="7772400" cy="5411880"/>
        </p:xfrm>
        <a:graphic>
          <a:graphicData uri="http://schemas.openxmlformats.org/drawingml/2006/table">
            <a:tbl>
              <a:tblPr/>
              <a:tblGrid>
                <a:gridCol w="633600"/>
                <a:gridCol w="3095640"/>
                <a:gridCol w="404316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д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 дня (Солнечная печат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и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 Драко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 Вет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ба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яя Ноч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ое С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к-Ч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 Зм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 Соединитель Мир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яя Ру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м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ая Звез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лу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ая Лу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ая Соба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Названия дней Цолькини (продолжение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14400" y="1600200"/>
          <a:ext cx="7772400" cy="4708440"/>
        </p:xfrm>
        <a:graphic>
          <a:graphicData uri="http://schemas.openxmlformats.org/drawingml/2006/table">
            <a:tbl>
              <a:tblPr/>
              <a:tblGrid>
                <a:gridCol w="633240"/>
                <a:gridCol w="2880000"/>
                <a:gridCol w="425916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вание дн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мвол дня (Солнечная печат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уэ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яя Обезья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ый Челове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 Небесный Ст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ый Волшеб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й Оре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и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ый Во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ба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ая Зем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цна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лое Зерка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ва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яя Бур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ха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ое Солнц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чет дней (календарь майя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– Имиш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– Ик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– Акбаль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– Кан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– Чик-Чан 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– Кими (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– Маник (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– Ламат 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 – Мулук (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– Ок 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 – Чуэн (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 – Эб (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 – Бен (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 – Хиш (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 – Мен (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 – Киб (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 – Кабан (1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 – Эцнаб (1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 – Кавак (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 – Ахау (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 – Имиш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 – Ик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 – Акбаль 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 – Кан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 – Чик-Чан 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 – Кими (6)  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3T16:49:01Z</dcterms:created>
  <dc:creator>Ольга</dc:creator>
  <dc:description/>
  <dc:language>en-US</dc:language>
  <cp:lastModifiedBy>Дом</cp:lastModifiedBy>
  <dcterms:modified xsi:type="dcterms:W3CDTF">2013-11-15T18:19:10Z</dcterms:modified>
  <cp:revision>9</cp:revision>
  <dc:subject/>
  <dc:title>Особенности разных календарей</dc:title>
</cp:coreProperties>
</file>