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9D7-9B8B-4BB0-82F4-3EE07EB5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BC2-CE6D-4C02-9C2C-E4EC6B9D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49C-CAD7-4B60-BEF7-46FBF6BD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9BF-82A2-40D6-B8E9-4024E665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A069-83DB-4E4E-A7F0-47F5A8C6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7CAE-267E-4274-A869-94E28A49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AB33-EC9C-4007-8D14-BB71129C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EE2A-5814-4395-8149-05361522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34A3-054D-4000-BE96-ED518423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CFAF-F6C7-4EDA-961A-DE87CB05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BA88-CB10-4052-BF45-526EEA6A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1E6-93A7-4134-8DAF-9ACA3E4A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A1C2-ED9D-47DF-AB93-25265D92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7748-C9E5-401E-807F-03D3BCB7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67A4-A45C-49B6-B5F3-EC01CF3E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62C6-90F4-4360-8B29-8211C5E2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A3DE-7DC2-49AD-8227-211B377F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C34-8BDF-4800-9B75-9A3ABC4A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C96-7B71-47A5-AC00-B0F1414E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1B2-3810-4C3A-8236-BA97D328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275-210B-4AE2-AF95-F41AFEDD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C80-AF71-4BD9-A2F6-99FFDD5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B95-1C4D-436C-BD21-2145D1F3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029-56A6-4A5B-ACFF-A9612433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D6A5-A5BD-4DE9-86AC-CC1468D8AA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E59F-5AE2-4C7A-AB12-77AB1C9247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5"/>
          <p:cNvSpPr/>
          <p:nvPr/>
        </p:nvSpPr>
        <p:spPr>
          <a:xfrm>
            <a:off x="5003640" y="3933720"/>
            <a:ext cx="3600720" cy="1871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собенности разных календарей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778920" y="60213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ра,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48360" y="4005360"/>
            <a:ext cx="338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ина Станисл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 8 г.о.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Единицы длинного счета  (календарь майя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91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кин – 1 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уинал = 2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ун = 18 уиналов = 36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атун = 20 тунов = 72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бактун = 20 катунов = 144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иктун = 20 бактунов = 2880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алабтун = 20 пиктунов = 57600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инчилбтун = 20 калабтунов = 1152000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алаутун = 20 кинчилбтунов = 23040000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, тун и катун от 0 до 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инал от 0 до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ун от 1 до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148360" y="1628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19.19.17.19, 3 Кавак, 2 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20 или 22 декабря 2012 года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ледний день текущего ци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.0.0.0.0, 4 Ахау, 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21 или 23 декабря 2012 года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чало новой Э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971640" y="1484280"/>
            <a:ext cx="7704000" cy="475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ламкий календарь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вание месяце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63943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харрам — араб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حـر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фар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صفـ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ль-авва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بـيع الأو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-саании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بـيع الآخ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بـيع الـثاني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умаада ль-ууля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جمادى الأو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умада ль-аахыр или джумаада с-саании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جمادى الآخ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جمادى الـثاني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жаб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جـب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абан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شعـب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мадан (тюрк. рамазаан)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مض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вваль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شو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ль-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و الـقـعـدة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ль-хиджжа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و الحجة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6304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вание месяцев в Древнем Риме и Юлианском календар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1599840"/>
            <a:ext cx="380196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ntil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xt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зница дат юлианского и григорианского календаре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1600200"/>
          <a:ext cx="7772400" cy="4853160"/>
        </p:xfrm>
        <a:graphic>
          <a:graphicData uri="http://schemas.openxmlformats.org/drawingml/2006/table">
            <a:tbl>
              <a:tblPr/>
              <a:tblGrid>
                <a:gridCol w="1641600"/>
                <a:gridCol w="1152360"/>
                <a:gridCol w="497844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(по Григорианскому календар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.03.1300-08.03.1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03.1400-09.03.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3.1500-10.03.1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3.1700-11.03.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3.1800-12.03.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3.1900-13.03.2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3.2100-14.03.2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ранский календарь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вание месяце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1125360"/>
          <a:ext cx="7772400" cy="5543640"/>
        </p:xfrm>
        <a:graphic>
          <a:graphicData uri="http://schemas.openxmlformats.org/drawingml/2006/table">
            <a:tbl>
              <a:tblPr/>
              <a:tblGrid>
                <a:gridCol w="633240"/>
                <a:gridCol w="1656000"/>
                <a:gridCol w="2016000"/>
                <a:gridCol w="346716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ое 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игорианском календа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вард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марта-20апр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дибехе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апреля-21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д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мая-21ию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июня-22ию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д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июля-22авг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хрив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августа-22сен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сентября-22ок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октября-21но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ноября-21дека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декабря-20янва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х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января-19февра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/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ф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февраля-20ма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алендарь май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11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календаря майя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2.18.16.2.6, 3 Кими, 4 Со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2.18.16.2.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дата длинного сч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 Ки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цольк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 Со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аа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звания дней Цолькин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981000"/>
          <a:ext cx="7772400" cy="5411880"/>
        </p:xfrm>
        <a:graphic>
          <a:graphicData uri="http://schemas.openxmlformats.org/drawingml/2006/table">
            <a:tbl>
              <a:tblPr/>
              <a:tblGrid>
                <a:gridCol w="633600"/>
                <a:gridCol w="3095640"/>
                <a:gridCol w="404316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дня (Солнечная печа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и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 Дра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Ве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б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 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ое С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к-Ч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 Зм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Соединитель Ми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 Р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ая Звез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ая Лу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 Соба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вания дней Цолькини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1600200"/>
          <a:ext cx="7772400" cy="4708440"/>
        </p:xfrm>
        <a:graphic>
          <a:graphicData uri="http://schemas.openxmlformats.org/drawingml/2006/table">
            <a:tbl>
              <a:tblPr/>
              <a:tblGrid>
                <a:gridCol w="633240"/>
                <a:gridCol w="2880000"/>
                <a:gridCol w="42591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дня (Солнечная печа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э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 Обезья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ый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 Небесный Ст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Волшеб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 Ор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ый Во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ая Зем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цна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ое Зерк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в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 Бу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ха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ое Солн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чет дней (календарь майя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Имиш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– Ик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– Акбаль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– Кан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Чик-Чан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– Кими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– Маник (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– Ламат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– Мулук 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– Ок 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– Чуэн 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– Эб 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 – Бен (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Хиш (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– Мен 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– Киб (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– Кабан 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Эцнаб (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– Кавак (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– Ахау (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– Имиш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– Ик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– Акбаль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– Кан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– Чик-Чан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 – Кими (6)  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6:49:01Z</dcterms:created>
  <dc:creator>Ольга</dc:creator>
  <dc:description/>
  <dc:language>en-US</dc:language>
  <cp:lastModifiedBy>Дом</cp:lastModifiedBy>
  <dcterms:modified xsi:type="dcterms:W3CDTF">2013-11-15T18:19:10Z</dcterms:modified>
  <cp:revision>9</cp:revision>
  <dc:subject/>
  <dc:title>Особенности разных календарей</dc:title>
</cp:coreProperties>
</file>