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chimes.wav" ContentType="audio/x-wav"/>
  <Override PartName="/ppt/media/image16.png" ContentType="image/png"/>
  <Override PartName="/ppt/media/image6.gif" ContentType="image/gif"/>
  <Override PartName="/ppt/media/image17.wmf" ContentType="image/x-wmf"/>
  <Override PartName="/ppt/media/image12.jpeg" ContentType="image/jpeg"/>
  <Override PartName="/ppt/media/image5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6.gif" ContentType="image/gif"/>
  <Override PartName="/ppt/media/image15.jpeg" ContentType="image/jpeg"/>
  <Override PartName="/ppt/media/image23.gif" ContentType="image/gif"/>
  <Override PartName="/ppt/media/image21.jpeg" ContentType="image/jpeg"/>
  <Override PartName="/ppt/media/image19.gif" ContentType="image/gif"/>
  <Override PartName="/ppt/media/image18.wmf" ContentType="image/x-wmf"/>
  <Override PartName="/ppt/media/image24.jpeg" ContentType="image/jpeg"/>
  <Override PartName="/ppt/media/image3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A53-88AC-41F0-9C12-C8276823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C8D-D6C8-43E7-85BB-3FF4175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999-D991-40AC-B58A-48E8608F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9A7-3C5F-4BAB-ACB9-31A17F9B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425-305B-4E1C-87BA-53E67F9C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2A7-FCB2-44DF-A066-19F691D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B34-938D-4664-80A4-B4FF2BA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3C3-FD06-49DC-81AA-76F1439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E53-AAE8-4C6C-8ACB-7D669756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417-B651-4179-8A51-EA4DDA2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5F2-7E19-4531-AFAB-6E34B7F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BF9-0930-4F78-9237-00B0E6B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086-0D43-46AD-8C21-5891353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ACA4-C87D-4C41-AF2A-44D48C7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86B7-6F55-4874-990A-59588A2A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78B6-0750-49E2-80FE-42FA83F4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1AF9-B4B1-47A1-914C-2D400085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CAC-C239-4A01-9EB6-5F847FD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BEA-9FE2-498E-9054-E9DAF2A9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337-5C97-4C76-B6C1-7FF8CE0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9D2-2731-44BB-983C-E3C36682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635-EE11-43DD-914E-AC0E4B4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49F-A201-499B-8D46-4019052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B78-5E55-459A-8368-A6E029F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70AB-BF4E-4FF0-9A83-A2DCD8DAF76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006-857D-4FB3-BA78-0ADD1E15E27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rc-mir.com/smile.111316.html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596520"/>
            <a:ext cx="6819840" cy="32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66"/>
                </a:solidFill>
                <a:latin typeface="Verdana"/>
              </a:rPr>
              <a:t>ОКРУЖАЮЩИЙ МИР</a:t>
            </a:r>
            <a:br>
              <a:rPr sz="5200"/>
            </a:br>
            <a:r>
              <a:rPr b="1" lang="ru-RU" sz="5200" spc="-1" strike="noStrike">
                <a:solidFill>
                  <a:srgbClr val="00ffff"/>
                </a:solidFill>
                <a:latin typeface="Verdana"/>
              </a:rPr>
              <a:t>1 класс</a:t>
            </a:r>
            <a:br>
              <a:rPr sz="5200"/>
            </a:br>
            <a:r>
              <a:rPr b="1" lang="ru-RU" sz="5200" spc="-1" strike="noStrike">
                <a:solidFill>
                  <a:srgbClr val="00ffff"/>
                </a:solidFill>
                <a:latin typeface="Verdana"/>
              </a:rPr>
              <a:t>Школа Росси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360" y="464796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Дудникова Татьяна Геннадиев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БОУ СОШ № 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т. Марьинск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2012-2013 уч.го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_ЭМБЛЕМА"/>
          <p:cNvPicPr/>
          <p:nvPr/>
        </p:nvPicPr>
        <p:blipFill>
          <a:blip r:embed="rId1"/>
          <a:stretch/>
        </p:blipFill>
        <p:spPr>
          <a:xfrm>
            <a:off x="152280" y="2895480"/>
            <a:ext cx="261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оверь себя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9480" y="2286000"/>
            <a:ext cx="3124440" cy="42894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deb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ул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идень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еп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агажни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343400" y="2209680"/>
            <a:ext cx="3657600" cy="4412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переднее колес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ши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рам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педал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спиц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Об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Части велосипед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bicycle 10"/>
          <p:cNvPicPr/>
          <p:nvPr/>
        </p:nvPicPr>
        <p:blipFill>
          <a:blip r:embed="rId1"/>
          <a:stretch/>
        </p:blipFill>
        <p:spPr>
          <a:xfrm>
            <a:off x="6400800" y="457200"/>
            <a:ext cx="25909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TRNGR007"/>
          <p:cNvPicPr/>
          <p:nvPr/>
        </p:nvPicPr>
        <p:blipFill>
          <a:blip r:embed="rId1"/>
          <a:stretch/>
        </p:blipFill>
        <p:spPr>
          <a:xfrm>
            <a:off x="3657600" y="2057400"/>
            <a:ext cx="3286080" cy="36162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152280" y="380880"/>
            <a:ext cx="4500720" cy="1805040"/>
          </a:xfrm>
          <a:prstGeom prst="cloudCallout">
            <a:avLst>
              <a:gd name="adj1" fmla="val 7074"/>
              <a:gd name="adj2" fmla="val 90986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5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flowers32"/>
          <p:cNvPicPr/>
          <p:nvPr/>
        </p:nvPicPr>
        <p:blipFill>
          <a:blip r:embed="rId3"/>
          <a:stretch/>
        </p:blipFill>
        <p:spPr>
          <a:xfrm>
            <a:off x="1066680" y="4267080"/>
            <a:ext cx="1984320" cy="2057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butterfly1-10"/>
          <p:cNvPicPr/>
          <p:nvPr/>
        </p:nvPicPr>
        <p:blipFill>
          <a:blip r:embed="rId4"/>
          <a:stretch/>
        </p:blipFill>
        <p:spPr>
          <a:xfrm>
            <a:off x="6705720" y="4800600"/>
            <a:ext cx="1577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848720" cy="4419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762120" y="1447920"/>
            <a:ext cx="1143000" cy="1371600"/>
          </a:xfrm>
          <a:prstGeom prst="wedgeEllipseCallout">
            <a:avLst>
              <a:gd name="adj1" fmla="val 228611"/>
              <a:gd name="adj2" fmla="val 88541"/>
            </a:avLst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Ур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Я, еду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7391520" y="0"/>
            <a:ext cx="1600200" cy="1143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5714640" y="533520"/>
            <a:ext cx="167652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5866920" y="838080"/>
            <a:ext cx="160020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6248520" y="990720"/>
            <a:ext cx="137160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 flipH="1">
            <a:off x="7010280" y="1066680"/>
            <a:ext cx="91440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7924680" y="1143000"/>
            <a:ext cx="22860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 flipV="1">
            <a:off x="8305560" y="1066680"/>
            <a:ext cx="53316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 flipV="1">
            <a:off x="5866920" y="152280"/>
            <a:ext cx="160020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 flipH="1" flipV="1">
            <a:off x="8686800" y="1066680"/>
            <a:ext cx="45720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        </a:t>
            </a: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Разрешается с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Picture 4" descr="bicycle 10"/>
          <p:cNvPicPr/>
          <p:nvPr/>
        </p:nvPicPr>
        <p:blipFill>
          <a:blip r:embed="rId1"/>
          <a:stretch/>
        </p:blipFill>
        <p:spPr>
          <a:xfrm>
            <a:off x="990720" y="2819520"/>
            <a:ext cx="5562360" cy="36478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6"/>
          <p:cNvSpPr txBox="1"/>
          <p:nvPr/>
        </p:nvSpPr>
        <p:spPr>
          <a:xfrm rot="5400000">
            <a:off x="4414320" y="3128760"/>
            <a:ext cx="5943600" cy="904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4 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232" name="Picture 9" descr="http://s5.rimg.info/cda16701140fcae6766d3fd57c0a3200.gif"/>
          <p:cNvPicPr/>
          <p:nvPr/>
        </p:nvPicPr>
        <p:blipFill>
          <a:blip r:embed="rId2"/>
          <a:stretch/>
        </p:blipFill>
        <p:spPr>
          <a:xfrm>
            <a:off x="7620120" y="5486400"/>
            <a:ext cx="1350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505320" y="274320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7ff"/>
                </a:solidFill>
                <a:latin typeface="Arial"/>
                <a:ea typeface="Arial"/>
              </a:rPr>
              <a:t>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мый строгий –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свет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Если он горит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топ! Дороги дальш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ет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уть для всех закрыт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Picture 3" descr="4"/>
          <p:cNvPicPr/>
          <p:nvPr/>
        </p:nvPicPr>
        <p:blipFill>
          <a:blip r:embed="rId1"/>
          <a:stretch/>
        </p:blipFill>
        <p:spPr>
          <a:xfrm>
            <a:off x="228600" y="1295280"/>
            <a:ext cx="4157640" cy="5153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tran92"/>
          <p:cNvPicPr/>
          <p:nvPr/>
        </p:nvPicPr>
        <p:blipFill>
          <a:blip r:embed="rId2"/>
          <a:stretch/>
        </p:blipFill>
        <p:spPr>
          <a:xfrm>
            <a:off x="8305920" y="304920"/>
            <a:ext cx="64584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8"/>
          <p:cNvPicPr/>
          <p:nvPr/>
        </p:nvPicPr>
        <p:blipFill>
          <a:blip r:embed="rId1"/>
          <a:stretch/>
        </p:blipFill>
        <p:spPr>
          <a:xfrm>
            <a:off x="5410080" y="152280"/>
            <a:ext cx="2949840" cy="3657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762120" y="6858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Велосипед на синем диске –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атайтесь, велосипедисты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8" name="Picture 6" descr="7"/>
          <p:cNvPicPr/>
          <p:nvPr/>
        </p:nvPicPr>
        <p:blipFill>
          <a:blip r:embed="rId2"/>
          <a:stretch/>
        </p:blipFill>
        <p:spPr>
          <a:xfrm>
            <a:off x="287280" y="3124080"/>
            <a:ext cx="2827440" cy="3505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3276720" y="457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расны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руг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в нём машин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актор иль велосипед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ь прицеп к машин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линный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м проезда вовсе нет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Verdana"/>
              </a:rPr>
              <a:t>Что узнали на уроке 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какого возраста можно кататься на велосипед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де можно ездить на велосипед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правила дорожного движения вы, знае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Picture 4" descr="j0199044"/>
          <p:cNvPicPr/>
          <p:nvPr/>
        </p:nvPicPr>
        <p:blipFill>
          <a:blip r:embed="rId1"/>
          <a:stretch/>
        </p:blipFill>
        <p:spPr>
          <a:xfrm>
            <a:off x="380880" y="510552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http://s5.rimg.info/cda16701140fcae6766d3fd57c0a3200.gif"/>
          <p:cNvPicPr/>
          <p:nvPr/>
        </p:nvPicPr>
        <p:blipFill>
          <a:blip r:embed="rId2"/>
          <a:stretch/>
        </p:blipFill>
        <p:spPr>
          <a:xfrm>
            <a:off x="7391520" y="5380200"/>
            <a:ext cx="1427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edc8a779e750cdc86c366c5d368c74d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828800"/>
            <a:ext cx="3102120" cy="3505320"/>
          </a:xfrm>
          <a:prstGeom prst="rect">
            <a:avLst/>
          </a:prstGeom>
          <a:ln w="0">
            <a:noFill/>
          </a:ln>
        </p:spPr>
      </p:pic>
      <p:sp>
        <p:nvSpPr>
          <p:cNvPr id="245" name="WordArt 5"/>
          <p:cNvSpPr txBox="1"/>
          <p:nvPr/>
        </p:nvSpPr>
        <p:spPr>
          <a:xfrm>
            <a:off x="1752480" y="1066680"/>
            <a:ext cx="579132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85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"/>
              </a:rPr>
              <a:t>Молодцы,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828800" y="4952880"/>
            <a:ext cx="594360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ребята !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67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Куда нельзя пойти в спортивном костюме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а спортивную площадк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а праздн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а урок физкульт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а день рожд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а работ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в теат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4" descr="00046701"/>
          <p:cNvPicPr/>
          <p:nvPr/>
        </p:nvPicPr>
        <p:blipFill>
          <a:blip r:embed="rId1"/>
          <a:stretch/>
        </p:blipFill>
        <p:spPr>
          <a:xfrm>
            <a:off x="7035840" y="3809880"/>
            <a:ext cx="187488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00046469"/>
          <p:cNvPicPr/>
          <p:nvPr/>
        </p:nvPicPr>
        <p:blipFill>
          <a:blip r:embed="rId2"/>
          <a:stretch/>
        </p:blipFill>
        <p:spPr>
          <a:xfrm>
            <a:off x="4724280" y="5181480"/>
            <a:ext cx="2133720" cy="14223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>
            <a:off x="2057400" y="2590920"/>
            <a:ext cx="1066680" cy="457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1828800" y="4267080"/>
            <a:ext cx="1066680" cy="457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2133720" y="3657600"/>
            <a:ext cx="1143000" cy="5335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1523880" y="4876920"/>
            <a:ext cx="114300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533520" y="19810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33520" y="312408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2.22222E-006 4.44444E-006 C 0.09184 4.44444E-006 0.16666 0.05463 0.16666 0.12222 C 0.16666 0.18958 0.09184 0.24444 2.22222E-006 0.24444 C -0.09202 0.24444 -0.16667 0.18958 -0.16667 0.12222 C -0.16667 0.05463 -0.09202 4.44444E-006 2.22222E-006 4.44444E-006 Z"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40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Что относится к деловой форме  одежды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47560"/>
            <a:ext cx="4038480" cy="243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жин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толстов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кроссов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футбол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брю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7960" y="1447560"/>
            <a:ext cx="4267080" cy="2361960"/>
          </a:xfrm>
          <a:prstGeom prst="rect">
            <a:avLst/>
          </a:prstGeom>
          <a:solidFill>
            <a:srgbClr val="ccff66"/>
          </a:solidFill>
          <a:ln w="57240">
            <a:solidFill>
              <a:srgbClr val="33cc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спортивный костю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май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туф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шор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Рубаш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4114440"/>
            <a:ext cx="4038480" cy="2514600"/>
          </a:xfrm>
          <a:prstGeom prst="rect">
            <a:avLst/>
          </a:prstGeom>
          <a:solidFill>
            <a:srgbClr val="ccccff"/>
          </a:solidFill>
          <a:ln w="38160">
            <a:solidFill>
              <a:srgbClr val="9933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брю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кроссов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джемпе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курт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тров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724280" y="4114440"/>
            <a:ext cx="4114800" cy="2514600"/>
          </a:xfrm>
          <a:prstGeom prst="rect">
            <a:avLst/>
          </a:prstGeom>
          <a:solidFill>
            <a:srgbClr val="99ffcc"/>
          </a:solidFill>
          <a:ln w="5724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жилет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брю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иджа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убаш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галсту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" dur="25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4" dur="25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00"/>
                            </p:stCondLst>
                            <p:childTnLst>
                              <p:par>
                                <p:cTn id="6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250" autoRev="1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750"/>
                            </p:stCondLst>
                            <p:childTnLst>
                              <p:par>
                                <p:cTn id="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50"/>
                            </p:stCondLst>
                            <p:childTnLst>
                              <p:par>
                                <p:cTn id="8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За</a:t>
            </a:r>
            <a:r>
              <a:rPr b="1" lang="ru-RU" sz="5400" spc="-1" strike="noStrike">
                <a:solidFill>
                  <a:srgbClr val="006699"/>
                </a:solidFill>
                <a:latin typeface="Comic Sans MS"/>
              </a:rPr>
              <a:t>га</a:t>
            </a: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дк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Этот конь не ест овс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место ног – два колес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ядь верхом и мчись на нём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олько лучше правь  рулё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 </a:t>
            </a: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(Велосипед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j0199044"/>
          <p:cNvPicPr/>
          <p:nvPr/>
        </p:nvPicPr>
        <p:blipFill>
          <a:blip r:embed="rId1"/>
          <a:stretch/>
        </p:blipFill>
        <p:spPr>
          <a:xfrm>
            <a:off x="1447920" y="4952880"/>
            <a:ext cx="25146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j0199044"/>
          <p:cNvPicPr/>
          <p:nvPr/>
        </p:nvPicPr>
        <p:blipFill>
          <a:blip r:embed="rId1"/>
          <a:stretch/>
        </p:blipFill>
        <p:spPr>
          <a:xfrm>
            <a:off x="7086600" y="685800"/>
            <a:ext cx="1905120" cy="1290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66"/>
                </a:solidFill>
                <a:uFillTx/>
                <a:latin typeface="Verdana"/>
              </a:rPr>
              <a:t>Тема урока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8600" y="23619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Verdana"/>
              </a:rPr>
              <a:t>Цель урок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1.  Уточнить знания учащихся  о велосипеде, обобщить знания об устройстве велосипед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2.  Развивать  интерес к предмету;  познавательной активности; расширить кругозор учащихся, пополнить словарный запас; развивать память, мышлени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3. Знать и соблюдать правила дорожного движения при езде на велосипеде, воспитание  здорового образа жизни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WordArt 11"/>
          <p:cNvSpPr txBox="1"/>
          <p:nvPr/>
        </p:nvSpPr>
        <p:spPr>
          <a:xfrm>
            <a:off x="228600" y="990720"/>
            <a:ext cx="6705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изобрели велосипед?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3059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Первые упоминания о велосипеде появились по разным данным в конце 15 - начале 16 веков. Есть основания полагать, что первый эскиз велосипеда был нарисован гениальным итальянским художником, учёным, </a:t>
            </a:r>
            <a:r>
              <a:rPr b="0" lang="ru-RU" sz="3200" spc="-1" strike="noStrike" u="sng">
                <a:solidFill>
                  <a:srgbClr val="0000cc"/>
                </a:solidFill>
                <a:uFillTx/>
                <a:latin typeface="Verdana"/>
              </a:rPr>
              <a:t>изобретателем Леонардо да Винчи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в конце 15 ве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990720" y="3049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Из истории велосипед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Picture 5" descr="http://s5.rimg.info/cda16701140fcae6766d3fd57c0a3200.gif"/>
          <p:cNvPicPr/>
          <p:nvPr/>
        </p:nvPicPr>
        <p:blipFill>
          <a:blip r:embed="rId1"/>
          <a:stretch/>
        </p:blipFill>
        <p:spPr>
          <a:xfrm>
            <a:off x="7772400" y="304920"/>
            <a:ext cx="1122480" cy="896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200лет назад жил на Урале купец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cc"/>
                </a:solidFill>
                <a:uFillTx/>
                <a:latin typeface="Verdana"/>
              </a:rPr>
              <a:t>Ефим Михеевич Артамонов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. Он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придумал машину- самокат, у котор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было 2 колеса с железными ободьями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педали  и рул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Вторым изобретателем самоката бы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емец Карл Дрез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            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Verdana"/>
              </a:rPr>
              <a:t>Велосипед по-русс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Verdana"/>
              </a:rPr>
              <a:t>       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Verdana"/>
              </a:rPr>
              <a:t>обозначает « быстрые ноги».</a:t>
            </a:r>
            <a:r>
              <a:rPr b="1" i="1" lang="ru-RU" sz="32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Вложил свою лепту в развитие велостроения и наш соотечественник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Иван Петрович Кулибин, установивший в 1791 г.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на "самобеглую коляску" тормоза, педальную передачу и даже подшипник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На сегодняшний день существует более десятка различных стилей катания и для каждого из них существуют "свои" велосипеды.</a:t>
            </a:r>
            <a:br>
              <a:rPr sz="2800"/>
            </a:b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Таким образом, человечество уже боле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500 лет занимается изобретением велосипед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пытаясь создать идеальный. Будем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               </a:t>
            </a: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надеяться, что это когда-нибудь получитс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5" descr="PE00468_"/>
          <p:cNvPicPr/>
          <p:nvPr/>
        </p:nvPicPr>
        <p:blipFill>
          <a:blip r:embed="rId1"/>
          <a:stretch/>
        </p:blipFill>
        <p:spPr>
          <a:xfrm>
            <a:off x="152280" y="4648320"/>
            <a:ext cx="164808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Развитие</a:t>
            </a: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 вело</a:t>
            </a: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си</a:t>
            </a: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е</a:t>
            </a: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4" descr="Велосипед Карла Фридриха барона фон Драйса"/>
          <p:cNvPicPr/>
          <p:nvPr/>
        </p:nvPicPr>
        <p:blipFill>
          <a:blip r:embed="rId1"/>
          <a:stretch/>
        </p:blipFill>
        <p:spPr>
          <a:xfrm>
            <a:off x="457200" y="1066680"/>
            <a:ext cx="2771640" cy="1847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Велосипед Киркпатрика Мак-Миллана"/>
          <p:cNvPicPr/>
          <p:nvPr/>
        </p:nvPicPr>
        <p:blipFill>
          <a:blip r:embed="rId2"/>
          <a:stretch/>
        </p:blipFill>
        <p:spPr>
          <a:xfrm>
            <a:off x="3048120" y="1447920"/>
            <a:ext cx="3047760" cy="1625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Велосипед Пьера Мишо"/>
          <p:cNvPicPr/>
          <p:nvPr/>
        </p:nvPicPr>
        <p:blipFill>
          <a:blip r:embed="rId3"/>
          <a:stretch/>
        </p:blipFill>
        <p:spPr>
          <a:xfrm>
            <a:off x="6019920" y="20574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Велосипед типа &quot;паук&quot;"/>
          <p:cNvPicPr/>
          <p:nvPr/>
        </p:nvPicPr>
        <p:blipFill>
          <a:blip r:embed="rId4"/>
          <a:stretch/>
        </p:blipFill>
        <p:spPr>
          <a:xfrm>
            <a:off x="304920" y="3200400"/>
            <a:ext cx="2590560" cy="172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Трицикл. Трехколесный двухместный велосипед, где седоки рядом друг с другом."/>
          <p:cNvPicPr/>
          <p:nvPr/>
        </p:nvPicPr>
        <p:blipFill>
          <a:blip r:embed="rId5"/>
          <a:stretch/>
        </p:blipFill>
        <p:spPr>
          <a:xfrm>
            <a:off x="3048120" y="37339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Велосипед с эластичной подвеской обеих колес английской фирмы Whippet."/>
          <p:cNvPicPr/>
          <p:nvPr/>
        </p:nvPicPr>
        <p:blipFill>
          <a:blip r:embed="rId6"/>
          <a:stretch/>
        </p:blipFill>
        <p:spPr>
          <a:xfrm>
            <a:off x="5867280" y="40384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Велосипед Merida Scultura 907"/>
          <p:cNvPicPr/>
          <p:nvPr/>
        </p:nvPicPr>
        <p:blipFill>
          <a:blip r:embed="rId7"/>
          <a:stretch/>
        </p:blipFill>
        <p:spPr>
          <a:xfrm>
            <a:off x="609480" y="5410080"/>
            <a:ext cx="182880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Велосипед Merida TransMission Sport.jpg"/>
          <p:cNvPicPr/>
          <p:nvPr/>
        </p:nvPicPr>
        <p:blipFill>
          <a:blip r:embed="rId8"/>
          <a:stretch/>
        </p:blipFill>
        <p:spPr>
          <a:xfrm>
            <a:off x="3505320" y="5638680"/>
            <a:ext cx="1885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0T15:03:3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