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2769-98DC-409D-A7D4-59AAC806A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816F-FF82-49A1-9FD3-8BF285CB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4E3-2AFE-42E2-B6CB-02284FEA1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E024-1E02-4671-A34E-2F4DE065F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3BF7-C1E0-48CA-B441-D23C9B327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3455-68BC-4CD1-90AA-5D908750A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C598-EA7A-4288-AB3E-8C45AD5E2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32535-0ACE-4B47-A1B7-410DC4A3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F13D5-92EE-46C8-88BC-878964ED5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1E51-B7E4-4FF0-9BC4-C31B9176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A7C7-A225-4EC6-94B6-3C8C5661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BD3D-03A4-49DE-BFA9-B0F6DF80A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259B-95E3-4FAD-ADAD-38F799A4D7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allforchildren.ru/kidfun/riddles_flowers.php" TargetMode="External"/><Relationship Id="rId2" Type="http://schemas.openxmlformats.org/officeDocument/2006/relationships/hyperlink" Target="http://allforchildren.ru/kidfun/riddles_flowers.php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600" spc="-1" strike="noStrike">
                <a:solidFill>
                  <a:srgbClr val="001a4f"/>
                </a:solidFill>
                <a:latin typeface="Times New Roman"/>
                <a:ea typeface="Times New Roman"/>
              </a:rPr>
              <a:t>Загадки про цветы</a:t>
            </a:r>
            <a:br>
              <a:rPr sz="6600"/>
            </a:b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51515"/>
                </a:solidFill>
                <a:latin typeface="Calibri"/>
              </a:rPr>
              <a:t>Подготовила Лоза Т.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олну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ое солнце: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этом солнце сто оконцев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оконцев тех глядят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тни черненьких галчат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5" descr="C:\Users\Пользователь\Desktop\распечатать\post90149_img1.jpg"/>
          <p:cNvPicPr/>
          <p:nvPr/>
        </p:nvPicPr>
        <p:blipFill>
          <a:blip r:embed="rId1"/>
          <a:stretch/>
        </p:blipFill>
        <p:spPr>
          <a:xfrm>
            <a:off x="357120" y="1571760"/>
            <a:ext cx="328608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80"/>
                                        <p:tgtEl>
                                          <p:spTgt spid="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стр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я похожа на звезду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ванье так и переводится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ближе к осени цвету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попасть в букеты к школьницам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5" descr="C:\Users\Пользователь\Desktop\распечатать\49760643_1255267780_07230031.jpg"/>
          <p:cNvPicPr/>
          <p:nvPr/>
        </p:nvPicPr>
        <p:blipFill>
          <a:blip r:embed="rId1"/>
          <a:stretch/>
        </p:blipFill>
        <p:spPr>
          <a:xfrm>
            <a:off x="357120" y="1714680"/>
            <a:ext cx="35719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о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ышный куст в саду расцвел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влекая ос и пчел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сь в больших цветах махровых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х, розовых, бордовых!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5" descr="C:\Users\Пользователь\Desktop\распечатать\fec386f1a338cba220f745fdf1c5e335_original.jpg"/>
          <p:cNvPicPr/>
          <p:nvPr/>
        </p:nvPicPr>
        <p:blipFill>
          <a:blip r:embed="rId1"/>
          <a:stretch/>
        </p:blipFill>
        <p:spPr>
          <a:xfrm>
            <a:off x="428760" y="1928880"/>
            <a:ext cx="338112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гот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нас ни пальцев нет, ни рук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шь только лепестки вокруг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необычно называемся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маникюре не нуждаемся!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5" descr="C:\Users\Пользователь\Desktop\распечатать\kalendula_2_small.jpg"/>
          <p:cNvPicPr/>
          <p:nvPr/>
        </p:nvPicPr>
        <p:blipFill>
          <a:blip r:embed="rId1"/>
          <a:stretch/>
        </p:blipFill>
        <p:spPr>
          <a:xfrm>
            <a:off x="357120" y="1500120"/>
            <a:ext cx="3154320" cy="42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8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буд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 этот голуб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оминает нам с тобой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небе — чистом-чистом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олнышке лучисто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м!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C:\Users\Пользователь\Desktop\распечатать\reWalls.com-34690.jpg"/>
          <p:cNvPicPr/>
          <p:nvPr/>
        </p:nvPicPr>
        <p:blipFill>
          <a:blip r:embed="rId1"/>
          <a:stretch/>
        </p:blipFill>
        <p:spPr>
          <a:xfrm>
            <a:off x="571680" y="1785960"/>
            <a:ext cx="3000240" cy="36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2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зеленого цыпленк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лошь покрытого пушком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новлюсь я горделивым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ым петушком!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5" descr="C:\Users\Пользователь\Desktop\распечатать\30b7b773f96b216c0865e28f1273097c.jpg"/>
          <p:cNvPicPr/>
          <p:nvPr/>
        </p:nvPicPr>
        <p:blipFill>
          <a:blip r:embed="rId1"/>
          <a:stretch/>
        </p:blipFill>
        <p:spPr>
          <a:xfrm>
            <a:off x="500040" y="1428840"/>
            <a:ext cx="307188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2286000" y="3105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1"/>
              </a:rPr>
              <a:t>1.</a:t>
            </a:r>
            <a:r>
              <a:rPr b="0" lang="en-US" sz="2400" spc="-1" strike="noStrike" u="sng">
                <a:solidFill>
                  <a:srgbClr val="17bbfd"/>
                </a:solidFill>
                <a:uFillTx/>
                <a:latin typeface="Times New Roman"/>
                <a:ea typeface="Times New Roman"/>
                <a:hlinkClick r:id="rId2"/>
              </a:rPr>
              <a:t>http://allforchildren.ru/kidfun/riddles_flowers.ph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уванч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м шариком пушистым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красуюсь в поле чистом.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нул лёгкий ветерок 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остался стебелёк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5" descr="C:\Users\Пользователь\Desktop\распечатать\5_N56Kqh7h0.jpg"/>
          <p:cNvPicPr/>
          <p:nvPr/>
        </p:nvPicPr>
        <p:blipFill>
          <a:blip r:embed="rId1"/>
          <a:stretch/>
        </p:blipFill>
        <p:spPr>
          <a:xfrm>
            <a:off x="500040" y="2143080"/>
            <a:ext cx="3143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юльпа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луковки вырос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в пищу негож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яркий стаканчик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к тот похож.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5" descr="C:\Users\Пользователь\Desktop\распечатать\0.69549000 1236331216-2.jpg"/>
          <p:cNvPicPr/>
          <p:nvPr/>
        </p:nvPicPr>
        <p:blipFill>
          <a:blip r:embed="rId1"/>
          <a:stretch/>
        </p:blipFill>
        <p:spPr>
          <a:xfrm>
            <a:off x="500040" y="2071800"/>
            <a:ext cx="32860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ть не зверь я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не птиц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сумею защититься!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опырю коготки -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ько тронь мои цветки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5" descr="C:\Users\Пользователь\Desktop\распечатать\6815f5ad0186.jpg"/>
          <p:cNvPicPr/>
          <p:nvPr/>
        </p:nvPicPr>
        <p:blipFill>
          <a:blip r:embed="rId1"/>
          <a:stretch/>
        </p:blipFill>
        <p:spPr>
          <a:xfrm>
            <a:off x="428760" y="2214720"/>
            <a:ext cx="3214440" cy="38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воздик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знакомы с нами: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е, как пламя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ы однофамильцы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мелкими гвоздями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. 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C:\Users\Пользователь\Desktop\распечатать\80851.jpg"/>
          <p:cNvPicPr/>
          <p:nvPr/>
        </p:nvPicPr>
        <p:blipFill>
          <a:blip r:embed="rId1"/>
          <a:stretch/>
        </p:blipFill>
        <p:spPr>
          <a:xfrm>
            <a:off x="428760" y="2357280"/>
            <a:ext cx="328608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нежни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ивался сквозь снежок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дивительный росток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первый, самый нежный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ый бархатный цветок!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5" descr="C:\Users\Пользователь\Desktop\распечатать\98893523_73440172_71732708_1299574973_0_2a7e6_298c8037_XL.jpg"/>
          <p:cNvPicPr/>
          <p:nvPr/>
        </p:nvPicPr>
        <p:blipFill>
          <a:blip r:embed="rId1"/>
          <a:stretch/>
        </p:blipFill>
        <p:spPr>
          <a:xfrm>
            <a:off x="214200" y="2143080"/>
            <a:ext cx="35719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цис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у весеннего цветка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ты, чтоб не ошибиться: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стик — как у чеснока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корона — как у принца! 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5" descr="C:\Users\Пользователь\Desktop\распечатать\img04221.jpg"/>
          <p:cNvPicPr/>
          <p:nvPr/>
        </p:nvPicPr>
        <p:blipFill>
          <a:blip r:embed="rId1"/>
          <a:stretch/>
        </p:blipFill>
        <p:spPr>
          <a:xfrm>
            <a:off x="428760" y="1714680"/>
            <a:ext cx="3143160" cy="37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дыш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лые звоночки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меня в садочке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зеленом стебельке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ячутся в тенёчке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C:\Users\Пользователь\Desktop\распечатать\72812749_Convallaria1.jpg"/>
          <p:cNvPicPr/>
          <p:nvPr/>
        </p:nvPicPr>
        <p:blipFill>
          <a:blip r:embed="rId1"/>
          <a:stretch/>
        </p:blipFill>
        <p:spPr>
          <a:xfrm>
            <a:off x="214200" y="2000160"/>
            <a:ext cx="3730680" cy="39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288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ри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574800" y="272520"/>
            <a:ext cx="5111640" cy="58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 - травянистое растение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 цветком сиреневого цвета.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 переставьте ударение, 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превращаюсь я в конфету. 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5" descr="C:\Users\Пользователь\Desktop\распечатать\103115181_lbrg5a_cont.jpg"/>
          <p:cNvPicPr/>
          <p:nvPr/>
        </p:nvPicPr>
        <p:blipFill>
          <a:blip r:embed="rId1"/>
          <a:stretch/>
        </p:blipFill>
        <p:spPr>
          <a:xfrm>
            <a:off x="357120" y="1857240"/>
            <a:ext cx="33861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89,0,-28)"/>
                                          </p:val>
                                        </p:tav>
                                        <p:tav tm="50000">
                                          <p:val>
                                            <p:strVal val="rgb(-3,-69,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08T16:48:07Z</dcterms:created>
  <dc:creator>Пользователь-ПК</dc:creator>
  <dc:description/>
  <dc:language>en-US</dc:language>
  <cp:lastModifiedBy>Пользователь-ПК</cp:lastModifiedBy>
  <dcterms:modified xsi:type="dcterms:W3CDTF">2013-11-09T23:38:47Z</dcterms:modified>
  <cp:revision>21</cp:revision>
  <dc:subject/>
  <dc:title>Загадки про цвет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5343</vt:lpwstr>
  </property>
</Properties>
</file>