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2C171-0418-4F9D-885E-5F270A7DA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BC3C-B2A4-4ABD-AAF6-1C651188B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3A5-3227-4734-AE92-540D7010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A0CB-5E21-48E2-902E-33899CC0D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845-5968-4593-91DF-45CDCFD09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6DA3-2980-4DC9-B677-30C103C9A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CB29-0FA3-4409-B57A-DF86185DB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1B9-BD2F-4E34-AB58-D3983757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1A1-50CC-4A6E-847A-34C99D721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FC4C-123B-4BDF-B9A2-2FB71CA30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004B-6A9F-40A8-B38A-86FD3E1A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C50-9408-48E4-81EF-1AD2E6410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8C37-91BB-4E41-83C5-1D5807C73E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llforchildren.ru/kidfun/riddles_flowers.php" TargetMode="External"/><Relationship Id="rId2" Type="http://schemas.openxmlformats.org/officeDocument/2006/relationships/hyperlink" Target="http://allforchildren.ru/kidfun/riddles_flowers.php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Загадки про цветы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Подготовила Лоза Т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е солнце: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олнце сто оконцев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концев тех глядят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ни черненьких галчат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Пользователь\Desktop\распечатать\post90149_img1.jpg"/>
          <p:cNvPicPr/>
          <p:nvPr/>
        </p:nvPicPr>
        <p:blipFill>
          <a:blip r:embed="rId1"/>
          <a:stretch/>
        </p:blipFill>
        <p:spPr>
          <a:xfrm>
            <a:off x="357120" y="1571760"/>
            <a:ext cx="3286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похожа на звезду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ье так и переводится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лиже к осени цвету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в букеты к школьницам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:\Users\Пользователь\Desktop\распечатать\49760643_1255267780_07230031.jpg"/>
          <p:cNvPicPr/>
          <p:nvPr/>
        </p:nvPicPr>
        <p:blipFill>
          <a:blip r:embed="rId1"/>
          <a:stretch/>
        </p:blipFill>
        <p:spPr>
          <a:xfrm>
            <a:off x="357120" y="171468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й куст в саду расцвел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я ос и пчел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 больших цветах махровых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х, розовых, бордовых!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Пользователь\Desktop\распечатать\fec386f1a338cba220f745fdf1c5e335_original.jpg"/>
          <p:cNvPicPr/>
          <p:nvPr/>
        </p:nvPicPr>
        <p:blipFill>
          <a:blip r:embed="rId1"/>
          <a:stretch/>
        </p:blipFill>
        <p:spPr>
          <a:xfrm>
            <a:off x="428760" y="1928880"/>
            <a:ext cx="3381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ни пальцев нет, ни рук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только лепестки вокруг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обычно называемся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маникюре не нуждаемся!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Пользователь\Desktop\распечатать\kalendula_2_small.jpg"/>
          <p:cNvPicPr/>
          <p:nvPr/>
        </p:nvPicPr>
        <p:blipFill>
          <a:blip r:embed="rId1"/>
          <a:stretch/>
        </p:blipFill>
        <p:spPr>
          <a:xfrm>
            <a:off x="357120" y="1500120"/>
            <a:ext cx="31543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бу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 этот голуб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ет нам с тоб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ебе — чистом-чистом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лнышке лучис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!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C:\Users\Пользователь\Desktop\распечатать\reWalls.com-34690.jpg"/>
          <p:cNvPicPr/>
          <p:nvPr/>
        </p:nvPicPr>
        <p:blipFill>
          <a:blip r:embed="rId1"/>
          <a:stretch/>
        </p:blipFill>
        <p:spPr>
          <a:xfrm>
            <a:off x="571680" y="1785960"/>
            <a:ext cx="3000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еленого цыпленк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ошь покрытого пушком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юсь я горделивым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ым петушком!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Users\Пользователь\Desktop\распечатать\30b7b773f96b216c0865e28f1273097c.jpg"/>
          <p:cNvPicPr/>
          <p:nvPr/>
        </p:nvPicPr>
        <p:blipFill>
          <a:blip r:embed="rId1"/>
          <a:stretch/>
        </p:blipFill>
        <p:spPr>
          <a:xfrm>
            <a:off x="500040" y="1428840"/>
            <a:ext cx="30718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286000" y="310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"/>
              </a:rPr>
              <a:t>1.</a:t>
            </a:r>
            <a:r>
              <a:rPr b="0" lang="en-US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http://allforchildren.ru/kidfun/riddles_flowers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ванч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м шариком пушисты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расуюсь в поле чист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нул лёгкий ветерок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стался стебелё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Users\Пользователь\Desktop\распечатать\5_N56Kqh7h0.jpg"/>
          <p:cNvPicPr/>
          <p:nvPr/>
        </p:nvPicPr>
        <p:blipFill>
          <a:blip r:embed="rId1"/>
          <a:stretch/>
        </p:blipFill>
        <p:spPr>
          <a:xfrm>
            <a:off x="500040" y="2143080"/>
            <a:ext cx="3143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льп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уковки вырос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пищу негож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ркий стаканчик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 тот похож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Пользователь\Desktop\распечатать\0.69549000 1236331216-2.jpg"/>
          <p:cNvPicPr/>
          <p:nvPr/>
        </p:nvPicPr>
        <p:blipFill>
          <a:blip r:embed="rId1"/>
          <a:stretch/>
        </p:blipFill>
        <p:spPr>
          <a:xfrm>
            <a:off x="500040" y="2071800"/>
            <a:ext cx="3286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не зверь 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тиц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умею защититься!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опырю коготки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ронь мои цветк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Пользователь\Desktop\распечатать\6815f5ad0186.jpg"/>
          <p:cNvPicPr/>
          <p:nvPr/>
        </p:nvPicPr>
        <p:blipFill>
          <a:blip r:embed="rId1"/>
          <a:stretch/>
        </p:blipFill>
        <p:spPr>
          <a:xfrm>
            <a:off x="428760" y="2214720"/>
            <a:ext cx="3214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зд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комы с нами: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, как пламя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днофамильцы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лкими гвозд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C:\Users\Пользователь\Desktop\распечатать\80851.jpg"/>
          <p:cNvPicPr/>
          <p:nvPr/>
        </p:nvPicPr>
        <p:blipFill>
          <a:blip r:embed="rId1"/>
          <a:stretch/>
        </p:blipFill>
        <p:spPr>
          <a:xfrm>
            <a:off x="428760" y="2357280"/>
            <a:ext cx="32860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неж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вался сквозь снежок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й росток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ервый, самый нежный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бархатный цветок!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Users\Пользователь\Desktop\распечатать\98893523_73440172_71732708_1299574973_0_2a7e6_298c8037_XL.jpg"/>
          <p:cNvPicPr/>
          <p:nvPr/>
        </p:nvPicPr>
        <p:blipFill>
          <a:blip r:embed="rId1"/>
          <a:stretch/>
        </p:blipFill>
        <p:spPr>
          <a:xfrm>
            <a:off x="214200" y="2143080"/>
            <a:ext cx="3571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ци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 весеннего цветка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ты, чтоб не ошибиться: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ик — как у чеснок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рона — как у принца!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Пользователь\Desktop\распечатать\img04221.jpg"/>
          <p:cNvPicPr/>
          <p:nvPr/>
        </p:nvPicPr>
        <p:blipFill>
          <a:blip r:embed="rId1"/>
          <a:stretch/>
        </p:blipFill>
        <p:spPr>
          <a:xfrm>
            <a:off x="428760" y="1714680"/>
            <a:ext cx="31431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ы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е звоночки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 садочке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ом стебельке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утся в тенёчке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Пользователь\Desktop\распечатать\72812749_Convallaria1.jpg"/>
          <p:cNvPicPr/>
          <p:nvPr/>
        </p:nvPicPr>
        <p:blipFill>
          <a:blip r:embed="rId1"/>
          <a:stretch/>
        </p:blipFill>
        <p:spPr>
          <a:xfrm>
            <a:off x="214200" y="2000160"/>
            <a:ext cx="37306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травянистое растение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ветком сиреневого цвета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ереставьте ударение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вращаюсь я в конфету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:\Users\Пользователь\Desktop\распечатать\103115181_lbrg5a_cont.jpg"/>
          <p:cNvPicPr/>
          <p:nvPr/>
        </p:nvPicPr>
        <p:blipFill>
          <a:blip r:embed="rId1"/>
          <a:stretch/>
        </p:blipFill>
        <p:spPr>
          <a:xfrm>
            <a:off x="357120" y="1857240"/>
            <a:ext cx="33861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48:07Z</dcterms:created>
  <dc:creator>Пользователь-ПК</dc:creator>
  <dc:description/>
  <dc:language>en-US</dc:language>
  <cp:lastModifiedBy>Пользователь-ПК</cp:lastModifiedBy>
  <dcterms:modified xsi:type="dcterms:W3CDTF">2013-11-09T23:38:47Z</dcterms:modified>
  <cp:revision>21</cp:revision>
  <dc:subject/>
  <dc:title>Загадки про цв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5343</vt:lpwstr>
  </property>
</Properties>
</file>