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8.wmf" ContentType="image/x-wmf"/>
  <Override PartName="/ppt/media/image9.png" ContentType="image/png"/>
  <Override PartName="/ppt/media/image11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422-4F33-48DB-BDB3-F4A8F4DB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9C3-62F8-46D7-8D69-FF489169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855-DBF0-4284-9286-3334F565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CAC-9E7E-4406-826B-30EE0981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10A0-3C2A-4B42-B08F-AD512A6C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4F60-C854-4F51-882D-E1233EA4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A93A-8332-41D0-A926-413BE8D6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207F-34AE-49A7-82C6-AE373B7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1069-C987-4CDE-8E17-3DAA881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39C-6DE9-4CC8-B653-707F90B4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F63-7326-4FD2-AB8B-DF88C6F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822-1719-4A83-9022-C1BA142F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29B8-CA0C-499F-9165-2E72EAC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A5C2-3819-458D-BAF0-66A9BEF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560-62B3-408B-942C-F3198AF9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8FD6-5150-4AC5-B544-87B04D0C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9EA8-93EA-454C-AEFE-7F5CB4A6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858-2D26-4265-BA06-54DDF04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8ED-546C-4DBB-9DDE-3C267E9A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1EA-F378-4926-B041-AEF8D5F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EBC-DE93-4034-A4F3-696644F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48B-796D-41AE-B7CD-48414E1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4EB-CAD4-4F47-BB2D-7AA8155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BF9-5644-4DE5-AC17-03BFB33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1EBE-7702-4675-BC64-23C6C2DE35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978-F45D-4959-8C4E-3DE0D5ED8E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ак повысить самооценку у учащихся. Почему это важно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работа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ыстрова Е.В.- психоло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У «СОШ № 3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. Чернышевский 2012г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BD19563_"/>
          <p:cNvPicPr/>
          <p:nvPr/>
        </p:nvPicPr>
        <p:blipFill>
          <a:blip r:embed="rId1"/>
          <a:stretch/>
        </p:blipFill>
        <p:spPr>
          <a:xfrm>
            <a:off x="1258920" y="404640"/>
            <a:ext cx="1162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3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Способности человека, внеш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лик и интеллект неоднократ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смеивались или подвергались сомнению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дителями и учителями, друзьями 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ногими другими, когда подворачивался удачный случа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зависимо от того, хорошо или плохо вы выполни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ние, всегда найдутся те, кто будет вас критиковать. Либо 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о, что вы не сделали, либо за то, что сделали. В основе люб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итики стоит цель повысить чувство собственн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имости. Когда вы вырываетесь вперед, то оставляе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зади много людей, и они стараются вас опустить слов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мните: влияние самооценки напрямую связано с ваши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пех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PE00014_"/>
          <p:cNvPicPr/>
          <p:nvPr/>
        </p:nvPicPr>
        <p:blipFill>
          <a:blip r:embed="rId1"/>
          <a:stretch/>
        </p:blipFill>
        <p:spPr>
          <a:xfrm>
            <a:off x="6948360" y="333360"/>
            <a:ext cx="18147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43880" cy="49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Предание значительной важности какому-либо событию, в котором вы потерпели пораж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и - это составляющая успеха. Если вы терпи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у, нельзя говорить, что вы плохой человек 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ник. Вы обязаны сделать выводы из этого,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вигаться вперед. Нередко неудачи – э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агословение. Переносить отдельну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у и воспринимать ее неудаче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ей жизни – огромная ошибка. В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чительно теряете в представле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го себя и приобретаете ложно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вство ви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PH01562U"/>
          <p:cNvPicPr/>
          <p:nvPr/>
        </p:nvPicPr>
        <p:blipFill>
          <a:blip r:embed="rId1"/>
          <a:stretch/>
        </p:blipFill>
        <p:spPr>
          <a:xfrm>
            <a:off x="6516720" y="3213000"/>
            <a:ext cx="181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3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. Сравнение себя с другими людь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можете сравнивать себя с другими людьм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ому как вы разные. Каждый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никален и имеет свой список ценносте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торых вы не знаете. Обычно лю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вают свои недостатки с чужи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льными сторонами. Конечно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и лучше вас в этом, это вед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успех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PE02267_"/>
          <p:cNvPicPr/>
          <p:nvPr/>
        </p:nvPicPr>
        <p:blipFill>
          <a:blip r:embed="rId1"/>
          <a:stretch/>
        </p:blipFill>
        <p:spPr>
          <a:xfrm>
            <a:off x="6227640" y="4076640"/>
            <a:ext cx="2467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Установка для себя настолько высок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оритетов, что их нереаль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бить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ди по неумению част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танавливают для себя настольк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сокие цели д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стижения, что добиться их з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откое время является практическ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реальным. Разумеется, они не достигают эт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лей, в результате чего формирование самооценки переходи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еправильное русло, и они перестают ставить дальнейш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чи, поскольку это связано негативным опытом. Н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реальных целей, есть нереальные да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PE02282_"/>
          <p:cNvPicPr/>
          <p:nvPr/>
        </p:nvPicPr>
        <p:blipFill>
          <a:blip r:embed="rId1"/>
          <a:stretch/>
        </p:blipFill>
        <p:spPr>
          <a:xfrm>
            <a:off x="5364000" y="260280"/>
            <a:ext cx="35928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Мозговой штурм» в группах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спределение ролей в группе: ведущий – самый высокий рос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докладчик – самые высокие каблу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хронометрист – карие глаз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екретарь - самые длинные волос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дание группам: 1-ой группе составить портрет ребенка с завышенной самооценко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-ой группе составит портрет ребенка с заниженной самооценко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-ей группе составит портрет ребенка с реалистичной самооценк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ремя для обсуждения 5-7 мину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По истечению времени, докладчик каждой группы прикрепляет на доск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вой лист и сообщает о мнении группы. По завершению выступления вс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агодарят аплодисментами выступающего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152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вышен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это когда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возносит свои способности, а успехи окружающ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нижает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нижен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это когда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нижает свои способности. Это делает е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веренным и тревожным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алистич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когда человек видит себя таким, какой он есть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м де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, глядя или общаясь с ребенком можно догадать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 его самооценке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внешнему вид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мик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ч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J0216724"/>
          <p:cNvPicPr/>
          <p:nvPr/>
        </p:nvPicPr>
        <p:blipFill>
          <a:blip r:embed="rId1"/>
          <a:stretch/>
        </p:blipFill>
        <p:spPr>
          <a:xfrm>
            <a:off x="5580000" y="4292640"/>
            <a:ext cx="14511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олевая игра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каждой группе выбирается один родитель, который должен будет исполнить роль ребенка с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определенной самооценкой. Этих родителей прошу выйти за дверь и подумать, как они должны будут играть свою рол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уппам родителей дается задание предложить «ребенку» попробовать ПАВ (1-ой гр. - закурить; 2-ой гр. – выпить (пиво, алкоголь); 3-ей гр. – наркотики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еседа с группами: подумайте, на каких струнах психики человека играют соблазнители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удешь сильнее и смелее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жизни надо все попробовать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это помогает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удешь с нами – кончится одиночество в решении проблем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удешь, как мы – крутым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бя начнут бояться и уважать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ажи, что ты не тряпка (не маменькин сыночек)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опробуй, тебе понравитьс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ле беседы, приглашается один из участников. Он сам выбирает в какую группу хочет пойти. Все остальные его принимают и стараются «уговорить» попробовать ПАВ.  И так все остальны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к вы себя чувствовали в этой ситуации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вод: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Кого из участников было легче всего втянуть в компанию? Кто сопротивлялс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диннадцать способов повысить самооценку.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КАЗАТЬСЯ ОТ САМОКРИТИКИ И КРИТИКИ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итика – это и есть оценка. То есть, критикуя, мы оценива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дей, себя, ситуации. Кстати, важный момент: критика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сегда насилие над миром, попытка навязать ему свою точк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рения: должно быть так, а не иначе! Почему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бственно? Что нам известно о взаимосвяз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влений? Откуда знать, какой ур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обходим для развития человеку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тупившему, на ваш взгляд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правильно? Жизнь не любит насили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ебовать от судьбы чего бы то ни было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стой номер, станет только хуж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3" descr="http://www.sun-hands.ru/fdeti921.jpg"/>
          <p:cNvPicPr/>
          <p:nvPr/>
        </p:nvPicPr>
        <p:blipFill>
          <a:blip r:embed="rId1"/>
          <a:stretch/>
        </p:blipFill>
        <p:spPr>
          <a:xfrm>
            <a:off x="6732720" y="3357720"/>
            <a:ext cx="2171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ОТКАЗАТЬСЯ ОТ МРАЧНЫХ МЫСЛЕЙ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чь о том, что требуется перестать терроризировать самих себя негативными установками, скверными «предчувствиями», страхами. То есть, довериться жизни, начать жить с открытым сердцем, точно зная, что источник зла – только наши собственные злые мысли. Жизнь принесет то, чего от нее ожидают. Если ждать болезней – будут болезни. Если ждать, что в темном месте из-за угла выскочит грабитель, – он и выскочит. А если ждать любви – придет любовь. Вот и вс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. БЫТЬ МЯГКИМ, ТЕРПЕЛИВЫМ И ДОБРЫМ С САМИМ СОБОЙ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ин из главных камней преткновения на пути к успеху – наше нетерпение. Очень, ну просто до невозможности хочется немедленного вознаграждения! Вот сейчас я понял, где ошибался, с этого момента я начал мыслить позитивно – и где обещанные изменения к лучшему? Почему с неба все еще не сыпятся плюшки?! Спокойно, граждане, всему свое время. Дайте изменениям прочно войти в вашу жизнь, дайте устояться новой модели жизни, отношения к миру. Дайте себе время еще что-то узнать. Не рвите у Бога из рук – и тогда Он сам вам все даст. А то ведь старая песня: снова и снова мы ставим жизни условия – и удивляемся, что она в ответ поворачивается к нам не тем мес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Kagaya_27.jpg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228600" y="2743200"/>
            <a:ext cx="563868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Garamond"/>
              </a:rPr>
              <a:t>Как повысить самооценку у учащих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Garamond"/>
              </a:rPr>
              <a:t>Почему это важно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Разработал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Адамишина И.Б.-зам. по В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Быстрова Е.В.- психоло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МОУ «СОШ № 3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п. Чернышевский 2011г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2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ПЕРЕСТАТЬ ЖАЛЕТЬ СЕБЯ И ДРУГИ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же не знаю, стоит ли это расшифровывать! Уж столько сказано о жалости, которая на самом деле является скрытой формой унижения: как уважать, как считать полноценным того, кто вызывает сочувствие, кто является беспомощным? Жалеем – значит, соглашаемся: человек может не справиться с проблемой, жизнь априори несправедлива, в следующий раз жертвой стану я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СЛЕДУЕТ СПОКОЙНО, С БЛАГОДАРНОСТЬЮ, БЕЗ СТРАХА И СОМНЕНИЙ ПРИНИМАТЬ ПОДАРКИ СУДЬБ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асто приходится слышать: «Я так счастлив, что мне даже… стыдно! Ведь не всем так повезло, как мне!». Как это перевести? Очень просто: судьба – слепая дура, посылает блага недостойным, в частности, мне. На самом деле, я ничего не заслуживаю, так как ничего особенного собой не представляю, другие гораздо лучше меня. Отлично! Весь возможный негатив «в одном стакане»: и самоунижение, и сравнение, и недоверие к жизни, и страх, что за подарок придется платить…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6. ИЗБАВИТЬСЯ ОТСАМОНАДЕЯННОСТИ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 бойтесь просить о помощи, это вовсе не признак слабости, напроти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видетельство силы. Слабый постесняется – и проиграет там, где сильный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щутив, что нуждается в опоре, попросит о поддержке. Ведь он и сам 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ой поддержке не откажет, если это будет в его силах! Да, мы способн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шить все задачи, которые ставит перед нами жизнь, - но кто сказал, чт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елать это мы обязаны в одиночку?! Напротив, взаимодействие с миром, 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кружающими – залог успеха. Словом, ищите опору – и вы станете стокр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льнее, а значит, обретете уверенность в себе и научитесь доверять мир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7. СЛЕДУЕТ ЛЮБИТЬ СВОИ БЕДЫ И НЕДОСТАТКИ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чь вовсе не о мазохизме. Просто помните, что любые трудности делают нас сильнее – разумеется, если мы не пасуем перед препятствиями, а преодолеваем их. Сопротивляясь ситуации, мы лишь усиливаем ее – просто потому, что не пытаемся ее принять, а отталкиваем. Следовательно, не решаем! Корректировать ситуацию можно, только вступив в нее. Иначе говоря – перестав ее отталкивать. Приня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8. СЛЕДУЕТ ЗАБОТИТЬСЯ О СВОЕМ ТЕЛ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 рождения и на всю жизнь нам дано одно тело – другого не будет, замены не произведут, даже если с этим что-то случится. Выход один: всеми силами следить, чтобы ничего с ним не случилось. Холить и лелеять. Лечить, а еще лучше – предупреждать любые нарушения. Больной человек всегда слабее здорового, ему всегда труднее. Стоит ли добавлять самому себе трудностей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9. СЛЕДУЕТ ДОВОДИТЬ ЛЮБОЕ ДЕЛО ДО КОНЦА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конченные дела всегда снижают самооценку, остаются в памяти занозами, вечно напоминают о поражении, о слабости. Не бросайте ничего на полпути – и вам не в чем будет упрекнуть себ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10. НЕ СТАРАЙТЕСЬ ОБЛАДАТЬ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важнейший момент! В самом деле, чем или кем мы можем обладать? Любая вещь, нам принадлежащая, в тот или иной момент может исчезнуть, сломаться. И чем дороже она нам была, тем тяжелее потеря, тем больше такая утрата нас ослабляет. Что уж говорить о людях! Те, кем мы стремимся владеть, кого мы себе пытаемся присвоить, в любой момент могут уйти. А зависимость -- останется! И о какой самооценке в этом случае можно говорить – если вы по определению ноль без этой палочки в лице вашего кумира?… Давайте поймем: все, что в наших силах, – быть рядом с близким, любимым человеком, оставаясь собой и единственным центром своего мира. Только это – залог счастливых, гармоничных отношени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11. ЛЮБИТЕ СЕБЯ СЕЙЧАС.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ждите того светлого мига, когда вы заслужите сво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бственную любовь! А то ведь эта минута попросту 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ступит.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вторяйте как можно чаще эти слов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здоров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счастлив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богат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любим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Люблю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все могу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живу вечно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скоро в Вашей жизни появиться все то, что Вы утверждаете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49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лжны мы бороть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детские ду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вивкой стыд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б не уродились ни фюрер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дуче из них никог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прежде чем лезть с поучительством гроз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рваться в бо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детские души, пора бы нам, взрослы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чистить свои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. Евтушенк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J0178632"/>
          <p:cNvPicPr/>
          <p:nvPr/>
        </p:nvPicPr>
        <p:blipFill>
          <a:blip r:embed="rId1"/>
          <a:stretch/>
        </p:blipFill>
        <p:spPr>
          <a:xfrm>
            <a:off x="250920" y="4046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лан семина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такое самооценка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жность высокой самооцен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ы низкого уровня самооцен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высить самооценк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мочь осознать  педагогам взаимосвязь между самооценкой  учащегося и его развит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ать  педагогам практическую помощь в формировании положительной самооценки у  учащих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амооцен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оценка личности – это то, как в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носитесь к самому себе, как вы видите себ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кем себя считаете. Это кач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рмируется на основе списка убежде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отношению к себе, списка хороших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охих качеств. Самооценка – это не то, каким вы есть на самом деле или то, как вас видят другие люди, а то, ЧТО ВЫ САМИ ДУМАЕТЕ О СЕБЕ. Люди не обязательно думают о вас так, как вы себе представляете. Уровень самооценки – это ваш СУБЪЕКТИВНЫЙ взгляд на самого себя. Это качество формируется постепенно с самого рождения и может быть осознанно или неосознанно измене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Рисунок 2" descr="http://www.sun-hands.ru/fdeti91.jpg"/>
          <p:cNvPicPr/>
          <p:nvPr/>
        </p:nvPicPr>
        <p:blipFill>
          <a:blip r:embed="rId1"/>
          <a:stretch/>
        </p:blipFill>
        <p:spPr>
          <a:xfrm>
            <a:off x="179280" y="1628640"/>
            <a:ext cx="25718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2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ровень самооценки 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то ваш СУБЪЕКТИВН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згляд на самого себя. Эт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чество формируе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степенно с само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ждения и может бы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ознанно или неосознан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менено. Обычно его неосознанно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менение ведет к низкому уровн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мооценки. Почему? Просто люд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ольше привыкли замечать плохо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жели хорошее. Хороше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ринимается, как должное. 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скольку на плохом концентрируе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ольше внимания, соответственно оно лучше укореняется в подсознании, что и влияет непосредственно на отношение к себе. Повышение уровня самооценки формируется на основе мыслей и действий в различных ситуациях. Формирование самооценки важно для современного челове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мооценка личност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отправная точка для достижения успеха. Есл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ловек не в состоянии полюбить самого себя, то как же ему удастся пита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юбовь к кому-либо другому? Высокий уровень самооцен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ключительно важен, потому как от него напрямую зависят действ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ловека. Когда  самооценка улучшается, то улучается и отдача 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сех сферах жизни. Высокий уровень самооценки ведет к уверенны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ействиям и правильным решениям. Низкий уровень самооценка ведет 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уверенности, робости и, как следствие, к неуверенности в процесс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нятия реше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 формирования самооценки 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Человек сам влияете на формирование самооценк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Думает и ведете себя в соответствии с н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Влияние самооценки напрямую связано с тем, как воспринимают ег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ругие люд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Самооценка меняется в ту или иную сторону после того, как челове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идит, как его воспринимают окружающ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Возвращаемся в п.2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ПРИЧИНЫ НИЗКОГО УРОВНЯ 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САМООЦЕНКИ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. Живем в негативном обществе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стоянно имеем дело с негатив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строенными людьми.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пешных люде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сегда меньшинство, но они сумели прорвать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рез эту стену посредственности. Почему та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яжело? Да потому, что надо отойти от привычны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лений масс и довериться самому себе, и идти по зов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уши. А это совсем не просто. На каждом шагу ва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стерегают и указывают вам, что вы идете не той дорог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, кто не выдерживают этого напряжения, выбирают пу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ще – слиться с массами и оставить свои цели. Таких люд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чень много, общество просто крадет их меч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9beacd587245"/>
          <p:cNvPicPr/>
          <p:nvPr/>
        </p:nvPicPr>
        <p:blipFill>
          <a:blip r:embed="rId1"/>
          <a:stretch/>
        </p:blipFill>
        <p:spPr>
          <a:xfrm>
            <a:off x="6588000" y="189000"/>
            <a:ext cx="2381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5:42:03Z</dcterms:created>
  <dc:creator>кабинет №7</dc:creator>
  <dc:description/>
  <dc:language>en-US</dc:language>
  <cp:lastModifiedBy>Зам. директора по ВР</cp:lastModifiedBy>
  <dcterms:modified xsi:type="dcterms:W3CDTF">2013-11-05T10:26:32Z</dcterms:modified>
  <cp:revision>4</cp:revision>
  <dc:subject/>
  <dc:title>   Как повысить самооценку у учащихся. Почему это важно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