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10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8.wmf" ContentType="image/x-wmf"/>
  <Override PartName="/ppt/media/image9.png" ContentType="image/png"/>
  <Override PartName="/ppt/media/image11.wmf" ContentType="image/x-wmf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F147-A2C4-443F-839D-39AB585E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9F43-2442-4C37-B40C-074646B2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E537-33ED-4F10-B39F-E4029E8F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E66B-0954-49D1-8D77-70EF7281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36CC-1AD9-4221-9CA2-CD12EF5B9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7CF4-05EB-47F6-AD6E-024FA182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2F36-58FB-45D0-A361-4E9B1669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EC7D-DAEC-41AA-AC0B-6BC50AFA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F48C-628E-4792-BB8C-7F610AB3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9516-E4CF-4747-B020-BBADD113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E36E-5001-490A-9210-5788AE1F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B092-3B5E-4D28-8756-A12E5F3D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924A-1E0F-4489-91E2-C086D328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ED4F-3B1C-4D48-8142-3E72CC3B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B2EB-790B-4173-9067-6B8EE71B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BA7D-0B5F-4F7B-9B83-A4F0735A8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60A3-971F-4CF2-9010-A3F3E424A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0617-1369-4A58-AFAF-329E467F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97D1-1ABB-4FB9-82C3-4484D8D6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17FA-4AA6-44CE-B8D8-2ADCF2D1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0C63-6E6F-478C-BB6B-B07D3EF3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CE6E-C67D-4B5D-B13F-09A1C1DF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74F1-1387-4FD1-90CF-EB42A7AC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1B22-D234-4FB3-8CF3-CB1C7B1F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D0BE-AF85-4798-85B9-E66AFE2E9A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9E12-E7BD-445B-AE74-0018F2DC073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   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Как повысить самооценку у учащихся. Почему это важно?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Разработал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ыстрова Е.В.- психолог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ОУ «СОШ № 3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. Чернышевский 2012г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BD19563_"/>
          <p:cNvPicPr/>
          <p:nvPr/>
        </p:nvPicPr>
        <p:blipFill>
          <a:blip r:embed="rId1"/>
          <a:stretch/>
        </p:blipFill>
        <p:spPr>
          <a:xfrm>
            <a:off x="1258920" y="404640"/>
            <a:ext cx="116208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34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. Способности человека, внешний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блик и интеллект неоднократно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ысмеивались или подвергались сомнению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одителями и учителями, друзьями 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ногими другими, когда подворачивался удачный случа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езависимо от того, хорошо или плохо вы выполнил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дание, всегда найдутся те, кто будет вас критиковать. Либо 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о, что вы не сделали, либо за то, что сделали. В основе любо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ритики стоит цель повысить чувство собственно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начимости. Когда вы вырываетесь вперед, то оставляет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зади много людей, и они стараются вас опустить слов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мните: влияние самооценки напрямую связано с ваши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спехо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4" descr="PE00014_"/>
          <p:cNvPicPr/>
          <p:nvPr/>
        </p:nvPicPr>
        <p:blipFill>
          <a:blip r:embed="rId1"/>
          <a:stretch/>
        </p:blipFill>
        <p:spPr>
          <a:xfrm>
            <a:off x="6948360" y="333360"/>
            <a:ext cx="181476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643880" cy="490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3. Предание значительной важности какому-либо событию, в котором вы потерпели поражени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удачи - это составляющая успеха. Если вы терпит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удачу, нельзя говорить, что вы плохой человек ил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удачник. Вы обязаны сделать выводы из этого, 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вигаться вперед. Нередко неудачи – эт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лагословение. Переносить отдельную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удачу и воспринимать ее неудачей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сей жизни – огромная ошибка. Вы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начительно теряете в представлени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амого себя и приобретаете ложно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увство вин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4" descr="PH01562U"/>
          <p:cNvPicPr/>
          <p:nvPr/>
        </p:nvPicPr>
        <p:blipFill>
          <a:blip r:embed="rId1"/>
          <a:stretch/>
        </p:blipFill>
        <p:spPr>
          <a:xfrm>
            <a:off x="6516720" y="3213000"/>
            <a:ext cx="1816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34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4. Сравнение себя с другими людьм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можете сравнивать себя с другими людьми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тому как вы разные. Каждый челов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никален и имеет свой список ценностей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торых вы не знаете. Обычно люд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равнивают свои недостатки с чужи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ильными сторонами. Конечно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ни лучше вас в этом, это ведь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х успех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Picture 4" descr="PE02267_"/>
          <p:cNvPicPr/>
          <p:nvPr/>
        </p:nvPicPr>
        <p:blipFill>
          <a:blip r:embed="rId1"/>
          <a:stretch/>
        </p:blipFill>
        <p:spPr>
          <a:xfrm>
            <a:off x="6227640" y="4076640"/>
            <a:ext cx="24670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354800" cy="417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5. Установка для себя настолько высоки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иоритетов, что их нереально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обитьс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юди по неумению часто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станавливают для себя настолько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ысокие цели дл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остижения, что добиться их з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роткое время является практическ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ереальным. Разумеется, они не достигают эти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целей, в результате чего формирование самооценки переходи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неправильное русло, и они перестают ставить дальнейш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дачи, поскольку это связано негативным опытом. Не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ереальных целей, есть нереальные даты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4" descr="PE02282_"/>
          <p:cNvPicPr/>
          <p:nvPr/>
        </p:nvPicPr>
        <p:blipFill>
          <a:blip r:embed="rId1"/>
          <a:stretch/>
        </p:blipFill>
        <p:spPr>
          <a:xfrm>
            <a:off x="5364000" y="260280"/>
            <a:ext cx="359280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«Мозговой штурм» в группах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Распределение ролей в группе: ведущий – самый высокий рос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докладчик – самые высокие каблук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хронометрист – карие глаз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секретарь - самые длинные волос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Задание группам: 1-ой группе составить портрет ребенка с завышенной самооценкой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-ой группе составит портрет ребенка с заниженной самооценкой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-ей группе составит портрет ребенка с реалистичной самооценко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ремя для обсуждения 5-7 мину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(По истечению времени, докладчик каждой группы прикрепляет на доску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вой лист и сообщает о мнении группы. По завершению выступления вс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лагодарят аплодисментами выступающего.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851520" cy="417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ывод: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Завышенная самооценка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это когда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евозносит свои способности, а успехи окружающи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инижает.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Заниженная самооценка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это когда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инижает свои способности. Это делает ег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уверенным и тревожным.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Реалистичная самооценка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то когда человек видит себя таким, какой он есть 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амом дел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к, глядя или общаясь с ребенком можно догадатьс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 его самооценке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 внешнему виду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имике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ечи и др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Picture 4" descr="J0216724"/>
          <p:cNvPicPr/>
          <p:nvPr/>
        </p:nvPicPr>
        <p:blipFill>
          <a:blip r:embed="rId1"/>
          <a:stretch/>
        </p:blipFill>
        <p:spPr>
          <a:xfrm>
            <a:off x="5580000" y="4292640"/>
            <a:ext cx="145116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олевая игра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 каждой группе выбирается один родитель, который должен будет исполнить роль ребенка с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определенной самооценкой. Этих родителей прошу выйти за дверь и подумать, как они должны будут играть свою роль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Группам родителей дается задание предложить «ребенку» попробовать ПАВ (1-ой гр. - закурить; 2-ой гр. – выпить (пиво, алкоголь); 3-ей гр. – наркотики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Беседа с группами: подумайте, на каких струнах психики человека играют соблазнители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будешь сильнее и смелее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в жизни надо все попробовать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это помогает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будешь с нами – кончится одиночество в решении проблем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будешь, как мы – крутым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тебя начнут бояться и уважать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ажи, что ты не тряпка (не маменькин сыночек)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попробуй, тебе понравиться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осле беседы, приглашается один из участников. Он сам выбирает в какую группу хочет пойти. Все остальные его принимают и стараются «уговорить» попробовать ПАВ.  И так все остальны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Как вы себя чувствовали в этой ситуации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ывод: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Кого из участников было легче всего втянуть в компанию? Кто сопротивлялся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Одиннадцать способов повысить самооценку.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53240" indent="-4532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ТКАЗАТЬСЯ ОТ САМОКРИТИКИ И КРИТИКИ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ритика – это и есть оценка. То есть, критикуя, мы оценивае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юдей, себя, ситуации. Кстати, важный момент: критика –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сегда насилие над миром, попытка навязать ему свою точку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рения: должно быть так, а не иначе! Почему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бственно? Что нам известно о взаимосвяз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явлений? Откуда знать, какой уро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еобходим для развития человеку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ступившему, на ваш взгляд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еправильно? Жизнь не любит насилия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ребовать от судьбы чего бы то ни было –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устой номер, станет только хуж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Рисунок 3" descr="http://www.sun-hands.ru/fdeti921.jpg"/>
          <p:cNvPicPr/>
          <p:nvPr/>
        </p:nvPicPr>
        <p:blipFill>
          <a:blip r:embed="rId1"/>
          <a:stretch/>
        </p:blipFill>
        <p:spPr>
          <a:xfrm>
            <a:off x="6732720" y="3357720"/>
            <a:ext cx="21715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561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. ОТКАЗАТЬСЯ ОТ МРАЧНЫХ МЫСЛЕЙ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ечь о том, что требуется перестать терроризировать самих себя негативными установками, скверными «предчувствиями», страхами. То есть, довериться жизни, начать жить с открытым сердцем, точно зная, что источник зла – только наши собственные злые мысли. Жизнь принесет то, чего от нее ожидают. Если ждать болезней – будут болезни. Если ждать, что в темном месте из-за угла выскочит грабитель, – он и выскочит. А если ждать любви – придет любовь. Вот и вс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850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3. БЫТЬ МЯГКИМ, ТЕРПЕЛИВЫМ И ДОБРЫМ С САМИМ СОБОЙ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дин из главных камней преткновения на пути к успеху – наше нетерпение. Очень, ну просто до невозможности хочется немедленного вознаграждения! Вот сейчас я понял, где ошибался, с этого момента я начал мыслить позитивно – и где обещанные изменения к лучшему? Почему с неба все еще не сыпятся плюшки?! Спокойно, граждане, всему свое время. Дайте изменениям прочно войти в вашу жизнь, дайте устояться новой модели жизни, отношения к миру. Дайте себе время еще что-то узнать. Не рвите у Бога из рук – и тогда Он сам вам все даст. А то ведь старая песня: снова и снова мы ставим жизни условия – и удивляемся, что она в ответ поворачивается к нам не тем местом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1" descr="Kagaya_27.jpg"/>
          <p:cNvPicPr/>
          <p:nvPr/>
        </p:nvPicPr>
        <p:blipFill>
          <a:blip r:embed="rId1"/>
          <a:stretch/>
        </p:blipFill>
        <p:spPr>
          <a:xfrm>
            <a:off x="108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2"/>
          <p:cNvSpPr/>
          <p:nvPr/>
        </p:nvSpPr>
        <p:spPr>
          <a:xfrm>
            <a:off x="228600" y="2743200"/>
            <a:ext cx="563868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006666"/>
                </a:solidFill>
                <a:latin typeface="Garamond"/>
              </a:rPr>
              <a:t>Как повысить самооценку у учащихся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Garamond"/>
              </a:rPr>
              <a:t>Почему это важно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Garamond"/>
              </a:rPr>
              <a:t>Разработали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Garamond"/>
              </a:rPr>
              <a:t>Адамишина И.Б.-зам. по ВР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Garamond"/>
              </a:rPr>
              <a:t>Быстрова Е.В.- психолог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Garamond"/>
              </a:rPr>
              <a:t>МОУ «СОШ № 3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Garamond"/>
              </a:rPr>
              <a:t>п. Чернышевский 2011г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67520" cy="274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4. ПЕРЕСТАТЬ ЖАЛЕТЬ СЕБЯ И ДРУГИХ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аже не знаю, стоит ли это расшифровывать! Уж столько сказано о жалости, которая на самом деле является скрытой формой унижения: как уважать, как считать полноценным того, кто вызывает сочувствие, кто является беспомощным? Жалеем – значит, соглашаемся: человек может не справиться с проблемой, жизнь априори несправедлива, в следующий раз жертвой стану я…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5. СЛЕДУЕТ СПОКОЙНО, С БЛАГОДАРНОСТЬЮ, БЕЗ СТРАХА И СОМНЕНИЙ ПРИНИМАТЬ ПОДАРКИ СУДЬБЫ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 часто приходится слышать: «Я так счастлив, что мне даже… стыдно! Ведь не всем так повезло, как мне!». Как это перевести? Очень просто: судьба – слепая дура, посылает блага недостойным, в частности, мне. На самом деле, я ничего не заслуживаю, так как ничего особенного собой не представляю, другие гораздо лучше меня. Отлично! Весь возможный негатив «в одном стакане»: и самоунижение, и сравнение, и недоверие к жизни, и страх, что за подарок придется платить…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b9efee"/>
                </a:solidFill>
                <a:latin typeface="Garamond"/>
              </a:rPr>
              <a:t>6. ИЗБАВИТЬСЯ ОТСАМОНАДЕЯННОСТИ.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е бойтесь просить о помощи, это вовсе не признак слабости, напротив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видетельство силы. Слабый постесняется – и проиграет там, где сильный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щутив, что нуждается в опоре, попросит о поддержке. Ведь он и сам 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акой поддержке не откажет, если это будет в его силах! Да, мы способн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решить все задачи, которые ставит перед нами жизнь, - но кто сказал, что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елать это мы обязаны в одиночку?! Напротив, взаимодействие с миром, с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кружающими – залог успеха. Словом, ищите опору – и вы станете стокра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ильнее, а значит, обретете уверенность в себе и научитесь доверять миру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b9efee"/>
                </a:solidFill>
                <a:latin typeface="Garamond"/>
              </a:rPr>
              <a:t>7. СЛЕДУЕТ ЛЮБИТЬ СВОИ БЕДЫ И НЕДОСТАТКИ.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ечь вовсе не о мазохизме. Просто помните, что любые трудности делают нас сильнее – разумеется, если мы не пасуем перед препятствиями, а преодолеваем их. Сопротивляясь ситуации, мы лишь усиливаем ее – просто потому, что не пытаемся ее принять, а отталкиваем. Следовательно, не решаем! Корректировать ситуацию можно, только вступив в нее. Иначе говоря – перестав ее отталкивать. Приняв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9efee"/>
                </a:solidFill>
                <a:latin typeface="Garamond"/>
              </a:rPr>
              <a:t>8. СЛЕДУЕТ ЗАБОТИТЬСЯ О СВОЕМ ТЕЛЕ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т рождения и на всю жизнь нам дано одно тело – другого не будет, замены не произведут, даже если с этим что-то случится. Выход один: всеми силами следить, чтобы ничего с ним не случилось. Холить и лелеять. Лечить, а еще лучше – предупреждать любые нарушения. Больной человек всегда слабее здорового, ему всегда труднее. Стоит ли добавлять самому себе трудностей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b9efee"/>
                </a:solidFill>
                <a:latin typeface="Garamond"/>
              </a:rPr>
              <a:t>9. СЛЕДУЕТ ДОВОДИТЬ ЛЮБОЕ ДЕЛО ДО КОНЦА.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законченные дела всегда снижают самооценку, остаются в памяти занозами, вечно напоминают о поражении, о слабости. Не бросайте ничего на полпути – и вам не в чем будет упрекнуть себ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9efee"/>
                </a:solidFill>
                <a:latin typeface="Garamond"/>
              </a:rPr>
              <a:t>10. НЕ СТАРАЙТЕСЬ ОБЛАДАТЬ.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то важнейший момент! В самом деле, чем или кем мы можем обладать? Любая вещь, нам принадлежащая, в тот или иной момент может исчезнуть, сломаться. И чем дороже она нам была, тем тяжелее потеря, тем больше такая утрата нас ослабляет. Что уж говорить о людях! Те, кем мы стремимся владеть, кого мы себе пытаемся присвоить, в любой момент могут уйти. А зависимость -- останется! И о какой самооценке в этом случае можно говорить – если вы по определению ноль без этой палочки в лице вашего кумира?… Давайте поймем: все, что в наших силах, – быть рядом с близким, любимым человеком, оставаясь собой и единственным центром своего мира. Только это – залог счастливых, гармоничных отношений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9efee"/>
                </a:solidFill>
                <a:latin typeface="Garamond"/>
              </a:rPr>
              <a:t>11. ЛЮБИТЕ СЕБЯ СЕЙЧАС.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е ждите того светлого мига, когда вы заслужите свою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бственную любовь! А то ведь эта минута попросту н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ступит.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вторяйте как можно чаще эти слова: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Я, здорова!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Я, счастлива!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Я, богата!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Я, любима!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Я, Люблю!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Я, все могу!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Я, живу вечно!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 скоро в Вашей жизни появиться все то, что Вы утверждаете!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354800" cy="490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олжны мы боротьс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 детские душ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ививкой стыда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тоб не уродились ни фюрер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 дуче из них никогд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прежде чем лезть с поучительством грозны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рваться в бо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 детские души, пора бы нам, взрослым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чистить свои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. Евтушенк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J0178632"/>
          <p:cNvPicPr/>
          <p:nvPr/>
        </p:nvPicPr>
        <p:blipFill>
          <a:blip r:embed="rId1"/>
          <a:stretch/>
        </p:blipFill>
        <p:spPr>
          <a:xfrm>
            <a:off x="250920" y="404640"/>
            <a:ext cx="36576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лан семинар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то такое самооценка личност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ажность высокой самооценк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чины низкого уровня самооценк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 повысить самооценку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Цель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мочь осознать  педагогам взаимосвязь между самооценкой  учащегося и его развит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казать  педагогам практическую помощь в формировании положительной самооценки у  учащих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Самооценк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амооценка личности – это то, как вы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тноситесь к самому себе, как вы видите себ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 кем себя считаете. Это качество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формируется на основе списка убеждений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 отношению к себе, списка хороших 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лохих качеств. Самооценка – это не то, каким вы есть на самом деле или то, как вас видят другие люди, а то, ЧТО ВЫ САМИ ДУМАЕТЕ О СЕБЕ. Люди не обязательно думают о вас так, как вы себе представляете. Уровень самооценки – это ваш СУБЪЕКТИВНЫЙ взгляд на самого себя. Это качество формируется постепенно с самого рождения и может быть осознанно или неосознанно изменено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Рисунок 2" descr="http://www.sun-hands.ru/fdeti91.jpg"/>
          <p:cNvPicPr/>
          <p:nvPr/>
        </p:nvPicPr>
        <p:blipFill>
          <a:blip r:embed="rId1"/>
          <a:stretch/>
        </p:blipFill>
        <p:spPr>
          <a:xfrm>
            <a:off x="179280" y="1628640"/>
            <a:ext cx="257184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274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Уровень самооценки –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это ваш СУБЪЕКТИВНЫ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згляд на самого себя. Это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ачество формируется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степенно с самого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ждения и может быт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сознанно или неосознанно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зменено. Обычно его неосознанно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зменение ведет к низкому уровню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амооценки. Почему? Просто люд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ольше привыкли замечать плохое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ежели хорошее. Хороше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оспринимается, как должное. 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скольку на плохом концентрируется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ольше внимания, соответственно оно лучше укореняется в подсознании, что и влияет непосредственно на отношение к себе. Повышение уровня самооценки формируется на основе мыслей и действий в различных ситуациях. Формирование самооценки важно для современного человек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99520" cy="490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амооценка личности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– это отправная точка для достижения успеха. Есл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еловек не в состоянии полюбить самого себя, то как же ему удастся питать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любовь к кому-либо другому? Высокий уровень самооценк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сключительно важен, потому как от него напрямую зависят действия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еловека. Когда  самооценка улучшается, то улучается и отдача во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сех сферах жизни. Высокий уровень самооценки ведет к уверенным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ействиям и правильным решениям. Низкий уровень самооценка ведет к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еуверенности, робости и, как следствие, к неуверенности в процесс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инятия решения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цесс формирования самооценки  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. Человек сам влияете на формирование самооценк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. Думает и ведете себя в соответствии с ней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. Влияние самооценки напрямую связано с тем, как воспринимают его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ругие люд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. Самооценка меняется в ту или иную сторону после того, как человек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идит, как его воспринимают окружающие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5. Возвращаемся в п.2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ПРИЧИНЫ НИЗКОГО УРОВНЯ </a:t>
            </a:r>
            <a:br>
              <a:rPr sz="2000"/>
            </a:b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САМООЦЕНКИ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. Живем в негативном обществе 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остоянно имеем дело с негативно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астроенными людьми.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спешных людей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сегда меньшинство, но они сумели прорватьс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через эту стену посредственности. Почему та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яжело? Да потому, что надо отойти от привычны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едставлений масс и довериться самому себе, и идти по зов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уши. А это совсем не просто. На каждом шагу вас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дстерегают и указывают вам, что вы идете не той дорого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, кто не выдерживают этого напряжения, выбирают пут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ще – слиться с массами и оставить свои цели. Таких люде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чень много, общество просто крадет их мечт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4" descr="9beacd587245"/>
          <p:cNvPicPr/>
          <p:nvPr/>
        </p:nvPicPr>
        <p:blipFill>
          <a:blip r:embed="rId1"/>
          <a:stretch/>
        </p:blipFill>
        <p:spPr>
          <a:xfrm>
            <a:off x="6588000" y="189000"/>
            <a:ext cx="23814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05:42:03Z</dcterms:created>
  <dc:creator>кабинет №7</dc:creator>
  <dc:description/>
  <dc:language>en-US</dc:language>
  <cp:lastModifiedBy>Зам. директора по ВР</cp:lastModifiedBy>
  <dcterms:modified xsi:type="dcterms:W3CDTF">2013-11-05T10:26:32Z</dcterms:modified>
  <cp:revision>4</cp:revision>
  <dc:subject/>
  <dc:title>   Как повысить самооценку у учащихся. Почему это важно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