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3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33.jpeg" ContentType="image/jpeg"/>
  <Override PartName="/ppt/media/image36.jpeg" ContentType="image/jpeg"/>
  <Override PartName="/ppt/media/image40.png" ContentType="image/png"/>
  <Override PartName="/ppt/media/image44.jpeg" ContentType="image/jpeg"/>
  <Override PartName="/ppt/media/image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45.jpeg" ContentType="image/jpeg"/>
  <Override PartName="/ppt/media/image46.jpeg" ContentType="image/jpeg"/>
  <Override PartName="/ppt/media/image51.gif" ContentType="image/gif"/>
  <Override PartName="/ppt/media/image47.jpeg" ContentType="image/jpeg"/>
  <Override PartName="/ppt/media/image41.png" ContentType="image/png"/>
  <Override PartName="/ppt/media/image48.jpeg" ContentType="image/jpeg"/>
  <Override PartName="/ppt/media/image9.gif" ContentType="image/gif"/>
  <Override PartName="/ppt/media/image53.png" ContentType="image/png"/>
  <Override PartName="/ppt/media/image31.jpeg" ContentType="image/jpeg"/>
  <Override PartName="/ppt/media/image30.png" ContentType="image/png"/>
  <Override PartName="/ppt/media/image11.png" ContentType="image/png"/>
  <Override PartName="/ppt/media/image10.gif" ContentType="image/gif"/>
  <Override PartName="/ppt/media/image5.jpeg" ContentType="image/jpeg"/>
  <Override PartName="/ppt/media/image50.png" ContentType="image/png"/>
  <Override PartName="/ppt/media/image37.png" ContentType="image/png"/>
  <Override PartName="/ppt/media/image7.png" ContentType="image/png"/>
  <Override PartName="/ppt/media/image39.jpeg" ContentType="image/jpeg"/>
  <Override PartName="/ppt/media/image8.png" ContentType="image/png"/>
  <Override PartName="/ppt/media/image27.jpeg" ContentType="image/jpeg"/>
  <Override PartName="/ppt/media/image52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CBD-E9A0-47BA-ADD7-EE0A9B03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BCE-E52F-47D2-8DB1-7C874BBA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A6E-1A4D-424F-8B93-C7D79137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B2E-474D-4140-8EC2-07DDBE50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0D2-5C01-412B-AFAB-E976AC31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566-CCB4-4D3B-9506-CFC00363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147-7D7B-4361-93D6-5EE0D2DF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ACB-93F2-4473-8095-DEFE6632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B18-81C0-4662-B468-F51B6A3D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1A6-8887-4B21-8452-2589C523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D92-8855-400B-9387-E9E11C90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745-B737-42A7-957C-E261A8BC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dd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EF27-C33F-410B-833A-30F6E2BFF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900igr.net/datai/schjot/Umnozhenie-do-100.files/0004-003-10.pn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1763640" y="260280"/>
            <a:ext cx="5545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ПАРТАМЕНТ ОБРАЗОВАНИЯ ГОРОДА МОСКВ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ГО-ВОСТОЧНОЕ ОКРУЖНОЕ УПРАВЛЕНИЕ ОБРАЗОВАНИЯ РАЙОН«МАРЬИНО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2195640" y="5300280"/>
            <a:ext cx="664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учащиеся 7А: Гладкова Мар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чарова Анастасия, Дьячков Иго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еровнова В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900000" y="1916280"/>
            <a:ext cx="7417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ематические игры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ловоломки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WordArt 7" descr=""/>
          <p:cNvPicPr/>
          <p:nvPr/>
        </p:nvPicPr>
        <p:blipFill>
          <a:blip r:embed="rId1"/>
          <a:stretch/>
        </p:blipFill>
        <p:spPr>
          <a:xfrm>
            <a:off x="2620800" y="3786120"/>
            <a:ext cx="3999240" cy="11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3" descr=""/>
          <p:cNvPicPr/>
          <p:nvPr/>
        </p:nvPicPr>
        <p:blipFill>
          <a:blip r:embed="rId2"/>
          <a:stretch/>
        </p:blipFill>
        <p:spPr>
          <a:xfrm>
            <a:off x="822240" y="590400"/>
            <a:ext cx="7467840" cy="5261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40"/>
          <p:cNvPicPr/>
          <p:nvPr/>
        </p:nvPicPr>
        <p:blipFill>
          <a:blip r:embed="rId3"/>
          <a:stretch/>
        </p:blipFill>
        <p:spPr>
          <a:xfrm flipH="1">
            <a:off x="178920" y="4508640"/>
            <a:ext cx="230508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780000" y="1915920"/>
            <a:ext cx="5076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 спичек  разбиваются  на 2 куч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и 8 штук. Игроки  по очереди выбирают одну из кучек  и  вынимают  из  неё от 1 до 3 спичек,  побеждает  тот,  кто  берёт последнюю спи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спичек, кучек и сколько можно брать спичек определяется по договор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почему существует много вариантов игры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14878" t="26614" r="14878" b="7604"/>
          <a:stretch/>
        </p:blipFill>
        <p:spPr>
          <a:xfrm>
            <a:off x="468360" y="1413000"/>
            <a:ext cx="2647800" cy="3456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153320" y="1413000"/>
            <a:ext cx="43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 Взять последний предм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2627280" y="333360"/>
            <a:ext cx="3745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Ни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5"/>
          <p:cNvSpPr/>
          <p:nvPr/>
        </p:nvSpPr>
        <p:spPr>
          <a:xfrm>
            <a:off x="4140360" y="14130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Взять последнюю фи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1"/>
          <p:cNvGrpSpPr/>
          <p:nvPr/>
        </p:nvGrpSpPr>
        <p:grpSpPr>
          <a:xfrm>
            <a:off x="395280" y="2276280"/>
            <a:ext cx="3239640" cy="3024360"/>
            <a:chOff x="395280" y="2276280"/>
            <a:chExt cx="3239640" cy="3024360"/>
          </a:xfrm>
        </p:grpSpPr>
        <p:sp>
          <p:nvSpPr>
            <p:cNvPr id="84" name="Line 5"/>
            <p:cNvSpPr/>
            <p:nvPr/>
          </p:nvSpPr>
          <p:spPr>
            <a:xfrm flipV="1">
              <a:off x="1258560" y="3860640"/>
              <a:ext cx="649080" cy="14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"/>
            <p:cNvSpPr/>
            <p:nvPr/>
          </p:nvSpPr>
          <p:spPr>
            <a:xfrm flipV="1">
              <a:off x="1908000" y="2637000"/>
              <a:ext cx="122364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7"/>
            <p:cNvSpPr/>
            <p:nvPr/>
          </p:nvSpPr>
          <p:spPr>
            <a:xfrm flipV="1">
              <a:off x="1908000" y="2276280"/>
              <a:ext cx="0" cy="15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"/>
            <p:cNvSpPr/>
            <p:nvPr/>
          </p:nvSpPr>
          <p:spPr>
            <a:xfrm>
              <a:off x="1908000" y="3861000"/>
              <a:ext cx="647280" cy="14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9"/>
            <p:cNvSpPr/>
            <p:nvPr/>
          </p:nvSpPr>
          <p:spPr>
            <a:xfrm flipH="1" flipV="1">
              <a:off x="395280" y="3500280"/>
              <a:ext cx="151272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 flipV="1">
              <a:off x="1908000" y="3573000"/>
              <a:ext cx="1726920" cy="2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 flipH="1">
              <a:off x="433080" y="3861000"/>
              <a:ext cx="147600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 flipH="1" flipV="1">
              <a:off x="899640" y="2708280"/>
              <a:ext cx="100764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>
              <a:off x="1906560" y="3859200"/>
              <a:ext cx="1512360" cy="79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2555640" y="4652640"/>
              <a:ext cx="863280" cy="647640"/>
            </a:xfrm>
            <a:prstGeom prst="line">
              <a:avLst/>
            </a:prstGeom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3419280" y="3573000"/>
              <a:ext cx="215640" cy="1079640"/>
            </a:xfrm>
            <a:prstGeom prst="line">
              <a:avLst/>
            </a:prstGeom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9"/>
            <p:cNvSpPr/>
            <p:nvPr/>
          </p:nvSpPr>
          <p:spPr>
            <a:xfrm flipH="1" flipV="1">
              <a:off x="3131640" y="2636640"/>
              <a:ext cx="502920" cy="936360"/>
            </a:xfrm>
            <a:prstGeom prst="line">
              <a:avLst/>
            </a:prstGeom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0"/>
            <p:cNvSpPr/>
            <p:nvPr/>
          </p:nvSpPr>
          <p:spPr>
            <a:xfrm flipH="1" flipV="1">
              <a:off x="1907640" y="2276280"/>
              <a:ext cx="1223640" cy="360360"/>
            </a:xfrm>
            <a:prstGeom prst="line">
              <a:avLst/>
            </a:prstGeom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1"/>
            <p:cNvSpPr/>
            <p:nvPr/>
          </p:nvSpPr>
          <p:spPr>
            <a:xfrm flipH="1">
              <a:off x="899640" y="2276640"/>
              <a:ext cx="1007640" cy="431640"/>
            </a:xfrm>
            <a:prstGeom prst="line">
              <a:avLst/>
            </a:prstGeom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2"/>
            <p:cNvSpPr/>
            <p:nvPr/>
          </p:nvSpPr>
          <p:spPr>
            <a:xfrm flipH="1">
              <a:off x="395280" y="2708280"/>
              <a:ext cx="504720" cy="79236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395280" y="3500640"/>
              <a:ext cx="72720" cy="1008000"/>
            </a:xfrm>
            <a:prstGeom prst="line">
              <a:avLst/>
            </a:prstGeom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468000" y="4508640"/>
              <a:ext cx="790200" cy="792000"/>
            </a:xfrm>
            <a:prstGeom prst="line">
              <a:avLst/>
            </a:prstGeom>
            <a:ln w="3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Line 35"/>
          <p:cNvSpPr/>
          <p:nvPr/>
        </p:nvSpPr>
        <p:spPr>
          <a:xfrm>
            <a:off x="1258920" y="5300640"/>
            <a:ext cx="1297080" cy="0"/>
          </a:xfrm>
          <a:prstGeom prst="line">
            <a:avLst/>
          </a:prstGeom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1"/>
          <p:cNvSpPr/>
          <p:nvPr/>
        </p:nvSpPr>
        <p:spPr>
          <a:xfrm>
            <a:off x="3203640" y="4437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6"/>
          <p:cNvSpPr/>
          <p:nvPr/>
        </p:nvSpPr>
        <p:spPr>
          <a:xfrm>
            <a:off x="1692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7"/>
          <p:cNvSpPr/>
          <p:nvPr/>
        </p:nvSpPr>
        <p:spPr>
          <a:xfrm>
            <a:off x="684360" y="2492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8"/>
          <p:cNvSpPr/>
          <p:nvPr/>
        </p:nvSpPr>
        <p:spPr>
          <a:xfrm>
            <a:off x="250920" y="3284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9"/>
          <p:cNvSpPr/>
          <p:nvPr/>
        </p:nvSpPr>
        <p:spPr>
          <a:xfrm>
            <a:off x="324000" y="429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0"/>
          <p:cNvSpPr/>
          <p:nvPr/>
        </p:nvSpPr>
        <p:spPr>
          <a:xfrm>
            <a:off x="2916360" y="2492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1"/>
          <p:cNvSpPr/>
          <p:nvPr/>
        </p:nvSpPr>
        <p:spPr>
          <a:xfrm>
            <a:off x="3419640" y="3357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2"/>
          <p:cNvSpPr/>
          <p:nvPr/>
        </p:nvSpPr>
        <p:spPr>
          <a:xfrm>
            <a:off x="1116000" y="5084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3"/>
          <p:cNvSpPr/>
          <p:nvPr/>
        </p:nvSpPr>
        <p:spPr>
          <a:xfrm>
            <a:off x="2340000" y="5084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45"/>
          <p:cNvSpPr txBox="1"/>
          <p:nvPr/>
        </p:nvSpPr>
        <p:spPr>
          <a:xfrm>
            <a:off x="324000" y="1341360"/>
            <a:ext cx="1628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грок 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46"/>
          <p:cNvSpPr txBox="1"/>
          <p:nvPr/>
        </p:nvSpPr>
        <p:spPr>
          <a:xfrm>
            <a:off x="2411280" y="1341360"/>
            <a:ext cx="160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грок В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52"/>
          <p:cNvSpPr txBox="1"/>
          <p:nvPr/>
        </p:nvSpPr>
        <p:spPr>
          <a:xfrm>
            <a:off x="395280" y="5734080"/>
            <a:ext cx="4537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 г р о к       А       вы и г р а 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959280" y="1916280"/>
            <a:ext cx="51847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интересная вариация игры ним под названием  «звёздный  ним». Играют  в  эту  игру  на звездообразной фигуре. Поставив  по  одной фишке на каждую из девяти вершин  звезды, игроки  A  и  B  делают  ходы  по очереди, снимая при каждом ходе  либо  одну,  либо  две  соседние фишки. Тот, кто снимает последнюю фишку выигр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23640" y="1628640"/>
            <a:ext cx="489564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4"/>
          <p:cNvSpPr txBox="1"/>
          <p:nvPr/>
        </p:nvSpPr>
        <p:spPr>
          <a:xfrm>
            <a:off x="2268360" y="189000"/>
            <a:ext cx="4391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ёздный  Ним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xit" presetID="29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7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7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xit" presetID="2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xit" presetID="2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29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9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03280" y="1483920"/>
            <a:ext cx="5940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ое поле состоит из   клеток, на которые участники  выкладывают буквы, составляя различные 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игры каждый игрок получает 7 случайных букв . На середину игрового поля выкладывается первое слово, затем следующий игрок может добавить слово «на пересечение» из своих букв. Слова выкладываются либо слева направо, либо сверху вн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«Эрудит», скорее лингвистическая, но можно отнести и к математическим играм, так как во время подсчета очков игроки развивают навыки устного с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3303720" cy="3457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79280" y="112536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брать как можно больше очков, выстраивая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6" descr=""/>
          <p:cNvPicPr/>
          <p:nvPr/>
        </p:nvPicPr>
        <p:blipFill>
          <a:blip r:embed="rId3"/>
          <a:stretch/>
        </p:blipFill>
        <p:spPr>
          <a:xfrm>
            <a:off x="2273400" y="6480"/>
            <a:ext cx="337176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3059280" y="260280"/>
            <a:ext cx="309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ятнашки</a:t>
            </a:r>
            <a:endParaRPr b="0" lang="en-US" sz="1800" spc="1" strike="noStrike">
              <a:ln w="0">
                <a:noFill/>
              </a:ln>
              <a:solidFill>
                <a:srgbClr val="cc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095640" cy="2671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8"/>
          <p:cNvSpPr/>
          <p:nvPr/>
        </p:nvSpPr>
        <p:spPr>
          <a:xfrm>
            <a:off x="3708360" y="1341360"/>
            <a:ext cx="53276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иг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расставить  костяшки в  коробке  по номерам, сделав как можно меньше перемещ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ятнаш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популярная головоломка, придуманная  более 100 лет назад изобрел знаменитый англичанин Сэм Лой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  потеряла свою привлекательность, как только был раскрыт ее секрет. Если число нарушений порядка шашек четно, то головоломку можно решить, если же оно нечетно, то можно не труд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f979"/>
            </a:gs>
            <a:gs pos="100000">
              <a:srgbClr val="fdd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2340000" y="260280"/>
            <a:ext cx="4392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нус-куб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3"/>
          <a:stretch/>
        </p:blipFill>
        <p:spPr>
          <a:xfrm>
            <a:off x="324000" y="1268280"/>
            <a:ext cx="3456000" cy="2495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324000" y="4005360"/>
            <a:ext cx="3456000" cy="2574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4140360" y="1554120"/>
            <a:ext cx="4824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4067280" y="1341360"/>
            <a:ext cx="489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головолом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 — переставить кубики таким образом, чтобы на каждой стороне все грани малых кубиков были окрашены в один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ус-куб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объемная  головоломка, являющаяся вариантом  пятнашек. Она состоит  из 7 малых кубиков, каждый из которых собирается из двух П-образных половинок разн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Головоломка Пифагора"/>
          <p:cNvPicPr/>
          <p:nvPr/>
        </p:nvPicPr>
        <p:blipFill>
          <a:blip r:embed="rId1"/>
          <a:stretch/>
        </p:blipFill>
        <p:spPr>
          <a:xfrm>
            <a:off x="395280" y="1268280"/>
            <a:ext cx="2401920" cy="20894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5"/>
          <p:cNvSpPr/>
          <p:nvPr/>
        </p:nvSpPr>
        <p:spPr>
          <a:xfrm>
            <a:off x="2357280" y="1143000"/>
            <a:ext cx="678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ложить фигуру, указанную на рису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оломка Пифагора" - это квадрат, разделенный на 7 частей: два квадрата (большой и маленький), четыре треугольника (два больших и два маленьких) и параллелограмм. Все детали головоломки уложены в рамку - неделимую часть, с помощью которой можно связать элементы игры. Из деталей можно составлять геометрические фигуры сложной конфигурации, силуэты, напоминающие предметы реальной действительности. Необходимо использовать все части игры и свою фантаз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Прямоугольник 8" descr=""/>
          <p:cNvPicPr/>
          <p:nvPr/>
        </p:nvPicPr>
        <p:blipFill>
          <a:blip r:embed="rId2"/>
          <a:stretch/>
        </p:blipFill>
        <p:spPr>
          <a:xfrm>
            <a:off x="-249120" y="-212760"/>
            <a:ext cx="9655200" cy="1328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16560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e27f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780000" y="1628640"/>
            <a:ext cx="50400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три стержня, на один из которых нанизаны несколько колец, лежащих меньшее на большем. Задача состоит в том, чтобы перенести пирамиду  за наименьшее число ходов. За один раз разрешается переносить только одно кольцо, причём нельзя класть большее кольцо на меньш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у известную игру придумал французский математик Эдуард Люка, в 1883 году её продавали как забавную игруш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622680" cy="2952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50920" y="98100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 переложить все кольца на второй стерж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Прямоугольник 6" descr=""/>
          <p:cNvPicPr/>
          <p:nvPr/>
        </p:nvPicPr>
        <p:blipFill>
          <a:blip r:embed="rId2"/>
          <a:stretch/>
        </p:blipFill>
        <p:spPr>
          <a:xfrm>
            <a:off x="907920" y="-12600"/>
            <a:ext cx="69199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Головоломка Кубики для всех"/>
          <p:cNvPicPr/>
          <p:nvPr/>
        </p:nvPicPr>
        <p:blipFill>
          <a:blip r:embed="rId1"/>
          <a:stretch/>
        </p:blipFill>
        <p:spPr>
          <a:xfrm>
            <a:off x="214200" y="1143000"/>
            <a:ext cx="2551320" cy="23385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6"/>
          <p:cNvSpPr/>
          <p:nvPr/>
        </p:nvSpPr>
        <p:spPr>
          <a:xfrm>
            <a:off x="2857680" y="1143000"/>
            <a:ext cx="6286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 предложенных деталей сложить ку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оломка состоит из 7 объемных геометрических фигур разных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решения подобных задач  возникает ощущение каких-то реальных передвижек в голов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таких игр учишься пространственно мыслить, развивать внимание, сосредоточенность, терп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117800" y="142920"/>
            <a:ext cx="681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Impact"/>
              </a:rPr>
              <a:t>Магический ку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http://www.dumka.ru/products_pictures/kra-081-3.jpg"/>
          <p:cNvPicPr/>
          <p:nvPr/>
        </p:nvPicPr>
        <p:blipFill>
          <a:blip r:embed="rId2"/>
          <a:stretch/>
        </p:blipFill>
        <p:spPr>
          <a:xfrm>
            <a:off x="214200" y="3784680"/>
            <a:ext cx="2571840" cy="25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ed8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03280" y="1484280"/>
            <a:ext cx="5761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ть в эту игру можно на обычном шахматном поле или нарисовать специальное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а игры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игрока, играющего  за волка есть  одна фишка, которая стоит на белом кружке или на соответствующем поле шахматной доски. У игрока, играющего  за овец  4 фишки, которые стоят  на черных кружках или на соответствующих полях шахматной д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ят волк и овцы по линиям сетки или по принципу шашек. При этом овцы могут ходить только вперед, а волк и вперед, и назад. Первый ход делает волк. Побеждает тот, кто достигнет свое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9079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вол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дойти до противоположного края поля, прорвав цепь овец.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овец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запереть волка, чтобы ему некуда было ход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25844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6"/>
          <p:cNvGrpSpPr/>
          <p:nvPr/>
        </p:nvGrpSpPr>
        <p:grpSpPr>
          <a:xfrm>
            <a:off x="324000" y="1844640"/>
            <a:ext cx="2736720" cy="2232000"/>
            <a:chOff x="324000" y="1844640"/>
            <a:chExt cx="2736720" cy="2232000"/>
          </a:xfrm>
        </p:grpSpPr>
        <p:pic>
          <p:nvPicPr>
            <p:cNvPr id="145" name="Picture 6" descr=""/>
            <p:cNvPicPr/>
            <p:nvPr/>
          </p:nvPicPr>
          <p:blipFill>
            <a:blip r:embed="rId2"/>
            <a:stretch/>
          </p:blipFill>
          <p:spPr>
            <a:xfrm>
              <a:off x="324000" y="1844640"/>
              <a:ext cx="273672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Oval 7"/>
            <p:cNvSpPr/>
            <p:nvPr/>
          </p:nvSpPr>
          <p:spPr>
            <a:xfrm>
              <a:off x="2392920" y="3804480"/>
              <a:ext cx="244080" cy="23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>
              <a:off x="385560" y="3804480"/>
              <a:ext cx="243720" cy="23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1054440" y="3804480"/>
              <a:ext cx="244080" cy="23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1723680" y="3804480"/>
              <a:ext cx="244080" cy="23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оугольник 11" descr=""/>
          <p:cNvPicPr/>
          <p:nvPr/>
        </p:nvPicPr>
        <p:blipFill>
          <a:blip r:embed="rId3"/>
          <a:stretch/>
        </p:blipFill>
        <p:spPr>
          <a:xfrm>
            <a:off x="1957320" y="-171360"/>
            <a:ext cx="5168880" cy="10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900000" y="333360"/>
            <a:ext cx="6840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и и задач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95280" y="1651680"/>
            <a:ext cx="835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и проек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) показать разнообразие математических игр и головолом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) научить в них играть других реб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) заменить динамичные игры, часто приводящие к травмам, играми на концентрацию и тренировку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) занять учащихся полезным делом на переменах, с целью развития логического мышления и  возбуждения мозговой а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187280" y="260280"/>
            <a:ext cx="64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ять в ряд или Гомоку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Picture 5" descr="6101068_01"/>
          <p:cNvPicPr/>
          <p:nvPr/>
        </p:nvPicPr>
        <p:blipFill>
          <a:blip r:embed="rId1"/>
          <a:stretch/>
        </p:blipFill>
        <p:spPr>
          <a:xfrm>
            <a:off x="179280" y="1341360"/>
            <a:ext cx="4176720" cy="4464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4572000" y="504360"/>
            <a:ext cx="4321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иг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ит в том, чтобы  выстроить в ряд 5 фишек  по вертикали, горизонтали или диагон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играем  в эту игру на пластмассовом поле, и выставляем круги двух цветов по «5 в ряд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ет много вариантов этой игры: крестики- нолики; рэндзю, древняя китайская логическая  игр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Гомоку, в  традиционном варианте ведущаяся на поле 19х19, а в спортивном варианте  15х15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2484360" y="954000"/>
            <a:ext cx="665964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mbria Math"/>
                <a:ea typeface="Cambria Math"/>
              </a:rPr>
              <a:t>- один из самых распространенных видов головоломок. Каждая головоломка имеет свой определенный уровень сложности., оцениваемый по 5-ти или 6-ти бальной шкал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mbria Math"/>
              </a:rPr>
              <a:t>Головоломка  «Клю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ль: разделить ключи, а затем соединить их сн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Два ключа, соединенные таким способом, что кажутся неразделяемыми. Но ключи разделяются. Это одна из известных загадок, которая очень популярна с момента ее создания в 20 веке, во время британского увлечения головоломк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Сложность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2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mbria Math"/>
              </a:rPr>
              <a:t>) Головоломка «Оленьи ро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ль: разобрать и после собрать головолом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В конце девятнадцатого века в Англии началось повальное увлечен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головоломками. «Оленьи рога» - одна из успешно воссозданных, и частично усовершенствованных головоломок того времени, под руководством Ноба Йошигахара (1936-2004). Ключевое слово разгадки-«Рога»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Сложность: 4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4" descr="Головоломка Два ключа"/>
          <p:cNvPicPr/>
          <p:nvPr/>
        </p:nvPicPr>
        <p:blipFill>
          <a:blip r:embed="rId1"/>
          <a:stretch/>
        </p:blipFill>
        <p:spPr>
          <a:xfrm>
            <a:off x="285840" y="185724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Головоломка Оленьи рога"/>
          <p:cNvPicPr/>
          <p:nvPr/>
        </p:nvPicPr>
        <p:blipFill>
          <a:blip r:embed="rId2"/>
          <a:stretch/>
        </p:blipFill>
        <p:spPr>
          <a:xfrm>
            <a:off x="285840" y="4429080"/>
            <a:ext cx="2000160" cy="19749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5"/>
          <p:cNvSpPr/>
          <p:nvPr/>
        </p:nvSpPr>
        <p:spPr>
          <a:xfrm>
            <a:off x="250920" y="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Impact"/>
              </a:rPr>
              <a:t>Железные головолом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f979"/>
            </a:gs>
            <a:gs pos="100000">
              <a:srgbClr val="fdd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050560" y="981000"/>
            <a:ext cx="676908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обрать интересную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куб- средство для снятия стресса, развития творческих способностей, пространственного мышления и мелкой мо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oCube — оригинальная головоломка, состоящая из 216-ти магнитов в форме шара диаметром от 5 до 10 мм. Автор неокуба — экономист Крис Ре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него можно собрать различные  конфигурации, начиная от классических геометрических форм (сфера, икосаэдр, додекаэдр) до безымянных сложных несимметричных конструкций. В интерн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йти много роликов,  объясняющих как собрать эти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1857240" cy="1861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7643880" y="214200"/>
            <a:ext cx="1295280" cy="129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1565280" cy="244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4"/>
          <a:stretch/>
        </p:blipFill>
        <p:spPr>
          <a:xfrm>
            <a:off x="214200" y="2428920"/>
            <a:ext cx="1943280" cy="1244520"/>
          </a:xfrm>
          <a:prstGeom prst="rect">
            <a:avLst/>
          </a:prstGeom>
          <a:ln w="0">
            <a:noFill/>
          </a:ln>
        </p:spPr>
      </p:pic>
      <p:sp>
        <p:nvSpPr>
          <p:cNvPr id="163" name="WordArt 4"/>
          <p:cNvSpPr txBox="1"/>
          <p:nvPr/>
        </p:nvSpPr>
        <p:spPr>
          <a:xfrm>
            <a:off x="2556000" y="260280"/>
            <a:ext cx="43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ОКУБ</a:t>
            </a:r>
            <a:endParaRPr b="0" lang="en-US" sz="1800" spc="1" strike="noStrike">
              <a:ln w="0">
                <a:noFill/>
              </a:ln>
              <a:solidFill>
                <a:srgbClr val="00206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9fd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1143000" y="785880"/>
            <a:ext cx="692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395280" y="1125360"/>
            <a:ext cx="87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Мы провели социологический опрос по те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нашего проекта,  в котором приняли учас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84 семиклассника и задали им 3 вопро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м можно заняться  на переменах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какие тихие игры, головоломки играешь на перемен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ешь  ли такие: Игра « Ним»; Игра «Эрудит»; Игра «Звёздный Ним»;Игра « Волк и овцы»; Игра «Ханойская башня»; Игра «Рассада» ; Игра «Пять в ряд»; «Головоломка Пифагора»; Головоломка «Минус-кубик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 вот, что нам удалось узн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Прямоугольник 4" descr=""/>
          <p:cNvPicPr/>
          <p:nvPr/>
        </p:nvPicPr>
        <p:blipFill>
          <a:blip r:embed="rId1"/>
          <a:stretch/>
        </p:blipFill>
        <p:spPr>
          <a:xfrm>
            <a:off x="-139680" y="-12600"/>
            <a:ext cx="9320040" cy="1238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4" descr="image3844"/>
          <p:cNvPicPr/>
          <p:nvPr/>
        </p:nvPicPr>
        <p:blipFill>
          <a:blip r:embed="rId2"/>
          <a:stretch/>
        </p:blipFill>
        <p:spPr>
          <a:xfrm>
            <a:off x="5500800" y="4500720"/>
            <a:ext cx="2736720" cy="21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b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1258920" y="1484280"/>
            <a:ext cx="6553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ключ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387000"/>
            <a:ext cx="8713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рассмотрели небольшую часть  математических игр и головоломок, которые придумали математики разных времён. Их любят и дети, и взрослые. Они  не просто развлечение, а развивающее пособие, потому что  направлены на развитие различных мыслительных процессов,  а  это необходимо нам на  уроках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и игры  можно играть в любое время и в любом месте, а главное на переме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ученика, сражаясь  в какую-нибудь  интересную и увлекательную игру на перемене, получают большое творческое удовлетворение от борьбы. Ну, а победы и поражения, хитроумные замыслы и коварные ловушки соперников не мешают им оставаться друзьями в  логическом решении. Поиграв на перемене, ребята отдохнут от урока и зарядятся положительной энергией для дальнейших д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0" y="0"/>
            <a:ext cx="1332000" cy="720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ee3712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" descr="http://igrovaya.ru/upload/iblock/b72/TihieIgry200200.gif"/>
          <p:cNvPicPr/>
          <p:nvPr/>
        </p:nvPicPr>
        <p:blipFill>
          <a:blip r:embed="rId3"/>
          <a:stretch/>
        </p:blipFill>
        <p:spPr>
          <a:xfrm>
            <a:off x="6516720" y="4481640"/>
            <a:ext cx="2374920" cy="237636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5"/>
          <p:cNvSpPr/>
          <p:nvPr/>
        </p:nvSpPr>
        <p:spPr>
          <a:xfrm>
            <a:off x="0" y="4365720"/>
            <a:ext cx="65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тематические игры и головолом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когда не устаре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помогают найти новых друзе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 - нашему всё это здоров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вайте играть вм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eaee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Выноска-облако 4"/>
          <p:cNvSpPr/>
          <p:nvPr/>
        </p:nvSpPr>
        <p:spPr>
          <a:xfrm>
            <a:off x="3203640" y="1700280"/>
            <a:ext cx="4381560" cy="2857320"/>
          </a:xfrm>
          <a:prstGeom prst="cloudCallout">
            <a:avLst>
              <a:gd name="adj1" fmla="val -66013"/>
              <a:gd name="adj2" fmla="val 18166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a8d3d"/>
                </a:solidFill>
                <a:latin typeface="Monotype Corsiva"/>
                <a:ea typeface="Times New Roman"/>
              </a:rPr>
              <a:t>Чем заняться школьникам на переменах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а 92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40" y="2857680"/>
            <a:ext cx="261936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900000" y="333360"/>
            <a:ext cx="748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авный вопрос проекта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250920" y="2646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занялись этим проектом для того, чтобы найти и  показать игры, в которые можно поиграть на перемене, вместо того, чтобы ничего не делать или бе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7956720" y="1268280"/>
            <a:ext cx="792000" cy="5763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acae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3"/>
          <p:cNvSpPr/>
          <p:nvPr/>
        </p:nvSpPr>
        <p:spPr>
          <a:xfrm>
            <a:off x="5003640" y="1844640"/>
            <a:ext cx="396108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ей работе мы расскажем о разнообразии  игр и головоломок, о целях каждой игры. И нам хочется научить играть в них других ребя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дея работ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ла, когда на большом столе в классе появились шашки и игра «5 в ряд». Многие стали играть в них, и мы поняли, что игр катастрофически не хватает. Тогда  решили собрать коробку игр, которая помогла  осуществить хранение, изучение и популяризацию игр и головоломок. Мы знаем, что у игр существуют стратегии, но это тема другого проекта, а пока мы хотим вдоволь наиграться и найти занятие всем на перемен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 "/>
          <p:cNvPicPr/>
          <p:nvPr/>
        </p:nvPicPr>
        <p:blipFill>
          <a:blip r:embed="rId1"/>
          <a:stretch/>
        </p:blipFill>
        <p:spPr>
          <a:xfrm>
            <a:off x="1116000" y="2492280"/>
            <a:ext cx="251928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5" descr="IMG_5100.JPG"/>
          <p:cNvPicPr/>
          <p:nvPr/>
        </p:nvPicPr>
        <p:blipFill>
          <a:blip r:embed="rId1"/>
          <a:stretch/>
        </p:blipFill>
        <p:spPr>
          <a:xfrm>
            <a:off x="1187280" y="1628640"/>
            <a:ext cx="6409080" cy="48085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8" descr=""/>
          <p:cNvPicPr/>
          <p:nvPr/>
        </p:nvPicPr>
        <p:blipFill>
          <a:blip r:embed="rId2"/>
          <a:stretch/>
        </p:blipFill>
        <p:spPr>
          <a:xfrm>
            <a:off x="2103480" y="171360"/>
            <a:ext cx="34862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9307"/>
            </a:gs>
            <a:gs pos="100000">
              <a:srgbClr val="fdd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3" descr=""/>
          <p:cNvPicPr/>
          <p:nvPr/>
        </p:nvPicPr>
        <p:blipFill>
          <a:blip r:embed="rId1"/>
          <a:stretch/>
        </p:blipFill>
        <p:spPr>
          <a:xfrm>
            <a:off x="-324000" y="438120"/>
            <a:ext cx="9491760" cy="277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(447)"/>
          <p:cNvPicPr/>
          <p:nvPr/>
        </p:nvPicPr>
        <p:blipFill>
          <a:blip r:embed="rId2"/>
          <a:stretch/>
        </p:blipFill>
        <p:spPr>
          <a:xfrm>
            <a:off x="611280" y="549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gbook01"/>
          <p:cNvPicPr/>
          <p:nvPr/>
        </p:nvPicPr>
        <p:blipFill>
          <a:blip r:embed="rId3"/>
          <a:stretch/>
        </p:blipFill>
        <p:spPr>
          <a:xfrm>
            <a:off x="3132000" y="4365720"/>
            <a:ext cx="429912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bedf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95640" y="2743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Arial"/>
              </a:rPr>
              <a:t>Быки и коровы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76720" y="2276640"/>
            <a:ext cx="5410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ки и коровы — логическая игра для двух игроков. Для игры достаточно иметь бумагу, ручку и уметь считать. Также игра может называться «Цифр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ют двое. Каждый задумывает и записывает тайное 4-х значное число с неповторяющимися цифрами. Игрок, который начинает игру по жребию, делает попытку отгадать число. Попытка — это 4-х значное число с неповторяющимися цифрами, сообщаемое противнику. Противник сообщает в ответ, сколько цифр угадано без совпадения с их позициями в тайном числе(коровы) и сколько угадано вплоть до позиции в тайном числе(быки). 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умано тайное число «3219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ытка: «2310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 две «коровы» (две цифры: 2 и 3 — угаданы на неверных позициях) и один «бык» (одна цифра 1 угадана вплоть до пози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оки делают попытки угадать по очереди. Побеждает тот, кто угадает перв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3429000"/>
            <a:ext cx="295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3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б, 2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82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б, 1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6360" cy="48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2484360" y="2349360"/>
            <a:ext cx="503280" cy="493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1655640" cy="1247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4"/>
          <a:stretch/>
        </p:blipFill>
        <p:spPr>
          <a:xfrm>
            <a:off x="6948360" y="189000"/>
            <a:ext cx="1644840" cy="12380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3132000" y="1628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угадать число сопер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95280" y="2276640"/>
            <a:ext cx="1224000" cy="576000"/>
          </a:xfrm>
          <a:prstGeom prst="rect">
            <a:avLst/>
          </a:prstGeom>
          <a:solidFill>
            <a:srgbClr val="b83d68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2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2700360" y="189000"/>
            <a:ext cx="3097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сад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3384360" cy="4229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3851280" y="1268280"/>
            <a:ext cx="52927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чале игры на бумаге рисуется несколько точек (их называют семен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 игрок соединяет 2 точки линией, или рисует линию-петлю, начинающуюся в какой-нибудь точке и в этой же точке заканчивающуюся («рассада прорастает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ждой проведённой линии рисуется одна новая точка, при  этом должны соблюдаться следующие правила: линии не должны пересекаться, проводимая линия не должна проходить через ранее поставленные точки и  из каждой точки не должно исходить более трёх ли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грывает тот игрок, который не сможет сделать 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324000" y="765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игры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ть линии, пока у противника не закончатся х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324000" y="573264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ателями игры «Рассада» являются профессо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гличан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н Хортон Конвей и аспиран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йкл Стьюарт Патерсон, котор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обрели в 1967 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403280" y="260280"/>
            <a:ext cx="61930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«Ход конём»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4140360" y="1197000"/>
            <a:ext cx="4608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игры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авить числа от 1 до 100 в клетках квадрата 10*10,сделать как можно больше ходов, проходя через все клетки  один раз, и только буквой «Г», как ходит «Конь» в шахма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игра известна как задача с XVIII века. Леонард Эйлер посвятил ей большую работу «Решение одного любопытного вопроса, который, кажется, не подчиняется никакому исследовани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м классе рекордное число заполненных клеток , это 98. Мы не останавливаемся на достигнутом и пытаемся дойти до  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628640"/>
          <a:ext cx="3744720" cy="4206960"/>
        </p:xfrm>
        <a:graphic>
          <a:graphicData uri="http://schemas.openxmlformats.org/drawingml/2006/table">
            <a:tbl>
              <a:tblPr/>
              <a:tblGrid>
                <a:gridCol w="434880"/>
                <a:gridCol w="330120"/>
                <a:gridCol w="343080"/>
                <a:gridCol w="374400"/>
                <a:gridCol w="379440"/>
                <a:gridCol w="376200"/>
                <a:gridCol w="376560"/>
                <a:gridCol w="376200"/>
                <a:gridCol w="377640"/>
                <a:gridCol w="37620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5:09:59Z</dcterms:created>
  <dc:creator>вадик</dc:creator>
  <dc:description/>
  <dc:language>en-US</dc:language>
  <cp:lastModifiedBy>Вера</cp:lastModifiedBy>
  <dcterms:modified xsi:type="dcterms:W3CDTF">2013-11-16T02:13:27Z</dcterms:modified>
  <cp:revision>100</cp:revision>
  <dc:subject/>
  <dc:title>Слайд 1</dc:title>
</cp:coreProperties>
</file>