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590E-5572-4225-8819-BE5C7786B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CCD9-417F-4423-889A-55C9D0AA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6E1E-C98A-4482-A242-0D679E463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5FD8-3174-4016-9AAF-99D9A6E15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8A8F-1909-46C2-ADF7-6481DDE82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B2E3-125F-4B44-8684-B007FBCF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DBB1-E911-4B03-84DA-E98F4311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87E9-FDC9-4A66-B4AF-C190DE70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91D9-9926-490C-B6E0-82ED9EE5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F7B1-1C60-44F6-BDA5-724AFE15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584B-03FC-40A5-B5DC-8C531CE2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40CD-521A-490B-8C59-5A92DF72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FB83-346B-4EA3-BA54-09544BC7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68E2-48D2-4044-8969-0B8EECD9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2F77-7B99-4737-A4C0-CA225720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4AC6-6CF2-46C3-AE46-FEED2DFE8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FD36-18D8-4896-9E13-1F654E943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4207-5496-417F-AC62-0C94F043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4DB2-535D-48A7-A20A-FE8A81BC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D0B5-500E-41C8-8A29-63D3660E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5790-7A08-4F0F-862B-BD0A9FCB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EC57-0E78-4D6A-BF4D-07C842C4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B8C7-6610-474C-8915-1496A1AF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3135-CA3D-4305-B4AF-39D7A37D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0629-B2F7-4107-8C58-A88F6167FD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290A-F90F-403A-8C3D-DF56A2E953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Психологическое сопровождение младших школьников в рамках ФГОС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работа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дагог-психоло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У «СОШ № 3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ыстрова Елена Василь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rcRect l="14011" t="0" r="0" b="15694"/>
          <a:stretch/>
        </p:blipFill>
        <p:spPr>
          <a:xfrm>
            <a:off x="6516720" y="0"/>
            <a:ext cx="262728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Особенности коррекционно-развивающей работы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) с изменением социального статуса ребенка: из дошкольника он превращается в учен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 со сменой ведущей деятельности: главной становится учебная деятель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 с расширением межличностных связей и изменением социального окруж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) с формированием оптимального уровня активности, произволь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) с изменением эмоциональной сферы, в связи с адаптацией к школьным требования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Направление коррекционно-развивающей работы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Аналитическое направлени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определяет взаимодействие специалистов в работе (педагог-психолог, педагоги, социальный педагог), а также позволяет корригировать программы занятий в соответствии с достижениями учащих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2480" y="268200"/>
            <a:ext cx="707364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Психологическое консультативно-просветительско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обеспечивает оказание помощи педагогам и родителям в вопросах воспитания и обучения ребенка, предполагает разработку рекомендаций в соответствии с возрастными и индивидуально-типическими особенностями детей, состоянием их соматического и психического здоровья, способствует повышению профессиональной компетенции учителей, включению родителей в решение коррекционно-воспитательных задач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76816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Организационно-методическое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включает подготовку и участие педагога-психолога в консилиумах, методических объединениях, педагогических советах, оформлении документац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Основные этап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    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Первый этап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ориентирован на психологическую подготовку к школьному обучению с учетом их актуального развития и потенциальных возможност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Участник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дети подготовительной к школе группы 6-7 л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Время реализаци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с ноября по апрель месяц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7159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 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Второй этап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ориентирован на оптимизацию и психологическое сопровождение процесса адаптации, а также на развитие познавательных возможностей школьников с учетом их актуального развития и потенциальных возможностей и формирование положительной учебной мотивац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Участники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учащиеся  1 класса, 7 л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Время реализации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с сентября по апрель меся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71596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В результате участия в психологических занятия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рмируются у детей осознания защитных реакц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нижается значимости травмирующего факто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вышает самооцен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нижается значимость неудачных поступков и действ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рмируются психологические свойства и умения, необходимые для успешного развития, обучения и общ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77547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 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Третий этап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ориентирован на развитие и становление личностной и познавательной сферы учащих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Участник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дети 2 класса 8 л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Время реализаци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с сентября по апрель меся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76057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 результате участия в психологических занятиях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рмируются у детей осознания защитных реакц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нижается значимость травмирующего факто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вышается самооцен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нижается значимость неудачных поступков и действ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рмируются психологические свойства и умения, необходимые для успешного развития, обучения и общ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рмируются чувства «психологической безопасности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2840" y="268200"/>
            <a:ext cx="7372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  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Четвертый  этап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ориентирован на развитие коммуникативных умений. Третьеклассники  – это завтрашние подростки. Проблема общения становится актуальной и как ведущая деятельность общение потеснит учебу и другие виды деятельн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Участники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дети 3 класса 9 л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овременная школа ставит своей главной целью гармоничное развитие ребенка. Разумеется, гармоничное развитие предполагает не только интеллектуальное развитие, связанное с содержанием образования, но и развитие физическое, эмоциональное, личностное. В этой связи особенно значимой в современных условиях является работа службы психологического сопровождения ребенк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7e7ff"/>
                </a:solidFill>
                <a:latin typeface="Arial"/>
              </a:rPr>
              <a:t>Пояснительная запис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79786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 результате участия в психологических занятиях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рмируются у детей осознания защитных реакц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нижается значимость травмирующего факто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вышается самооцен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нижается значимость неудачных поступков и действ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рмируются психологические свойства и умения, необходимые для успешного развития, обучения и общ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рмируются чувства «психологической безопасности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753264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Пятый этап: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риентирован  на развитие коммуникативных умений. Четвероклассники  – это завтрашние подростки. Проблема общения становится актуальной, как и в 3 классе, ведущая деятельность общение потеснит учебу и другие виды деятельности. Подготовка к успешному переходу в среднее звен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Участник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учащиеся 4 класса 10 л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777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29600" cy="55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В результате участия в психологических занятиях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нижается значимость травмирующего факто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вышается самооцен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нижается значимость неудачных поступков и действ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рмируются психологические свойства и умения, необходимые для успешного развития, обучения и общ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рмируются чувства «психологической безопасности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745632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се этапы взаимосвязаны и направлены на реализацию поставленных целей и задач психологического сопровождения младших школьников в рамках ФГО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Этапы работы с детьми младшего школьного возраста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Этап психологического сопровождения детей старшего дошкольного возраста, направлено на  психологическую готовность к школьному обучению, а именно – физиологическую, социальную и интеллектуальную готовность к школьному обучению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840" y="268200"/>
            <a:ext cx="78184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Этап психологического сопровождения учащихся 1-х классов, направлено на решение проблем адаптации к новым социальным условиям, освоение роли и статуса ученика, формирование мотива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Этап психологического сопровождения учащихся 2-х классов, направлено на формирование творческого подхода в усвоении школьных знаний, умений и навыков, развитие творческого мышления, высвобождение естественного интереса к познанию нового. Выбор данного направления обусловлен тем, что ко второму классу ребенок полностью осваивает роль ученика, его познавательная активность становится более ригидной, появляется стремление опираться на усвоенные алгоритмы в обуче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79786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Этап психологического сопровождения учащихся 3-х классов, основывается на необходимости формирования коммуникативных навыков учащихся. Особенно ценным становится в этот период опыт коллективного сотрудничеств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Этап психологического сопровождения учащихся 4-х классов, основывается также на необходимости формирования коммуникативных навыков учащих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7e7ff"/>
                </a:solidFill>
                <a:latin typeface="Arial"/>
              </a:rPr>
              <a:t>Цель психологического сопровождения: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здание оптимальных условий для детей младшего школьного возраста в обучении в соответствии с их возрастными и индивидуально-типологическими особенностями, состоянием соматического и нервно-психического здоровья, способствующих их интеллектуальному, личностному и эмоционально-волевому развитию; содействие социально-культурной адаптации в современном социум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7e7ff"/>
                </a:solidFill>
                <a:latin typeface="Arial"/>
              </a:rPr>
              <a:t>Задачи психологического сопровождения: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ктуализация и развитие познавательных процессов и мыслительных операций с учетом уровня актуального развития учащихс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сихологическая готовность к школьному обучени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действие становлению и развитию личностных качеств и эмоционально-волевых особенностей учащихся, способствующих нормальному протеканию процесса обучения и воспитания и осуществлять их коррекцию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витие коммуникативных умений и навыков, необходимых для продуктивного взаимодействия с социумом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здание условий для эффективной социально-психологической адаптации школьников к новым условиям жизни, помощь в решении проблем социального взаимодействия, улучшение климата межличностных взаимоотношен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7e7ff"/>
                </a:solidFill>
                <a:latin typeface="Arial"/>
              </a:rPr>
              <a:t>Основные направления психологического сопровождения младших школьников: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сихолого-диагностическое направл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заключается в проведении диагностического обследования школьников, организованного в рамках комплексного изучения развития учащихся, определение индивидуальных особенностей и склонностей личности, её потенциальных возможностей в процессе обучения и воспитания, а также выявление причин механизмов нарушений в обучении, развитии, социальной адаптации и  дальнейшего динамического наблюдения за развитием учащихся. Диагностика проводится 3 раза за учебный год (первичная, промежуточная итоговая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7e7ff"/>
                </a:solidFill>
                <a:latin typeface="Arial"/>
              </a:rPr>
              <a:t>Психологическое коррекционно-развивающее направление</a:t>
            </a:r>
            <a:r>
              <a:rPr b="0" lang="en-US" sz="28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Цели психологической коррекционно-развивающей работы с детьми оп­ределяются пониманием закономерностей психического развития ребенка как активного деятельного процесса, реализуемого в сотрудничестве с взрослым. На этом основании выделяют три основных направления и области постановки коррекционных целе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Оптимизация социальной ситуации развит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Развитие видов деятельности ребе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Формирование возрастно-психологических новообразова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09:04:25Z</dcterms:created>
  <dc:creator>кабинет №7</dc:creator>
  <dc:description/>
  <dc:language>en-US</dc:language>
  <cp:lastModifiedBy>кабинет №7</cp:lastModifiedBy>
  <dcterms:modified xsi:type="dcterms:W3CDTF">2011-09-30T08:40:09Z</dcterms:modified>
  <cp:revision>3</cp:revision>
  <dc:subject/>
  <dc:title>Психологическое сопровождение младших школьников в рамках ФГОС</dc:title>
</cp:coreProperties>
</file>