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02F-42F3-4BC6-844E-D74CA359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C3A-B94B-4361-A76C-06868773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9F4-BF87-471A-8B14-884C7022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56B-2BF8-4697-88D7-A9D07AB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03BE-EBE7-4F05-B45C-8D24C306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2F9-59EB-4BDD-9A30-AF433648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B3E3-B144-46B6-8D56-920908CA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1F55-61C6-48F2-A1BB-0F521FF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1B4C-0985-4DDD-992F-062E2771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BCA6-28BA-445D-9A70-149D5F9D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A1E9-A3CE-488B-A5A5-7FC8A587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4B-066F-42D4-B7E8-6A48E92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1773-E1C7-4926-92D9-B8F5F30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4718-10E0-474A-9407-FC6D733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8F23-59F5-422D-8D3E-7485FED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47F-7900-4260-96F9-ECB35899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CD3-3710-496D-8A34-459F10DF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F04-47B9-48D9-9450-17BC5AE4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FF2-0B6D-485A-893A-0E4923A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254-EF2A-4446-8474-256A87DD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301-3DB2-453E-8E3D-2398AE79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E22-60E0-4059-B487-BD60579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AF3-422B-4D75-A408-14C1924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F47-EBB0-4357-A226-8C5FF0C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5BD-B2F2-47CA-B9C3-6C6893670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B48-E62C-4161-89C4-257B68EA2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сихологическое сопровождение младших школьников в рамках ФГОС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ОШ № 3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ва Еле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4011" t="0" r="0" b="15694"/>
          <a:stretch/>
        </p:blipFill>
        <p:spPr>
          <a:xfrm>
            <a:off x="6516720" y="0"/>
            <a:ext cx="2627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Особенности коррекционно-развивающей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с изменением социального статуса ребенка: из дошкольника он превращается в уче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со сменой ведущей деятельности: главной становится учебная дея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с расширением межличностных связей и изменением социального окру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с формированием оптимального уровня активности, произво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с изменением эмоциональной сферы, в связи с адаптацией к школьным требован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Направление коррекционно-развивающей работы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налитическое направле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определяет взаимодействие специалистов в работе (педагог-психолог, педагоги, социальный педагог), а также позволяет корригировать программы занятий в соответствии с достижениями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80" y="268200"/>
            <a:ext cx="70736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сихологическое консультативно-просветительско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беспечивает оказание помощи педагогам и родителям в вопросах воспитания и обучения ребенка, предполагает разработку рекомендаций в соответствии с возрастными и индивидуально-типическими особенностями детей, состоянием их соматического и психического здоровья, способствует повышению профессиональной компетенции учителей, включению родителей в решение коррекционно-воспитательных зада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6816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рганизационно-методическое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ключает подготовку и участие педагога-психолога в консилиумах, методических объединениях, педагогических советах, оформлении документ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новные этап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ервый этап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риентирован на психологическую подготовку к школьному обучению с учетом их актуального развития и потенциальных возможнос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дети подготовительной к школе группы 6-7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ремя реализаци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 ноября по апрель меся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159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ориентирован на оптимизацию и психологическое сопровождение процесса адаптации, а также на развитие познавательных возможностей школьников с учетом их актуального развития и потенциальных возможностей и формирование положительной учебной мотива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чащиеся  1 класса, 7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ремя реализаци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 сентября по апрель меся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7159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и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 самооц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7547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ориентирован на развитие и становление личностной и познавательной сферы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дети 2 класса 8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ремя реализа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с сентября по апрель меся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76057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840" y="268200"/>
            <a:ext cx="7372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Четвертый  этап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ориентирован на развитие коммуникативных умений. Третьеклассники  – это завтрашние подростки. Проблема общения становится актуальной и как ведущая деятельность общение потеснит учебу и другие виды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ети 3 класса 9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Современная школа ставит своей главной целью гармоничное развитие ребенка. Разумеется, гармоничное развитие предполагает не только интеллектуальное развитие, связанное с содержанием образования, но и развитие физическое, эмоциональное, личностное. В этой связи особенно значимой в современных условиях является работа службы психологического сопровождения ребен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79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у детей осознания защитных реак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7532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Пятый этап: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ан  на развитие коммуникативных умений. Четвероклассники  – это завтрашние подростки. Проблема общения становится актуальной, как и в 3 классе, ведущая деятельность общение потеснит учебу и другие виды деятельности. Подготовка к успешному переходу в среднее зве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аст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учащиеся 4 класса 1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77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 результате участия в психологических занятия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травмирующего фак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вышается самооце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ижается значимость неудачных поступков и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психологические свойства и умения, необходимые для успешного развития, обучения и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чувства «психологической безопаснос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74563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этапы взаимосвязаны и направлены на реализацию поставленных целей и задач психологического сопровождения младших школьников в рамках ФГ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Этапы работы с детьми младшего школьного возраст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детей старшего дошкольного возраста, направлено на  психологическую готовность к школьному обучению, а именно – физиологическую, социальную и интеллектуальную готовность к школьному обучению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840" y="268200"/>
            <a:ext cx="78184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1-х классов, направлено на решение проблем адаптации к новым социальным условиям, освоение роли и статуса ученика, формирование мотив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2-х классов, направлено на формирование творческого подхода в усвоении школьных знаний, умений и навыков, развитие творческого мышления, высвобождение естественного интереса к познанию нового. Выбор данного направления обусловлен тем, что ко второму классу ребенок полностью осваивает роль ученика, его познавательная активность становится более ригидной, появляется стремление опираться на усвоенные алгоритмы в обу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797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3-х классов, основывается на необходимости формирования коммуникативных навыков учащихся. Особенно ценным становится в этот период опыт коллективного сотрудниче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ап психологического сопровождения учащихся 4-х классов, основывается также на необходимости формирования коммуникативных навыков учащих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Цель психологического сопровождения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оптимальных условий для детей младшего школьного возраста в обучении в соответствии с их возрастными и индивидуально-типологическими особенностями, состоянием соматического и нервно-психического здоровья, способствующих их интеллектуальному, личностному и эмоционально-волевому развитию; содействие социально-культурной адаптации в современном социу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Задачи психологического сопровождения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уализация и развитие познавательных процессов и мыслительных операций с учетом уровня актуального развития учащихс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сихологическая готовность к школьному обуч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действие становлению и развитию личностных качеств и эмоционально-волевых особенностей учащихся, способствующих нормальному протеканию процесса обучения и воспитания и осуществлять их коррекци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витие коммуникативных умений и навыков, необходимых для продуктивного взаимодействия с социумом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ие условий для эффективной социально-психологической адаптации школьников к новым условиям жизни, помощь в решении проблем социального взаимодействия, улучшение климата межличностных взаимоотнош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Основные направления психологического сопровождения младших школьников: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сихолого-диагностическое напра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заключается в проведении диагностического обследования школьников, организованного в рамках комплексного изучения развития учащихся, определение индивидуальных особенностей и склонностей личности, её потенциальных возможностей в процессе обучения и воспитания, а также выявление причин механизмов нарушений в обучении, развитии, социальной адаптации и  дальнейшего динамического наблюдения за развитием учащихся. Диагностика проводится 3 раза за учебный год (первичная, промежуточная итогова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7e7ff"/>
                </a:solidFill>
                <a:latin typeface="Arial"/>
              </a:rPr>
              <a:t>Психологическое коррекционно-развивающее направление</a:t>
            </a: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 психологической коррекционно-развивающей работы с детьми оп­ределяются пониманием закономерностей психического развития ребенка как активного деятельного процесса, реализуемого в сотрудничестве с взрослым. На этом основании выделяют три основных направления и области постановки коррекционных ц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Оптимизация социальной ситуации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Развитие видов деятельности реб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Формирование возрастно-психологических новообраз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9:04:25Z</dcterms:created>
  <dc:creator>кабинет №7</dc:creator>
  <dc:description/>
  <dc:language>en-US</dc:language>
  <cp:lastModifiedBy>кабинет №7</cp:lastModifiedBy>
  <dcterms:modified xsi:type="dcterms:W3CDTF">2011-09-30T08:40:09Z</dcterms:modified>
  <cp:revision>3</cp:revision>
  <dc:subject/>
  <dc:title>Психологическое сопровождение младших школьников в рамках ФГОС</dc:title>
</cp:coreProperties>
</file>