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18D-6FC7-4A56-AD15-DF405DF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87F-95BE-48C4-AF74-5C1E4DE1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104-1AB9-4A4C-81DA-E7FC9268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362-53EA-4BB2-BC5E-A289213F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73F5-92E2-4056-B634-B625F2A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7B1-D31C-41D9-AA32-7F8BEB3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1EC9-8550-4940-86DC-0F35EDE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D15-2247-483F-AD40-E4983D37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BE4F-4F1C-4241-9308-DD517FE0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B6B-9C35-42DA-BEC5-7DE2942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BBF-1E44-4FD4-9871-691631DE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A1D-8F9F-4E99-BF07-6C292C2F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7CD-62D9-43CE-B041-84CD9A6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15DB-04D1-4E94-9D91-10516C6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C8EC-AE04-4F05-83BA-52ABAB9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2642-5557-43B6-B3BA-4FB7BBAC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63BD-6826-4D17-ACC2-8556A800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A893-23B3-4A21-ACDC-FCBB3471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19C1-FF84-48F7-8261-BA09F82A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4F5F-8E83-405F-93CC-DB9F396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7F1E-3321-4CC4-A5CA-B9DDE49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8E08-E402-4D80-BE7F-57E3C6C9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557-1C8E-43F1-9F80-F9BFCD3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1D40-5AB9-4E31-9210-7D0D3B4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1091-FC22-4CD0-844A-174E41A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FA4E-06CA-48F8-A7EE-A726095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BA76-0472-4821-B23E-C78BEB8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DC0D-B2A1-41A4-8629-4D03ED6C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1D22-E494-4DBC-8B79-087E73B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EC8A-2B59-4CE2-9831-DF3F448A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922E-2E38-4FD0-B50C-AA5F69AC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95DC-78A5-4452-8A75-0B7C4C76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23F8-9D05-4DAD-8812-64B3FA4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628-3B70-46CE-8B3B-CA75A64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66D4-C3C8-4775-AE06-6D7D7B33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B5B5-1686-46D2-9357-B867140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200C-4971-4942-89F4-74DB536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7504-E3F2-4DC7-884E-88E4307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1770-028B-4563-933F-11FA124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ED2C-BA20-4ABD-A7F8-E77A191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1729-D5B0-4049-8D69-E87924A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0448-8838-4753-A827-3E691791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E4C2-0D0E-4A22-8423-F098D59E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24ED-210A-44B9-A91E-65DBC58E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C42-C539-4328-8727-A53F822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F106-347B-458D-9D3F-CB2CE97C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68D1-E161-4D0D-BAAB-5ED1DE02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B86C-3A65-4D9C-8F88-5C96075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7F3B-9B91-4BCE-8FFE-D2037705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8D1A-37F9-4453-A721-3C738CB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4DA5-8069-4D2C-993A-8160F34F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8534-272E-4EDF-A1CA-75EEA61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9B41-50C0-44D0-966F-83ECE34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F569-4D2A-4CF2-97EF-2B7A73B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9AC6-D85F-4FF6-860E-8554D7DB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0A4-2D5F-4099-A5AA-397AB08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3BD4-2165-4A4E-A24A-536B1329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8AF-7B31-42A5-8AFD-CF402E8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FF2-B2D3-4001-9525-5670CC5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2DD-1A93-479D-8659-A085007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220-F7FB-43DD-B9F3-761E0415CC95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DF2-EDBD-4CE5-987C-61F2598070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A20-46D6-47E8-903B-74AD629F1ADC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F8E-353E-461C-92AC-A6B147020C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2F1-9ADE-4D8C-9CAF-E5E16D1489A1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37C2-A336-4ED0-AB39-967629B608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0437-F504-4E1C-A030-D50BF3493BB1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D02-7373-437C-99AF-BF6E203EB1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915-03F2-4CB2-8F08-C053AB5C8C6F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B55-248B-42C3-B5E8-EF70153AFA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e9e5dc"/>
              </a:solidFill>
              <a:latin typeface="Cambria"/>
            </a:endParaRPr>
          </a:p>
        </p:txBody>
      </p:sp>
      <p:sp>
        <p:nvSpPr>
          <p:cNvPr id="233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E796-9A76-46E2-AB4F-214E85DFAC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ХЕМЫ РАЗБОРОВ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357120" y="-32400"/>
            <a:ext cx="8786880" cy="60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глаг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.Часть реч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Начальная форма (инфинити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вид (совершенный или несовершенный), спряжение, переходный или непереходный, возвратный или невозврат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наклонение (изъявительное, повелительное или условное), время (в изъявительном наклонени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лицо (в изъявительном наклонении в настоящем и будущем времени), род (в прошедшем времени), чис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3.Синтаксическая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Рисовал - гл., рисовать, несов. вид,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спр., переходн.,невозвр.,изъявит, накл., прош.вр.,ед. ч., муж. р.; (художник)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 рисовал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простое глаг. сказуем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149-13ED-4424-8188-BF729EC39D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14200" y="269280"/>
            <a:ext cx="8572680" cy="634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причаст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Часть речи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(особая форма глагола). Начальная форма (именит, падеж, ед. ч., муж. ро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действительное или страдательное, вид совершенный или несовершенный, время (настоящее или прошедш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у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страдательных - полная или краткая форма, число, в единственном числе - род, у полных причастий - паде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3.    Синтаксическая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Выглянувшее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особ. ф. гл., прич., выглянувший, действ., сов. вид, прош.вр., ед. ч., ср. р., имен. пад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олнце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(какое?) выглянувшее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согласованное опреде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2FA-94C3-4030-BF52-8C276AEDF36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785880" y="28080"/>
            <a:ext cx="7786800" cy="58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дее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1.Часть речи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(особая неизменяемая форма глагол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2.Морфологические признаки: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вид, возвратное или невозврат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3.Синтаксическая роль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Красуясь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особ. неизм.ф.гл.- дееприч., несоверш.в.,возв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есело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красуясь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обстоятельство образа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065-BE7E-453E-85FB-4006207108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357120" y="-48600"/>
            <a:ext cx="8358120" cy="582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наре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1. Часть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2. Разряд по зна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3. Степень сравнения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(если есть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4. Синтаксическая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; Сгоряча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нар., обстоят, (причины), неизм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ударил (как?) 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сгоряча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обстоятельство образа дей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BF1-C0B4-4567-9835-7CB42A82FF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571680" y="17640"/>
            <a:ext cx="857232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ужебной части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.Назвать часть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Указать: у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едлог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произв. или непроизв., простой, сложный или составной, со словом в каком падеже употреблён, какие отношения выраж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союз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сочинительный или подчинительный, разряд по значению, простой или составной, какие синтаксические единицы связыв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частицы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функция, разряд по значе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междометия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разряд по значению, разряд по происхожд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-з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едл.,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непроизв.,сложн.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-за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туч (род. пад.)  причинные отношения.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оюз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, сочин., разделит.,простой, непроизв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т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част.,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смысловая, указат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Увы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междом.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, эмоц., непроизв., выражает сожа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D00-41A7-4792-8336-C95E7B5BCF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57120" y="-30960"/>
            <a:ext cx="878688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орядок синтаксического разб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восочет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Выделить словосочетание из предло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Указать его ви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Указать его начальную фор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4.Найти главное и зависимое слово, задать вопрос от главного слова к зависимому, указать, какими частями речи они являю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5.    Определить средства синтаксической связи (окончание, предлог, порядок слов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6.    Установить вид подчинительной связи (согласование, управление, примыкани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7.    Определить синтаксическую функцию зависимого слов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91D-A2A5-484C-976C-08782D3704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00040" y="-30960"/>
            <a:ext cx="864396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ростое пред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Выделить грамматическую основу, указать,что предложение просто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Указать вид предложения по цели высказыва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и по интона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Строение предложени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двусоставное или односоставное,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если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односоставное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- какого типа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(определённо-личное, неопределённо-личное, обобщённо-личное, безличное, назывное);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распространённое или нераспространенное; полное или неполно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4.Разобрать предложение по членам. Указать, чем они выраже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5.Если предложение осложнено, отметить эт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4C4-6F71-48AB-AEBC-A4E6A8DDB5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714240" y="31320"/>
            <a:ext cx="8143920" cy="67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    </a:t>
            </a: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ожное предлож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1.Указать вид предложения по цели высказы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и эмоциональной окра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2.Определить тип сложного предло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сочинён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определить, из скольких простых оно состоит, какими  сочинительными союзами они связа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подчинён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указать главное и придаточное (к чему относится и чем прикрепляется придаточное), определить вид придаточного предлож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го бессоюз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определить,из скольких простых оно состоит, определить знач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дновременность,последовательность, противопоставление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Охарактеризовать части как простые предложения, выделить их грамматические осн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4.    Составить схему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9E2-4E9C-4042-909A-C272DC2187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31680"/>
            <a:ext cx="857268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Фонетический разб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Разбить слово на сл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2. Поставить удар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3. Охарактеризовать каждый звук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для гласных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ударный или безударный, какой буквой обознач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для согласных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звонкий или глухой, твёрдый или мягкий, какой буквой обозначе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4.Указать количество букв и зву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етрадь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тет-радь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 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′ ]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согл.,парн./мягк., парн./глух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е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[и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гласн, безудар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 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согл.,парн./твёрд.,парн./глу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р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р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 согл.,парн/твёрд.,непарн./звон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а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а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гласн., удар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д 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′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- согл.,парн/мягк.,парн./глух.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ь -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_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____________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7 букв, 6 зву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6286680" y="6210360"/>
            <a:ext cx="15714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6EF-8B3B-4E9D-B16B-5EF4C6E165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785880" y="519480"/>
            <a:ext cx="771516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</a:t>
            </a: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емный разб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Определить часть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У изменяемого слова выделить окончание, объяснить его зна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Подобрав однокоренные слова, выделить кор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ыделить приставки, суффик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Правильность выделения этих морфем доказать примерами слов с другим корнем, но с этими же приставками и суффик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5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Указать основу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797-3990-4429-A5A2-53D52744FB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14200" y="169200"/>
            <a:ext cx="8643960" cy="65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</a:t>
            </a:r>
            <a:r>
              <a:rPr b="1" i="1" lang="ru-RU" sz="3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Лексический разбор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1.Лексическое значение слова в данном контекс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2.Однозначное или многозна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3.В прямом или переносном смысле употребл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4.Имеет ли омони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5.Имеет ли синонимы или антонимы, если да, то ка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6.Имеет ли пометки в словаре (диалектное, специально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Блюдо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большая тарелка для подачи кушанья на стол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; многозначное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, в прямом смысле,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синоним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тарелка, пометок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82AC-0184-4441-8338-EB0F966021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285840" y="140760"/>
            <a:ext cx="8429400" cy="69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овообразовательный раз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Определить лексическое значение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Указать часть речи, к которой оно принадлеж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Определить слово, от которого оно образовалось, выделить производящую осно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4.    Определить, при помощи каких средств образовалось слово, выдели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5.    Указать способ слово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  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земля, копать→землекоп (сложение)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841-3B72-4EB8-B61A-1DAB8EF059E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27720"/>
            <a:ext cx="9144000" cy="56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имени     существ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Часть речи. Начальная форма (именительный падеж, единственное число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собственное или нарицательное; одушевлённое ил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еодушевлённое; конкретное, абстрактное, вещественное или собирательное; род; склон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число; паде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роль в предложен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В цветах - сущ., (что?) цветок, нариц., неодуш., конкретн., муж. р.,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скл., в форме мн. ч., П.п.; (где?) в цветах - обстоятельств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1D4-83AB-405A-B6EF-6D14507A6A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0" y="-11520"/>
            <a:ext cx="9144000" cy="60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Морфологический разбор имени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илага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   Часть речи. Начальная форма (именительный падеж, единственное число, мужской род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 по значению (качественное, относительное или притяжательно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непостоянные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: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у качественных краткая или полная форма, степень сравнения; у всех - число; род (в ед.ч.),паде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Яркие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 прилаг., (какой?) яркий, качественное, полная. форма, именит. пад., мн.ч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звёзды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(какие?) яркие - согласованное опреде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A120-C4A4-4884-9AAD-B3F8EC6E6B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0" y="-30960"/>
            <a:ext cx="914400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имени числ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Часть речи. Начальная форма (именительный падеж, мужской род, единственное число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 по структуре (простое, сложное или составное); разряд по значению (количественное, собирательное или порядково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падеж, если есть - число и р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Двадцать второй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(ученик)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числ.,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двадцать два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, сост., порядк., в форме именит, пад., ед. ч., муж. р., ученик (который?) двадцать второй - согласованное опреде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43C6-E65B-414E-A306-28F7D9E22B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500040" y="315000"/>
            <a:ext cx="8215200" cy="59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местоим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   Часть речи. Начальная форма (именительный падеж, единственное числ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 Морфологические признаки: 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падеж, число и род (если е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У него - мест.,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он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,личн.,м.род., пад., 3 л.,ед.ч.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у него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допол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F5E-BC57-4C19-B077-9F84077CB9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15:53:53Z</dcterms:created>
  <dc:creator>Admin</dc:creator>
  <dc:description/>
  <dc:language>en-US</dc:language>
  <cp:lastModifiedBy>Ирина</cp:lastModifiedBy>
  <dcterms:modified xsi:type="dcterms:W3CDTF">2012-11-20T17:12:53Z</dcterms:modified>
  <cp:revision>5</cp:revision>
  <dc:subject/>
  <dc:title>Слайд 1</dc:title>
</cp:coreProperties>
</file>