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B3F-FDDB-4FED-876E-127FFF2A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CD64-0D27-49DD-8C71-59343476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ED23-5B7C-40D6-938E-4B7DF5A9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F5C6-A184-4142-95A0-77FE585C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7941-2901-4BA7-9007-9492B07A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15E5-DF8F-4578-8022-6414ACFD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CEBDE-C1A4-456B-95BE-650077CC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3DF4-882C-4DF3-88ED-069038D6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F21C-0776-437F-88D7-ED79B6AE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6B5A-CBB1-4940-B271-0D96E756F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D37E-AE0D-4ABB-B63C-E18A0477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C703-905F-4503-A897-6C73C645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881B8-36F0-4540-BD11-D2F95DDF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1949-89C3-409B-853D-3235DACC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DA849-8288-422A-B9D5-52CB2F91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93C2-61B9-4DA8-BDBD-5954C8B7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0345-4377-4FE3-A985-11C08906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AFB8-D11C-4A65-8C91-15B748687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6B18A-4C23-4A99-9365-4F955315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80747-4D78-48E0-AAD9-58905848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7D37C-0269-40D4-8ABE-02150AA3F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550E-22B2-4F24-AA15-255B709D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9BCC-BED5-4D6A-B3FD-57B038357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82BF7-C1E5-462B-9E4F-6696A24D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2B34B-FC19-4A05-A6F3-2234BC3F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20CAD-6450-4677-90B0-003C1181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02B3D-1A97-4DEA-B51C-B6C0829F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404FC-E388-4601-8FB2-37F86F95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D56E6-693E-45C7-B6C1-FBB24E1C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95AD4-7881-4DFB-A94B-7F419AAA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3CA6C-0AE7-4A8B-A79E-8B5D5876D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9AB4B-8F09-458B-BC74-A4C7812E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99F8E-8620-4226-B940-8844F3CF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5346-8B22-4B3E-9A9D-9FE46718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EF7E2-809C-4B8D-B630-6F479CAA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07E8-5E0B-435E-A03C-0881343B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05458-E483-47BE-9E02-523CE3DE5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A9D64-E90A-4F03-8BC1-D27A2714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DDF0D-B4EE-46EE-A51D-C653CFD3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54F3A-B056-4A4A-B4DB-CAFCE32C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2D904-B857-4754-B497-8A73884EF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B2B70-5455-4181-A675-A53C2D92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16C7B-D7D2-4210-BB0C-DC4E75180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0132-547C-49C5-91BF-C5C743CA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A390-A515-4B6D-AFDA-91B446FB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0DB30-738B-4764-B9FE-71BB7CEF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FB1478-BBB6-4A1F-8324-7773DF5E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FB3A3-2B8F-4190-A885-0D76B8A7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96211-B908-4221-A4F5-67B7EE0EE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002F4-1E22-4C49-9E45-C8CB5C0C3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FE479-6446-4816-9C49-FA06F6A0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1493-A33E-4CD6-A350-2F03E5EF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0BDD5-658A-437E-85CA-F8E1A698E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E6B7B-41BC-4CBD-8378-CDA64E06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2B3F6-5038-4DF8-95DF-8196B2E7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A1F5-0791-466D-932B-2E451171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0534A-C868-45A3-97F8-EB421C191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331A-6E1A-421B-AD58-5560300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58A-4421-4BA2-B753-A718EE3AA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0FF-181D-45F7-8202-6629F1C2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DD2CC-2BE5-4895-B201-1B82C78C9A48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E5A2-E282-42DD-B6EA-0C3F406F1F1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0C5D-7AE3-4F91-8815-2196E25E756B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5F76-614B-4486-9D14-EC7C45687F6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5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99CC-9AC8-4A6D-B295-FCBE8849BECA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FF22-68C0-4126-8185-19834432AB3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771C-CC6B-4848-A74F-29579490218A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0773-2272-47D0-8CA5-6EB86256C3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9e5dc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ffffff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9e5dc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1A52-66E3-4D04-AC31-353CF06CDEB1}" type="datetime">
              <a:rPr b="0" lang="ru-RU" sz="1400" spc="-1" strike="noStrike">
                <a:solidFill>
                  <a:srgbClr val="e9e5dc"/>
                </a:solidFill>
                <a:latin typeface="Cambria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1145-25A4-47D7-A1E3-B5EF1225B2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e9e5dc"/>
              </a:solidFill>
              <a:latin typeface="Cambria"/>
            </a:endParaRPr>
          </a:p>
        </p:txBody>
      </p:sp>
      <p:sp>
        <p:nvSpPr>
          <p:cNvPr id="233" name="Номер слайда 1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8837D-F57F-445B-9D9C-79AD8F37C71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СХЕМЫ РАЗБОРОВ</a:t>
            </a:r>
            <a:endParaRPr b="0" lang="en-US" sz="4000" spc="-1" strike="noStrike">
              <a:solidFill>
                <a:srgbClr val="e9e5dc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357120" y="-32400"/>
            <a:ext cx="8786880" cy="606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       </a:t>
            </a:r>
            <a:r>
              <a:rPr b="1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глаго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1.Часть реч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Начальная форма (инфинити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2.Морфологические призна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вид (совершенный или несовершенный), спряжение, переходный или непереходный, возвратный или невозвратны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наклонение (изъявительное, повелительное или условное), время (в изъявительном наклонении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лицо (в изъявительном наклонении в настоящем и будущем времени), род (в прошедшем времени), числ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3.Синтаксическая р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Рисовал - гл., рисовать, несов. вид, </a:t>
            </a:r>
            <a:r>
              <a:rPr b="0" i="1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I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спр., переходн.,невозвр.,изъявит, накл., прош.вр.,ед. ч., муж. р.; (художник)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е рисовал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простое глаг. сказуемо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7266-2EDD-4B12-A9E9-4D5F46EDC3C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214200" y="269280"/>
            <a:ext cx="8572680" cy="634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причасти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1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Часть речи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(особая форма глагола). Начальная форма (именит, падеж, ед. ч., муж. род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2.    Морфологические признак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действительное или страдательное, вид совершенный или несовершенный, время (настоящее или прошедшее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у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страдательных - полная или краткая форма, число, в единственном числе - род, у полных причастий - падеж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3.    Синтаксическая ро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Выглянувшее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особ. ф. гл., прич., выглянувший, действ., сов. вид, прош.вр., ед. ч., ср. р., имен. пад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олнце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(какое?) выглянувшее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согласованное опреде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6C43-6479-4AC1-ACF7-90934EA737D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"/>
          <p:cNvSpPr/>
          <p:nvPr/>
        </p:nvSpPr>
        <p:spPr>
          <a:xfrm>
            <a:off x="785880" y="28080"/>
            <a:ext cx="7786800" cy="58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деепричаст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1.Часть речи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(особая неизменяемая форма глагола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2.Морфологические признаки: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вид, возвратное или невозврат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3.Синтаксическая роль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Красуясь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– 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особ. неизм.ф.гл.- дееприч., несоверш.в.,возвр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Весело</a:t>
            </a: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красуясь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-обстоятельство образа дей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00D-DB9E-4EA6-A386-82207F296C8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357120" y="-48600"/>
            <a:ext cx="8358120" cy="582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нареч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1. Часть реч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2. Разряд по знач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3. Степень сравнения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 (если есть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4. Синтаксическая р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; Сгоряча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нар., обстоят, (причины), неизм.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ударил (как?) </a:t>
            </a:r>
            <a:r>
              <a:rPr b="0" i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сгоряча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обстоятельство образа действ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AEBC-52BE-49B4-8054-F29A7D7281C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"/>
          <p:cNvSpPr/>
          <p:nvPr/>
        </p:nvSpPr>
        <p:spPr>
          <a:xfrm>
            <a:off x="571680" y="17640"/>
            <a:ext cx="8572320" cy="70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служебной части ре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1.Назвать часть реч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2.Указать: у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едлога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произв. или непроизв., простой, сложный или составной, со словом в каком падеже употреблён, какие отношения выража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союза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сочинительный или подчинительный, разряд по значению, простой или составной, какие синтаксические единицы связыва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частицы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функция, разряд по значени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междометия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разряд по значению, разряд по происхожде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з-за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-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предл.,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непроизв.,сложн.,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з-за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туч (род. пад.)  причинные отношения.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или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оюз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, сочин., разделит.,простой, непроизв.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вот</a:t>
            </a:r>
            <a:r>
              <a:rPr b="0" i="1" lang="ru-RU" sz="2400" spc="-1" strike="noStrike">
                <a:solidFill>
                  <a:srgbClr val="993366"/>
                </a:solidFill>
                <a:latin typeface="Arial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част.,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смысловая, указат.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Увы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междом.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, эмоц., непроизв., выражает сожал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868F-B22A-4D66-913F-FD7263E0DDF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57120" y="-30960"/>
            <a:ext cx="8786880" cy="606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Порядок синтаксического разб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Словосочета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Выделить словосочетание из предлож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Указать его ви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Указать его начальную форм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4.Найти главное и зависимое слово, задать вопрос от главного слова к зависимому, указать, какими частями речи они являютс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5.    Определить средства синтаксической связи (окончание, предлог, порядок слов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6.    Установить вид подчинительной связи (согласование, управление, примыкани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7.    Определить синтаксическую функцию зависимого слова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D0FC5-6FE9-4BA9-BDCE-9FA3061714A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"/>
          <p:cNvSpPr/>
          <p:nvPr/>
        </p:nvSpPr>
        <p:spPr>
          <a:xfrm>
            <a:off x="500040" y="-30960"/>
            <a:ext cx="8643960" cy="606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</a:t>
            </a:r>
            <a:r>
              <a:rPr b="0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Простое пред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Выделить грамматическую основу, указать,что предложение просто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Указать вид предложения по цели высказывания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и по интонац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Строение предложения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двусоставное или односоставное,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если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односоставное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- какого типа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(определённо-личное, неопределённо-личное, обобщённо-личное, безличное, назывное);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распространённое или нераспространенное; полное или неполно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4.Разобрать предложение по членам. Указать, чем они выражены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5.Если предложение осложнено, отметить эт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C498-6B13-4AF4-85FD-9817167A984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1"/>
          <p:cNvSpPr/>
          <p:nvPr/>
        </p:nvSpPr>
        <p:spPr>
          <a:xfrm>
            <a:off x="714240" y="31320"/>
            <a:ext cx="8143920" cy="67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           </a:t>
            </a:r>
            <a:r>
              <a:rPr b="1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Сложное предлож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1.Указать вид предложения по цели высказы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и эмоциональной окрас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2.Определить тип сложного предлож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ложносочинённого</a:t>
            </a:r>
            <a:r>
              <a:rPr b="1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определить, из скольких простых оно состоит, какими  сочинительными союзами они связаны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ложноподчинённого</a:t>
            </a:r>
            <a:r>
              <a:rPr b="1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указать главное и придаточное (к чему относится и чем прикрепляется придаточное), определить вид придаточного предложени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у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сложного бессоюзного</a:t>
            </a:r>
            <a:r>
              <a:rPr b="1" i="1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- определить,из скольких простых оно состоит, определить значение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одновременность,последовательность, противопоставление и т.д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Охарактеризовать части как простые предложения, выделить их грамматические основ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4.    Составить схему предлож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89BD-BE53-43AB-AA44-B371D234238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0" y="31680"/>
            <a:ext cx="8572680" cy="655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Фонетический разбор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1</a:t>
            </a:r>
            <a:r>
              <a:rPr b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Разбить слово на слог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2. Поставить ударе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3. Охарактеризовать каждый звук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для гласных 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ударный или безударный, какой буквой обозначен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для согласных 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звонкий или глухой, твёрдый или мягкий, какой буквой обозначе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</a:t>
            </a: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4.Указать количество букв и звуко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Например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Тетрадь 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- 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тет-радь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т 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т′ ]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согл.,парн./мягк., парн./глух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е-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  [и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гласн, безударн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т -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т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согл.,парн./твёрд.,парн./глух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р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р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 согл.,парн/твёрд.,непарн./звонк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а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а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-</a:t>
            </a:r>
            <a:r>
              <a:rPr b="0" i="1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гласн., ударный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д -</a:t>
            </a:r>
            <a:r>
              <a:rPr b="0" i="1" lang="ru-RU" sz="2200" spc="-1" strike="noStrike">
                <a:solidFill>
                  <a:srgbClr val="000080"/>
                </a:solidFill>
                <a:latin typeface="Arial"/>
                <a:ea typeface="Times New Roman"/>
              </a:rPr>
              <a:t>[т′]</a:t>
            </a: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 - согл.,парн/мягк.,парн./глух.              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ь -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_</a:t>
            </a:r>
            <a:r>
              <a:rPr b="0" lang="ru-RU" sz="2200" spc="-1" strike="noStrike">
                <a:solidFill>
                  <a:srgbClr val="003300"/>
                </a:solidFill>
                <a:latin typeface="Arial"/>
                <a:ea typeface="Times New Roman"/>
              </a:rPr>
              <a:t>____________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800000"/>
                </a:solidFill>
                <a:latin typeface="Arial"/>
                <a:ea typeface="Times New Roman"/>
              </a:rPr>
              <a:t>7 букв, 6 звуко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Номер слайда 4"/>
          <p:cNvSpPr/>
          <p:nvPr/>
        </p:nvSpPr>
        <p:spPr>
          <a:xfrm>
            <a:off x="6286680" y="6210360"/>
            <a:ext cx="15714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AEB08-5881-411D-99DC-D97D3727287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"/>
          <p:cNvSpPr/>
          <p:nvPr/>
        </p:nvSpPr>
        <p:spPr>
          <a:xfrm>
            <a:off x="785880" y="519480"/>
            <a:ext cx="7715160" cy="521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</a:t>
            </a:r>
            <a:r>
              <a:rPr b="1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емный разбор сл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1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Определить часть реч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2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У изменяемого слова выделить окончание, объяснить его зна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3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Подобрав однокоренные слова, выделить корен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4.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Выделить приставки, суффик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Правильность выделения этих морфем доказать примерами слов с другим корнем, но с этими же приставками и суффикс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5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Указать основу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15A61-FB0D-474E-BF67-EBC313FC9BE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"/>
          <p:cNvSpPr/>
          <p:nvPr/>
        </p:nvSpPr>
        <p:spPr>
          <a:xfrm>
            <a:off x="214200" y="169200"/>
            <a:ext cx="8643960" cy="65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       </a:t>
            </a:r>
            <a:r>
              <a:rPr b="1" i="1" lang="ru-RU" sz="30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Лексический разбор слов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1.Лексическое значение слова в данном контекс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2.Однозначное или многозначн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3.В прямом или переносном смысле употребле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4.Имеет ли омони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5.Имеет ли синонимы или антонимы, если да, то как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6.Имеет ли пометки в словаре (диалектное, специальное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Блюдо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- большая тарелка для подачи кушанья на стол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; многозначное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, в прямом смысле, </a:t>
            </a:r>
            <a:r>
              <a:rPr b="0" i="1" lang="ru-RU" sz="2800" spc="-1" strike="noStrike">
                <a:solidFill>
                  <a:srgbClr val="003300"/>
                </a:solidFill>
                <a:latin typeface="Arial"/>
                <a:ea typeface="Times New Roman"/>
              </a:rPr>
              <a:t>синоним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- </a:t>
            </a: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тарелка, пометок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B99A4-A2CA-456D-B581-FE43090518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"/>
          <p:cNvSpPr/>
          <p:nvPr/>
        </p:nvSpPr>
        <p:spPr>
          <a:xfrm>
            <a:off x="285840" y="140760"/>
            <a:ext cx="8429400" cy="691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   </a:t>
            </a: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Словообразовательный раз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1.    Определить лексическое значение сл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Указать часть речи, к которой оно принадлежи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Определить слово, от которого оно образовалось, выделить производящую основ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4.    Определить, при помощи каких средств образовалось слово, выдели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5.    Указать способ словообразов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  </a:t>
            </a:r>
            <a:r>
              <a:rPr b="1" i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земля, копать→землекоп (сложение)</a:t>
            </a:r>
            <a:r>
              <a:rPr b="0" i="1" lang="ru-RU" sz="32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53A4-CB8D-458D-B577-E08BBE4F79D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0" y="27720"/>
            <a:ext cx="9144000" cy="569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имени     существи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    Часть речи. Начальная форма (именительный падеж, единственное число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Морфологические призна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собственное или нарицательное; одушевлённое ил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неодушевлённое; конкретное, абстрактное, вещественное или собирательное; род; склоне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число; падеж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Синтаксическая роль в предложен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Например: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В цветах - сущ., (что?) цветок, нариц., неодуш., конкретн., муж. р.,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II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 скл., в форме мн. ч., П.п.; (где?) в цветах - обстоятельств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6D54-48E0-476C-A0EC-49DFC0F5C2C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0" y="-11520"/>
            <a:ext cx="9144000" cy="609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Морфологический разбор имени </a:t>
            </a:r>
            <a:r>
              <a:rPr b="1" i="1" lang="en-US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       </a:t>
            </a: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Times New Roman"/>
                <a:ea typeface="Times New Roman"/>
              </a:rPr>
              <a:t>прилага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   Часть речи. Начальная форма (именительный падеж, единственное число, мужской род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Морфологические призна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разряд по значению (качественное, относительное или притяжательное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непостоянные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: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у качественных краткая или полная форма, степень сравнения; у всех - число; род (в ед.ч.),падеж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Синтаксическая функц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Например:</a:t>
            </a: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Яркие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 прилаг., (какой?) яркий, качественное, полная. форма, именит. пад., мн.ч.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звёзды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(какие?) яркие - согласованное определ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55CD-CB8A-4808-8A79-71ACAAB4923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0" y="-30960"/>
            <a:ext cx="9144000" cy="606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имени числительн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1.    Часть речи. Начальная форма (именительный падеж, мужской род, единственное число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Морфологические призна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разряд по структуре (простое, сложное или составное); разряд по значению (количественное, собирательное или порядковое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падеж, если есть - число и род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Синтаксическая функц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1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Двадцать второй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 (ученик) </a:t>
            </a:r>
            <a:r>
              <a:rPr b="0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числ., </a:t>
            </a:r>
            <a:r>
              <a:rPr b="0" i="1" lang="ru-RU" sz="2600" spc="-1" strike="noStrike">
                <a:solidFill>
                  <a:srgbClr val="800000"/>
                </a:solidFill>
                <a:latin typeface="Arial"/>
                <a:ea typeface="Times New Roman"/>
              </a:rPr>
              <a:t>двадцать два</a:t>
            </a:r>
            <a:r>
              <a:rPr b="0" i="1" lang="ru-RU" sz="2600" spc="-1" strike="noStrike">
                <a:solidFill>
                  <a:srgbClr val="000080"/>
                </a:solidFill>
                <a:latin typeface="Arial"/>
                <a:ea typeface="Times New Roman"/>
              </a:rPr>
              <a:t>, сост., порядк., в форме именит, пад., ед. ч., муж. р., ученик (который?) двадцать второй - согласованное определени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C316-D768-4F38-B41F-4B3D8AB62E6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"/>
          <p:cNvSpPr/>
          <p:nvPr/>
        </p:nvSpPr>
        <p:spPr>
          <a:xfrm>
            <a:off x="500040" y="315000"/>
            <a:ext cx="8215200" cy="594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800000"/>
                </a:solidFill>
                <a:uFillTx/>
                <a:latin typeface="Arial"/>
                <a:ea typeface="Times New Roman"/>
              </a:rPr>
              <a:t>Морфологический разбор местоим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Arial"/>
                <a:ea typeface="Times New Roman"/>
              </a:rPr>
              <a:t>1</a:t>
            </a:r>
            <a:r>
              <a:rPr b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   Часть речи. Начальная форма (именительный падеж, единственное числ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2.     Морфологические признаки: </a:t>
            </a: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постоянные: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разряд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непостоянные: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падеж, число и род (если есть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3.    Синтаксическая функ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Например:</a:t>
            </a:r>
            <a:r>
              <a:rPr b="1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У него - мест.,</a:t>
            </a: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он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,личн.,м.род., пад., 3 л.,ед.ч.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у него</a:t>
            </a:r>
            <a:r>
              <a:rPr b="0" i="1" lang="ru-RU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 - дополн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Номер слайда 2"/>
          <p:cNvSpPr/>
          <p:nvPr/>
        </p:nvSpPr>
        <p:spPr>
          <a:xfrm>
            <a:off x="146160" y="6210360"/>
            <a:ext cx="457200" cy="457200"/>
          </a:xfrm>
          <a:prstGeom prst="ellipse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5074-99AF-423B-9C14-AFF708D0E44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1T15:53:53Z</dcterms:created>
  <dc:creator>Admin</dc:creator>
  <dc:description/>
  <dc:language>en-US</dc:language>
  <cp:lastModifiedBy>Ирина</cp:lastModifiedBy>
  <dcterms:modified xsi:type="dcterms:W3CDTF">2012-11-20T17:12:53Z</dcterms:modified>
  <cp:revision>5</cp:revision>
  <dc:subject/>
  <dc:title>Слайд 1</dc:title>
</cp:coreProperties>
</file>