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4C88-7027-471D-A5E0-D19B4C3C14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43FF-6E9A-4C62-AF8E-DEE5D76645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BDBF-2E5F-4881-8CBF-98DD91D9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607-F5E4-4C40-9B75-E3AE4FC1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800-A35A-439D-AFF5-12A26DEF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710-660F-4A48-8839-D87BA1D6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6711-BD6A-41C9-9330-6D2977B7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552-72E9-4F61-94BC-553F48EC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2E4-0C3E-4CB8-B3C5-C3591F33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C4D-A7EA-450F-B6DC-3725E6FD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CA3-FBA5-42D9-96EF-D78631A2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F7D-7DB4-4130-B471-880B2F3B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704-5EAD-4C2A-A41E-160250FE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17F-E02A-4F6E-A24A-2C792436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547F-2D26-44FA-B24C-3E9DD183DD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itaminov.net/pics/1314889901.gif" TargetMode="External"/><Relationship Id="rId2" Type="http://schemas.openxmlformats.org/officeDocument/2006/relationships/hyperlink" Target="http://www.mixmed.ru/anpic/1.jpg" TargetMode="External"/><Relationship Id="rId3" Type="http://schemas.openxmlformats.org/officeDocument/2006/relationships/hyperlink" Target="http://miss-slim.ru/uploads/posts/2011-02/1298174443_perednie-gruppy-myshc.jpg" TargetMode="External"/><Relationship Id="rId4" Type="http://schemas.openxmlformats.org/officeDocument/2006/relationships/hyperlink" Target="http://900igr.net/datai/biologija/Klassy/0028-019-Vnutrennie-organy.png" TargetMode="External"/><Relationship Id="rId5" Type="http://schemas.openxmlformats.org/officeDocument/2006/relationships/hyperlink" Target="http://festival.1september.ru/articles/514333/Image3738.gif" TargetMode="External"/><Relationship Id="rId6" Type="http://schemas.openxmlformats.org/officeDocument/2006/relationships/hyperlink" Target="http://img1.liveinternet.ru/images/attach/c/2/72/705/72705431_15.jpg" TargetMode="External"/><Relationship Id="rId7" Type="http://schemas.openxmlformats.org/officeDocument/2006/relationships/hyperlink" Target="http://img0.liveinternet.ru/images/attach/c/2/66/338/66338724_r10.jpg" TargetMode="External"/><Relationship Id="rId8" Type="http://schemas.openxmlformats.org/officeDocument/2006/relationships/hyperlink" Target="http://img1.liveinternet.ru/images/attach/c/3/76/868/76868593_3824370_1281891588_185361.jpg" TargetMode="External"/><Relationship Id="rId9" Type="http://schemas.openxmlformats.org/officeDocument/2006/relationships/hyperlink" Target="http://s014.radikal.ru/i329/1010/59/187e4287404a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353880" y="1152360"/>
            <a:ext cx="82407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3638520" y="60480"/>
            <a:ext cx="3799080" cy="976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img1.liveinternet.ru/images/attach/c/3/76/868/76868593_3824370_1281891588_185361.jpg"/>
          <p:cNvPicPr/>
          <p:nvPr/>
        </p:nvPicPr>
        <p:blipFill>
          <a:blip r:embed="rId2"/>
          <a:srcRect l="22860" t="0" r="26788" b="0"/>
          <a:stretch/>
        </p:blipFill>
        <p:spPr>
          <a:xfrm>
            <a:off x="1857240" y="3143160"/>
            <a:ext cx="2546640" cy="3286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s014.radikal.ru/i329/1010/59/187e4287404a.jpg"/>
          <p:cNvPicPr/>
          <p:nvPr/>
        </p:nvPicPr>
        <p:blipFill>
          <a:blip r:embed="rId3"/>
          <a:stretch/>
        </p:blipFill>
        <p:spPr>
          <a:xfrm>
            <a:off x="500040" y="428760"/>
            <a:ext cx="2305080" cy="3071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УВЕЛИЧЕНИЕ"/>
          <p:cNvPicPr/>
          <p:nvPr/>
        </p:nvPicPr>
        <p:blipFill>
          <a:blip r:embed="rId4"/>
          <a:stretch/>
        </p:blipFill>
        <p:spPr>
          <a:xfrm>
            <a:off x="4429080" y="1071720"/>
            <a:ext cx="44578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festival.1september.ru/articles/514333/Image3735.gif"/>
          <p:cNvPicPr/>
          <p:nvPr/>
        </p:nvPicPr>
        <p:blipFill>
          <a:blip r:embed="rId1"/>
          <a:stretch/>
        </p:blipFill>
        <p:spPr>
          <a:xfrm>
            <a:off x="2786040" y="1200240"/>
            <a:ext cx="2647800" cy="565776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2" descr=""/>
          <p:cNvPicPr/>
          <p:nvPr/>
        </p:nvPicPr>
        <p:blipFill>
          <a:blip r:embed="rId2"/>
          <a:stretch/>
        </p:blipFill>
        <p:spPr>
          <a:xfrm>
            <a:off x="1579680" y="182520"/>
            <a:ext cx="5479920" cy="113976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5650920" y="1571760"/>
            <a:ext cx="27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лов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5726160" y="2571840"/>
            <a:ext cx="25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н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364400" y="2857680"/>
            <a:ext cx="12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р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1189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Рисунок4"/>
          <p:cNvPicPr/>
          <p:nvPr/>
        </p:nvPicPr>
        <p:blipFill>
          <a:blip r:embed="rId2"/>
          <a:stretch/>
        </p:blipFill>
        <p:spPr>
          <a:xfrm>
            <a:off x="755640" y="1628640"/>
            <a:ext cx="7848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285840" y="928800"/>
            <a:ext cx="764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vitaminov.net/pics/1314889901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mixmed.ru/anpic/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miss-slim.ru/uploads/posts/2011-02/1298174443_perednie-gruppy-myshc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900igr.net/datai/biologija/Klassy/0028-019-Vnutrennie-organy.pn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festival.1september.ru/articles/514333/Image3738.gi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g1.liveinternet.ru/images/attach/c/2/72/705/72705431_15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g0.liveinternet.ru/images/attach/c/2/66/338/66338724_r10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img1.liveinternet.ru/images/attach/c/3/76/868/76868593_3824370_1281891588_18536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s014.radikal.ru/i329/1010/59/187e4287404a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biolgra.ucoz.ru/excells/man/stroenie_kozhi.gi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festival.1september.ru/articles/514333/Image3735.gi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900igr.net/datai/okruzhajuschij-mir/Vnutrennee-stroenie-cheloveka/0003-002-Vneshnee-stroenie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446040" y="92880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сылки на используемые 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Внешнее строение -. Это устройство тела человека снаружи."/>
          <p:cNvPicPr/>
          <p:nvPr/>
        </p:nvPicPr>
        <p:blipFill>
          <a:blip r:embed="rId1"/>
          <a:stretch/>
        </p:blipFill>
        <p:spPr>
          <a:xfrm>
            <a:off x="2571840" y="1571760"/>
            <a:ext cx="4105080" cy="412416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6"/>
          <p:cNvCxnSpPr>
            <a:stCxn id="51" idx="3"/>
          </p:cNvCxnSpPr>
          <p:nvPr/>
        </p:nvCxnSpPr>
        <p:spPr>
          <a:xfrm flipV="1">
            <a:off x="1709280" y="1928520"/>
            <a:ext cx="1291320" cy="149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7"/>
          <p:cNvCxnSpPr>
            <a:stCxn id="53" idx="3"/>
          </p:cNvCxnSpPr>
          <p:nvPr/>
        </p:nvCxnSpPr>
        <p:spPr>
          <a:xfrm flipV="1">
            <a:off x="2154240" y="2999880"/>
            <a:ext cx="1132560" cy="10072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8"/>
          <p:cNvCxnSpPr>
            <a:stCxn id="55" idx="1"/>
          </p:cNvCxnSpPr>
          <p:nvPr/>
        </p:nvCxnSpPr>
        <p:spPr>
          <a:xfrm flipH="1" flipV="1">
            <a:off x="6143040" y="3428280"/>
            <a:ext cx="1500840" cy="2926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0"/>
          <p:cNvCxnSpPr>
            <a:stCxn id="57" idx="1"/>
          </p:cNvCxnSpPr>
          <p:nvPr/>
        </p:nvCxnSpPr>
        <p:spPr>
          <a:xfrm flipH="1" flipV="1">
            <a:off x="5643360" y="4642920"/>
            <a:ext cx="1429200" cy="364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8" name="Rectangle 2" descr=""/>
          <p:cNvPicPr/>
          <p:nvPr/>
        </p:nvPicPr>
        <p:blipFill>
          <a:blip r:embed="rId2"/>
          <a:stretch/>
        </p:blipFill>
        <p:spPr>
          <a:xfrm>
            <a:off x="281160" y="12600"/>
            <a:ext cx="8570880" cy="1060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8"/>
          <p:cNvSpPr/>
          <p:nvPr/>
        </p:nvSpPr>
        <p:spPr>
          <a:xfrm>
            <a:off x="359280" y="178596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286920" y="371484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лов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7648200" y="34290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7077600" y="471492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extBox 1" descr=""/>
          <p:cNvPicPr/>
          <p:nvPr/>
        </p:nvPicPr>
        <p:blipFill>
          <a:blip r:embed="rId1"/>
          <a:stretch/>
        </p:blipFill>
        <p:spPr>
          <a:xfrm>
            <a:off x="96840" y="701640"/>
            <a:ext cx="5614920" cy="1011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387800" y="1928880"/>
            <a:ext cx="736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ы связанных друг с другом орган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местно выполняющих общую за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рганиз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2" descr=""/>
          <p:cNvPicPr/>
          <p:nvPr/>
        </p:nvPicPr>
        <p:blipFill>
          <a:blip r:embed="rId1"/>
          <a:stretch/>
        </p:blipFill>
        <p:spPr>
          <a:xfrm>
            <a:off x="341280" y="60480"/>
            <a:ext cx="8534520" cy="976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www.vitaminov.net/pics/1314889901.gif"/>
          <p:cNvPicPr/>
          <p:nvPr/>
        </p:nvPicPr>
        <p:blipFill>
          <a:blip r:embed="rId2"/>
          <a:stretch/>
        </p:blipFill>
        <p:spPr>
          <a:xfrm>
            <a:off x="500040" y="928800"/>
            <a:ext cx="2828880" cy="5143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mixmed.ru/anpic/1.jpg"/>
          <p:cNvPicPr/>
          <p:nvPr/>
        </p:nvPicPr>
        <p:blipFill>
          <a:blip r:embed="rId3"/>
          <a:stretch/>
        </p:blipFill>
        <p:spPr>
          <a:xfrm>
            <a:off x="3429000" y="857160"/>
            <a:ext cx="2666880" cy="50101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5715000" y="485784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— череп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— грудная клет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— кости верхней конечност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— позвоночный столб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 — тазовая кост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 — кости нижних конеч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2" descr=""/>
          <p:cNvPicPr/>
          <p:nvPr/>
        </p:nvPicPr>
        <p:blipFill>
          <a:blip r:embed="rId1"/>
          <a:stretch/>
        </p:blipFill>
        <p:spPr>
          <a:xfrm>
            <a:off x="341280" y="128520"/>
            <a:ext cx="8534520" cy="97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www.mixmed.ru/anpic/1.jpg"/>
          <p:cNvPicPr/>
          <p:nvPr/>
        </p:nvPicPr>
        <p:blipFill>
          <a:blip r:embed="rId2"/>
          <a:stretch/>
        </p:blipFill>
        <p:spPr>
          <a:xfrm>
            <a:off x="357120" y="1143000"/>
            <a:ext cx="2928960" cy="5502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miss-slim.ru/uploads/posts/2011-02/1298174443_perednie-gruppy-myshc.jpg"/>
          <p:cNvPicPr/>
          <p:nvPr/>
        </p:nvPicPr>
        <p:blipFill>
          <a:blip r:embed="rId3"/>
          <a:stretch/>
        </p:blipFill>
        <p:spPr>
          <a:xfrm>
            <a:off x="3500280" y="1071720"/>
            <a:ext cx="54295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2" descr=""/>
          <p:cNvPicPr/>
          <p:nvPr/>
        </p:nvPicPr>
        <p:blipFill>
          <a:blip r:embed="rId1"/>
          <a:stretch/>
        </p:blipFill>
        <p:spPr>
          <a:xfrm>
            <a:off x="268200" y="60480"/>
            <a:ext cx="4237200" cy="201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Внутренние органы. Внутренние органы: Организм – это совокупность всех органов человека.Органы имеют свое определенное место в организме и свои собственные функции. Пищеварительная система:1-ротовая полость,2-околоушные слюнные железы,3-глотка,4-подчелюстная слюнная железа,5-пищевод,6-желудок , 7-поджелудочная железа,8-прямая кишка,9-анальное отверстие,10-тонкая кишка,11-толстая кишка,12-двенадцатперстная кишка,13-желчный пузырь,14-печень."/>
          <p:cNvPicPr/>
          <p:nvPr/>
        </p:nvPicPr>
        <p:blipFill>
          <a:blip r:embed="rId2"/>
          <a:stretch/>
        </p:blipFill>
        <p:spPr>
          <a:xfrm>
            <a:off x="4071960" y="357120"/>
            <a:ext cx="4357800" cy="6143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285840" y="1643040"/>
            <a:ext cx="4143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-ротовая пол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-околоушны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юнные желез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-глот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-подчелюстна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юнная желез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-пищев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-желудо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-поджелудочная желез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-прямая ки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-анальное отверс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-тонкая ки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-толстая ки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-двенадцатиперстная ки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3-желчный пузыр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4-печень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festival.1september.ru/articles/514333/Image3738.gif"/>
          <p:cNvPicPr/>
          <p:nvPr/>
        </p:nvPicPr>
        <p:blipFill>
          <a:blip r:embed="rId1"/>
          <a:stretch/>
        </p:blipFill>
        <p:spPr>
          <a:xfrm>
            <a:off x="2214720" y="1928880"/>
            <a:ext cx="501012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2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8240400" cy="1066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7079400" y="271476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т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1520" y="192888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совая по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7146000" y="328608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х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7150680" y="4071960"/>
            <a:ext cx="134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793080" y="30718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он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Rectangle 2" descr=""/>
          <p:cNvPicPr/>
          <p:nvPr/>
        </p:nvPicPr>
        <p:blipFill>
          <a:blip r:embed="rId1"/>
          <a:stretch/>
        </p:blipFill>
        <p:spPr>
          <a:xfrm>
            <a:off x="420840" y="42840"/>
            <a:ext cx="8242200" cy="1066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img0.liveinternet.ru/images/attach/c/2/66/338/66338724_r10.jpg"/>
          <p:cNvPicPr/>
          <p:nvPr/>
        </p:nvPicPr>
        <p:blipFill>
          <a:blip r:embed="rId2"/>
          <a:stretch/>
        </p:blipFill>
        <p:spPr>
          <a:xfrm>
            <a:off x="2000160" y="928800"/>
            <a:ext cx="5072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281160" y="85680"/>
            <a:ext cx="8240400" cy="97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img1.liveinternet.ru/images/attach/c/2/72/705/72705431_15.jpg"/>
          <p:cNvPicPr/>
          <p:nvPr/>
        </p:nvPicPr>
        <p:blipFill>
          <a:blip r:embed="rId2"/>
          <a:stretch/>
        </p:blipFill>
        <p:spPr>
          <a:xfrm>
            <a:off x="1928880" y="1143000"/>
            <a:ext cx="5437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6:18:17Z</dcterms:created>
  <dc:creator>Ирина</dc:creator>
  <dc:description/>
  <dc:language>en-US</dc:language>
  <cp:lastModifiedBy>Ирина</cp:lastModifiedBy>
  <dcterms:modified xsi:type="dcterms:W3CDTF">2013-11-17T17:07:09Z</dcterms:modified>
  <cp:revision>15</cp:revision>
  <dc:subject/>
  <dc:title>Слайд 1</dc:title>
</cp:coreProperties>
</file>