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620-4C56-4235-9EA6-5C0FDD15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D81-CF96-4FF6-AF9C-BAC37173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B29-24AE-49E1-9C4C-E97EFBF9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5A7-3B69-49BE-9302-16F682BB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6D2-0C5F-43DD-8263-BEA6739C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FCD-9CB3-447D-A8DA-8F41294F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D60-D6CF-434D-BBED-3C94B04E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4429-A9CC-49CE-95F9-CA458909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D10-4DA0-41EA-B7C6-6B27DE07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AE3-E9B9-4F71-A580-B3BB5C8A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250E-79FB-490A-A36F-838E4822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DE3-E813-4F2C-8D54-BE28480F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8BFB-C418-41F5-B505-B986F49A0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800600" cy="34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6095880" y="3429000"/>
            <a:ext cx="2667240" cy="2405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5909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И у нас сегодня праздник!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ень рождения школы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228600" y="380880"/>
            <a:ext cx="2743200" cy="2108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3962520" y="152280"/>
            <a:ext cx="13255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5"/>
          <a:stretch/>
        </p:blipFill>
        <p:spPr>
          <a:xfrm>
            <a:off x="7043760" y="380880"/>
            <a:ext cx="1865160" cy="2895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5029200" y="32004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omic Sans MS"/>
              </a:rPr>
              <a:t>А день рождения -это варенье , хлопушки, шары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omic Sans MS"/>
              </a:rPr>
              <a:t>и   конечно подар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52280" y="1522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Comic Sans MS"/>
              </a:rPr>
              <a:t>Это наша любим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971800" y="19051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Comic Sans MS"/>
              </a:rPr>
              <a:t>Друзья наши старшие -учителя, мы их очень люб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638680" y="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А это – мы, озорная ватага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4952880" y="567072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Comic Sans MS"/>
              </a:rPr>
              <a:t>С днём рождения  дорогая и любимая   наша    шко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Comic Sans MS"/>
              </a:rPr>
              <a:t>                            </a:t>
            </a:r>
            <a:r>
              <a:rPr b="0" lang="ru-RU" sz="1800" spc="-1" strike="noStrike">
                <a:solidFill>
                  <a:srgbClr val="ff00ff"/>
                </a:solidFill>
                <a:latin typeface="Comic Sans MS"/>
              </a:rPr>
              <a:t>твой</a:t>
            </a:r>
            <a:r>
              <a:rPr b="0" lang="ru-RU" sz="1600" spc="-1" strike="noStrike">
                <a:solidFill>
                  <a:srgbClr val="ff00ff"/>
                </a:solidFill>
                <a:latin typeface="Comic Sans MS"/>
              </a:rPr>
              <a:t> 9 б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492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92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92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392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692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3-11-17T12:39:1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