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7007-AC69-40DC-8CC7-5B9608847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E894-70A0-4750-85D9-D8424FC6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62A3-0BD6-4202-909D-DEF15D0F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0FE4-B14A-45C0-9F26-6BB1F5F7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D8B0-C58D-4D78-824C-20AA0CC5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6973-68F3-416F-B9FE-049B824D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BBA3-4F92-4A7D-8D4D-F716C37A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CE03-3864-43E0-A520-24CD4C1A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0B7F-81C0-4E4B-9AFD-8D557A6F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318B-0311-47FF-AD7F-8BC0B74E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463F-9408-4A96-821D-CCC82F4C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0929-4086-4B56-B2B8-09610C78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6F00-E9D8-493F-9880-02274CCCE1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800600" cy="34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6095880" y="3429000"/>
            <a:ext cx="2667240" cy="2405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25909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И у нас сегодня праздник!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День рождения школы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228600" y="380880"/>
            <a:ext cx="2743200" cy="2108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3962520" y="152280"/>
            <a:ext cx="132552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5"/>
          <a:stretch/>
        </p:blipFill>
        <p:spPr>
          <a:xfrm>
            <a:off x="7043760" y="380880"/>
            <a:ext cx="1865160" cy="2895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5029200" y="320040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omic Sans MS"/>
              </a:rPr>
              <a:t>А день рождения -это варенье , хлопушки, шары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omic Sans MS"/>
              </a:rPr>
              <a:t>и   конечно подар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52280" y="15228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Comic Sans MS"/>
              </a:rPr>
              <a:t>Это наша любимая 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971800" y="19051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Comic Sans MS"/>
              </a:rPr>
              <a:t>Друзья наши старшие -учителя, мы их очень люб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638680" y="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А это – мы, озорная ватага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4952880" y="567072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Comic Sans MS"/>
              </a:rPr>
              <a:t>С днём рождения  дорогая и любимая   наша    шко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Comic Sans MS"/>
              </a:rPr>
              <a:t>                            </a:t>
            </a:r>
            <a:r>
              <a:rPr b="0" lang="ru-RU" sz="1800" spc="-1" strike="noStrike">
                <a:solidFill>
                  <a:srgbClr val="ff00ff"/>
                </a:solidFill>
                <a:latin typeface="Comic Sans MS"/>
              </a:rPr>
              <a:t>твой</a:t>
            </a:r>
            <a:r>
              <a:rPr b="0" lang="ru-RU" sz="1600" spc="-1" strike="noStrike">
                <a:solidFill>
                  <a:srgbClr val="ff00ff"/>
                </a:solidFill>
                <a:latin typeface="Comic Sans MS"/>
              </a:rPr>
              <a:t> 9 б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492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792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92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392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692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3-11-17T12:39:1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