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825-E184-4E41-A636-72DCC4E5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78A-E1CA-4034-9404-84B766A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E05-FAF6-4E9B-B930-B2128400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274-1EAC-4820-B2EB-A66A78BF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E7D-A9AC-49A5-92D3-42192A87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146-CF29-4E15-9360-E34281F4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9E0-B5FA-490A-96CE-3EFD4CE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1B9-8869-407C-B031-00E52C3F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133-28AD-460B-861A-06AC197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D87-E83B-4AB1-92E9-65EF8D8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1ED-8269-4273-9CF1-95F8017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2E2-D47E-4C33-BDAA-5B888A5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710-5EC8-4947-96FD-667DE14B8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2667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 у нас сегодня праздник!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нь рождения школ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743200" cy="21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962520" y="152280"/>
            <a:ext cx="1325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7043760" y="380880"/>
            <a:ext cx="1865160" cy="2895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029200" y="32004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А день рождения -это варенье , хлопушки, шары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и   конечно пода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152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omic Sans MS"/>
              </a:rPr>
              <a:t>Это наша любим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71800" y="1905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Comic Sans MS"/>
              </a:rPr>
              <a:t>Друзья наши старшие -учителя, мы их очень люб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638680" y="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А это – мы, озорная ватаг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952880" y="56707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С днём рождения  дорогая и любимая   наша    шко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ff00ff"/>
                </a:solidFill>
                <a:latin typeface="Comic Sans MS"/>
              </a:rPr>
              <a:t>твой</a:t>
            </a:r>
            <a:r>
              <a:rPr b="0" lang="ru-RU" sz="1600" spc="-1" strike="noStrike">
                <a:solidFill>
                  <a:srgbClr val="ff00ff"/>
                </a:solidFill>
                <a:latin typeface="Comic Sans MS"/>
              </a:rPr>
              <a:t>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92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2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92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392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92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3-11-17T12:39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