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4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2A059-0186-4FCF-B8EE-85500640B8D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E2D70-2D98-4DC4-9AC7-490F5E80F3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240-7EFB-43DC-9CB6-5DD494B94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CE20B-C744-4FE9-A0D6-6D6E43EEF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FC56-DC9F-4F8F-AFC6-0804183AF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6DA-2D55-4F72-AE42-AB08B5896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F25E-305C-40BD-BE25-D6D61ACB0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B116A-74D5-4645-92FD-F6660D59C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1FAB0-4BA0-48A8-9DC3-847EB0B0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FE36A-E683-453D-9D53-0B2C3A92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1BBA0-602B-48D5-B0FB-7E8A18536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FAF7D-9C6D-4F2B-9866-9E3E391B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256C-7F6E-416C-9B42-749262E86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765D-3D5C-435F-BBD7-8EFE4DDAC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0296B-B514-443B-AC53-7E2553144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32863-A211-40A3-8F79-1C78702E3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0FAA3-E771-4FF0-AFBA-108EA687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5B0AF-F117-4320-9F64-5E9E3FE0D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0EA1-F10B-44D7-B245-102757A0A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23A118-1489-42F7-9C0B-733F0CDC3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BB428-87AB-4FC6-B3A6-E8D4BA6C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27DF22-51F8-4EE3-A7E4-5BBDFFE5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8EF6C-9F9D-4DF8-8193-18A72134F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4E4CC-347A-4E93-A736-BA2796472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783E-0413-441C-B9E7-25E9242D6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6CBA9-C6EB-434A-ACFB-DD1D02261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5C6497-E452-4D67-857B-11BA0698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4BCB0-1861-4D9F-A8E3-338C87FB6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6EFB7-FF79-48ED-9A7F-52F1A1200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9AEC8-880E-45CE-BE63-98D7474E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6EFF8-35A5-4C48-94F6-4A9443FD5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5A0D4-16BB-4CF4-89D8-D0B539735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7CDD3-D2CF-4764-91EE-62DD28469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83754-ED95-4160-8054-739AEBCD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9A2C25-C960-4FD0-BE6E-2B04DBD7D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9FB2-620C-46B4-B84C-7E4A0F21A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57F3F-71D0-4B07-B80A-3C1BEC73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D4264-A560-4F07-8FA2-37D2B116B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22110E-DFE2-4ABC-8DE2-3E2D7161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8C158-71BE-4925-816C-AB0D03F76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9580A-0C5C-489E-9960-07A01A2C0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7885-6947-418E-84DF-BA99D1A0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32C95-CE52-455E-8C71-7E1E59A7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FB7ED-D2C2-4B97-ADF1-D93F9C0C5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3E07B-21EF-4AFE-BDFE-078F9E53F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3564D2-3F6C-472C-91AE-131217178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870D-3CBB-45C5-A187-A0E942CFB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120F5-7CC0-453E-9B10-0AEA7F6D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EAF8A5-5DE4-4D0B-87D2-DAE0A4A6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C07D9-2F62-41ED-B253-6BC3FBC6D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59272-D3C4-42E2-B81B-DB30CF5E7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57C8B8-365D-4FBF-A037-BA767A55D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08A7D3-4693-4EA4-9AE7-687AE5C41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CFDA3F-4C38-48CA-A9EF-DCCE755A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8A0B8-BBDD-44F2-ABFB-BE6D3B263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E860B-4A26-44F3-AD89-25C6D3C48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A5402D-80BB-4D87-9840-F9DC75111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51D6-BBBC-4F49-ACE5-11224EA0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96277E-6092-4D4D-9BC2-B7C14424A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96611F-EB08-4161-A61B-CA3EA2AD4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F7D46-2C7D-4FE2-9CFD-81759274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D5B0ED-0828-4289-A051-604FE3C05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FD8BFD-06EB-41CF-8DC7-1EC789D3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BA912-712C-4587-921E-48357B1D1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DF96E0-8642-4861-8249-AE1CB1CD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49825F-8C99-4CEB-934A-10548ABFC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BE3368-7E8C-4B78-83AF-F5557C5BB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BFC90-2173-4A09-8979-1EFA43BF7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247-B380-40E0-8414-3DA607EE8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C62F27-D8F4-46F6-B24B-11920194E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B247F8-1F10-4254-8847-521BD32B8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F4DADF-7F10-4F10-A0F1-CCD1AC8AE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C48F25-1A07-4979-B182-CCE838D4D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8C9531-960F-44DA-A3D0-1682754CB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06298D-D7B8-47C5-9960-9D9FA4887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55EA9-F448-45DE-B9EE-5D091C11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718928-8DEC-451A-ABDD-EBA8EC71D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AC66B6-2FD7-4AE8-8898-530094584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558D7-924D-4C7E-B797-8162DFFD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B690-7C54-42AF-B537-0E6BD0B6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8C69F-98A7-418C-9884-EEC894E2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8DDE4-2C5C-4CD6-AB8C-156A972D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56500C-8161-4137-A257-E8FDBAA5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69127-1809-4C18-B23A-F3B819DC6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6999B0-70A9-485F-8010-7D94FEF0D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5034-F255-45C2-8E23-048082C1C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51B44-921B-4CE1-A1BD-06E4A4EA6D77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3C5C1-6058-4061-ACF9-9125FA3E088D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7B79-80B2-4C6F-9DBB-2528DFC5DB6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10A9-C4C3-4496-B944-87A39CAF74AB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541-A139-48E4-8EA0-5633CAC0306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0EDCF-BEBF-437D-87C3-0C738C0FA79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C6BA5-9FCC-4D97-8A30-8250A3CDBCD0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24DCE-A770-44EC-9081-37D7418575A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4"/>
          <p:cNvSpPr/>
          <p:nvPr/>
        </p:nvSpPr>
        <p:spPr>
          <a:xfrm>
            <a:off x="3000240" y="5786280"/>
            <a:ext cx="521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5508720" y="508464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Times New Roman"/>
              </a:rPr>
              <a:t>Пархоменко Елена Андре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Times New Roman"/>
              </a:rPr>
              <a:t>Педагог ДО МБОУ ДОД ЦД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Times New Roman"/>
              </a:rPr>
              <a:t>г. Усть-Ил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6"/>
          <p:cNvSpPr txBox="1"/>
          <p:nvPr/>
        </p:nvSpPr>
        <p:spPr>
          <a:xfrm>
            <a:off x="1979640" y="1700280"/>
            <a:ext cx="5221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Times New Roman"/>
              </a:rPr>
              <a:t>Этажи  лес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Times New Roman"/>
              <a:ea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2627280" y="4039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</a:rPr>
              <a:t>МБОУ ДОД ЦДТ г. Усть-Ил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libri"/>
                <a:ea typeface="Calibri"/>
              </a:rPr>
              <a:t>         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Что же это за девиц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швея, не мастериц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ичего сама не шьет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в иголках круглый год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емной он покрыт корой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Лист красивый, вырезн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на кончиках ветвей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Много-много желудей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тоит красавиц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осы зеленые, платье белое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ора горючая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етки плакучие, семя летучее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растениях перво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Рисунок 3" descr=""/>
          <p:cNvPicPr/>
          <p:nvPr/>
        </p:nvPicPr>
        <p:blipFill>
          <a:blip r:embed="rId1"/>
          <a:stretch/>
        </p:blipFill>
        <p:spPr>
          <a:xfrm>
            <a:off x="3708360" y="4187880"/>
            <a:ext cx="2376360" cy="24559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"/>
          <p:cNvPicPr/>
          <p:nvPr/>
        </p:nvPicPr>
        <p:blipFill>
          <a:blip r:embed="rId2"/>
          <a:stretch/>
        </p:blipFill>
        <p:spPr>
          <a:xfrm>
            <a:off x="6191280" y="1989000"/>
            <a:ext cx="2708280" cy="361008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"/>
          <p:cNvPicPr/>
          <p:nvPr/>
        </p:nvPicPr>
        <p:blipFill>
          <a:blip r:embed="rId3"/>
          <a:stretch/>
        </p:blipFill>
        <p:spPr>
          <a:xfrm>
            <a:off x="3708360" y="1285920"/>
            <a:ext cx="2376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</a:t>
            </a: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Осенью, как только свистнет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Зыбкий ветер - дождевик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У него зеленые листья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краснеют в тот же миг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</a:t>
            </a: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Есть сережки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не девчонка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Есть шишки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 не сосенка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живет в низинке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Около лощинки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</a:t>
            </a: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Весной растет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Летом цветет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Осенью осыпается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Зимой отсыпается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А цветок-то - медок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Лечит от гриппа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Кашля и хрипа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8" name="Рисунок 3" descr=""/>
          <p:cNvPicPr/>
          <p:nvPr/>
        </p:nvPicPr>
        <p:blipFill>
          <a:blip r:embed="rId1"/>
          <a:stretch/>
        </p:blipFill>
        <p:spPr>
          <a:xfrm>
            <a:off x="2448000" y="3957480"/>
            <a:ext cx="3384360" cy="26654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4" descr=""/>
          <p:cNvPicPr/>
          <p:nvPr/>
        </p:nvPicPr>
        <p:blipFill>
          <a:blip r:embed="rId2"/>
          <a:stretch/>
        </p:blipFill>
        <p:spPr>
          <a:xfrm>
            <a:off x="6012000" y="3933720"/>
            <a:ext cx="2903400" cy="266400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5" descr=""/>
          <p:cNvPicPr/>
          <p:nvPr/>
        </p:nvPicPr>
        <p:blipFill>
          <a:blip r:embed="rId3"/>
          <a:stretch/>
        </p:blipFill>
        <p:spPr>
          <a:xfrm>
            <a:off x="3630600" y="190440"/>
            <a:ext cx="5284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Ягоды не сладость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Зато глазу радость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лесам - украшение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дроздам угощение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Белые душистые цветы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«Дают» черные вязкие плоды»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Зеленые кусточки, алые цветочк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Кочки-коготочки стерегут цветочк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плоды в красной рубашке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Брюшко камешками набито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растениях второго и третье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Рисунок 3" descr=""/>
          <p:cNvPicPr/>
          <p:nvPr/>
        </p:nvPicPr>
        <p:blipFill>
          <a:blip r:embed="rId1"/>
          <a:stretch/>
        </p:blipFill>
        <p:spPr>
          <a:xfrm>
            <a:off x="5219640" y="1278000"/>
            <a:ext cx="3702240" cy="27273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"/>
          <p:cNvPicPr/>
          <p:nvPr/>
        </p:nvPicPr>
        <p:blipFill>
          <a:blip r:embed="rId2"/>
          <a:stretch/>
        </p:blipFill>
        <p:spPr>
          <a:xfrm>
            <a:off x="4788000" y="4149720"/>
            <a:ext cx="3313080" cy="25225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"/>
          <p:cNvPicPr/>
          <p:nvPr/>
        </p:nvPicPr>
        <p:blipFill>
          <a:blip r:embed="rId3"/>
          <a:stretch/>
        </p:blipFill>
        <p:spPr>
          <a:xfrm>
            <a:off x="2916360" y="1278000"/>
            <a:ext cx="2232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 припеке у пеньк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Много-много стебельков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аждый тонкий стебелек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Держит алый огонек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Радугами стебельки —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обираем огоньки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м запах свежести лесно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риносит позднею весно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Цветок душистый, нежны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Из кисти белоснежной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растениях четверто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4495680" y="3697200"/>
            <a:ext cx="4113360" cy="28036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"/>
          <p:cNvPicPr/>
          <p:nvPr/>
        </p:nvPicPr>
        <p:blipFill>
          <a:blip r:embed="rId2"/>
          <a:stretch/>
        </p:blipFill>
        <p:spPr>
          <a:xfrm>
            <a:off x="5724360" y="1436760"/>
            <a:ext cx="324036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прореженном лесу и у дорог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ы встретишь дикую рябинк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место красных ягод у не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 июля по сентябр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Желтые цветки собраны в корзинк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д листом на каждой ветке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идят маленькие детки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т, кто деток соберет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Руки вымажет и рот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Рисунок 3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051440" cy="36734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" descr=""/>
          <p:cNvPicPr/>
          <p:nvPr/>
        </p:nvPicPr>
        <p:blipFill>
          <a:blip r:embed="rId2"/>
          <a:stretch/>
        </p:blipFill>
        <p:spPr>
          <a:xfrm>
            <a:off x="4859280" y="4017960"/>
            <a:ext cx="40514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У него одна нога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 и та без башмака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               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 лесных полянах, в рощах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Средь грибов расту и я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 натуре, между прочим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Ядовита, как змея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В шапке красной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Враг опасный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любуйся, погляди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 скорее отойди!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хож я на гриб боровик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имя мое..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растениях пято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5" name="Рисунок 3" descr=""/>
          <p:cNvPicPr/>
          <p:nvPr/>
        </p:nvPicPr>
        <p:blipFill>
          <a:blip r:embed="rId1"/>
          <a:stretch/>
        </p:blipFill>
        <p:spPr>
          <a:xfrm>
            <a:off x="3492360" y="1243080"/>
            <a:ext cx="2519640" cy="26510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4" descr=""/>
          <p:cNvPicPr/>
          <p:nvPr/>
        </p:nvPicPr>
        <p:blipFill>
          <a:blip r:embed="rId2"/>
          <a:stretch/>
        </p:blipFill>
        <p:spPr>
          <a:xfrm>
            <a:off x="6224760" y="1246320"/>
            <a:ext cx="2701800" cy="265104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5" descr=""/>
          <p:cNvPicPr/>
          <p:nvPr/>
        </p:nvPicPr>
        <p:blipFill>
          <a:blip r:embed="rId3"/>
          <a:stretch/>
        </p:blipFill>
        <p:spPr>
          <a:xfrm>
            <a:off x="3492360" y="4076640"/>
            <a:ext cx="2519640" cy="26352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"/>
          <p:cNvPicPr/>
          <p:nvPr/>
        </p:nvPicPr>
        <p:blipFill>
          <a:blip r:embed="rId4"/>
          <a:stretch/>
        </p:blipFill>
        <p:spPr>
          <a:xfrm>
            <a:off x="6224760" y="4076640"/>
            <a:ext cx="27018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лько в лес мы все зашли,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явились комары.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Руки вверх – хлопок,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Руки вниз – хлопок.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льше по лесу шагаем,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медведя мы встречаем.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Руки за голову кладём, 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И в розвалочку идём.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льше по лесу идём,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Перед нами водоём.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Прыгать мы уже умеем,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Прыгать будем веселее: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Раз, два, раз, два –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зади уже вод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1" name="Рисунок 3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2927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7436"/>
                </a:solidFill>
                <a:latin typeface="Times New Roman"/>
                <a:ea typeface="Calibri"/>
              </a:rPr>
              <a:t>Ведущий предлагает послушать названия цветов, кустов и деревьев и одновременно выполнять разные движения. Например, если назван цветок - хлопаем в ладоши, если назван куст - потопаем ногами, а если дерево - то попрыгаем. Если участник неправильно выполняет задание, ошибается, то с него берется фант, т. е. в конце игры он должен рассказать стихотворение, спеть песенку или загадать загадку о растени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 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Цветы                                           Жасмин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Ландыш                                        Сирень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Ромашка                                       Рябин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забудки                                    Малин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Колокольчик                                Смородин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73e87"/>
                </a:solidFill>
                <a:latin typeface="Calibri"/>
                <a:ea typeface="Calibri"/>
              </a:rPr>
              <a:t> 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Сирень                                          Пижм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Боярышник                                  Одуванчик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Деревья                                         Мать-и-мачех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Сосна                                             Кусты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Береза                                            Калин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Дуб                                                 Шиповник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Ель                                                 Лип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поль                                           Яблон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Клен                                               Роз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ая игр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еревья, птицы, цветы»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4" name="Рисунок 3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8512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Животные также занимают определенные «этажи». Для них лес, словно многоэтажный дом с многочисленными квартира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Дом открыт со всех сторон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доме тысяча колонн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д колоннами - шатры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д колоннами ковр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ам живут и на коврах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 колоннах и шатра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6" name="Рисунок 4" descr=""/>
          <p:cNvPicPr/>
          <p:nvPr/>
        </p:nvPicPr>
        <p:blipFill>
          <a:blip r:embed="rId1"/>
          <a:stretch/>
        </p:blipFill>
        <p:spPr>
          <a:xfrm>
            <a:off x="324000" y="4221000"/>
            <a:ext cx="3024000" cy="24069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5" descr=""/>
          <p:cNvPicPr/>
          <p:nvPr/>
        </p:nvPicPr>
        <p:blipFill>
          <a:blip r:embed="rId2"/>
          <a:stretch/>
        </p:blipFill>
        <p:spPr>
          <a:xfrm>
            <a:off x="3564000" y="1422360"/>
            <a:ext cx="5400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</a:t>
            </a: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Жить без дела не люблю я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пятом я встаю часу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сажаю кедры клювом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дубы в густом лесу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</a:t>
            </a: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Прилетает иволг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В рощи позже всех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гнездится иволг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В рощах выше всех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С ветром повстречается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«Как бы не унес!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 гнезде качается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зелени берез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животных и птицах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го и второго ярусов ле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3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3108600" cy="26636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2881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189000"/>
            <a:ext cx="8642160" cy="65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длагаю всем загадки. Отвечайте мне ребятки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Кто ответит лучше всех, того ждёт большой успех!</a:t>
            </a:r>
            <a:br>
              <a:rPr sz="20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                *****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Дом со всех сторон открыт.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Он резною крышей крыт.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Заходи в зелёный дом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Чудеса увидишь в нём!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Весной одевается.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Осенью раздевается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7" name="Рисунок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2560" cy="36482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" descr=""/>
          <p:cNvPicPr/>
          <p:nvPr/>
        </p:nvPicPr>
        <p:blipFill>
          <a:blip r:embed="rId2"/>
          <a:stretch/>
        </p:blipFill>
        <p:spPr>
          <a:xfrm>
            <a:off x="3419640" y="3051000"/>
            <a:ext cx="54734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250920" y="18864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Зверька узнаем мы с тобо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 двум таким приметам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Он в шубе серенькой зимой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в рыжей шубке летом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Чей напев с концовкой разной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синицей прозвенит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весничку передразнит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зарянку повтори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Черно-рыжая манишк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движной с рыжинкой хвос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кажет вам любой мальчишк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Это……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3" name="Рисунок 3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092480" cy="327348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4" descr=""/>
          <p:cNvPicPr/>
          <p:nvPr/>
        </p:nvPicPr>
        <p:blipFill>
          <a:blip r:embed="rId2"/>
          <a:stretch/>
        </p:blipFill>
        <p:spPr>
          <a:xfrm>
            <a:off x="4932360" y="3616200"/>
            <a:ext cx="3941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78920" y="141264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Расту червяком, питаюсь листком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том засыпаю, себя обмотаю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ем, не гляжу, неподвижно лежу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с новой весной я вдруг оживаю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Свой дом покидаю, как птичка порхаю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моторы, а шумят, не пилоты, а летят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змеи, а жалят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Хоть она и жалит больно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работой мы довольны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лесных обитателях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ьего и четверто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7" name="Рисунок 3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135320" cy="261612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41241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50560" y="259920"/>
            <a:ext cx="871380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лзла букаш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 большой ромашке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вспорхнула второпя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запуталась в сетя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Угадайте, дети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то расставил сети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найдешь на белом свет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илачей таких, как эти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рудовой такой семь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то же это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0" name="Рисунок 3" descr=""/>
          <p:cNvPicPr/>
          <p:nvPr/>
        </p:nvPicPr>
        <p:blipFill>
          <a:blip r:embed="rId1"/>
          <a:stretch/>
        </p:blipFill>
        <p:spPr>
          <a:xfrm>
            <a:off x="3564000" y="3160800"/>
            <a:ext cx="5332320" cy="35654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"/>
          <p:cNvPicPr/>
          <p:nvPr/>
        </p:nvPicPr>
        <p:blipFill>
          <a:blip r:embed="rId2"/>
          <a:stretch/>
        </p:blipFill>
        <p:spPr>
          <a:xfrm>
            <a:off x="3564000" y="260280"/>
            <a:ext cx="53290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Меня слепым зовут всегд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это вовсе не бед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Я под землей построил дом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се кладовые полны в нем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олосата, зелен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листьях прячется он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Хоть и много ножек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Бегать все равно не може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подземных  обитателях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4" name="Рисунок 3" descr=""/>
          <p:cNvPicPr/>
          <p:nvPr/>
        </p:nvPicPr>
        <p:blipFill>
          <a:blip r:embed="rId1"/>
          <a:stretch/>
        </p:blipFill>
        <p:spPr>
          <a:xfrm>
            <a:off x="4140360" y="2205000"/>
            <a:ext cx="46861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250920" y="260280"/>
            <a:ext cx="864216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ичек – лесовичек обращает внимание учеников, что им пора возвращаться с лесной прогулки. И дает напутствие детям: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«Ребята, мы хорошо отдохнули в лесу, узнали, кто и где из лесных обитателей живет. Обязательно приходите в гости в лес и не забывайте, что его нужно беречь! Давайте вспомним, отчего и почему необходимо охранять лес? Вспомните правила поведения в лесу»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БЕРЕГИТЕ ЛЕС ОТ ПОЖАРА!!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684360" y="2616120"/>
            <a:ext cx="79200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2364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идит белка на тележке. (В самом начале кулачек сжат)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родаёт она орешки: (Поочерёдно разгибать все пальчики)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Лисичке-сестричке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оробью, синичке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Мишке толстопятому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Заиньке усатому…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льчиковая гимнасти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елка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9" name="Рисунок 5" descr=""/>
          <p:cNvPicPr/>
          <p:nvPr/>
        </p:nvPicPr>
        <p:blipFill>
          <a:blip r:embed="rId1"/>
          <a:stretch/>
        </p:blipFill>
        <p:spPr>
          <a:xfrm>
            <a:off x="3995640" y="2708280"/>
            <a:ext cx="4092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Объект 3" descr=""/>
          <p:cNvPicPr/>
          <p:nvPr/>
        </p:nvPicPr>
        <p:blipFill>
          <a:blip r:embed="rId1"/>
          <a:stretch/>
        </p:blipFill>
        <p:spPr>
          <a:xfrm>
            <a:off x="2556000" y="1246320"/>
            <a:ext cx="4103640" cy="54464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красим старичка-лесовичк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5056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  Каково значение леса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Какие «этажи» существуют в лесу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Назовите лесных жителей каждого этаж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Почему надо беречь лес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Каковы правила поведения в лесу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торим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4" name="Рисунок 3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Богатырь стоит, богат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Угощает всех ребят: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Ваню - земляникой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Таню - костяникой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Машеньку - орешком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Петю - сыроежкой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Катеньку - малиной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Васю - хворостино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Рисунок 3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6" descr=""/>
          <p:cNvPicPr/>
          <p:nvPr/>
        </p:nvPicPr>
        <p:blipFill>
          <a:blip r:embed="rId2"/>
          <a:stretch/>
        </p:blipFill>
        <p:spPr>
          <a:xfrm>
            <a:off x="4859280" y="4297320"/>
            <a:ext cx="3884760" cy="24224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7" descr=""/>
          <p:cNvPicPr/>
          <p:nvPr/>
        </p:nvPicPr>
        <p:blipFill>
          <a:blip r:embed="rId3"/>
          <a:stretch/>
        </p:blipFill>
        <p:spPr>
          <a:xfrm>
            <a:off x="250920" y="4276800"/>
            <a:ext cx="36734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- Ребята, вы догадались, о чём пойдёт речь сегодня на уроке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Calibri"/>
              </a:rPr>
              <a:t>Совершенно верно сегодня мы отправимся в гости в лес, а сопровождать всех нас будет старичек - лесовичек! Он расскажет нам о лесе, лесных этажах и обитателях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4" name="Рисунок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2752560" cy="36482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1512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9280" y="1268280"/>
            <a:ext cx="8364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Это обширная территория, покрытая деревьями и  кустарникам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Times New Roman"/>
                <a:ea typeface="Calibri"/>
              </a:rPr>
              <a:t>Леса занимают около трети площади суши, площадь леса на Земле составляе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Times New Roman"/>
                <a:ea typeface="Calibri"/>
              </a:rPr>
              <a:t>38 млн км²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Calibri"/>
              </a:rPr>
              <a:t>Лес – это дом, в котором живут братья наши меньшие. Расселение обитателей лесного дома по «этажам» (ярусам) является одним из таких приспособлений. Мыши живут в корнях - в самом низу; разные птички, вроде соловья, вьют свои  гнездышки прямо на земле; дрозды - еще повыше, на кустарниках; дупляные птицы - дятел, синички, совы – еще повыше;  на  разной высоте по  стволу дерева и  на  самом верху селятся хищники: ястреба и орлы. При таком расселении каждому растению достается столько солнечного света, сколько оно любит, а каждому животному - достаточно пищи. В лиственном лесу пять «этажей». Основу лесного дома составляют деревья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WordArt 8"/>
          <p:cNvSpPr txBox="1"/>
          <p:nvPr/>
        </p:nvSpPr>
        <p:spPr>
          <a:xfrm>
            <a:off x="2916360" y="476280"/>
            <a:ext cx="2447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17436"/>
                </a:solidFill>
                <a:latin typeface="Times New Roman"/>
              </a:rPr>
              <a:t>Лес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21743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«Русский лес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Нет ничего милее, бродить и думать здесь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Излечит, обогреет, накормит русский лес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А будет жажда мучить, то мне лесовиче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Средь зарослей колючих покажет родниче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Нагнусь к нему напиться – и видно все до дн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Течет вода – водица, вкусна и холодн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Нас ждут в лесу рябина, орехи и цветы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Душистая малина на кустиках густых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Ищу грибов поляну я, не жалея ног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А если и устану – присяду на пене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Лес очень любит пеших, для них совсем он свой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Здесь где-то бродит леший с зеленой бородой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Жизнь кажется иною, и сердце не болит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Когда над головою, как вечность, лес шумит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С. Никулин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9" name="Рисунок 3" descr=""/>
          <p:cNvPicPr/>
          <p:nvPr/>
        </p:nvPicPr>
        <p:blipFill>
          <a:blip r:embed="rId1"/>
          <a:stretch/>
        </p:blipFill>
        <p:spPr>
          <a:xfrm>
            <a:off x="5435640" y="257040"/>
            <a:ext cx="3522600" cy="31687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"/>
          <p:cNvPicPr/>
          <p:nvPr/>
        </p:nvPicPr>
        <p:blipFill>
          <a:blip r:embed="rId2"/>
          <a:stretch/>
        </p:blipFill>
        <p:spPr>
          <a:xfrm>
            <a:off x="5435640" y="3645000"/>
            <a:ext cx="3522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6"/>
          <p:cNvSpPr txBox="1"/>
          <p:nvPr/>
        </p:nvSpPr>
        <p:spPr>
          <a:xfrm>
            <a:off x="1332000" y="189000"/>
            <a:ext cx="62643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Значение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60847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7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689200" cy="2475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8" descr=""/>
          <p:cNvPicPr/>
          <p:nvPr/>
        </p:nvPicPr>
        <p:blipFill>
          <a:blip r:embed="rId2"/>
          <a:stretch/>
        </p:blipFill>
        <p:spPr>
          <a:xfrm>
            <a:off x="2940120" y="1152360"/>
            <a:ext cx="3047760" cy="2448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9" descr=""/>
          <p:cNvPicPr/>
          <p:nvPr/>
        </p:nvPicPr>
        <p:blipFill>
          <a:blip r:embed="rId3"/>
          <a:stretch/>
        </p:blipFill>
        <p:spPr>
          <a:xfrm>
            <a:off x="5987880" y="1125360"/>
            <a:ext cx="2976840" cy="24750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" descr=""/>
          <p:cNvPicPr/>
          <p:nvPr/>
        </p:nvPicPr>
        <p:blipFill>
          <a:blip r:embed="rId4"/>
          <a:stretch/>
        </p:blipFill>
        <p:spPr>
          <a:xfrm>
            <a:off x="250920" y="3600360"/>
            <a:ext cx="6680160" cy="278136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2" descr=""/>
          <p:cNvPicPr/>
          <p:nvPr/>
        </p:nvPicPr>
        <p:blipFill>
          <a:blip r:embed="rId5"/>
          <a:stretch/>
        </p:blipFill>
        <p:spPr>
          <a:xfrm>
            <a:off x="6931080" y="3584520"/>
            <a:ext cx="20336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08000" y="1285920"/>
            <a:ext cx="8856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526814"/>
                </a:solidFill>
                <a:latin typeface="Times New Roman"/>
              </a:rPr>
              <a:t>Все растения, образующие лес, располагаются в лесу ступенями, или, как их называют в науке, </a:t>
            </a:r>
            <a:r>
              <a:rPr b="1" lang="ru-RU" sz="2000" spc="-1" strike="noStrike">
                <a:solidFill>
                  <a:srgbClr val="526814"/>
                </a:solidFill>
                <a:latin typeface="Times New Roman"/>
              </a:rPr>
              <a:t>ярусами.</a:t>
            </a:r>
            <a:r>
              <a:rPr b="0" lang="ru-RU" sz="2000" spc="-1" strike="noStrike">
                <a:solidFill>
                  <a:srgbClr val="526814"/>
                </a:solidFill>
                <a:latin typeface="Times New Roman"/>
              </a:rPr>
              <a:t> Некоторые леса имеют четыре, пять и даже больше ярусов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Первый ярус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— это главный древесный полог (от 30 метров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Второй ярус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— это подрост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Третий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— подлесок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Четвертый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— травяной покров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Пятый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– мхи и лишайник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1908000" y="549360"/>
            <a:ext cx="54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Ярусы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370" name="Рисунок 5" descr=""/>
          <p:cNvPicPr/>
          <p:nvPr/>
        </p:nvPicPr>
        <p:blipFill>
          <a:blip r:embed="rId1"/>
          <a:stretch/>
        </p:blipFill>
        <p:spPr>
          <a:xfrm>
            <a:off x="4932360" y="2928960"/>
            <a:ext cx="2752560" cy="36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Объект 3" descr=""/>
          <p:cNvPicPr/>
          <p:nvPr/>
        </p:nvPicPr>
        <p:blipFill>
          <a:blip r:embed="rId1"/>
          <a:stretch/>
        </p:blipFill>
        <p:spPr>
          <a:xfrm>
            <a:off x="96840" y="115920"/>
            <a:ext cx="89168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4:02:27Z</dcterms:created>
  <dc:creator>User</dc:creator>
  <dc:description/>
  <dc:language>en-US</dc:language>
  <cp:lastModifiedBy>лена</cp:lastModifiedBy>
  <dcterms:modified xsi:type="dcterms:W3CDTF">2013-11-17T08:22:52Z</dcterms:modified>
  <cp:revision>60</cp:revision>
  <dc:subject/>
  <dc:title>Слайд 1</dc:title>
</cp:coreProperties>
</file>