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47.png" ContentType="image/png"/>
  <Override PartName="/ppt/media/image23.jpeg" ContentType="image/jpeg"/>
  <Override PartName="/ppt/media/image44.jpeg" ContentType="image/jpeg"/>
  <Override PartName="/ppt/media/image9.jpeg" ContentType="image/jpeg"/>
  <Override PartName="/ppt/media/image2.jpeg" ContentType="image/jpeg"/>
  <Override PartName="/ppt/media/image36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D563D-064E-4453-AB86-482ADBB0408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B8BA-12B0-44EB-8925-4EB0CC75FD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7F1E-F36D-4F6C-ACCC-6A5EF5F42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6470-73D7-471B-BFD5-6CFF07137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2A001-E7C0-474A-91CC-72FAE5A8D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1A1-3F7E-4686-8008-D7C595E06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DD648-5EE3-4B7C-BD01-328EDD3FC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BCB51-00FB-460E-B25A-97B73AAF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5DBCB-D683-4F51-98F8-C2353DDE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D9C6-E282-4A5E-8353-8C0A6502C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5AFCB-68BC-4C72-9938-9C5EFC98E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EB41A-46FE-4965-BB24-9163013E1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26C5D-1F4B-48CC-80AC-4280EDC2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54AD-C21D-4FB5-B700-31577E2B0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BF203-3097-47AA-9354-ACE7D0DAB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754C-C8A6-4495-83E4-F83AE210F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3ED15-3540-4FE6-B637-EA8020026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73CE6-D81E-43A8-9ACF-CD01BB791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55E9D-E0D6-412D-9942-823617CB1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437C1E-FD09-43A3-AA86-2927CE302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7DCD21-1192-46CC-887B-FA271B8C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10411-4BA7-48A0-AA53-E0F2D9892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0305B9-FEC6-496A-A196-05E8A501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35A655-FE7C-427F-A82A-1DC9176D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F954-45D5-4DC0-9E2D-80A856FC9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5E3D90-3EE0-4692-B8F3-190096C1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2628B-CF55-4226-B98E-C26B9DA5B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503D5E-1DCE-4D1E-BC1B-D5A01D5D0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48223B-EB60-43D2-B9F5-233B7FD4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AD45C-0836-43AB-B8B0-1329A502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A33AB6-879A-4666-B86D-6D12FCD9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E06250-67AC-41B3-BD7F-D80AA557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727FE1-2D58-4035-9EBF-5B4B90353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95E4DD-D00F-4F09-AB73-855C6C286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6C32BE-ACEE-48A9-8504-B173EDD0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A133-D250-4F50-A685-4480A782D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ABDB32-9A60-434F-911D-9899851F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1B91D3-0E09-4169-9770-3184C04FF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FCA4A-504F-4DAD-858A-DE4B115FE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B90EAD-1728-4EB5-BC2C-1DB534DAF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5854FA-D89F-4C27-BE92-57BC46E1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092FB9-3DF9-4404-A5D3-6AAD3B456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856AE8-468E-4235-8A2A-642D1BB7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8C913-42B9-43F7-9567-11D24A6C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2A36B1-86D8-419C-8BBD-C3918652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A6B307-BCF1-4AF0-B2FE-4FA9B9495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5DDF-CBEF-41C2-AE71-2F3CF203D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B2A6B6-184D-400F-AD4F-A8825E1C3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F5551-07F1-4B1D-B437-932E13B1D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6D9888-35A5-4BCB-AC45-16422D81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62196-B967-4895-AB54-3E85B5DE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667CC-2A38-44CE-8330-73CFCBFFD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26BAE4-E21C-4C3B-A382-1260E6FF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D4A90D-DF5B-4EDA-A99A-649857E53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D2EB3-0340-4A82-B721-E61822B8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41D06D-5AA4-4B52-969C-A5E181D4B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5251D0-9CA0-4BC6-9951-C99C416F4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5552-35C4-4438-96CF-151918637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F65F7-5212-42EA-8B0E-5FB337E01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12786D-E00B-4692-B777-82B2AA0AE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865F8-11F0-4318-B127-3A93AA43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983A5F-1F7E-4ED2-99B3-C16168AA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3959EE-C88F-4259-B979-9BDF1170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D75115-B593-4535-9A03-824065CD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C93EAC-0A02-4195-BF45-7B615201E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D395B4-7F7E-4B8B-B131-E39ABCC7E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B3314-051F-4949-A100-94A03295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C2FF2-07A9-45F4-B18E-ED3D4B5D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A8483-0B0F-4E00-AC3E-BF3D5AC3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C284B6-EB48-4035-87FB-1106248A6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A845A-CAD3-42E9-A7E0-6F8F9B97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81ED2-D212-4B43-A7E4-BD124361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51F85-93E1-423B-8C3D-D82A86D2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414D2-CC17-46E2-8179-92B5D5BB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42393-C8A6-49CF-AFBC-5FE1C2CB6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26BEC4-6B68-4ABE-9F14-3A3ADC47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978860-9E8F-4EA9-B5DD-DA512766D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10FCD-C9F2-4EB9-A5AB-1807696C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C7B8EA-ECD4-40F0-AA75-AEF28569B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F7E-9A7A-4D47-B03F-9CD8C4D85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A38F2-F2D9-41E9-8286-274DA3D9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4C758-B24E-48EE-8874-0B8F6FD9E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582E1A-5A9C-42B4-BB91-080160F16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6D2F94-32E7-47B2-9146-8FEC6947C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40D62-C8AB-47F6-8EFE-D93515E9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CD08-B468-453D-A72D-F97DD65CC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0EEFF-7FF4-46AF-AD6D-D4EAE962FEF8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8FE54-85FD-470B-8E00-4D40F9B23902}" type="datetime">
              <a:rPr b="0" lang="en-US" sz="1000" spc="-1" strike="noStrike">
                <a:solidFill>
                  <a:srgbClr val="073e87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B4DEF-86C5-42C8-81DF-794AF1E9C95C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AC2EC-457E-4596-94E3-116506AC8185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F93A3-A35F-4398-945B-BEC656D2ED13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BB13-5AF9-43C7-82F9-FB5495E1D9CD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3ADD5-5985-47DB-AC36-3CCDF9B9FF99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71DF1-8A10-498A-96D4-524579BA3BD2}" type="slidenum">
              <a:rPr b="0" lang="ru-RU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Прямоугольник 4"/>
          <p:cNvSpPr/>
          <p:nvPr/>
        </p:nvSpPr>
        <p:spPr>
          <a:xfrm>
            <a:off x="3000240" y="5786280"/>
            <a:ext cx="5214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5"/>
          <p:cNvSpPr/>
          <p:nvPr/>
        </p:nvSpPr>
        <p:spPr>
          <a:xfrm>
            <a:off x="5508720" y="5084640"/>
            <a:ext cx="338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Times New Roman"/>
              </a:rPr>
              <a:t>Пархоменко Елена Андреевн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Times New Roman"/>
              </a:rPr>
              <a:t>Педагог ДО МБОУ ДОД ЦД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21b2b"/>
                </a:solidFill>
                <a:latin typeface="Times New Roman"/>
              </a:rPr>
              <a:t>г. Усть-Илим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WordArt 6"/>
          <p:cNvSpPr txBox="1"/>
          <p:nvPr/>
        </p:nvSpPr>
        <p:spPr>
          <a:xfrm>
            <a:off x="1979640" y="1700280"/>
            <a:ext cx="5221440" cy="20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050"/>
                </a:solidFill>
                <a:latin typeface="Times New Roman"/>
              </a:rPr>
              <a:t>Этажи  леса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b050"/>
              </a:solidFill>
              <a:latin typeface="Times New Roman"/>
              <a:ea typeface="Times New Roman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2627280" y="40392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</a:rPr>
              <a:t>МБОУ ДОД ЦДТ г. Усть-Илим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 txBox="1"/>
          <p:nvPr/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Calibri"/>
                <a:ea typeface="Calibri"/>
              </a:rPr>
              <a:t>              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Что же это за девиц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Не швея, не мастерица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Ничего сама не шьет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А в иголках круглый год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Темной он покрыт корой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Лист красивый, вырезной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А на кончиках ветвей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Много-много желудей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Стоит красавица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Косы зеленые, платье белое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Кора горючая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Ветки плакучие, семя летучее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78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дки лесовичка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растениях первого яруса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4" name="Рисунок 3" descr=""/>
          <p:cNvPicPr/>
          <p:nvPr/>
        </p:nvPicPr>
        <p:blipFill>
          <a:blip r:embed="rId1"/>
          <a:stretch/>
        </p:blipFill>
        <p:spPr>
          <a:xfrm>
            <a:off x="3708360" y="4187880"/>
            <a:ext cx="2376360" cy="2455920"/>
          </a:xfrm>
          <a:prstGeom prst="rect">
            <a:avLst/>
          </a:prstGeom>
          <a:ln w="0">
            <a:noFill/>
          </a:ln>
        </p:spPr>
      </p:pic>
      <p:pic>
        <p:nvPicPr>
          <p:cNvPr id="375" name="Рисунок 4" descr=""/>
          <p:cNvPicPr/>
          <p:nvPr/>
        </p:nvPicPr>
        <p:blipFill>
          <a:blip r:embed="rId2"/>
          <a:stretch/>
        </p:blipFill>
        <p:spPr>
          <a:xfrm>
            <a:off x="6191280" y="1989000"/>
            <a:ext cx="2708280" cy="3610080"/>
          </a:xfrm>
          <a:prstGeom prst="rect">
            <a:avLst/>
          </a:prstGeom>
          <a:ln w="0">
            <a:noFill/>
          </a:ln>
        </p:spPr>
      </p:pic>
      <p:pic>
        <p:nvPicPr>
          <p:cNvPr id="376" name="Рисунок 5" descr=""/>
          <p:cNvPicPr/>
          <p:nvPr/>
        </p:nvPicPr>
        <p:blipFill>
          <a:blip r:embed="rId3"/>
          <a:stretch/>
        </p:blipFill>
        <p:spPr>
          <a:xfrm>
            <a:off x="3708360" y="1285920"/>
            <a:ext cx="2376360" cy="28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</a:t>
            </a: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Осенью, как только свистнет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Зыбкий ветер - дождевик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У него зеленые листья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краснеют в тот же миг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</a:t>
            </a: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Есть сережки,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Но не девчонка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Есть шишки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Да не сосенка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А живет в низинке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Около лощинки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</a:t>
            </a: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Весной растет,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Летом цветет,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Осенью осыпается,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Зимой отсыпается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А цветок-то - медок,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Лечит от гриппа,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Кашля и хрипа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78" name="Рисунок 3" descr=""/>
          <p:cNvPicPr/>
          <p:nvPr/>
        </p:nvPicPr>
        <p:blipFill>
          <a:blip r:embed="rId1"/>
          <a:stretch/>
        </p:blipFill>
        <p:spPr>
          <a:xfrm>
            <a:off x="2448000" y="3957480"/>
            <a:ext cx="3384360" cy="2665440"/>
          </a:xfrm>
          <a:prstGeom prst="rect">
            <a:avLst/>
          </a:prstGeom>
          <a:ln w="0">
            <a:noFill/>
          </a:ln>
        </p:spPr>
      </p:pic>
      <p:pic>
        <p:nvPicPr>
          <p:cNvPr id="379" name="Рисунок 4" descr=""/>
          <p:cNvPicPr/>
          <p:nvPr/>
        </p:nvPicPr>
        <p:blipFill>
          <a:blip r:embed="rId2"/>
          <a:stretch/>
        </p:blipFill>
        <p:spPr>
          <a:xfrm>
            <a:off x="6012000" y="3933720"/>
            <a:ext cx="2903400" cy="2664000"/>
          </a:xfrm>
          <a:prstGeom prst="rect">
            <a:avLst/>
          </a:prstGeom>
          <a:ln w="0">
            <a:noFill/>
          </a:ln>
        </p:spPr>
      </p:pic>
      <p:pic>
        <p:nvPicPr>
          <p:cNvPr id="380" name="Рисунок 5" descr=""/>
          <p:cNvPicPr/>
          <p:nvPr/>
        </p:nvPicPr>
        <p:blipFill>
          <a:blip r:embed="rId3"/>
          <a:stretch/>
        </p:blipFill>
        <p:spPr>
          <a:xfrm>
            <a:off x="3630600" y="190440"/>
            <a:ext cx="528480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</a:t>
            </a: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Ягоды не сладость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Зато глазу радость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И лесам - украшение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И дроздам угощение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</a:t>
            </a: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Белые душистые цветы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«Дают» черные вязкие плоды»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</a:t>
            </a: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Зеленые кусточки, алые цветочки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Кочки-коготочки стерегут цветочки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А плоды в красной рубашке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Брюшко камешками набито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дки лесовичка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растениях второго и третьего яруса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3" name="Рисунок 3" descr=""/>
          <p:cNvPicPr/>
          <p:nvPr/>
        </p:nvPicPr>
        <p:blipFill>
          <a:blip r:embed="rId1"/>
          <a:stretch/>
        </p:blipFill>
        <p:spPr>
          <a:xfrm>
            <a:off x="5219640" y="1278000"/>
            <a:ext cx="3702240" cy="2727360"/>
          </a:xfrm>
          <a:prstGeom prst="rect">
            <a:avLst/>
          </a:prstGeom>
          <a:ln w="0">
            <a:noFill/>
          </a:ln>
        </p:spPr>
      </p:pic>
      <p:pic>
        <p:nvPicPr>
          <p:cNvPr id="384" name="Рисунок 4" descr=""/>
          <p:cNvPicPr/>
          <p:nvPr/>
        </p:nvPicPr>
        <p:blipFill>
          <a:blip r:embed="rId2"/>
          <a:stretch/>
        </p:blipFill>
        <p:spPr>
          <a:xfrm>
            <a:off x="4788000" y="4149720"/>
            <a:ext cx="3313080" cy="2522520"/>
          </a:xfrm>
          <a:prstGeom prst="rect">
            <a:avLst/>
          </a:prstGeom>
          <a:ln w="0">
            <a:noFill/>
          </a:ln>
        </p:spPr>
      </p:pic>
      <p:pic>
        <p:nvPicPr>
          <p:cNvPr id="385" name="Рисунок 5" descr=""/>
          <p:cNvPicPr/>
          <p:nvPr/>
        </p:nvPicPr>
        <p:blipFill>
          <a:blip r:embed="rId3"/>
          <a:stretch/>
        </p:blipFill>
        <p:spPr>
          <a:xfrm>
            <a:off x="2916360" y="1278000"/>
            <a:ext cx="2232000" cy="27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 txBox="1"/>
          <p:nvPr/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На припеке у пеньков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Много-много стебельков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Каждый тонкий стебелек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Держит алый огонек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Радугами стебельки —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Собираем огоньки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Нам запах свежести лесно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Приносит позднею весно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Цветок душистый, нежны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Из кисти белоснежной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дки лесовичка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растениях четвертого яруса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88" name="Picture 2" descr=""/>
          <p:cNvPicPr/>
          <p:nvPr/>
        </p:nvPicPr>
        <p:blipFill>
          <a:blip r:embed="rId1"/>
          <a:stretch/>
        </p:blipFill>
        <p:spPr>
          <a:xfrm>
            <a:off x="4495680" y="3697200"/>
            <a:ext cx="4113360" cy="2803680"/>
          </a:xfrm>
          <a:prstGeom prst="rect">
            <a:avLst/>
          </a:prstGeom>
          <a:ln w="0">
            <a:noFill/>
          </a:ln>
        </p:spPr>
      </p:pic>
      <p:pic>
        <p:nvPicPr>
          <p:cNvPr id="389" name="Рисунок 3" descr=""/>
          <p:cNvPicPr/>
          <p:nvPr/>
        </p:nvPicPr>
        <p:blipFill>
          <a:blip r:embed="rId2"/>
          <a:stretch/>
        </p:blipFill>
        <p:spPr>
          <a:xfrm>
            <a:off x="5724360" y="1436760"/>
            <a:ext cx="3240360" cy="19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 txBox="1"/>
          <p:nvPr/>
        </p:nvSpPr>
        <p:spPr>
          <a:xfrm>
            <a:off x="250920" y="18900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В прореженном лесу и у дорог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Ты встретишь дикую рябинку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Вместо красных ягод у не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С июля по сентябрь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Желтые цветки собраны в корзинку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д листом на каждой ветке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Сидят маленькие детки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Тот, кто деток соберет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Руки вымажет и рот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91" name="Рисунок 3" descr=""/>
          <p:cNvPicPr/>
          <p:nvPr/>
        </p:nvPicPr>
        <p:blipFill>
          <a:blip r:embed="rId1"/>
          <a:stretch/>
        </p:blipFill>
        <p:spPr>
          <a:xfrm>
            <a:off x="4859280" y="260280"/>
            <a:ext cx="4051440" cy="3673440"/>
          </a:xfrm>
          <a:prstGeom prst="rect">
            <a:avLst/>
          </a:prstGeom>
          <a:ln w="0">
            <a:noFill/>
          </a:ln>
        </p:spPr>
      </p:pic>
      <p:pic>
        <p:nvPicPr>
          <p:cNvPr id="392" name="Рисунок 4" descr=""/>
          <p:cNvPicPr/>
          <p:nvPr/>
        </p:nvPicPr>
        <p:blipFill>
          <a:blip r:embed="rId2"/>
          <a:stretch/>
        </p:blipFill>
        <p:spPr>
          <a:xfrm>
            <a:off x="4859280" y="4017960"/>
            <a:ext cx="405144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250920" y="1341360"/>
            <a:ext cx="86421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</a:t>
            </a: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У него одна нога,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Да и та без башмака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73e87"/>
                </a:solidFill>
                <a:latin typeface="Calibri"/>
                <a:ea typeface="Calibri"/>
              </a:rPr>
              <a:t>               </a:t>
            </a: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На лесных полянах, в рощах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Средь грибов расту и я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 натуре, между прочим,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Ядовита, как змея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</a:t>
            </a: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В шапке красной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Враг опасный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любуйся, погляди,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Да скорее отойди!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</a:t>
            </a: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хож я на гриб боровик,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73e87"/>
                </a:solidFill>
                <a:latin typeface="Times New Roman"/>
                <a:ea typeface="Calibri"/>
              </a:rPr>
              <a:t>Но имя мое... 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85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дки лесовичка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растениях пятого яруса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95" name="Рисунок 3" descr=""/>
          <p:cNvPicPr/>
          <p:nvPr/>
        </p:nvPicPr>
        <p:blipFill>
          <a:blip r:embed="rId1"/>
          <a:stretch/>
        </p:blipFill>
        <p:spPr>
          <a:xfrm>
            <a:off x="3492360" y="1243080"/>
            <a:ext cx="2519640" cy="2651040"/>
          </a:xfrm>
          <a:prstGeom prst="rect">
            <a:avLst/>
          </a:prstGeom>
          <a:ln w="0">
            <a:noFill/>
          </a:ln>
        </p:spPr>
      </p:pic>
      <p:pic>
        <p:nvPicPr>
          <p:cNvPr id="396" name="Рисунок 4" descr=""/>
          <p:cNvPicPr/>
          <p:nvPr/>
        </p:nvPicPr>
        <p:blipFill>
          <a:blip r:embed="rId2"/>
          <a:stretch/>
        </p:blipFill>
        <p:spPr>
          <a:xfrm>
            <a:off x="6224760" y="1246320"/>
            <a:ext cx="2701800" cy="2651040"/>
          </a:xfrm>
          <a:prstGeom prst="rect">
            <a:avLst/>
          </a:prstGeom>
          <a:ln w="0">
            <a:noFill/>
          </a:ln>
        </p:spPr>
      </p:pic>
      <p:pic>
        <p:nvPicPr>
          <p:cNvPr id="397" name="Рисунок 5" descr=""/>
          <p:cNvPicPr/>
          <p:nvPr/>
        </p:nvPicPr>
        <p:blipFill>
          <a:blip r:embed="rId3"/>
          <a:stretch/>
        </p:blipFill>
        <p:spPr>
          <a:xfrm>
            <a:off x="3492360" y="4076640"/>
            <a:ext cx="2519640" cy="2635200"/>
          </a:xfrm>
          <a:prstGeom prst="rect">
            <a:avLst/>
          </a:prstGeom>
          <a:ln w="0">
            <a:noFill/>
          </a:ln>
        </p:spPr>
      </p:pic>
      <p:pic>
        <p:nvPicPr>
          <p:cNvPr id="398" name="Рисунок 6" descr=""/>
          <p:cNvPicPr/>
          <p:nvPr/>
        </p:nvPicPr>
        <p:blipFill>
          <a:blip r:embed="rId4"/>
          <a:stretch/>
        </p:blipFill>
        <p:spPr>
          <a:xfrm>
            <a:off x="6224760" y="4076640"/>
            <a:ext cx="270180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73e87"/>
                </a:solidFill>
                <a:latin typeface="Times New Roman"/>
                <a:ea typeface="Calibri"/>
              </a:rPr>
              <a:t>Только в лес мы все зашли,</a:t>
            </a:r>
            <a:br>
              <a:rPr sz="2200"/>
            </a:br>
            <a:r>
              <a:rPr b="1" lang="ru-RU" sz="22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явились комары.</a:t>
            </a:r>
            <a:br>
              <a:rPr sz="2200"/>
            </a:br>
            <a:r>
              <a:rPr b="1" lang="ru-RU" sz="2200" spc="-1" strike="noStrike">
                <a:solidFill>
                  <a:srgbClr val="217436"/>
                </a:solidFill>
                <a:latin typeface="Times New Roman"/>
                <a:ea typeface="Calibri"/>
              </a:rPr>
              <a:t>Руки вверх – хлопок,</a:t>
            </a:r>
            <a:br>
              <a:rPr sz="2200"/>
            </a:br>
            <a:r>
              <a:rPr b="1" lang="ru-RU" sz="2200" spc="-1" strike="noStrike">
                <a:solidFill>
                  <a:srgbClr val="217436"/>
                </a:solidFill>
                <a:latin typeface="Times New Roman"/>
                <a:ea typeface="Calibri"/>
              </a:rPr>
              <a:t>Руки вниз – хлопок.</a:t>
            </a:r>
            <a:br>
              <a:rPr sz="2200"/>
            </a:br>
            <a:r>
              <a:rPr b="1" lang="ru-RU" sz="2200" spc="-1" strike="noStrike">
                <a:solidFill>
                  <a:srgbClr val="073e87"/>
                </a:solidFill>
                <a:latin typeface="Times New Roman"/>
                <a:ea typeface="Calibri"/>
              </a:rPr>
              <a:t>Дальше по лесу шагаем,</a:t>
            </a:r>
            <a:br>
              <a:rPr sz="2200"/>
            </a:br>
            <a:r>
              <a:rPr b="1" lang="ru-RU" sz="2200" spc="-1" strike="noStrike">
                <a:solidFill>
                  <a:srgbClr val="073e87"/>
                </a:solidFill>
                <a:latin typeface="Times New Roman"/>
                <a:ea typeface="Calibri"/>
              </a:rPr>
              <a:t>И медведя мы встречаем.</a:t>
            </a:r>
            <a:br>
              <a:rPr sz="2200"/>
            </a:br>
            <a:r>
              <a:rPr b="1" lang="ru-RU" sz="2200" spc="-1" strike="noStrike">
                <a:solidFill>
                  <a:srgbClr val="217436"/>
                </a:solidFill>
                <a:latin typeface="Times New Roman"/>
                <a:ea typeface="Calibri"/>
              </a:rPr>
              <a:t>Руки за голову кладём, </a:t>
            </a:r>
            <a:br>
              <a:rPr sz="2200"/>
            </a:br>
            <a:r>
              <a:rPr b="1" lang="ru-RU" sz="2200" spc="-1" strike="noStrike">
                <a:solidFill>
                  <a:srgbClr val="217436"/>
                </a:solidFill>
                <a:latin typeface="Times New Roman"/>
                <a:ea typeface="Calibri"/>
              </a:rPr>
              <a:t>И в розвалочку идём.</a:t>
            </a:r>
            <a:br>
              <a:rPr sz="2200"/>
            </a:br>
            <a:r>
              <a:rPr b="1" lang="ru-RU" sz="2200" spc="-1" strike="noStrike">
                <a:solidFill>
                  <a:srgbClr val="073e87"/>
                </a:solidFill>
                <a:latin typeface="Times New Roman"/>
                <a:ea typeface="Calibri"/>
              </a:rPr>
              <a:t>Дальше по лесу идём,</a:t>
            </a:r>
            <a:br>
              <a:rPr sz="2200"/>
            </a:br>
            <a:r>
              <a:rPr b="1" lang="ru-RU" sz="2200" spc="-1" strike="noStrike">
                <a:solidFill>
                  <a:srgbClr val="073e87"/>
                </a:solidFill>
                <a:latin typeface="Times New Roman"/>
                <a:ea typeface="Calibri"/>
              </a:rPr>
              <a:t>Перед нами водоём.</a:t>
            </a:r>
            <a:br>
              <a:rPr sz="2200"/>
            </a:br>
            <a:r>
              <a:rPr b="1" lang="ru-RU" sz="2200" spc="-1" strike="noStrike">
                <a:solidFill>
                  <a:srgbClr val="217436"/>
                </a:solidFill>
                <a:latin typeface="Times New Roman"/>
                <a:ea typeface="Calibri"/>
              </a:rPr>
              <a:t>Прыгать мы уже умеем,</a:t>
            </a:r>
            <a:br>
              <a:rPr sz="2200"/>
            </a:br>
            <a:r>
              <a:rPr b="1" lang="ru-RU" sz="2200" spc="-1" strike="noStrike">
                <a:solidFill>
                  <a:srgbClr val="217436"/>
                </a:solidFill>
                <a:latin typeface="Times New Roman"/>
                <a:ea typeface="Calibri"/>
              </a:rPr>
              <a:t>Прыгать будем веселее:</a:t>
            </a:r>
            <a:br>
              <a:rPr sz="2200"/>
            </a:br>
            <a:r>
              <a:rPr b="1" lang="ru-RU" sz="2200" spc="-1" strike="noStrike">
                <a:solidFill>
                  <a:srgbClr val="073e87"/>
                </a:solidFill>
                <a:latin typeface="Times New Roman"/>
                <a:ea typeface="Calibri"/>
              </a:rPr>
              <a:t>Раз, два, раз, два –</a:t>
            </a:r>
            <a:br>
              <a:rPr sz="2200"/>
            </a:br>
            <a:r>
              <a:rPr b="1" lang="ru-RU" sz="22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зади уже вода.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ФИЗМИНУТКА</a:t>
            </a:r>
            <a:endParaRPr b="0" lang="en-US" sz="36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1" name="Рисунок 3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529272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 txBox="1"/>
          <p:nvPr/>
        </p:nvSpPr>
        <p:spPr>
          <a:xfrm>
            <a:off x="250560" y="1413000"/>
            <a:ext cx="87138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17436"/>
                </a:solidFill>
                <a:latin typeface="Times New Roman"/>
                <a:ea typeface="Calibri"/>
              </a:rPr>
              <a:t>Ведущий предлагает послушать названия цветов, кустов и деревьев и одновременно выполнять разные движения. Например, если назван цветок - хлопаем в ладоши, если назван куст - потопаем ногами, а если дерево - то попрыгаем. Если участник неправильно выполняет задание, ошибается, то с него берется фант, т. е. в конце игры он должен рассказать стихотворение, спеть песенку или загадать загадку о растении.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 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Цветы                                           Жасмин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Ландыш                                        Сирень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Ромашка                                       Рябина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Незабудки                                    Малина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Колокольчик                                Смородина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73e87"/>
                </a:solidFill>
                <a:latin typeface="Calibri"/>
                <a:ea typeface="Calibri"/>
              </a:rPr>
              <a:t>  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Сирень                                          Пижма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Боярышник                                  Одуванчик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Деревья                                         Мать-и-мачеха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Сосна                                             Кусты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Береза                                            Калина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Дуб                                                 Шиповник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Ель                                                 Липа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Тополь                                           Яблоня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</a:t>
            </a:r>
            <a:r>
              <a:rPr b="1" lang="ru-RU" sz="1500" spc="-1" strike="noStrike">
                <a:solidFill>
                  <a:srgbClr val="073e87"/>
                </a:solidFill>
                <a:latin typeface="Times New Roman"/>
                <a:ea typeface="Calibri"/>
              </a:rPr>
              <a:t>Клен                                               Роза</a:t>
            </a: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идактическая игра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Деревья, птицы, цветы»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04" name="Рисунок 3" descr=""/>
          <p:cNvPicPr/>
          <p:nvPr/>
        </p:nvPicPr>
        <p:blipFill>
          <a:blip r:embed="rId1"/>
          <a:stretch/>
        </p:blipFill>
        <p:spPr>
          <a:xfrm>
            <a:off x="4932360" y="2637000"/>
            <a:ext cx="3851280" cy="40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250560" y="259920"/>
            <a:ext cx="8713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Животные также занимают определенные «этажи». Для них лес, словно многоэтажный дом с многочисленными квартирам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Дом открыт со всех сторон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В доме тысяча колонн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Над колоннами - шатры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д колоннами ковры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Там живут и на коврах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На колоннах и шатрах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06" name="Рисунок 4" descr=""/>
          <p:cNvPicPr/>
          <p:nvPr/>
        </p:nvPicPr>
        <p:blipFill>
          <a:blip r:embed="rId1"/>
          <a:stretch/>
        </p:blipFill>
        <p:spPr>
          <a:xfrm>
            <a:off x="324000" y="4221000"/>
            <a:ext cx="3024000" cy="240696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5" descr=""/>
          <p:cNvPicPr/>
          <p:nvPr/>
        </p:nvPicPr>
        <p:blipFill>
          <a:blip r:embed="rId2"/>
          <a:stretch/>
        </p:blipFill>
        <p:spPr>
          <a:xfrm>
            <a:off x="3564000" y="1422360"/>
            <a:ext cx="5400720" cy="37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 txBox="1"/>
          <p:nvPr/>
        </p:nvSpPr>
        <p:spPr>
          <a:xfrm>
            <a:off x="250920" y="134100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</a:t>
            </a: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Жить без дела не люблю я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В пятом я встаю часу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То сажаю кедры клювом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То дубы в густом лесу.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</a:t>
            </a: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Прилетает иволг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В рощи позже всех,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И гнездится иволга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В рощах выше всех.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С ветром повстречается: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«Как бы не унес!»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На гнезде качается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73e87"/>
                </a:solidFill>
                <a:latin typeface="Times New Roman"/>
                <a:ea typeface="Calibri"/>
              </a:rPr>
              <a:t>В зелени берез. </a:t>
            </a:r>
            <a:endParaRPr b="0" lang="en-US" sz="16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074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дки лесовичка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животных и птицах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ервого и второго ярусов леса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0" name="Рисунок 3" descr=""/>
          <p:cNvPicPr/>
          <p:nvPr/>
        </p:nvPicPr>
        <p:blipFill>
          <a:blip r:embed="rId1"/>
          <a:stretch/>
        </p:blipFill>
        <p:spPr>
          <a:xfrm>
            <a:off x="5867280" y="1773360"/>
            <a:ext cx="3108600" cy="266364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4" descr=""/>
          <p:cNvPicPr/>
          <p:nvPr/>
        </p:nvPicPr>
        <p:blipFill>
          <a:blip r:embed="rId2"/>
          <a:stretch/>
        </p:blipFill>
        <p:spPr>
          <a:xfrm>
            <a:off x="2771640" y="2565360"/>
            <a:ext cx="2881440" cy="30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50920" y="189000"/>
            <a:ext cx="8642160" cy="65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Предлагаю всем загадки. Отвечайте мне ребятки.</a:t>
            </a:r>
            <a:br>
              <a:rPr sz="2000"/>
            </a:b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Кто ответит лучше всех, того ждёт большой успех!</a:t>
            </a:r>
            <a:br>
              <a:rPr sz="20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                                                            *****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                                      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Дом со всех сторон открыт.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                                            Он резною крышей крыт.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                                            Заходи в зелёный дом,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                                            Чудеса увидишь в нём!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5000"/>
              </a:lnSpc>
              <a:spcBef>
                <a:spcPts val="601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Весной одевается.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Осенью раздевается 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47" name="Рисунок 3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2752560" cy="3648240"/>
          </a:xfrm>
          <a:prstGeom prst="rect">
            <a:avLst/>
          </a:prstGeom>
          <a:ln w="0">
            <a:noFill/>
          </a:ln>
        </p:spPr>
      </p:pic>
      <p:pic>
        <p:nvPicPr>
          <p:cNvPr id="348" name="Рисунок 4" descr=""/>
          <p:cNvPicPr/>
          <p:nvPr/>
        </p:nvPicPr>
        <p:blipFill>
          <a:blip r:embed="rId2"/>
          <a:stretch/>
        </p:blipFill>
        <p:spPr>
          <a:xfrm>
            <a:off x="3419640" y="3051000"/>
            <a:ext cx="5473440" cy="34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250920" y="188640"/>
            <a:ext cx="864216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Зверька узнаем мы с тобой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 двум таким приметам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Он в шубе серенькой зимой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А в рыжей шубке летом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Чей напев с концовкой разной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То синицей прозвенит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То весничку передразнит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То зарянку повторит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Черно-рыжая манишка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движной с рыжинкой хвост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Скажет вам любой мальчишка: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Это……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13" name="Рисунок 3" descr=""/>
          <p:cNvPicPr/>
          <p:nvPr/>
        </p:nvPicPr>
        <p:blipFill>
          <a:blip r:embed="rId1"/>
          <a:stretch/>
        </p:blipFill>
        <p:spPr>
          <a:xfrm>
            <a:off x="4788000" y="189000"/>
            <a:ext cx="4092480" cy="3273480"/>
          </a:xfrm>
          <a:prstGeom prst="rect">
            <a:avLst/>
          </a:prstGeom>
          <a:ln w="0">
            <a:noFill/>
          </a:ln>
        </p:spPr>
      </p:pic>
      <p:pic>
        <p:nvPicPr>
          <p:cNvPr id="414" name="Рисунок 4" descr=""/>
          <p:cNvPicPr/>
          <p:nvPr/>
        </p:nvPicPr>
        <p:blipFill>
          <a:blip r:embed="rId2"/>
          <a:stretch/>
        </p:blipFill>
        <p:spPr>
          <a:xfrm>
            <a:off x="4932360" y="3616200"/>
            <a:ext cx="39416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 txBox="1"/>
          <p:nvPr/>
        </p:nvSpPr>
        <p:spPr>
          <a:xfrm>
            <a:off x="178920" y="1412640"/>
            <a:ext cx="87138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</a:t>
            </a: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Расту червяком, питаюсь листком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том засыпаю, себя обмотаю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Не ем, не гляжу, неподвижно лежу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Но с новой весной я вдруг оживаю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Свой дом покидаю, как птичка порхаю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</a:t>
            </a: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Не моторы, а шумят, не пилоты, а летят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Не змеи, а жалят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</a:t>
            </a: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Хоть она и жалит больно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73e87"/>
                </a:solidFill>
                <a:latin typeface="Times New Roman"/>
                <a:ea typeface="Calibri"/>
              </a:rPr>
              <a:t>Но работой мы довольны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93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дки лесовичка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лесных обитателях </a:t>
            </a:r>
            <a:br>
              <a:rPr sz="2900"/>
            </a:br>
            <a:r>
              <a:rPr b="1" lang="ru-RU" sz="29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ретьего и четвертого яруса</a:t>
            </a:r>
            <a:endParaRPr b="0" lang="en-US" sz="29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17" name="Рисунок 3" descr=""/>
          <p:cNvPicPr/>
          <p:nvPr/>
        </p:nvPicPr>
        <p:blipFill>
          <a:blip r:embed="rId1"/>
          <a:stretch/>
        </p:blipFill>
        <p:spPr>
          <a:xfrm>
            <a:off x="4788000" y="1484280"/>
            <a:ext cx="4135320" cy="2616120"/>
          </a:xfrm>
          <a:prstGeom prst="rect">
            <a:avLst/>
          </a:prstGeom>
          <a:ln w="0">
            <a:noFill/>
          </a:ln>
        </p:spPr>
      </p:pic>
      <p:pic>
        <p:nvPicPr>
          <p:cNvPr id="418" name="Рисунок 4" descr=""/>
          <p:cNvPicPr/>
          <p:nvPr/>
        </p:nvPicPr>
        <p:blipFill>
          <a:blip r:embed="rId2"/>
          <a:stretch/>
        </p:blipFill>
        <p:spPr>
          <a:xfrm>
            <a:off x="4788000" y="4292640"/>
            <a:ext cx="412416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 txBox="1"/>
          <p:nvPr/>
        </p:nvSpPr>
        <p:spPr>
          <a:xfrm>
            <a:off x="250560" y="259920"/>
            <a:ext cx="8713800" cy="646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лзла букашка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По большой ромашке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Но вспорхнула второпях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И запуталась в сетях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Угадайте, дети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Кто расставил сети?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Не найдешь на белом свете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Силачей таких, как эти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Трудовой такой семь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Кто же это?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20" name="Рисунок 3" descr=""/>
          <p:cNvPicPr/>
          <p:nvPr/>
        </p:nvPicPr>
        <p:blipFill>
          <a:blip r:embed="rId1"/>
          <a:stretch/>
        </p:blipFill>
        <p:spPr>
          <a:xfrm>
            <a:off x="3564000" y="3160800"/>
            <a:ext cx="5332320" cy="3565440"/>
          </a:xfrm>
          <a:prstGeom prst="rect">
            <a:avLst/>
          </a:prstGeom>
          <a:ln w="0">
            <a:noFill/>
          </a:ln>
        </p:spPr>
      </p:pic>
      <p:pic>
        <p:nvPicPr>
          <p:cNvPr id="421" name="Рисунок 4" descr=""/>
          <p:cNvPicPr/>
          <p:nvPr/>
        </p:nvPicPr>
        <p:blipFill>
          <a:blip r:embed="rId2"/>
          <a:stretch/>
        </p:blipFill>
        <p:spPr>
          <a:xfrm>
            <a:off x="3564000" y="260280"/>
            <a:ext cx="532908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250920" y="148428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Меня слепым зовут всегда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Но это вовсе не беда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Я под землей построил дом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Все кладовые полны в нем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Волосата, зелена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В листьях прячется она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Хоть и много ножек,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Бегать все равно не может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дки лесовичка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 подземных  обитателях 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4" name="Рисунок 3" descr=""/>
          <p:cNvPicPr/>
          <p:nvPr/>
        </p:nvPicPr>
        <p:blipFill>
          <a:blip r:embed="rId1"/>
          <a:stretch/>
        </p:blipFill>
        <p:spPr>
          <a:xfrm>
            <a:off x="4140360" y="2205000"/>
            <a:ext cx="4686120" cy="33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 txBox="1"/>
          <p:nvPr/>
        </p:nvSpPr>
        <p:spPr>
          <a:xfrm>
            <a:off x="250920" y="260280"/>
            <a:ext cx="8642160" cy="64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Старичек – лесовичек обращает внимание учеников, что им пора возвращаться с лесной прогулки. И дает напутствие детям: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«Ребята, мы хорошо отдохнули в лесу, узнали, кто и где из лесных обитателей живет. Обязательно приходите в гости в лес и не забывайте, что его нужно беречь! Давайте вспомним, отчего и почему необходимо охранять лес? Вспомните правила поведения в лесу»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                             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БЕРЕГИТЕ ЛЕС ОТ ПОЖАРА!!!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426" name="Рисунок 1" descr=""/>
          <p:cNvPicPr/>
          <p:nvPr/>
        </p:nvPicPr>
        <p:blipFill>
          <a:blip r:embed="rId1"/>
          <a:stretch/>
        </p:blipFill>
        <p:spPr>
          <a:xfrm>
            <a:off x="684360" y="2616120"/>
            <a:ext cx="7920000" cy="39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 txBox="1"/>
          <p:nvPr/>
        </p:nvSpPr>
        <p:spPr>
          <a:xfrm>
            <a:off x="323640" y="1484280"/>
            <a:ext cx="856908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Сидит белка на тележке. (В самом начале кулачек сжат)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Продаёт она орешки: (Поочерёдно разгибать все пальчики)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Лисичке-сестричке,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Воробью, синичке,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Мишке толстопятому,</a:t>
            </a:r>
            <a:br>
              <a:rPr sz="2000"/>
            </a:br>
            <a:r>
              <a:rPr b="1" lang="ru-RU" sz="2000" spc="-1" strike="noStrike">
                <a:solidFill>
                  <a:srgbClr val="073e87"/>
                </a:solidFill>
                <a:latin typeface="Times New Roman"/>
                <a:ea typeface="Calibri"/>
              </a:rPr>
              <a:t>Заиньке усатому…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альчиковая гимнастика </a:t>
            </a:r>
            <a:br>
              <a:rPr sz="3200"/>
            </a:b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Белка»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29" name="Рисунок 5" descr=""/>
          <p:cNvPicPr/>
          <p:nvPr/>
        </p:nvPicPr>
        <p:blipFill>
          <a:blip r:embed="rId1"/>
          <a:stretch/>
        </p:blipFill>
        <p:spPr>
          <a:xfrm>
            <a:off x="3995640" y="2708280"/>
            <a:ext cx="4092840" cy="32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Объект 3" descr=""/>
          <p:cNvPicPr/>
          <p:nvPr/>
        </p:nvPicPr>
        <p:blipFill>
          <a:blip r:embed="rId1"/>
          <a:stretch/>
        </p:blipFill>
        <p:spPr>
          <a:xfrm>
            <a:off x="2556000" y="1246320"/>
            <a:ext cx="4103640" cy="5446440"/>
          </a:xfrm>
          <a:prstGeom prst="rect">
            <a:avLst/>
          </a:prstGeom>
          <a:ln w="0">
            <a:noFill/>
          </a:ln>
        </p:spPr>
      </p:pic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красим старичка-лесовичка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 txBox="1"/>
          <p:nvPr/>
        </p:nvSpPr>
        <p:spPr>
          <a:xfrm>
            <a:off x="250560" y="1341360"/>
            <a:ext cx="84978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-   Каково значение леса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Calibri"/>
                <a:ea typeface="Calibri"/>
              </a:rPr>
              <a:t>               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- Какие «этажи» существуют в лесу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- Назовите лесных жителей каждого этажа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         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- Почему надо беречь лес?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                   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- Каковы правила поведения в лесу?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вторим?</a:t>
            </a:r>
            <a:endParaRPr b="0" lang="en-US" sz="32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4" name="Рисунок 3" descr=""/>
          <p:cNvPicPr/>
          <p:nvPr/>
        </p:nvPicPr>
        <p:blipFill>
          <a:blip r:embed="rId1"/>
          <a:stretch/>
        </p:blipFill>
        <p:spPr>
          <a:xfrm>
            <a:off x="179280" y="3429000"/>
            <a:ext cx="302436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*****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Богатырь стоит, богат,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Угощает всех ребят: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Ваню - земляникой,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Таню - костяникой,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Машеньку - орешком,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Петю - сыроежкой,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Катеньку - малиной,</a:t>
            </a:r>
            <a:br>
              <a:rPr sz="2400"/>
            </a:b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А Васю - хворостиной. 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0" name="Рисунок 3" descr=""/>
          <p:cNvPicPr/>
          <p:nvPr/>
        </p:nvPicPr>
        <p:blipFill>
          <a:blip r:embed="rId1"/>
          <a:stretch/>
        </p:blipFill>
        <p:spPr>
          <a:xfrm>
            <a:off x="3708360" y="189000"/>
            <a:ext cx="5219640" cy="3914640"/>
          </a:xfrm>
          <a:prstGeom prst="rect">
            <a:avLst/>
          </a:prstGeom>
          <a:ln w="0">
            <a:noFill/>
          </a:ln>
        </p:spPr>
      </p:pic>
      <p:pic>
        <p:nvPicPr>
          <p:cNvPr id="351" name="Рисунок 6" descr=""/>
          <p:cNvPicPr/>
          <p:nvPr/>
        </p:nvPicPr>
        <p:blipFill>
          <a:blip r:embed="rId2"/>
          <a:stretch/>
        </p:blipFill>
        <p:spPr>
          <a:xfrm>
            <a:off x="4859280" y="4297320"/>
            <a:ext cx="3884760" cy="2422440"/>
          </a:xfrm>
          <a:prstGeom prst="rect">
            <a:avLst/>
          </a:prstGeom>
          <a:ln w="0">
            <a:noFill/>
          </a:ln>
        </p:spPr>
      </p:pic>
      <p:pic>
        <p:nvPicPr>
          <p:cNvPr id="352" name="Рисунок 7" descr=""/>
          <p:cNvPicPr/>
          <p:nvPr/>
        </p:nvPicPr>
        <p:blipFill>
          <a:blip r:embed="rId3"/>
          <a:stretch/>
        </p:blipFill>
        <p:spPr>
          <a:xfrm>
            <a:off x="250920" y="4276800"/>
            <a:ext cx="3673440" cy="24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    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  <a:ea typeface="Calibri"/>
              </a:rPr>
              <a:t>- Ребята, вы догадались, о чём пойдёт речь сегодня на уроке?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21b2b"/>
                </a:solidFill>
                <a:latin typeface="Times New Roman"/>
                <a:ea typeface="Calibri"/>
              </a:rPr>
              <a:t>Совершенно верно сегодня мы отправимся в гости в лес, а сопровождать всех нас будет старичек - лесовичек! Он расскажет нам о лесе, лесных этажах и обитателях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4" name="Рисунок 3" descr=""/>
          <p:cNvPicPr/>
          <p:nvPr/>
        </p:nvPicPr>
        <p:blipFill>
          <a:blip r:embed="rId1"/>
          <a:stretch/>
        </p:blipFill>
        <p:spPr>
          <a:xfrm>
            <a:off x="468360" y="2349360"/>
            <a:ext cx="2752560" cy="364824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4" descr=""/>
          <p:cNvPicPr/>
          <p:nvPr/>
        </p:nvPicPr>
        <p:blipFill>
          <a:blip r:embed="rId2"/>
          <a:stretch/>
        </p:blipFill>
        <p:spPr>
          <a:xfrm>
            <a:off x="3780000" y="2349360"/>
            <a:ext cx="5151240" cy="41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 txBox="1"/>
          <p:nvPr/>
        </p:nvSpPr>
        <p:spPr>
          <a:xfrm>
            <a:off x="539280" y="1268280"/>
            <a:ext cx="8364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1f43"/>
                </a:solidFill>
                <a:latin typeface="Times New Roman"/>
                <a:ea typeface="Times New Roman"/>
              </a:rPr>
              <a:t>Это обширная территория, покрытая деревьями и  кустарникам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1f43"/>
                </a:solidFill>
                <a:latin typeface="Times New Roman"/>
                <a:ea typeface="Calibri"/>
              </a:rPr>
              <a:t>Леса занимают около трети площади суши, площадь леса на Земле составляет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31f43"/>
                </a:solidFill>
                <a:latin typeface="Times New Roman"/>
                <a:ea typeface="Calibri"/>
              </a:rPr>
              <a:t>38 млн км²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31f43"/>
                </a:solidFill>
                <a:latin typeface="Times New Roman"/>
                <a:ea typeface="Calibri"/>
              </a:rPr>
              <a:t>Лес – это дом, в котором живут братья наши меньшие. Расселение обитателей лесного дома по «этажам» (ярусам) является одним из таких приспособлений. Мыши живут в корнях - в самом низу; разные птички, вроде соловья, вьют свои  гнездышки прямо на земле; дрозды - еще повыше, на кустарниках; дупляные птицы - дятел, синички, совы – еще повыше;  на  разной высоте по  стволу дерева и  на  самом верху селятся хищники: ястреба и орлы. При таком расселении каждому растению достается столько солнечного света, сколько оно любит, а каждому животному - достаточно пищи. В лиственном лесу пять «этажей». Основу лесного дома составляют деревья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7" name="WordArt 8"/>
          <p:cNvSpPr txBox="1"/>
          <p:nvPr/>
        </p:nvSpPr>
        <p:spPr>
          <a:xfrm>
            <a:off x="2916360" y="476280"/>
            <a:ext cx="2447640" cy="64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217436"/>
                </a:solidFill>
                <a:latin typeface="Times New Roman"/>
              </a:rPr>
              <a:t>Лес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217436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 txBox="1"/>
          <p:nvPr/>
        </p:nvSpPr>
        <p:spPr>
          <a:xfrm>
            <a:off x="250560" y="18900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                </a:t>
            </a:r>
            <a:r>
              <a:rPr b="1" lang="ru-RU" sz="2400" spc="-1" strike="noStrike">
                <a:solidFill>
                  <a:srgbClr val="073e87"/>
                </a:solidFill>
                <a:latin typeface="Times New Roman"/>
                <a:ea typeface="Calibri"/>
              </a:rPr>
              <a:t>«Русский лес»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Нет ничего милее, бродить и думать здесь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Излечит, обогреет, накормит русский лес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А будет жажда мучить, то мне лесовичек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Средь зарослей колючих покажет родничек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Нагнусь к нему напиться – и видно все до дна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Течет вода – водица, вкусна и холодна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Нас ждут в лесу рябина, орехи и цветы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Душистая малина на кустиках густых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Ищу грибов поляну я, не жалея ног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А если и устану – присяду на пенек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Лес очень любит пеших, для них совсем он свой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Здесь где-то бродит леший с зеленой бородой.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Жизнь кажется иною, и сердце не болит,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Когда над головою, как вечность, лес шумит. 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115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                                                             </a:t>
            </a:r>
            <a:r>
              <a:rPr b="1" lang="ru-RU" sz="1800" spc="-1" strike="noStrike">
                <a:solidFill>
                  <a:srgbClr val="052e65"/>
                </a:solidFill>
                <a:latin typeface="Times New Roman"/>
                <a:ea typeface="Calibri"/>
              </a:rPr>
              <a:t>С. Никулин</a:t>
            </a:r>
            <a:endParaRPr b="0" lang="en-US" sz="1800" spc="-1" strike="noStrike">
              <a:solidFill>
                <a:srgbClr val="073e87"/>
              </a:solidFill>
              <a:latin typeface="Candara"/>
            </a:endParaRPr>
          </a:p>
        </p:txBody>
      </p:sp>
      <p:pic>
        <p:nvPicPr>
          <p:cNvPr id="359" name="Рисунок 3" descr=""/>
          <p:cNvPicPr/>
          <p:nvPr/>
        </p:nvPicPr>
        <p:blipFill>
          <a:blip r:embed="rId1"/>
          <a:stretch/>
        </p:blipFill>
        <p:spPr>
          <a:xfrm>
            <a:off x="5435640" y="257040"/>
            <a:ext cx="3522600" cy="3168720"/>
          </a:xfrm>
          <a:prstGeom prst="rect">
            <a:avLst/>
          </a:prstGeom>
          <a:ln w="0">
            <a:noFill/>
          </a:ln>
        </p:spPr>
      </p:pic>
      <p:pic>
        <p:nvPicPr>
          <p:cNvPr id="360" name="Рисунок 4" descr=""/>
          <p:cNvPicPr/>
          <p:nvPr/>
        </p:nvPicPr>
        <p:blipFill>
          <a:blip r:embed="rId2"/>
          <a:stretch/>
        </p:blipFill>
        <p:spPr>
          <a:xfrm>
            <a:off x="5435640" y="3645000"/>
            <a:ext cx="35226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WordArt 6"/>
          <p:cNvSpPr txBox="1"/>
          <p:nvPr/>
        </p:nvSpPr>
        <p:spPr>
          <a:xfrm>
            <a:off x="1332000" y="189000"/>
            <a:ext cx="6264360" cy="8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Значение лес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sp>
        <p:nvSpPr>
          <p:cNvPr id="362" name="Line 18"/>
          <p:cNvSpPr/>
          <p:nvPr/>
        </p:nvSpPr>
        <p:spPr>
          <a:xfrm>
            <a:off x="6084720" y="19890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Picture 27" descr=""/>
          <p:cNvPicPr/>
          <p:nvPr/>
        </p:nvPicPr>
        <p:blipFill>
          <a:blip r:embed="rId1"/>
          <a:stretch/>
        </p:blipFill>
        <p:spPr>
          <a:xfrm>
            <a:off x="250920" y="1125360"/>
            <a:ext cx="2689200" cy="24750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28" descr=""/>
          <p:cNvPicPr/>
          <p:nvPr/>
        </p:nvPicPr>
        <p:blipFill>
          <a:blip r:embed="rId2"/>
          <a:stretch/>
        </p:blipFill>
        <p:spPr>
          <a:xfrm>
            <a:off x="2940120" y="1152360"/>
            <a:ext cx="3047760" cy="244800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29" descr=""/>
          <p:cNvPicPr/>
          <p:nvPr/>
        </p:nvPicPr>
        <p:blipFill>
          <a:blip r:embed="rId3"/>
          <a:stretch/>
        </p:blipFill>
        <p:spPr>
          <a:xfrm>
            <a:off x="5987880" y="1125360"/>
            <a:ext cx="2976840" cy="2475000"/>
          </a:xfrm>
          <a:prstGeom prst="rect">
            <a:avLst/>
          </a:prstGeom>
          <a:ln w="0">
            <a:noFill/>
          </a:ln>
        </p:spPr>
      </p:pic>
      <p:pic>
        <p:nvPicPr>
          <p:cNvPr id="366" name="Рисунок 1" descr=""/>
          <p:cNvPicPr/>
          <p:nvPr/>
        </p:nvPicPr>
        <p:blipFill>
          <a:blip r:embed="rId4"/>
          <a:stretch/>
        </p:blipFill>
        <p:spPr>
          <a:xfrm>
            <a:off x="250920" y="3600360"/>
            <a:ext cx="6680160" cy="278136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2" descr=""/>
          <p:cNvPicPr/>
          <p:nvPr/>
        </p:nvPicPr>
        <p:blipFill>
          <a:blip r:embed="rId5"/>
          <a:stretch/>
        </p:blipFill>
        <p:spPr>
          <a:xfrm>
            <a:off x="6931080" y="3584520"/>
            <a:ext cx="2033640" cy="274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108000" y="1285920"/>
            <a:ext cx="885672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73e87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526814"/>
                </a:solidFill>
                <a:latin typeface="Times New Roman"/>
              </a:rPr>
              <a:t>Все растения, образующие лес, располагаются в лесу ступенями, или, как их называют в науке, </a:t>
            </a:r>
            <a:r>
              <a:rPr b="1" lang="ru-RU" sz="2000" spc="-1" strike="noStrike">
                <a:solidFill>
                  <a:srgbClr val="526814"/>
                </a:solidFill>
                <a:latin typeface="Times New Roman"/>
              </a:rPr>
              <a:t>ярусами.</a:t>
            </a:r>
            <a:r>
              <a:rPr b="0" lang="ru-RU" sz="2000" spc="-1" strike="noStrike">
                <a:solidFill>
                  <a:srgbClr val="526814"/>
                </a:solidFill>
                <a:latin typeface="Times New Roman"/>
              </a:rPr>
              <a:t> Некоторые леса имеют четыре, пять и даже больше ярусов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Первый ярус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</a:rPr>
              <a:t> — это главный древесный полог (от 30 метров)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Второй ярус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</a:rPr>
              <a:t> — это подрост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Третий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</a:rPr>
              <a:t> — подлесок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Четвертый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</a:rPr>
              <a:t> — травяной покров. 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    </a:t>
            </a:r>
            <a:r>
              <a:rPr b="1" lang="ru-RU" sz="2000" spc="-1" strike="noStrike">
                <a:solidFill>
                  <a:srgbClr val="073e87"/>
                </a:solidFill>
                <a:latin typeface="Times New Roman"/>
              </a:rPr>
              <a:t>Пятый</a:t>
            </a:r>
            <a:r>
              <a:rPr b="0" lang="ru-RU" sz="2000" spc="-1" strike="noStrike">
                <a:solidFill>
                  <a:srgbClr val="073e87"/>
                </a:solidFill>
                <a:latin typeface="Times New Roman"/>
              </a:rPr>
              <a:t> – мхи и лишайники.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90000"/>
              </a:lnSpc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69" name="WordArt 4"/>
          <p:cNvSpPr txBox="1"/>
          <p:nvPr/>
        </p:nvSpPr>
        <p:spPr>
          <a:xfrm>
            <a:off x="1908000" y="549360"/>
            <a:ext cx="5472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745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00000"/>
                </a:solidFill>
                <a:latin typeface="Times New Roman"/>
              </a:rPr>
              <a:t>Ярусы леса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pic>
        <p:nvPicPr>
          <p:cNvPr id="370" name="Рисунок 5" descr=""/>
          <p:cNvPicPr/>
          <p:nvPr/>
        </p:nvPicPr>
        <p:blipFill>
          <a:blip r:embed="rId1"/>
          <a:stretch/>
        </p:blipFill>
        <p:spPr>
          <a:xfrm>
            <a:off x="4932360" y="2928960"/>
            <a:ext cx="2752560" cy="364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1000"/>
                                        <p:tgtEl>
                                          <p:spTgt spid="3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" dur="1000"/>
                                        <p:tgtEl>
                                          <p:spTgt spid="3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" dur="1000"/>
                                        <p:tgtEl>
                                          <p:spTgt spid="3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1000"/>
                                        <p:tgtEl>
                                          <p:spTgt spid="3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1000"/>
                                        <p:tgtEl>
                                          <p:spTgt spid="3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1000"/>
                                        <p:tgtEl>
                                          <p:spTgt spid="3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Объект 3" descr=""/>
          <p:cNvPicPr/>
          <p:nvPr/>
        </p:nvPicPr>
        <p:blipFill>
          <a:blip r:embed="rId1"/>
          <a:stretch/>
        </p:blipFill>
        <p:spPr>
          <a:xfrm>
            <a:off x="96840" y="115920"/>
            <a:ext cx="891684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8T14:02:27Z</dcterms:created>
  <dc:creator>User</dc:creator>
  <dc:description/>
  <dc:language>en-US</dc:language>
  <cp:lastModifiedBy>лена</cp:lastModifiedBy>
  <dcterms:modified xsi:type="dcterms:W3CDTF">2013-11-17T08:22:52Z</dcterms:modified>
  <cp:revision>60</cp:revision>
  <dc:subject/>
  <dc:title>Слайд 1</dc:title>
</cp:coreProperties>
</file>