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F6CE-CC83-434E-A5AE-871422085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1815-663C-496A-8BAB-090879C9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3848-03DF-4D08-8352-36C6F15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AF8A-A38B-446E-99A3-4F83A62A1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8AE1D-A562-4F63-A078-5E7AC719AD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F56D6-98E1-4B5E-AEF8-40DF78E0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38E85-1FC4-42B9-93E3-0F2B2A2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882A-10CE-4662-916D-AC86E15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C8918-095B-43C7-8310-CEE9901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C6C9-452C-4D54-B48A-8241F56A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1DB5-B244-4BB4-BFCC-A25A401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3B88-2C59-4B26-A0A4-A40D7BD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3F900-33F4-48A4-B93B-89CE5C0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A60D3-F61E-4F86-A0DA-F7BF986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1206-BECA-48FC-A8FF-C52082E9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4A6B-7CE3-4BEC-B293-0FF3F10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A8C41-5CA6-4153-B354-4C98C49C6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2F92-289C-4B8C-9467-776D137C0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CC71-1063-4BA5-879A-110665F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AE38-DC18-499E-A0AE-5CFD2D73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A59B-BA1B-461B-9065-FBC3029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D298-8E14-448E-B905-B36CBF0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1019-DF56-431F-93EE-8A7ACB6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5F5-032B-4384-B3EA-198D85A5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85E4-C5AD-454B-80FC-DF1F8C2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FAC-8E3F-4771-B1F6-AD29D183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244-CAC4-48A6-B508-972CC55B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49CF-5470-4B5B-8B5D-770230E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A15-5396-4EC3-BCBE-24DCEBE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E203-9DDF-4DF6-9D81-A0B37E458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948A2-DC62-4B8A-8323-52ACEADF4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B4A50-CC69-4134-97D6-E986C19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FAA6F-95D7-48CF-8FD9-8D490C7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9DAB-2958-4054-B8B1-B2DD93B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22039-0BFA-4C8B-AA3B-D258381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A7E51-4848-49AA-BAE1-1A3BBEDB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B508C-2B4D-4312-96B7-6FFC6826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1777C-A85F-4EE1-BB7C-A4DF016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EA4B0-C0E9-4E0E-838B-E6C4114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80F22-DB8B-479D-B0FE-9A77CF8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42A6D-0AE9-4BE1-A8EA-9DA50C0A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273CE-6C0A-4D5D-97E9-74A3544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E5237-2AB1-4226-BE23-930ED641C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E224-FC43-422F-BE9C-51E670C9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54FC-606B-4491-AD19-795F27EB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4167-F166-4C9A-8074-E04684C4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FFA-4000-4D87-BFE5-D5458D73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25C3-B127-471D-B28A-CFE2E3FB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D2BE-5637-477F-A4AF-1876E7E25CC4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94A920-754C-4AF3-A7BF-FA1CA00BE228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DACB1A-6474-4EBA-8695-4D1D18775277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BE532B-4B68-4B66-B182-21D92420187D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rendgifts.ru/good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71280" y="17114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ЧА – ЩА, ЧУ – ЩУ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я к уроку русского языка учителя начальных классов  Акежевой   Луизы   Хезировны.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85880" y="3429000"/>
            <a:ext cx="2643120" cy="1440"/>
          </a:xfrm>
          <a:prstGeom prst="line">
            <a:avLst/>
          </a:prstGeom>
          <a:ln cap="sq"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307188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92904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18.10.1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A05AB-80ED-4B84-8EFD-24FC696413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5716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-214200" y="1808280"/>
            <a:ext cx="93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…йка                  уш…                     скач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…н                    щ…ка                   тащ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ч…                     рощ…                   кач…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0368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00080" y="1071720"/>
            <a:ext cx="1571760" cy="1584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1071720" y="4643280"/>
            <a:ext cx="1643040" cy="1643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1000080" y="2857680"/>
            <a:ext cx="1571760" cy="1500120"/>
          </a:xfrm>
          <a:prstGeom prst="flowChartConnector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357200" y="3214080"/>
            <a:ext cx="21456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1928160" y="3214080"/>
            <a:ext cx="21420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428840" y="3857760"/>
            <a:ext cx="714240" cy="1440"/>
          </a:xfrm>
          <a:prstGeom prst="line">
            <a:avLst/>
          </a:prstGeom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2643120" y="1643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0cf9b"/>
                </a:solidFill>
                <a:latin typeface="Times New Roman"/>
                <a:ea typeface="Times New Roman"/>
              </a:rPr>
              <a:t>- всё получилось сегодн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2786040" y="35002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 были сомнени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2857680" y="492912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стоянно требовалась помощ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14240" y="10000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 flipV="1" rot="10800000">
            <a:off x="718920" y="2713680"/>
            <a:ext cx="56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hoto.sunduk.ru/przima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ащ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/>
          <p:nvPr/>
        </p:nvSpPr>
        <p:spPr>
          <a:xfrm>
            <a:off x="714240" y="307188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rikol.bigmir.net/view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ол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714240" y="37861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esiq.ru/forum/showthre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714240" y="40719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horek.net/viewtopic.ph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оро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785880" y="43578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ybirds.ru/forums/l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714240" y="4786200"/>
            <a:ext cx="5000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www.trendgifts.ru/good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час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714240" y="52149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fable.ro/forum/18-4814-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у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2786040" y="2858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616680" y="5786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galt-auto.ru/publ/168-1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щавел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"/>
          <p:cNvSpPr/>
          <p:nvPr/>
        </p:nvSpPr>
        <p:spPr>
          <a:xfrm>
            <a:off x="460440" y="5500800"/>
            <a:ext cx="50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new2012.comcouponcode.c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заяц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"/>
          <p:cNvSpPr/>
          <p:nvPr/>
        </p:nvSpPr>
        <p:spPr>
          <a:xfrm>
            <a:off x="7858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xn----btblb4acma9as1h.x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шка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8760" y="135720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2786040" y="1357200"/>
            <a:ext cx="439920" cy="914400"/>
          </a:xfrm>
          <a:custGeom>
            <a:avLst/>
            <a:gdLst>
              <a:gd name="textAreaLeft" fmla="*/ 129240 w 439920"/>
              <a:gd name="textAreaRight" fmla="*/ 440280 w 439920"/>
              <a:gd name="textAreaTop" fmla="*/ 18000 h 914400"/>
              <a:gd name="textAreaBottom" fmla="*/ 8964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3"/>
                  <a:pt x="0" y="866"/>
                </a:cubicBezTo>
                <a:lnTo>
                  <a:pt x="0" y="20734"/>
                </a:lnTo>
                <a:cubicBezTo>
                  <a:pt x="0" y="2116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/>
          <p:nvPr/>
        </p:nvSpPr>
        <p:spPr>
          <a:xfrm>
            <a:off x="5000760" y="128592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7000920" y="121428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/>
          <p:nvPr/>
        </p:nvSpPr>
        <p:spPr>
          <a:xfrm>
            <a:off x="39290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1643040" y="135720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60008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121428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/>
          <p:nvPr/>
        </p:nvSpPr>
        <p:spPr>
          <a:xfrm>
            <a:off x="642960" y="1428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3071880" y="14288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5286240" y="1428840"/>
            <a:ext cx="9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/>
          <p:nvPr/>
        </p:nvSpPr>
        <p:spPr>
          <a:xfrm>
            <a:off x="7286760" y="13572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71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/>
          <p:nvPr/>
        </p:nvSpPr>
        <p:spPr>
          <a:xfrm>
            <a:off x="7215120" y="4572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4714920" y="30718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929200" y="6000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6786720" y="2357280"/>
            <a:ext cx="192852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1214280" y="4071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7862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285840" y="3429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4286160" y="4000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2500200" y="2928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1357200" y="5715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/>
          <p:nvPr/>
        </p:nvSpPr>
        <p:spPr>
          <a:xfrm>
            <a:off x="3786120" y="2286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50028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2571840" y="4857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3214800" y="6286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50007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34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500800" y="2637000"/>
            <a:ext cx="1658880" cy="2152440"/>
            <a:chOff x="5500800" y="2637000"/>
            <a:chExt cx="1658880" cy="2152440"/>
          </a:xfrm>
        </p:grpSpPr>
        <p:sp>
          <p:nvSpPr>
            <p:cNvPr id="238" name=""/>
            <p:cNvSpPr/>
            <p:nvPr/>
          </p:nvSpPr>
          <p:spPr>
            <a:xfrm>
              <a:off x="6140520" y="2637000"/>
              <a:ext cx="1019160" cy="215244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73880" y="2637000"/>
              <a:ext cx="1206360" cy="309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cap="sq" w="152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0800" y="287820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74760" y="476280"/>
            <a:ext cx="2463840" cy="4313160"/>
            <a:chOff x="2174760" y="476280"/>
            <a:chExt cx="2463840" cy="4313160"/>
          </a:xfrm>
        </p:grpSpPr>
        <p:sp>
          <p:nvSpPr>
            <p:cNvPr id="242" name=""/>
            <p:cNvSpPr/>
            <p:nvPr/>
          </p:nvSpPr>
          <p:spPr>
            <a:xfrm>
              <a:off x="2247840" y="504720"/>
              <a:ext cx="1755720" cy="217512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2175120"/>
                <a:gd name="textAreaBottom" fmla="*/ 2175480 h 217512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cap="sq" w="1522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7520" y="479520"/>
              <a:ext cx="1639800" cy="430992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4309920"/>
                <a:gd name="textAreaBottom" fmla="*/ 4310280 h 430992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74760" y="112392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8920" y="47628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2840000">
            <a:off x="2141280" y="1452240"/>
            <a:ext cx="812520" cy="73080"/>
          </a:xfrm>
          <a:custGeom>
            <a:avLst/>
            <a:gdLst>
              <a:gd name="textAreaLeft" fmla="*/ 0 w 812520"/>
              <a:gd name="textAreaRight" fmla="*/ 812880 w 812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3.46821 -7 C 0.0161500000000001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6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9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1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1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48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38640" y="2635200"/>
            <a:ext cx="3527640" cy="3403800"/>
            <a:chOff x="5138640" y="2635200"/>
            <a:chExt cx="3527640" cy="3403800"/>
          </a:xfrm>
        </p:grpSpPr>
        <p:grpSp>
          <p:nvGrpSpPr>
            <p:cNvPr id="252" name=""/>
            <p:cNvGrpSpPr/>
            <p:nvPr/>
          </p:nvGrpSpPr>
          <p:grpSpPr>
            <a:xfrm>
              <a:off x="5138640" y="2635200"/>
              <a:ext cx="3382920" cy="2136960"/>
              <a:chOff x="5138640" y="2635200"/>
              <a:chExt cx="3382920" cy="2136960"/>
            </a:xfrm>
          </p:grpSpPr>
          <p:sp>
            <p:nvSpPr>
              <p:cNvPr id="253" name=""/>
              <p:cNvSpPr/>
              <p:nvPr/>
            </p:nvSpPr>
            <p:spPr>
              <a:xfrm>
                <a:off x="6156360" y="2637000"/>
                <a:ext cx="1284120" cy="213516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135160"/>
                  <a:gd name="textAreaBottom" fmla="*/ 2135520 h 21351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38640" y="2708280"/>
                <a:ext cx="1284480" cy="2063880"/>
              </a:xfrm>
              <a:custGeom>
                <a:avLst/>
                <a:gdLst>
                  <a:gd name="textAreaLeft" fmla="*/ 0 w 1284480"/>
                  <a:gd name="textAreaRight" fmla="*/ 1284840 w 128448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7440" y="2708280"/>
                <a:ext cx="1284120" cy="206388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12000" y="26352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692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108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531200" y="4229280"/>
              <a:ext cx="1135080" cy="18097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82680" y="447840"/>
            <a:ext cx="4327560" cy="5603760"/>
            <a:chOff x="382680" y="447840"/>
            <a:chExt cx="4327560" cy="5603760"/>
          </a:xfrm>
        </p:grpSpPr>
        <p:grpSp>
          <p:nvGrpSpPr>
            <p:cNvPr id="261" name=""/>
            <p:cNvGrpSpPr/>
            <p:nvPr/>
          </p:nvGrpSpPr>
          <p:grpSpPr>
            <a:xfrm>
              <a:off x="382680" y="447840"/>
              <a:ext cx="4327560" cy="4368600"/>
              <a:chOff x="382680" y="447840"/>
              <a:chExt cx="4327560" cy="4368600"/>
            </a:xfrm>
          </p:grpSpPr>
          <p:sp>
            <p:nvSpPr>
              <p:cNvPr id="262" name=""/>
              <p:cNvSpPr/>
              <p:nvPr/>
            </p:nvSpPr>
            <p:spPr>
              <a:xfrm>
                <a:off x="455760" y="461880"/>
                <a:ext cx="1790640" cy="435456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4354560"/>
                  <a:gd name="textAreaBottom" fmla="*/ 4354920 h 435456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cap="sq" w="1522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98800" y="530280"/>
                <a:ext cx="1639800" cy="428472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84720"/>
                  <a:gd name="textAreaBottom" fmla="*/ 4285080 h 428472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2680" y="116856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056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85960" y="530280"/>
                <a:ext cx="1639800" cy="427500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75000"/>
                  <a:gd name="textAreaBottom" fmla="*/ 4275360 h 427500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5772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430440" y="4229280"/>
              <a:ext cx="1135080" cy="18223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9" name=""/>
          <p:cNvSpPr/>
          <p:nvPr/>
        </p:nvSpPr>
        <p:spPr>
          <a:xfrm rot="12840000">
            <a:off x="417240" y="1469160"/>
            <a:ext cx="876240" cy="73080"/>
          </a:xfrm>
          <a:custGeom>
            <a:avLst/>
            <a:gdLst>
              <a:gd name="textAreaLeft" fmla="*/ 0 w 876240"/>
              <a:gd name="textAreaRight" fmla="*/ 876600 w 876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-3.46821 -7 C 0.0302099999999998 -0.0117900000000004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21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2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2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30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33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36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143680" y="1785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571920" y="78588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7715160" y="714240"/>
            <a:ext cx="7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2786040" y="5143680"/>
            <a:ext cx="3429000" cy="91440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ШК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57240" y="21430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Щ 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/>
          <p:nvPr/>
        </p:nvSpPr>
        <p:spPr>
          <a:xfrm>
            <a:off x="3500280" y="1071720"/>
            <a:ext cx="5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071960" y="2143080"/>
            <a:ext cx="1396800" cy="1397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786040" y="4643280"/>
            <a:ext cx="3071880" cy="914400"/>
          </a:xfrm>
          <a:prstGeom prst="rect">
            <a:avLst/>
          </a:prstGeom>
          <a:solidFill>
            <a:srgbClr val="77d9e8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Щ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000240" y="278604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85840" y="4643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715000" y="4429080"/>
            <a:ext cx="31748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857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2214720" y="342900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52862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/>
          <p:nvPr/>
        </p:nvSpPr>
        <p:spPr>
          <a:xfrm>
            <a:off x="3857760" y="2000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5572080" y="307188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50720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/>
          <p:nvPr/>
        </p:nvSpPr>
        <p:spPr>
          <a:xfrm>
            <a:off x="7286760" y="14288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7286760" y="471492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2960" y="2071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/>
          <p:nvPr/>
        </p:nvSpPr>
        <p:spPr>
          <a:xfrm>
            <a:off x="5214960" y="1785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14720" y="4071960"/>
            <a:ext cx="44290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45:25Z</dcterms:created>
  <dc:creator>Admin</dc:creator>
  <dc:description/>
  <dc:language>en-US</dc:language>
  <cp:lastModifiedBy>111</cp:lastModifiedBy>
  <dcterms:modified xsi:type="dcterms:W3CDTF">2012-10-06T15:34:21Z</dcterms:modified>
  <cp:revision>12</cp:revision>
  <dc:subject/>
  <dc:title>Слайд 1</dc:title>
</cp:coreProperties>
</file>