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9.jpeg" ContentType="image/jpeg"/>
  <Override PartName="/ppt/media/image11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EBDFB-EF57-48AA-B251-40CA1C14D40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822492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6840" y="4225320"/>
            <a:ext cx="822492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124EB-691B-4CF5-AED8-9096CF897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6840" y="422532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1720" y="422532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FA383-DDE1-40A9-B448-6215B5332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7840" y="193500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18840" y="193500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6840" y="422532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7840" y="422532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18840" y="422532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2E9F0-8E41-4369-92E7-9DDED3E0F53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A30BCA-605E-41C1-913C-CD35A111A1A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6840" y="1935000"/>
            <a:ext cx="8224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BD527E-4D2C-4E7F-A63F-F2C449FD9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822492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A23387-B08F-4B08-8AD2-C26F8D415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0A87A7-667D-4BD7-836A-266232184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F8A7FC-AB94-4732-9DC6-C9E3EA586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6840" y="7048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B69416-C6BE-44A2-A470-F4989CE55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422532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8005FE-D58D-494D-9EA4-A231CF0F0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6840" y="1935000"/>
            <a:ext cx="8224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B9122-B07F-45A7-8380-7F386C358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1720" y="422532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FA5B24-FC62-45A8-ABD1-4FCB4E4C7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6840" y="4225320"/>
            <a:ext cx="822492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2E8E54-2B11-4C23-9C21-7DCF7B20B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822492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6840" y="4225320"/>
            <a:ext cx="822492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C612D8-67F9-4AE7-96B5-D0A87EAE8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6840" y="422532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1720" y="422532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3738D8-DA0A-4E53-AD57-BFA93AF60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7840" y="193500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18840" y="193500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6840" y="422532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7840" y="422532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18840" y="422532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4F9391-DB0A-40AE-ABDE-75B9CEB312B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B961D-6DB8-4AD0-B95A-47B558937FB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6840" y="1935000"/>
            <a:ext cx="8224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5C517-B305-4E8B-AD7D-BD8A455CC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822492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B6ED6-729B-42D5-A706-637E9E6AB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D2C1D-5C45-4EEF-98F5-0C25F41D5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99294-9256-457A-83E2-A43B069BB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822492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05E57-4E6C-458B-9291-1630E37E5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6840" y="7048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E6F19-3ACB-45CD-B89D-9AC8085B9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6840" y="422532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28F41-C037-4701-8B84-4F8731A62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1720" y="422532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0636B-C59F-4B9A-962F-EB367E02E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6840" y="4225320"/>
            <a:ext cx="822492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BF407-2147-40E9-B0BB-0174D0684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822492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6840" y="4225320"/>
            <a:ext cx="822492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2E2B2-245D-45D1-9DAA-0966C6777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422532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1720" y="422532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3EF94-637B-49A3-8AEB-6A48B991D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7840" y="193500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18840" y="193500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6840" y="422532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7840" y="422532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18840" y="422532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2BBEB-7716-44F2-A821-C7B9714A76B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0B12F1-7031-4C54-AD63-4D1576C535E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6840" y="1935000"/>
            <a:ext cx="8224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8504BF-1DAB-4B5A-8F1E-7BEEA939F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822492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AC10C2-F50B-485C-8AE2-42248A19E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F7232-C3BE-429E-B9B1-BB0D96B29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B0AFCD-100F-4AC7-A6B2-FBAF578CB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7631B3-D705-4F3F-8B1F-C2E5CA604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6840" y="7048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1655EB-1544-4BA7-94E1-93C741AED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6840" y="422532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466D85-A967-4716-AA2D-3F6024783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1720" y="422532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45CAAC-533A-47C3-8067-1585862B4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6840" y="4225320"/>
            <a:ext cx="822492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4B549E-F28E-49A6-B707-442CC9874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822492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6840" y="4225320"/>
            <a:ext cx="822492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1CC3C0-817A-4702-A038-B2CBDE73A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6840" y="422532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1720" y="422532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2D5AB6-6D5D-489A-82A9-F8ED240F3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7840" y="193500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18840" y="193500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6840" y="422532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7840" y="422532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18840" y="422532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FD0120-AE1D-43CA-8738-6738331E665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52233-9B20-4828-9B8F-72C1D7D6E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6840" y="7048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CE1AD-A959-4859-B673-4904D5510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22532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06145-AD23-4FDA-AFC1-0D5067F54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1720" y="422532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AA8AC-77CC-42F5-8B66-2B8BA5135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225320"/>
            <a:ext cx="822492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A680A-FA65-47F3-9576-4430E45FA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8235"/>
                </a:srgbClr>
              </a:gs>
              <a:gs pos="100000">
                <a:srgbClr val="00ebf8">
                  <a:alpha val="5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8235"/>
                </a:srgbClr>
              </a:gs>
              <a:gs pos="100000">
                <a:srgbClr val="009be5">
                  <a:alpha val="3333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935000"/>
            <a:ext cx="822492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924680" y="6356160"/>
            <a:ext cx="7574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B793EA-B5A8-4851-91C3-AD4E1B21009A}" type="slidenum">
              <a:rPr b="0" lang="ru-RU" sz="18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19080" y="203040"/>
            <a:ext cx="9175680" cy="642960"/>
            <a:chOff x="-19080" y="203040"/>
            <a:chExt cx="9175680" cy="642960"/>
          </a:xfrm>
        </p:grpSpPr>
        <p:grpSp>
          <p:nvGrpSpPr>
            <p:cNvPr id="8" name=""/>
            <p:cNvGrpSpPr/>
            <p:nvPr/>
          </p:nvGrpSpPr>
          <p:grpSpPr>
            <a:xfrm>
              <a:off x="-19080" y="203040"/>
              <a:ext cx="9158400" cy="642960"/>
              <a:chOff x="-19080" y="203040"/>
              <a:chExt cx="9158400" cy="642960"/>
            </a:xfrm>
          </p:grpSpPr>
          <p:pic>
            <p:nvPicPr>
              <p:cNvPr id="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240" y="203040"/>
                <a:ext cx="9136080" cy="64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20000">
                <a:off x="-18720" y="479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"/>
            <p:cNvGrpSpPr/>
            <p:nvPr/>
          </p:nvGrpSpPr>
          <p:grpSpPr>
            <a:xfrm>
              <a:off x="-19080" y="247680"/>
              <a:ext cx="9175680" cy="560520"/>
              <a:chOff x="-19080" y="247680"/>
              <a:chExt cx="9175680" cy="560520"/>
            </a:xfrm>
          </p:grpSpPr>
          <p:pic>
            <p:nvPicPr>
              <p:cNvPr id="1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7680"/>
                <a:ext cx="9159840" cy="56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20000">
                <a:off x="-18720" y="523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8235"/>
                </a:srgbClr>
              </a:gs>
              <a:gs pos="100000">
                <a:srgbClr val="00ebf8">
                  <a:alpha val="5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8235"/>
                </a:srgbClr>
              </a:gs>
              <a:gs pos="100000">
                <a:srgbClr val="009be5">
                  <a:alpha val="3333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-19080" y="203040"/>
            <a:ext cx="9175680" cy="642960"/>
            <a:chOff x="-19080" y="203040"/>
            <a:chExt cx="9175680" cy="642960"/>
          </a:xfrm>
        </p:grpSpPr>
        <p:grpSp>
          <p:nvGrpSpPr>
            <p:cNvPr id="53" name=""/>
            <p:cNvGrpSpPr/>
            <p:nvPr/>
          </p:nvGrpSpPr>
          <p:grpSpPr>
            <a:xfrm>
              <a:off x="-19080" y="203040"/>
              <a:ext cx="9158400" cy="642960"/>
              <a:chOff x="-19080" y="203040"/>
              <a:chExt cx="9158400" cy="642960"/>
            </a:xfrm>
          </p:grpSpPr>
          <p:pic>
            <p:nvPicPr>
              <p:cNvPr id="5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240" y="203040"/>
                <a:ext cx="9136080" cy="64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20000">
                <a:off x="-18720" y="479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-19080" y="247680"/>
              <a:ext cx="9175680" cy="560520"/>
              <a:chOff x="-19080" y="247680"/>
              <a:chExt cx="9175680" cy="560520"/>
            </a:xfrm>
          </p:grpSpPr>
          <p:pic>
            <p:nvPicPr>
              <p:cNvPr id="5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7680"/>
                <a:ext cx="9159840" cy="56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20000">
                <a:off x="-18720" y="523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6840" y="1935000"/>
            <a:ext cx="822492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3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4"/>
          </p:nvPr>
        </p:nvSpPr>
        <p:spPr>
          <a:xfrm>
            <a:off x="7924680" y="6356160"/>
            <a:ext cx="7574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07AC155A-E5A2-41F5-801B-356DD25811C9}" type="slidenum">
              <a:rPr b="0" lang="ru-RU" sz="1200" spc="-1" strike="noStrike">
                <a:solidFill>
                  <a:srgbClr val="d1eaee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8235"/>
                </a:srgbClr>
              </a:gs>
              <a:gs pos="100000">
                <a:srgbClr val="00ebf8">
                  <a:alpha val="5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8235"/>
                </a:srgbClr>
              </a:gs>
              <a:gs pos="100000">
                <a:srgbClr val="009be5">
                  <a:alpha val="3333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9080" y="203040"/>
            <a:ext cx="9175680" cy="642960"/>
            <a:chOff x="-19080" y="203040"/>
            <a:chExt cx="9175680" cy="642960"/>
          </a:xfrm>
        </p:grpSpPr>
        <p:grpSp>
          <p:nvGrpSpPr>
            <p:cNvPr id="103" name=""/>
            <p:cNvGrpSpPr/>
            <p:nvPr/>
          </p:nvGrpSpPr>
          <p:grpSpPr>
            <a:xfrm>
              <a:off x="-19080" y="203040"/>
              <a:ext cx="9158400" cy="642960"/>
              <a:chOff x="-19080" y="203040"/>
              <a:chExt cx="9158400" cy="642960"/>
            </a:xfrm>
          </p:grpSpPr>
          <p:pic>
            <p:nvPicPr>
              <p:cNvPr id="10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240" y="203040"/>
                <a:ext cx="9136080" cy="64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20000">
                <a:off x="-18720" y="479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-19080" y="247680"/>
              <a:ext cx="9175680" cy="560520"/>
              <a:chOff x="-19080" y="247680"/>
              <a:chExt cx="9175680" cy="560520"/>
            </a:xfrm>
          </p:grpSpPr>
          <p:pic>
            <p:nvPicPr>
              <p:cNvPr id="10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7680"/>
                <a:ext cx="9159840" cy="56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20000">
                <a:off x="-18720" y="523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6840" y="1935000"/>
            <a:ext cx="822492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5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6"/>
          </p:nvPr>
        </p:nvSpPr>
        <p:spPr>
          <a:xfrm>
            <a:off x="7924680" y="6356160"/>
            <a:ext cx="7574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1972EAA5-69A3-49B9-8253-4BF446E22751}" type="slidenum">
              <a:rPr b="0" lang="ru-RU" sz="1200" spc="-1" strike="noStrike">
                <a:solidFill>
                  <a:srgbClr val="d1eaee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8235"/>
                </a:srgbClr>
              </a:gs>
              <a:gs pos="100000">
                <a:srgbClr val="00ebf8">
                  <a:alpha val="5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8235"/>
                </a:srgbClr>
              </a:gs>
              <a:gs pos="100000">
                <a:srgbClr val="009be5">
                  <a:alpha val="3333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-19080" y="203040"/>
            <a:ext cx="9175680" cy="642960"/>
            <a:chOff x="-19080" y="203040"/>
            <a:chExt cx="9175680" cy="642960"/>
          </a:xfrm>
        </p:grpSpPr>
        <p:grpSp>
          <p:nvGrpSpPr>
            <p:cNvPr id="153" name=""/>
            <p:cNvGrpSpPr/>
            <p:nvPr/>
          </p:nvGrpSpPr>
          <p:grpSpPr>
            <a:xfrm>
              <a:off x="-19080" y="203040"/>
              <a:ext cx="9158400" cy="642960"/>
              <a:chOff x="-19080" y="203040"/>
              <a:chExt cx="9158400" cy="642960"/>
            </a:xfrm>
          </p:grpSpPr>
          <p:pic>
            <p:nvPicPr>
              <p:cNvPr id="15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240" y="203040"/>
                <a:ext cx="9136080" cy="64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20000">
                <a:off x="-18720" y="479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-19080" y="247680"/>
              <a:ext cx="9175680" cy="560520"/>
              <a:chOff x="-19080" y="247680"/>
              <a:chExt cx="9175680" cy="560520"/>
            </a:xfrm>
          </p:grpSpPr>
          <p:pic>
            <p:nvPicPr>
              <p:cNvPr id="15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7680"/>
                <a:ext cx="9159840" cy="56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20000">
                <a:off x="-18720" y="523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59" name=""/>
          <p:cNvSpPr/>
          <p:nvPr/>
        </p:nvSpPr>
        <p:spPr>
          <a:xfrm flipV="1" rot="420000">
            <a:off x="316404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153753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"/>
          <p:cNvSpPr/>
          <p:nvPr/>
        </p:nvSpPr>
        <p:spPr>
          <a:xfrm flipV="1" rot="420000">
            <a:off x="7999200" y="5358960"/>
            <a:ext cx="155520" cy="155520"/>
          </a:xfrm>
          <a:prstGeom prst="rtTriangle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-9000" y="581400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8235"/>
                </a:srgbClr>
              </a:gs>
              <a:gs pos="100000">
                <a:srgbClr val="00ebf8">
                  <a:alpha val="5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4381560" y="621756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8235"/>
                </a:srgbClr>
              </a:gs>
              <a:gs pos="100000">
                <a:srgbClr val="009be5">
                  <a:alpha val="3333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6840" y="1935000"/>
            <a:ext cx="822492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7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sldNum" idx="8"/>
          </p:nvPr>
        </p:nvSpPr>
        <p:spPr>
          <a:xfrm>
            <a:off x="8077320" y="6356160"/>
            <a:ext cx="60480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C9DC652-DD51-49FF-A540-18084941D484}" type="slidenum">
              <a:rPr b="0" lang="ru-RU" sz="1200" spc="-1" strike="noStrike">
                <a:solidFill>
                  <a:srgbClr val="045c75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trendgifts.ru/goods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-71280" y="1711440"/>
            <a:ext cx="9144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описание ЧА – ЩА, ЧУ – ЩУ,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0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 класс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езентация к уроку русского языка учителя начальных классов  Акежевой   Луизы   Хезировны.    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785880" y="3429000"/>
            <a:ext cx="2643120" cy="1440"/>
          </a:xfrm>
          <a:prstGeom prst="line">
            <a:avLst/>
          </a:prstGeom>
          <a:ln cap="sq" w="7632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"/>
          <p:cNvSpPr/>
          <p:nvPr/>
        </p:nvSpPr>
        <p:spPr>
          <a:xfrm>
            <a:off x="4572000" y="3071880"/>
            <a:ext cx="2643120" cy="144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"/>
          <p:cNvSpPr/>
          <p:nvPr/>
        </p:nvSpPr>
        <p:spPr>
          <a:xfrm>
            <a:off x="4572000" y="3929040"/>
            <a:ext cx="2643120" cy="144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457200" y="276120"/>
            <a:ext cx="8229600" cy="15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18.10.13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" name="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145D7A-C739-472F-A2B6-BF8E0EE8A285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857160" y="5572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-214200" y="1808280"/>
            <a:ext cx="9358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Ч…йка                  уш…                     скач…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уж…н                    щ…ка                   тащ…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дач…                     рощ…                   кач…ет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0" y="203688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Ч</a:t>
            </a: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Calibri"/>
              </a:rPr>
              <a:t>А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Щ</a:t>
            </a: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Calibri"/>
              </a:rPr>
              <a:t>А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иши с буквой …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Ч</a:t>
            </a: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Calibri"/>
              </a:rPr>
              <a:t>У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Щ</a:t>
            </a: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Calibri"/>
              </a:rPr>
              <a:t>У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 пиши с буквой …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dur="indefinite" fill="hold">
                      <p:stCondLst>
                        <p:cond delay="indefinite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1000080" y="1071720"/>
            <a:ext cx="1571760" cy="1584000"/>
          </a:xfrm>
          <a:prstGeom prst="smileyFace">
            <a:avLst>
              <a:gd name="adj" fmla="val 4653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"/>
          <p:cNvSpPr/>
          <p:nvPr/>
        </p:nvSpPr>
        <p:spPr>
          <a:xfrm>
            <a:off x="1071720" y="4643280"/>
            <a:ext cx="1643040" cy="1643400"/>
          </a:xfrm>
          <a:prstGeom prst="smileyFace">
            <a:avLst>
              <a:gd name="adj" fmla="val -4652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"/>
          <p:cNvSpPr/>
          <p:nvPr/>
        </p:nvSpPr>
        <p:spPr>
          <a:xfrm>
            <a:off x="1000080" y="2857680"/>
            <a:ext cx="1571760" cy="1500120"/>
          </a:xfrm>
          <a:prstGeom prst="flowChartConnector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8" name=""/>
          <p:cNvSpPr/>
          <p:nvPr/>
        </p:nvSpPr>
        <p:spPr>
          <a:xfrm flipH="1" flipV="1">
            <a:off x="1357200" y="3214080"/>
            <a:ext cx="214560" cy="214200"/>
          </a:xfrm>
          <a:prstGeom prst="flowChartConnector">
            <a:avLst/>
          </a:prstGeom>
          <a:solidFill>
            <a:srgbClr val="bfbfb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9" name=""/>
          <p:cNvSpPr/>
          <p:nvPr/>
        </p:nvSpPr>
        <p:spPr>
          <a:xfrm flipH="1" flipV="1">
            <a:off x="1928160" y="3214080"/>
            <a:ext cx="214200" cy="214200"/>
          </a:xfrm>
          <a:prstGeom prst="flowChartConnector">
            <a:avLst/>
          </a:prstGeom>
          <a:solidFill>
            <a:srgbClr val="bfbfb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0" name=""/>
          <p:cNvSpPr/>
          <p:nvPr/>
        </p:nvSpPr>
        <p:spPr>
          <a:xfrm>
            <a:off x="1428840" y="3857760"/>
            <a:ext cx="714240" cy="1440"/>
          </a:xfrm>
          <a:prstGeom prst="line">
            <a:avLst/>
          </a:prstGeom>
          <a:ln cap="sq"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"/>
          <p:cNvSpPr/>
          <p:nvPr/>
        </p:nvSpPr>
        <p:spPr>
          <a:xfrm>
            <a:off x="2643120" y="1643040"/>
            <a:ext cx="600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10cf9b"/>
                </a:solidFill>
                <a:latin typeface="Times New Roman"/>
                <a:ea typeface="Times New Roman"/>
              </a:rPr>
              <a:t>- всё получилось сегодня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"/>
          <p:cNvSpPr/>
          <p:nvPr/>
        </p:nvSpPr>
        <p:spPr>
          <a:xfrm>
            <a:off x="2786040" y="3500280"/>
            <a:ext cx="5072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- были сомнения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3" name=""/>
          <p:cNvSpPr/>
          <p:nvPr/>
        </p:nvSpPr>
        <p:spPr>
          <a:xfrm>
            <a:off x="2857680" y="4929120"/>
            <a:ext cx="6286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постоянно требовалась помощь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714240" y="1000080"/>
            <a:ext cx="807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5" name=""/>
          <p:cNvSpPr/>
          <p:nvPr/>
        </p:nvSpPr>
        <p:spPr>
          <a:xfrm flipV="1" rot="10800000">
            <a:off x="718920" y="2713680"/>
            <a:ext cx="564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http://photo.sunduk.ru/przima/…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чащ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6" name=""/>
          <p:cNvSpPr/>
          <p:nvPr/>
        </p:nvSpPr>
        <p:spPr>
          <a:xfrm>
            <a:off x="714240" y="3071880"/>
            <a:ext cx="55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http://prikol.bigmir.net/view/…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волк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7" name=""/>
          <p:cNvSpPr/>
          <p:nvPr/>
        </p:nvSpPr>
        <p:spPr>
          <a:xfrm>
            <a:off x="714240" y="3786120"/>
            <a:ext cx="485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http://pesiq.ru/forum/showthre…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белк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8" name=""/>
          <p:cNvSpPr/>
          <p:nvPr/>
        </p:nvSpPr>
        <p:spPr>
          <a:xfrm>
            <a:off x="714240" y="4071960"/>
            <a:ext cx="492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http://horek.net/viewtopic.php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 сорок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9" name=""/>
          <p:cNvSpPr/>
          <p:nvPr/>
        </p:nvSpPr>
        <p:spPr>
          <a:xfrm>
            <a:off x="785880" y="4357800"/>
            <a:ext cx="507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http://www.mybirds.ru/forums/l…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галк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"/>
          <p:cNvSpPr/>
          <p:nvPr/>
        </p:nvSpPr>
        <p:spPr>
          <a:xfrm>
            <a:off x="714240" y="4786200"/>
            <a:ext cx="50007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Constantia"/>
                <a:hlinkClick r:id="rId1"/>
              </a:rPr>
              <a:t>http://www.trendgifts.ru/goods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часы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"/>
          <p:cNvSpPr/>
          <p:nvPr/>
        </p:nvSpPr>
        <p:spPr>
          <a:xfrm>
            <a:off x="714240" y="5214960"/>
            <a:ext cx="53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http://fable.ro/forum/18-4814-…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рук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2" name=""/>
          <p:cNvSpPr/>
          <p:nvPr/>
        </p:nvSpPr>
        <p:spPr>
          <a:xfrm>
            <a:off x="2786040" y="285840"/>
            <a:ext cx="505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Используемые ресурсы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3" name=""/>
          <p:cNvSpPr/>
          <p:nvPr/>
        </p:nvSpPr>
        <p:spPr>
          <a:xfrm>
            <a:off x="616680" y="5786280"/>
            <a:ext cx="451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http://galt-auto.ru/publ/168-1…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-щавель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"/>
          <p:cNvSpPr/>
          <p:nvPr/>
        </p:nvSpPr>
        <p:spPr>
          <a:xfrm>
            <a:off x="460440" y="5500800"/>
            <a:ext cx="501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http://new2012.comcouponcode.c…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- заяц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"/>
          <p:cNvSpPr/>
          <p:nvPr/>
        </p:nvSpPr>
        <p:spPr>
          <a:xfrm>
            <a:off x="785880" y="3429000"/>
            <a:ext cx="421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http://xn----btblb4acma9as1h.x…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- шкаф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428760" y="1357200"/>
            <a:ext cx="287280" cy="914400"/>
          </a:xfrm>
          <a:custGeom>
            <a:avLst/>
            <a:gdLst>
              <a:gd name="textAreaLeft" fmla="*/ 84240 w 287280"/>
              <a:gd name="textAreaRight" fmla="*/ 287640 w 287280"/>
              <a:gd name="textAreaTop" fmla="*/ 11880 h 914400"/>
              <a:gd name="textAreaBottom" fmla="*/ 90252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83"/>
                  <a:pt x="0" y="566"/>
                </a:cubicBezTo>
                <a:lnTo>
                  <a:pt x="0" y="21034"/>
                </a:lnTo>
                <a:cubicBezTo>
                  <a:pt x="0" y="21317"/>
                  <a:pt x="10800" y="21600"/>
                  <a:pt x="21600" y="21600"/>
                </a:cubicBezTo>
              </a:path>
            </a:pathLst>
          </a:custGeom>
          <a:noFill/>
          <a:ln cap="sq"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"/>
          <p:cNvSpPr/>
          <p:nvPr/>
        </p:nvSpPr>
        <p:spPr>
          <a:xfrm>
            <a:off x="2786040" y="1357200"/>
            <a:ext cx="439920" cy="914400"/>
          </a:xfrm>
          <a:custGeom>
            <a:avLst/>
            <a:gdLst>
              <a:gd name="textAreaLeft" fmla="*/ 129240 w 439920"/>
              <a:gd name="textAreaRight" fmla="*/ 440280 w 439920"/>
              <a:gd name="textAreaTop" fmla="*/ 18000 h 914400"/>
              <a:gd name="textAreaBottom" fmla="*/ 89640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3"/>
                  <a:pt x="0" y="866"/>
                </a:cubicBezTo>
                <a:lnTo>
                  <a:pt x="0" y="20734"/>
                </a:lnTo>
                <a:cubicBezTo>
                  <a:pt x="0" y="21167"/>
                  <a:pt x="10800" y="21600"/>
                  <a:pt x="21600" y="21600"/>
                </a:cubicBezTo>
              </a:path>
            </a:pathLst>
          </a:custGeom>
          <a:noFill/>
          <a:ln cap="sq"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"/>
          <p:cNvSpPr/>
          <p:nvPr/>
        </p:nvSpPr>
        <p:spPr>
          <a:xfrm>
            <a:off x="5000760" y="1285920"/>
            <a:ext cx="287280" cy="914400"/>
          </a:xfrm>
          <a:custGeom>
            <a:avLst/>
            <a:gdLst>
              <a:gd name="textAreaLeft" fmla="*/ 84240 w 287280"/>
              <a:gd name="textAreaRight" fmla="*/ 287640 w 287280"/>
              <a:gd name="textAreaTop" fmla="*/ 11880 h 914400"/>
              <a:gd name="textAreaBottom" fmla="*/ 90252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83"/>
                  <a:pt x="0" y="566"/>
                </a:cubicBezTo>
                <a:lnTo>
                  <a:pt x="0" y="21034"/>
                </a:lnTo>
                <a:cubicBezTo>
                  <a:pt x="0" y="21317"/>
                  <a:pt x="10800" y="21600"/>
                  <a:pt x="21600" y="21600"/>
                </a:cubicBezTo>
              </a:path>
            </a:pathLst>
          </a:custGeom>
          <a:noFill/>
          <a:ln cap="sq"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"/>
          <p:cNvSpPr/>
          <p:nvPr/>
        </p:nvSpPr>
        <p:spPr>
          <a:xfrm>
            <a:off x="7000920" y="1214280"/>
            <a:ext cx="287280" cy="914400"/>
          </a:xfrm>
          <a:custGeom>
            <a:avLst/>
            <a:gdLst>
              <a:gd name="textAreaLeft" fmla="*/ 84240 w 287280"/>
              <a:gd name="textAreaRight" fmla="*/ 287640 w 287280"/>
              <a:gd name="textAreaTop" fmla="*/ 11880 h 914400"/>
              <a:gd name="textAreaBottom" fmla="*/ 90252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83"/>
                  <a:pt x="0" y="566"/>
                </a:cubicBezTo>
                <a:lnTo>
                  <a:pt x="0" y="21034"/>
                </a:lnTo>
                <a:cubicBezTo>
                  <a:pt x="0" y="21317"/>
                  <a:pt x="10800" y="21600"/>
                  <a:pt x="21600" y="21600"/>
                </a:cubicBezTo>
              </a:path>
            </a:pathLst>
          </a:custGeom>
          <a:noFill/>
          <a:ln cap="sq"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"/>
          <p:cNvSpPr/>
          <p:nvPr/>
        </p:nvSpPr>
        <p:spPr>
          <a:xfrm>
            <a:off x="3929040" y="1285920"/>
            <a:ext cx="214200" cy="928800"/>
          </a:xfrm>
          <a:custGeom>
            <a:avLst/>
            <a:gdLst>
              <a:gd name="textAreaLeft" fmla="*/ 0 w 214200"/>
              <a:gd name="textAreaRight" fmla="*/ 150480 w 214200"/>
              <a:gd name="textAreaTop" fmla="*/ 8640 h 928800"/>
              <a:gd name="textAreaBottom" fmla="*/ 920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08"/>
                  <a:pt x="21600" y="415"/>
                </a:cubicBezTo>
                <a:lnTo>
                  <a:pt x="21600" y="21185"/>
                </a:lnTo>
                <a:cubicBezTo>
                  <a:pt x="21600" y="21393"/>
                  <a:pt x="10800" y="21600"/>
                  <a:pt x="0" y="21600"/>
                </a:cubicBezTo>
              </a:path>
            </a:pathLst>
          </a:custGeom>
          <a:noFill/>
          <a:ln cap="sq"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"/>
          <p:cNvSpPr/>
          <p:nvPr/>
        </p:nvSpPr>
        <p:spPr>
          <a:xfrm>
            <a:off x="1643040" y="1357200"/>
            <a:ext cx="214200" cy="928800"/>
          </a:xfrm>
          <a:custGeom>
            <a:avLst/>
            <a:gdLst>
              <a:gd name="textAreaLeft" fmla="*/ 0 w 214200"/>
              <a:gd name="textAreaRight" fmla="*/ 150480 w 214200"/>
              <a:gd name="textAreaTop" fmla="*/ 8640 h 928800"/>
              <a:gd name="textAreaBottom" fmla="*/ 920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08"/>
                  <a:pt x="21600" y="415"/>
                </a:cubicBezTo>
                <a:lnTo>
                  <a:pt x="21600" y="21185"/>
                </a:lnTo>
                <a:cubicBezTo>
                  <a:pt x="21600" y="21393"/>
                  <a:pt x="10800" y="21600"/>
                  <a:pt x="0" y="21600"/>
                </a:cubicBezTo>
              </a:path>
            </a:pathLst>
          </a:custGeom>
          <a:noFill/>
          <a:ln cap="sq"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"/>
          <p:cNvSpPr/>
          <p:nvPr/>
        </p:nvSpPr>
        <p:spPr>
          <a:xfrm>
            <a:off x="6000840" y="1285920"/>
            <a:ext cx="214200" cy="928800"/>
          </a:xfrm>
          <a:custGeom>
            <a:avLst/>
            <a:gdLst>
              <a:gd name="textAreaLeft" fmla="*/ 0 w 214200"/>
              <a:gd name="textAreaRight" fmla="*/ 150480 w 214200"/>
              <a:gd name="textAreaTop" fmla="*/ 8640 h 928800"/>
              <a:gd name="textAreaBottom" fmla="*/ 920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08"/>
                  <a:pt x="21600" y="415"/>
                </a:cubicBezTo>
                <a:lnTo>
                  <a:pt x="21600" y="21185"/>
                </a:lnTo>
                <a:cubicBezTo>
                  <a:pt x="21600" y="21393"/>
                  <a:pt x="10800" y="21600"/>
                  <a:pt x="0" y="21600"/>
                </a:cubicBezTo>
              </a:path>
            </a:pathLst>
          </a:custGeom>
          <a:noFill/>
          <a:ln cap="sq"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"/>
          <p:cNvSpPr/>
          <p:nvPr/>
        </p:nvSpPr>
        <p:spPr>
          <a:xfrm>
            <a:off x="8001000" y="1214280"/>
            <a:ext cx="214200" cy="928800"/>
          </a:xfrm>
          <a:custGeom>
            <a:avLst/>
            <a:gdLst>
              <a:gd name="textAreaLeft" fmla="*/ 0 w 214200"/>
              <a:gd name="textAreaRight" fmla="*/ 150480 w 214200"/>
              <a:gd name="textAreaTop" fmla="*/ 8640 h 928800"/>
              <a:gd name="textAreaBottom" fmla="*/ 920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08"/>
                  <a:pt x="21600" y="415"/>
                </a:cubicBezTo>
                <a:lnTo>
                  <a:pt x="21600" y="21185"/>
                </a:lnTo>
                <a:cubicBezTo>
                  <a:pt x="21600" y="21393"/>
                  <a:pt x="10800" y="21600"/>
                  <a:pt x="0" y="21600"/>
                </a:cubicBezTo>
              </a:path>
            </a:pathLst>
          </a:custGeom>
          <a:noFill/>
          <a:ln cap="sq"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"/>
          <p:cNvSpPr/>
          <p:nvPr/>
        </p:nvSpPr>
        <p:spPr>
          <a:xfrm>
            <a:off x="642960" y="1428840"/>
            <a:ext cx="85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Ж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"/>
          <p:cNvSpPr/>
          <p:nvPr/>
        </p:nvSpPr>
        <p:spPr>
          <a:xfrm>
            <a:off x="3071880" y="1428840"/>
            <a:ext cx="96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Ш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"/>
          <p:cNvSpPr/>
          <p:nvPr/>
        </p:nvSpPr>
        <p:spPr>
          <a:xfrm>
            <a:off x="5286240" y="1428840"/>
            <a:ext cx="91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'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"/>
          <p:cNvSpPr/>
          <p:nvPr/>
        </p:nvSpPr>
        <p:spPr>
          <a:xfrm>
            <a:off x="7286760" y="1357200"/>
            <a:ext cx="12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Щ'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571840"/>
            <a:ext cx="1928880" cy="571320"/>
          </a:xfrm>
          <a:prstGeom prst="rect">
            <a:avLst/>
          </a:prstGeom>
          <a:solidFill>
            <a:srgbClr val="0f6fc6"/>
          </a:solidFill>
          <a:ln cap="sq"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СОГЛАСНЫ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"/>
          <p:cNvSpPr/>
          <p:nvPr/>
        </p:nvSpPr>
        <p:spPr>
          <a:xfrm>
            <a:off x="7215120" y="4572000"/>
            <a:ext cx="1928880" cy="571680"/>
          </a:xfrm>
          <a:prstGeom prst="rect">
            <a:avLst/>
          </a:prstGeom>
          <a:solidFill>
            <a:srgbClr val="0f6fc6"/>
          </a:solidFill>
          <a:ln cap="sq"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СОГЛАСНЫ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"/>
          <p:cNvSpPr/>
          <p:nvPr/>
        </p:nvSpPr>
        <p:spPr>
          <a:xfrm>
            <a:off x="4714920" y="3071880"/>
            <a:ext cx="1928880" cy="571320"/>
          </a:xfrm>
          <a:prstGeom prst="rect">
            <a:avLst/>
          </a:prstGeom>
          <a:solidFill>
            <a:srgbClr val="0f6fc6"/>
          </a:solidFill>
          <a:ln cap="sq"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СОГЛАСНЫ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"/>
          <p:cNvSpPr/>
          <p:nvPr/>
        </p:nvSpPr>
        <p:spPr>
          <a:xfrm>
            <a:off x="5929200" y="6000840"/>
            <a:ext cx="1928880" cy="571320"/>
          </a:xfrm>
          <a:prstGeom prst="rect">
            <a:avLst/>
          </a:prstGeom>
          <a:solidFill>
            <a:srgbClr val="0f6fc6"/>
          </a:solidFill>
          <a:ln cap="sq"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СОГЛАСНЫ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"/>
          <p:cNvSpPr/>
          <p:nvPr/>
        </p:nvSpPr>
        <p:spPr>
          <a:xfrm>
            <a:off x="6786720" y="2357280"/>
            <a:ext cx="1928520" cy="571680"/>
          </a:xfrm>
          <a:prstGeom prst="rect">
            <a:avLst/>
          </a:prstGeom>
          <a:solidFill>
            <a:srgbClr val="0f6fc6"/>
          </a:solidFill>
          <a:ln cap="sq"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ЗВОНКИ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"/>
          <p:cNvSpPr/>
          <p:nvPr/>
        </p:nvSpPr>
        <p:spPr>
          <a:xfrm>
            <a:off x="1214280" y="4071960"/>
            <a:ext cx="1928880" cy="571320"/>
          </a:xfrm>
          <a:prstGeom prst="rect">
            <a:avLst/>
          </a:prstGeom>
          <a:solidFill>
            <a:srgbClr val="0f6fc6"/>
          </a:solidFill>
          <a:ln cap="sq"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ТВЁРДЫ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4786200"/>
            <a:ext cx="1928880" cy="571680"/>
          </a:xfrm>
          <a:prstGeom prst="rect">
            <a:avLst/>
          </a:prstGeom>
          <a:solidFill>
            <a:srgbClr val="0f6fc6"/>
          </a:solidFill>
          <a:ln cap="sq"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ПАРНЫ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"/>
          <p:cNvSpPr/>
          <p:nvPr/>
        </p:nvSpPr>
        <p:spPr>
          <a:xfrm>
            <a:off x="285840" y="3429000"/>
            <a:ext cx="1928880" cy="571680"/>
          </a:xfrm>
          <a:prstGeom prst="rect">
            <a:avLst/>
          </a:prstGeom>
          <a:solidFill>
            <a:srgbClr val="0f6fc6"/>
          </a:solidFill>
          <a:ln cap="sq"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ГЛУХО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"/>
          <p:cNvSpPr/>
          <p:nvPr/>
        </p:nvSpPr>
        <p:spPr>
          <a:xfrm>
            <a:off x="4286160" y="4000680"/>
            <a:ext cx="1928880" cy="571320"/>
          </a:xfrm>
          <a:prstGeom prst="rect">
            <a:avLst/>
          </a:prstGeom>
          <a:solidFill>
            <a:srgbClr val="0f6fc6"/>
          </a:solidFill>
          <a:ln cap="sq"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ГЛУХО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"/>
          <p:cNvSpPr/>
          <p:nvPr/>
        </p:nvSpPr>
        <p:spPr>
          <a:xfrm>
            <a:off x="2500200" y="2928960"/>
            <a:ext cx="1928880" cy="571320"/>
          </a:xfrm>
          <a:prstGeom prst="rect">
            <a:avLst/>
          </a:prstGeom>
          <a:solidFill>
            <a:srgbClr val="0f6fc6"/>
          </a:solidFill>
          <a:ln cap="sq"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ГЛУХО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"/>
          <p:cNvSpPr/>
          <p:nvPr/>
        </p:nvSpPr>
        <p:spPr>
          <a:xfrm>
            <a:off x="1357200" y="5715000"/>
            <a:ext cx="1928880" cy="571680"/>
          </a:xfrm>
          <a:prstGeom prst="rect">
            <a:avLst/>
          </a:prstGeom>
          <a:solidFill>
            <a:srgbClr val="0f6fc6"/>
          </a:solidFill>
          <a:ln cap="sq"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ПАРНЫ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"/>
          <p:cNvSpPr/>
          <p:nvPr/>
        </p:nvSpPr>
        <p:spPr>
          <a:xfrm>
            <a:off x="3786120" y="2286000"/>
            <a:ext cx="1928880" cy="571680"/>
          </a:xfrm>
          <a:prstGeom prst="rect">
            <a:avLst/>
          </a:prstGeom>
          <a:solidFill>
            <a:srgbClr val="0f6fc6"/>
          </a:solidFill>
          <a:ln cap="sq"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НЕПАРНЫ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0" y="3500280"/>
            <a:ext cx="1928880" cy="571680"/>
          </a:xfrm>
          <a:prstGeom prst="rect">
            <a:avLst/>
          </a:prstGeom>
          <a:solidFill>
            <a:srgbClr val="0f6fc6"/>
          </a:solidFill>
          <a:ln cap="sq"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НЕПАРНЫ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"/>
          <p:cNvSpPr/>
          <p:nvPr/>
        </p:nvSpPr>
        <p:spPr>
          <a:xfrm>
            <a:off x="2571840" y="4857840"/>
            <a:ext cx="1928880" cy="571320"/>
          </a:xfrm>
          <a:prstGeom prst="rect">
            <a:avLst/>
          </a:prstGeom>
          <a:solidFill>
            <a:srgbClr val="0f6fc6"/>
          </a:solidFill>
          <a:ln cap="sq"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МЯГКИ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"/>
          <p:cNvSpPr/>
          <p:nvPr/>
        </p:nvSpPr>
        <p:spPr>
          <a:xfrm>
            <a:off x="3214800" y="6286680"/>
            <a:ext cx="1928880" cy="571320"/>
          </a:xfrm>
          <a:prstGeom prst="rect">
            <a:avLst/>
          </a:prstGeom>
          <a:solidFill>
            <a:srgbClr val="0f6fc6"/>
          </a:solidFill>
          <a:ln cap="sq"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МЯГКИ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0" y="5000760"/>
            <a:ext cx="1928880" cy="571320"/>
          </a:xfrm>
          <a:prstGeom prst="rect">
            <a:avLst/>
          </a:prstGeom>
          <a:solidFill>
            <a:srgbClr val="0f6fc6"/>
          </a:solidFill>
          <a:ln cap="sq"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ТВЁРДЫ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"/>
          <p:cNvGrpSpPr/>
          <p:nvPr/>
        </p:nvGrpSpPr>
        <p:grpSpPr>
          <a:xfrm>
            <a:off x="250920" y="476280"/>
            <a:ext cx="8601120" cy="4387680"/>
            <a:chOff x="250920" y="476280"/>
            <a:chExt cx="8601120" cy="4387680"/>
          </a:xfrm>
        </p:grpSpPr>
        <p:sp>
          <p:nvSpPr>
            <p:cNvPr id="234" name=""/>
            <p:cNvSpPr/>
            <p:nvPr/>
          </p:nvSpPr>
          <p:spPr>
            <a:xfrm>
              <a:off x="250920" y="476280"/>
              <a:ext cx="8564400" cy="0"/>
            </a:xfrm>
            <a:prstGeom prst="line">
              <a:avLst/>
            </a:prstGeom>
            <a:ln cap="sq" w="57240">
              <a:solidFill>
                <a:srgbClr val="009d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87280" y="2634120"/>
              <a:ext cx="8564760" cy="0"/>
            </a:xfrm>
            <a:prstGeom prst="line">
              <a:avLst/>
            </a:prstGeom>
            <a:ln cap="sq" w="57240">
              <a:solidFill>
                <a:srgbClr val="009dd9"/>
              </a:solidFill>
              <a:custDash>
                <a:ds d="400000" sp="3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50920" y="4863960"/>
              <a:ext cx="8564400" cy="0"/>
            </a:xfrm>
            <a:prstGeom prst="line">
              <a:avLst/>
            </a:prstGeom>
            <a:ln cap="sq" w="57240">
              <a:solidFill>
                <a:srgbClr val="009d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5500800" y="2637000"/>
            <a:ext cx="1658880" cy="2152440"/>
            <a:chOff x="5500800" y="2637000"/>
            <a:chExt cx="1658880" cy="2152440"/>
          </a:xfrm>
        </p:grpSpPr>
        <p:sp>
          <p:nvSpPr>
            <p:cNvPr id="238" name=""/>
            <p:cNvSpPr/>
            <p:nvPr/>
          </p:nvSpPr>
          <p:spPr>
            <a:xfrm>
              <a:off x="6140520" y="2637000"/>
              <a:ext cx="1019160" cy="2152440"/>
            </a:xfrm>
            <a:custGeom>
              <a:avLst/>
              <a:gdLst>
                <a:gd name="textAreaLeft" fmla="*/ 0 w 1019160"/>
                <a:gd name="textAreaRight" fmla="*/ 1019520 w 1019160"/>
                <a:gd name="textAreaTop" fmla="*/ 0 h 2152440"/>
                <a:gd name="textAreaBottom" fmla="*/ 2152800 h 2152440"/>
              </a:gdLst>
              <a:ahLst/>
              <a:rect l="textAreaLeft" t="textAreaTop" r="textAreaRight" b="textAreaBottom"/>
              <a:pathLst>
                <a:path w="822" h="1492">
                  <a:moveTo>
                    <a:pt x="822" y="1038"/>
                  </a:moveTo>
                  <a:cubicBezTo>
                    <a:pt x="735" y="1103"/>
                    <a:pt x="434" y="1370"/>
                    <a:pt x="301" y="1431"/>
                  </a:cubicBezTo>
                  <a:cubicBezTo>
                    <a:pt x="168" y="1492"/>
                    <a:pt x="42" y="1479"/>
                    <a:pt x="21" y="1402"/>
                  </a:cubicBezTo>
                  <a:cubicBezTo>
                    <a:pt x="0" y="1325"/>
                    <a:pt x="78" y="1204"/>
                    <a:pt x="174" y="971"/>
                  </a:cubicBezTo>
                  <a:cubicBezTo>
                    <a:pt x="271" y="737"/>
                    <a:pt x="512" y="202"/>
                    <a:pt x="601" y="0"/>
                  </a:cubicBezTo>
                </a:path>
              </a:pathLst>
            </a:custGeom>
            <a:noFill/>
            <a:ln cap="sq" w="15228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573880" y="2637000"/>
              <a:ext cx="1206360" cy="309240"/>
            </a:xfrm>
            <a:custGeom>
              <a:avLst/>
              <a:gdLst>
                <a:gd name="textAreaLeft" fmla="*/ 0 w 1206360"/>
                <a:gd name="textAreaRight" fmla="*/ 1206720 w 1206360"/>
                <a:gd name="textAreaTop" fmla="*/ 0 h 309240"/>
                <a:gd name="textAreaBottom" fmla="*/ 309600 h 309240"/>
              </a:gdLst>
              <a:ahLst/>
              <a:rect l="textAreaLeft" t="textAreaTop" r="textAreaRight" b="textAreaBottom"/>
              <a:pathLst>
                <a:path w="763" h="198">
                  <a:moveTo>
                    <a:pt x="0" y="186"/>
                  </a:moveTo>
                  <a:cubicBezTo>
                    <a:pt x="29" y="160"/>
                    <a:pt x="117" y="23"/>
                    <a:pt x="174" y="21"/>
                  </a:cubicBezTo>
                  <a:cubicBezTo>
                    <a:pt x="231" y="19"/>
                    <a:pt x="286" y="152"/>
                    <a:pt x="341" y="175"/>
                  </a:cubicBezTo>
                  <a:cubicBezTo>
                    <a:pt x="396" y="198"/>
                    <a:pt x="433" y="187"/>
                    <a:pt x="503" y="158"/>
                  </a:cubicBezTo>
                  <a:cubicBezTo>
                    <a:pt x="573" y="129"/>
                    <a:pt x="709" y="33"/>
                    <a:pt x="763" y="0"/>
                  </a:cubicBezTo>
                </a:path>
              </a:pathLst>
            </a:custGeom>
            <a:noFill/>
            <a:ln cap="sq" w="1522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500800" y="2878200"/>
              <a:ext cx="139680" cy="139680"/>
            </a:xfrm>
            <a:prstGeom prst="flowChartConnector">
              <a:avLst/>
            </a:prstGeom>
            <a:solidFill>
              <a:srgbClr val="ff3300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2174760" y="476280"/>
            <a:ext cx="2463840" cy="4313160"/>
            <a:chOff x="2174760" y="476280"/>
            <a:chExt cx="2463840" cy="4313160"/>
          </a:xfrm>
        </p:grpSpPr>
        <p:sp>
          <p:nvSpPr>
            <p:cNvPr id="242" name=""/>
            <p:cNvSpPr/>
            <p:nvPr/>
          </p:nvSpPr>
          <p:spPr>
            <a:xfrm>
              <a:off x="2247840" y="504720"/>
              <a:ext cx="1755720" cy="2175120"/>
            </a:xfrm>
            <a:custGeom>
              <a:avLst/>
              <a:gdLst>
                <a:gd name="textAreaLeft" fmla="*/ 0 w 1755720"/>
                <a:gd name="textAreaRight" fmla="*/ 1756080 w 1755720"/>
                <a:gd name="textAreaTop" fmla="*/ 0 h 2175120"/>
                <a:gd name="textAreaBottom" fmla="*/ 2175480 h 2175120"/>
              </a:gdLst>
              <a:ahLst/>
              <a:rect l="textAreaLeft" t="textAreaTop" r="textAreaRight" b="textAreaBottom"/>
              <a:pathLst>
                <a:path w="1109" h="1373">
                  <a:moveTo>
                    <a:pt x="1109" y="867"/>
                  </a:moveTo>
                  <a:cubicBezTo>
                    <a:pt x="1019" y="943"/>
                    <a:pt x="704" y="1275"/>
                    <a:pt x="571" y="1324"/>
                  </a:cubicBezTo>
                  <a:cubicBezTo>
                    <a:pt x="438" y="1373"/>
                    <a:pt x="292" y="1335"/>
                    <a:pt x="312" y="1160"/>
                  </a:cubicBezTo>
                  <a:cubicBezTo>
                    <a:pt x="332" y="985"/>
                    <a:pt x="638" y="461"/>
                    <a:pt x="692" y="274"/>
                  </a:cubicBezTo>
                  <a:cubicBezTo>
                    <a:pt x="746" y="87"/>
                    <a:pt x="688" y="72"/>
                    <a:pt x="638" y="37"/>
                  </a:cubicBezTo>
                  <a:cubicBezTo>
                    <a:pt x="588" y="2"/>
                    <a:pt x="500" y="0"/>
                    <a:pt x="394" y="66"/>
                  </a:cubicBezTo>
                  <a:cubicBezTo>
                    <a:pt x="288" y="132"/>
                    <a:pt x="82" y="359"/>
                    <a:pt x="0" y="436"/>
                  </a:cubicBezTo>
                </a:path>
              </a:pathLst>
            </a:custGeom>
            <a:noFill/>
            <a:ln cap="sq" w="15228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927520" y="479520"/>
              <a:ext cx="1639800" cy="4309920"/>
            </a:xfrm>
            <a:custGeom>
              <a:avLst/>
              <a:gdLst>
                <a:gd name="textAreaLeft" fmla="*/ 0 w 1639800"/>
                <a:gd name="textAreaRight" fmla="*/ 1640160 w 1639800"/>
                <a:gd name="textAreaTop" fmla="*/ 0 h 4309920"/>
                <a:gd name="textAreaBottom" fmla="*/ 4310280 h 4309920"/>
              </a:gdLst>
              <a:ahLst/>
              <a:rect l="textAreaLeft" t="textAreaTop" r="textAreaRight" b="textAreaBottom"/>
              <a:pathLst>
                <a:path w="1036" h="2607">
                  <a:moveTo>
                    <a:pt x="834" y="2200"/>
                  </a:moveTo>
                  <a:cubicBezTo>
                    <a:pt x="728" y="2262"/>
                    <a:pt x="336" y="2539"/>
                    <a:pt x="199" y="2573"/>
                  </a:cubicBezTo>
                  <a:cubicBezTo>
                    <a:pt x="62" y="2607"/>
                    <a:pt x="0" y="2558"/>
                    <a:pt x="14" y="2407"/>
                  </a:cubicBezTo>
                  <a:cubicBezTo>
                    <a:pt x="28" y="2256"/>
                    <a:pt x="114" y="2068"/>
                    <a:pt x="284" y="1667"/>
                  </a:cubicBezTo>
                  <a:cubicBezTo>
                    <a:pt x="454" y="1266"/>
                    <a:pt x="879" y="347"/>
                    <a:pt x="1036" y="0"/>
                  </a:cubicBezTo>
                </a:path>
              </a:pathLst>
            </a:custGeom>
            <a:noFill/>
            <a:ln cap="sq" w="15228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174760" y="1123920"/>
              <a:ext cx="139680" cy="139680"/>
            </a:xfrm>
            <a:prstGeom prst="flowChartConnector">
              <a:avLst/>
            </a:prstGeom>
            <a:solidFill>
              <a:srgbClr val="ff3300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498920" y="476280"/>
              <a:ext cx="139680" cy="139680"/>
            </a:xfrm>
            <a:prstGeom prst="flowChartConnector">
              <a:avLst/>
            </a:prstGeom>
            <a:solidFill>
              <a:srgbClr val="ff3300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246" name=""/>
          <p:cNvSpPr/>
          <p:nvPr/>
        </p:nvSpPr>
        <p:spPr>
          <a:xfrm rot="12840000">
            <a:off x="2141280" y="1452240"/>
            <a:ext cx="812520" cy="73080"/>
          </a:xfrm>
          <a:custGeom>
            <a:avLst/>
            <a:gdLst>
              <a:gd name="textAreaLeft" fmla="*/ 0 w 812520"/>
              <a:gd name="textAreaRight" fmla="*/ 812880 w 81252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 -6 L -3.46821 -7 C 0.0161500000000001 -0.01919 0.07674 -0.10682 0.09653 -0.11491 C 0.11632 -0.12301 0.12848 -0.09896 0.11875 -0.04925 C 0.10903 0.000460000000000002 0.04306 0.13919 0.03785 0.18312 C 0.03264 0.22705 0.06424 0.22289 0.08698 0.2148 C 0.10973 0.20671 0.15608 0.15121 0.17431 0.13457 E">
                                      <p:cBhvr>
                                        <p:cTn id="6" dur="5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dur="indefinite" fill="hold">
                            <p:stCondLst>
                              <p:cond delay="5000"/>
                            </p:stCondLst>
                            <p:childTnLst>
                              <p:par>
                                <p:cTn id="8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365 -0.10636 C 0.24601 -0.08116 0.23594 -0.04185 0.20764 0.04786 C 0.17934 0.13757 0.10035 0.35399 0.08386 0.4326 C 0.06737 0.51121 0.08733 0.51815 0.10921 0.51931 C 0.13108 0.52046 0.19341 0.45572 0.21563 0.43908 E">
                                      <p:cBhvr>
                                        <p:cTn id="9" dur="5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dur="indefinite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851 0.24671 C 0.3632 0.24116 0.379 0.21225 0.38698 0.21272 C 0.39497 0.21318 0.3974 0.24069 0.40608 0.24879 C 0.41476 0.25688 0.42466 0.26867 0.43941 0.2615 C 0.45417 0.25434 0.48334 0.21804 0.49497 0.20647 E">
                                      <p:cBhvr>
                                        <p:cTn id="12" dur="5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dur="indefinite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9983 0.22335 C 0.48785 0.27191 0.43195 0.46613 0.4283 0.51306 C 0.42466 0.56 0.45955 0.51653 0.47761 0.50451 C 0.49566 0.49249 0.52414 0.45434 0.53629 0.44116 E">
                                      <p:cBhvr>
                                        <p:cTn id="15" dur="5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0920" y="476280"/>
            <a:ext cx="8601120" cy="4387680"/>
            <a:chOff x="250920" y="476280"/>
            <a:chExt cx="8601120" cy="4387680"/>
          </a:xfrm>
        </p:grpSpPr>
        <p:sp>
          <p:nvSpPr>
            <p:cNvPr id="248" name=""/>
            <p:cNvSpPr/>
            <p:nvPr/>
          </p:nvSpPr>
          <p:spPr>
            <a:xfrm>
              <a:off x="250920" y="476280"/>
              <a:ext cx="8564400" cy="0"/>
            </a:xfrm>
            <a:prstGeom prst="line">
              <a:avLst/>
            </a:prstGeom>
            <a:ln cap="sq" w="57240">
              <a:solidFill>
                <a:srgbClr val="009d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87280" y="2634120"/>
              <a:ext cx="8564760" cy="0"/>
            </a:xfrm>
            <a:prstGeom prst="line">
              <a:avLst/>
            </a:prstGeom>
            <a:ln cap="sq" w="57240">
              <a:solidFill>
                <a:srgbClr val="009dd9"/>
              </a:solidFill>
              <a:custDash>
                <a:ds d="400000" sp="3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50920" y="4863960"/>
              <a:ext cx="8564400" cy="0"/>
            </a:xfrm>
            <a:prstGeom prst="line">
              <a:avLst/>
            </a:prstGeom>
            <a:ln cap="sq" w="57240">
              <a:solidFill>
                <a:srgbClr val="009d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5138640" y="2635200"/>
            <a:ext cx="3527640" cy="3403800"/>
            <a:chOff x="5138640" y="2635200"/>
            <a:chExt cx="3527640" cy="3403800"/>
          </a:xfrm>
        </p:grpSpPr>
        <p:grpSp>
          <p:nvGrpSpPr>
            <p:cNvPr id="252" name=""/>
            <p:cNvGrpSpPr/>
            <p:nvPr/>
          </p:nvGrpSpPr>
          <p:grpSpPr>
            <a:xfrm>
              <a:off x="5138640" y="2635200"/>
              <a:ext cx="3382920" cy="2136960"/>
              <a:chOff x="5138640" y="2635200"/>
              <a:chExt cx="3382920" cy="2136960"/>
            </a:xfrm>
          </p:grpSpPr>
          <p:sp>
            <p:nvSpPr>
              <p:cNvPr id="253" name=""/>
              <p:cNvSpPr/>
              <p:nvPr/>
            </p:nvSpPr>
            <p:spPr>
              <a:xfrm>
                <a:off x="6156360" y="2637000"/>
                <a:ext cx="1284120" cy="2135160"/>
              </a:xfrm>
              <a:custGeom>
                <a:avLst/>
                <a:gdLst>
                  <a:gd name="textAreaLeft" fmla="*/ 0 w 1284120"/>
                  <a:gd name="textAreaRight" fmla="*/ 1284480 w 1284120"/>
                  <a:gd name="textAreaTop" fmla="*/ 0 h 2135160"/>
                  <a:gd name="textAreaBottom" fmla="*/ 2135520 h 2135160"/>
                </a:gdLst>
                <a:ahLst/>
                <a:rect l="textAreaLeft" t="textAreaTop" r="textAreaRight" b="textAreaBottom"/>
                <a:pathLst>
                  <a:path w="822" h="1492">
                    <a:moveTo>
                      <a:pt x="822" y="1038"/>
                    </a:moveTo>
                    <a:cubicBezTo>
                      <a:pt x="735" y="1103"/>
                      <a:pt x="434" y="1370"/>
                      <a:pt x="301" y="1431"/>
                    </a:cubicBezTo>
                    <a:cubicBezTo>
                      <a:pt x="168" y="1492"/>
                      <a:pt x="42" y="1479"/>
                      <a:pt x="21" y="1402"/>
                    </a:cubicBezTo>
                    <a:cubicBezTo>
                      <a:pt x="0" y="1325"/>
                      <a:pt x="78" y="1204"/>
                      <a:pt x="174" y="971"/>
                    </a:cubicBezTo>
                    <a:cubicBezTo>
                      <a:pt x="271" y="737"/>
                      <a:pt x="512" y="202"/>
                      <a:pt x="601" y="0"/>
                    </a:cubicBezTo>
                  </a:path>
                </a:pathLst>
              </a:custGeom>
              <a:noFill/>
              <a:ln cap="sq" w="15228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138640" y="2708280"/>
                <a:ext cx="1284480" cy="2063880"/>
              </a:xfrm>
              <a:custGeom>
                <a:avLst/>
                <a:gdLst>
                  <a:gd name="textAreaLeft" fmla="*/ 0 w 1284480"/>
                  <a:gd name="textAreaRight" fmla="*/ 1284840 w 1284480"/>
                  <a:gd name="textAreaTop" fmla="*/ 0 h 2063880"/>
                  <a:gd name="textAreaBottom" fmla="*/ 2064240 h 2063880"/>
                </a:gdLst>
                <a:ahLst/>
                <a:rect l="textAreaLeft" t="textAreaTop" r="textAreaRight" b="textAreaBottom"/>
                <a:pathLst>
                  <a:path w="822" h="1492">
                    <a:moveTo>
                      <a:pt x="822" y="1038"/>
                    </a:moveTo>
                    <a:cubicBezTo>
                      <a:pt x="735" y="1103"/>
                      <a:pt x="434" y="1370"/>
                      <a:pt x="301" y="1431"/>
                    </a:cubicBezTo>
                    <a:cubicBezTo>
                      <a:pt x="168" y="1492"/>
                      <a:pt x="42" y="1479"/>
                      <a:pt x="21" y="1402"/>
                    </a:cubicBezTo>
                    <a:cubicBezTo>
                      <a:pt x="0" y="1325"/>
                      <a:pt x="78" y="1204"/>
                      <a:pt x="174" y="971"/>
                    </a:cubicBezTo>
                    <a:cubicBezTo>
                      <a:pt x="271" y="737"/>
                      <a:pt x="512" y="202"/>
                      <a:pt x="601" y="0"/>
                    </a:cubicBezTo>
                  </a:path>
                </a:pathLst>
              </a:custGeom>
              <a:noFill/>
              <a:ln cap="sq" w="15228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237440" y="2708280"/>
                <a:ext cx="1284120" cy="2063880"/>
              </a:xfrm>
              <a:custGeom>
                <a:avLst/>
                <a:gdLst>
                  <a:gd name="textAreaLeft" fmla="*/ 0 w 1284120"/>
                  <a:gd name="textAreaRight" fmla="*/ 1284480 w 1284120"/>
                  <a:gd name="textAreaTop" fmla="*/ 0 h 2063880"/>
                  <a:gd name="textAreaBottom" fmla="*/ 2064240 h 2063880"/>
                </a:gdLst>
                <a:ahLst/>
                <a:rect l="textAreaLeft" t="textAreaTop" r="textAreaRight" b="textAreaBottom"/>
                <a:pathLst>
                  <a:path w="822" h="1492">
                    <a:moveTo>
                      <a:pt x="822" y="1038"/>
                    </a:moveTo>
                    <a:cubicBezTo>
                      <a:pt x="735" y="1103"/>
                      <a:pt x="434" y="1370"/>
                      <a:pt x="301" y="1431"/>
                    </a:cubicBezTo>
                    <a:cubicBezTo>
                      <a:pt x="168" y="1492"/>
                      <a:pt x="42" y="1479"/>
                      <a:pt x="21" y="1402"/>
                    </a:cubicBezTo>
                    <a:cubicBezTo>
                      <a:pt x="0" y="1325"/>
                      <a:pt x="78" y="1204"/>
                      <a:pt x="174" y="971"/>
                    </a:cubicBezTo>
                    <a:cubicBezTo>
                      <a:pt x="271" y="737"/>
                      <a:pt x="512" y="202"/>
                      <a:pt x="601" y="0"/>
                    </a:cubicBezTo>
                  </a:path>
                </a:pathLst>
              </a:custGeom>
              <a:noFill/>
              <a:ln cap="sq" w="15228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012000" y="2635200"/>
                <a:ext cx="139680" cy="139680"/>
              </a:xfrm>
              <a:prstGeom prst="flowChartConnector">
                <a:avLst/>
              </a:prstGeom>
              <a:solidFill>
                <a:srgbClr val="ff3300"/>
              </a:solidFill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946920" y="2637000"/>
                <a:ext cx="139680" cy="139680"/>
              </a:xfrm>
              <a:prstGeom prst="flowChartConnector">
                <a:avLst/>
              </a:prstGeom>
              <a:solidFill>
                <a:srgbClr val="ff3300"/>
              </a:solidFill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8101080" y="2637000"/>
                <a:ext cx="139680" cy="139680"/>
              </a:xfrm>
              <a:prstGeom prst="flowChartConnector">
                <a:avLst/>
              </a:prstGeom>
              <a:solidFill>
                <a:srgbClr val="ff3300"/>
              </a:solidFill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sp>
          <p:nvSpPr>
            <p:cNvPr id="259" name=""/>
            <p:cNvSpPr/>
            <p:nvPr/>
          </p:nvSpPr>
          <p:spPr>
            <a:xfrm>
              <a:off x="7531200" y="4229280"/>
              <a:ext cx="1135080" cy="1809720"/>
            </a:xfrm>
            <a:custGeom>
              <a:avLst/>
              <a:gdLst>
                <a:gd name="textAreaLeft" fmla="*/ 0 w 1135080"/>
                <a:gd name="textAreaRight" fmla="*/ 1135440 w 1135080"/>
                <a:gd name="textAreaTop" fmla="*/ 0 h 1809720"/>
                <a:gd name="textAreaBottom" fmla="*/ 1810080 h 1809720"/>
              </a:gdLst>
              <a:ahLst/>
              <a:rect l="textAreaLeft" t="textAreaTop" r="textAreaRight" b="textAreaBottom"/>
              <a:pathLst>
                <a:path w="718" h="1095">
                  <a:moveTo>
                    <a:pt x="718" y="113"/>
                  </a:moveTo>
                  <a:cubicBezTo>
                    <a:pt x="636" y="180"/>
                    <a:pt x="342" y="393"/>
                    <a:pt x="223" y="515"/>
                  </a:cubicBezTo>
                  <a:cubicBezTo>
                    <a:pt x="104" y="637"/>
                    <a:pt x="6" y="771"/>
                    <a:pt x="3" y="844"/>
                  </a:cubicBezTo>
                  <a:cubicBezTo>
                    <a:pt x="0" y="917"/>
                    <a:pt x="114" y="1095"/>
                    <a:pt x="206" y="954"/>
                  </a:cubicBezTo>
                  <a:cubicBezTo>
                    <a:pt x="298" y="813"/>
                    <a:pt x="482" y="199"/>
                    <a:pt x="554" y="0"/>
                  </a:cubicBezTo>
                </a:path>
              </a:pathLst>
            </a:custGeom>
            <a:noFill/>
            <a:ln cap="sq" w="152280">
              <a:solidFill>
                <a:srgbClr val="009d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382680" y="447840"/>
            <a:ext cx="4327560" cy="5603760"/>
            <a:chOff x="382680" y="447840"/>
            <a:chExt cx="4327560" cy="5603760"/>
          </a:xfrm>
        </p:grpSpPr>
        <p:grpSp>
          <p:nvGrpSpPr>
            <p:cNvPr id="261" name=""/>
            <p:cNvGrpSpPr/>
            <p:nvPr/>
          </p:nvGrpSpPr>
          <p:grpSpPr>
            <a:xfrm>
              <a:off x="382680" y="447840"/>
              <a:ext cx="4327560" cy="4368600"/>
              <a:chOff x="382680" y="447840"/>
              <a:chExt cx="4327560" cy="4368600"/>
            </a:xfrm>
          </p:grpSpPr>
          <p:sp>
            <p:nvSpPr>
              <p:cNvPr id="262" name=""/>
              <p:cNvSpPr/>
              <p:nvPr/>
            </p:nvSpPr>
            <p:spPr>
              <a:xfrm>
                <a:off x="455760" y="461880"/>
                <a:ext cx="1790640" cy="4354560"/>
              </a:xfrm>
              <a:custGeom>
                <a:avLst/>
                <a:gdLst>
                  <a:gd name="textAreaLeft" fmla="*/ 0 w 1790640"/>
                  <a:gd name="textAreaRight" fmla="*/ 1791000 w 1790640"/>
                  <a:gd name="textAreaTop" fmla="*/ 0 h 4354560"/>
                  <a:gd name="textAreaBottom" fmla="*/ 4354920 h 4354560"/>
                </a:gdLst>
                <a:ahLst/>
                <a:rect l="textAreaLeft" t="textAreaTop" r="textAreaRight" b="textAreaBottom"/>
                <a:pathLst>
                  <a:path w="1131" h="2746">
                    <a:moveTo>
                      <a:pt x="888" y="2341"/>
                    </a:moveTo>
                    <a:cubicBezTo>
                      <a:pt x="784" y="2403"/>
                      <a:pt x="395" y="2678"/>
                      <a:pt x="259" y="2712"/>
                    </a:cubicBezTo>
                    <a:cubicBezTo>
                      <a:pt x="123" y="2746"/>
                      <a:pt x="60" y="2697"/>
                      <a:pt x="74" y="2546"/>
                    </a:cubicBezTo>
                    <a:cubicBezTo>
                      <a:pt x="88" y="2395"/>
                      <a:pt x="184" y="2171"/>
                      <a:pt x="344" y="1806"/>
                    </a:cubicBezTo>
                    <a:cubicBezTo>
                      <a:pt x="504" y="1441"/>
                      <a:pt x="937" y="654"/>
                      <a:pt x="1034" y="358"/>
                    </a:cubicBezTo>
                    <a:cubicBezTo>
                      <a:pt x="1131" y="62"/>
                      <a:pt x="1008" y="64"/>
                      <a:pt x="927" y="32"/>
                    </a:cubicBezTo>
                    <a:cubicBezTo>
                      <a:pt x="846" y="0"/>
                      <a:pt x="703" y="86"/>
                      <a:pt x="549" y="166"/>
                    </a:cubicBezTo>
                    <a:cubicBezTo>
                      <a:pt x="395" y="246"/>
                      <a:pt x="114" y="442"/>
                      <a:pt x="0" y="514"/>
                    </a:cubicBezTo>
                  </a:path>
                </a:pathLst>
              </a:custGeom>
              <a:noFill/>
              <a:ln cap="sq" w="15228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998800" y="530280"/>
                <a:ext cx="1639800" cy="4284720"/>
              </a:xfrm>
              <a:custGeom>
                <a:avLst/>
                <a:gdLst>
                  <a:gd name="textAreaLeft" fmla="*/ 0 w 1639800"/>
                  <a:gd name="textAreaRight" fmla="*/ 1640160 w 1639800"/>
                  <a:gd name="textAreaTop" fmla="*/ 0 h 4284720"/>
                  <a:gd name="textAreaBottom" fmla="*/ 4285080 h 4284720"/>
                </a:gdLst>
                <a:ahLst/>
                <a:rect l="textAreaLeft" t="textAreaTop" r="textAreaRight" b="textAreaBottom"/>
                <a:pathLst>
                  <a:path w="1036" h="2607">
                    <a:moveTo>
                      <a:pt x="834" y="2200"/>
                    </a:moveTo>
                    <a:cubicBezTo>
                      <a:pt x="728" y="2262"/>
                      <a:pt x="336" y="2539"/>
                      <a:pt x="199" y="2573"/>
                    </a:cubicBezTo>
                    <a:cubicBezTo>
                      <a:pt x="62" y="2607"/>
                      <a:pt x="0" y="2558"/>
                      <a:pt x="14" y="2407"/>
                    </a:cubicBezTo>
                    <a:cubicBezTo>
                      <a:pt x="28" y="2256"/>
                      <a:pt x="114" y="2068"/>
                      <a:pt x="284" y="1667"/>
                    </a:cubicBezTo>
                    <a:cubicBezTo>
                      <a:pt x="454" y="1266"/>
                      <a:pt x="879" y="347"/>
                      <a:pt x="1036" y="0"/>
                    </a:cubicBezTo>
                  </a:path>
                </a:pathLst>
              </a:custGeom>
              <a:noFill/>
              <a:ln cap="sq" w="15228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82680" y="1168560"/>
                <a:ext cx="139680" cy="139680"/>
              </a:xfrm>
              <a:prstGeom prst="flowChartConnector">
                <a:avLst/>
              </a:prstGeom>
              <a:solidFill>
                <a:srgbClr val="ff3300"/>
              </a:solidFill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570560" y="447840"/>
                <a:ext cx="139680" cy="139680"/>
              </a:xfrm>
              <a:prstGeom prst="flowChartConnector">
                <a:avLst/>
              </a:prstGeom>
              <a:solidFill>
                <a:srgbClr val="ff3300"/>
              </a:solidFill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785960" y="530280"/>
                <a:ext cx="1639800" cy="4275000"/>
              </a:xfrm>
              <a:custGeom>
                <a:avLst/>
                <a:gdLst>
                  <a:gd name="textAreaLeft" fmla="*/ 0 w 1639800"/>
                  <a:gd name="textAreaRight" fmla="*/ 1640160 w 1639800"/>
                  <a:gd name="textAreaTop" fmla="*/ 0 h 4275000"/>
                  <a:gd name="textAreaBottom" fmla="*/ 4275360 h 4275000"/>
                </a:gdLst>
                <a:ahLst/>
                <a:rect l="textAreaLeft" t="textAreaTop" r="textAreaRight" b="textAreaBottom"/>
                <a:pathLst>
                  <a:path w="1036" h="2607">
                    <a:moveTo>
                      <a:pt x="834" y="2200"/>
                    </a:moveTo>
                    <a:cubicBezTo>
                      <a:pt x="728" y="2262"/>
                      <a:pt x="336" y="2539"/>
                      <a:pt x="199" y="2573"/>
                    </a:cubicBezTo>
                    <a:cubicBezTo>
                      <a:pt x="62" y="2607"/>
                      <a:pt x="0" y="2558"/>
                      <a:pt x="14" y="2407"/>
                    </a:cubicBezTo>
                    <a:cubicBezTo>
                      <a:pt x="28" y="2256"/>
                      <a:pt x="114" y="2068"/>
                      <a:pt x="284" y="1667"/>
                    </a:cubicBezTo>
                    <a:cubicBezTo>
                      <a:pt x="454" y="1266"/>
                      <a:pt x="879" y="347"/>
                      <a:pt x="1036" y="0"/>
                    </a:cubicBezTo>
                  </a:path>
                </a:pathLst>
              </a:custGeom>
              <a:noFill/>
              <a:ln cap="sq" w="15228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357720" y="447840"/>
                <a:ext cx="139680" cy="139680"/>
              </a:xfrm>
              <a:prstGeom prst="flowChartConnector">
                <a:avLst/>
              </a:prstGeom>
              <a:solidFill>
                <a:srgbClr val="ff3300"/>
              </a:solidFill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sp>
          <p:nvSpPr>
            <p:cNvPr id="268" name=""/>
            <p:cNvSpPr/>
            <p:nvPr/>
          </p:nvSpPr>
          <p:spPr>
            <a:xfrm>
              <a:off x="3430440" y="4229280"/>
              <a:ext cx="1135080" cy="1822320"/>
            </a:xfrm>
            <a:custGeom>
              <a:avLst/>
              <a:gdLst>
                <a:gd name="textAreaLeft" fmla="*/ 0 w 1135080"/>
                <a:gd name="textAreaRight" fmla="*/ 1135440 w 1135080"/>
                <a:gd name="textAreaTop" fmla="*/ 0 h 1822320"/>
                <a:gd name="textAreaBottom" fmla="*/ 1822680 h 1822320"/>
              </a:gdLst>
              <a:ahLst/>
              <a:rect l="textAreaLeft" t="textAreaTop" r="textAreaRight" b="textAreaBottom"/>
              <a:pathLst>
                <a:path w="718" h="1151">
                  <a:moveTo>
                    <a:pt x="718" y="161"/>
                  </a:moveTo>
                  <a:cubicBezTo>
                    <a:pt x="636" y="228"/>
                    <a:pt x="342" y="441"/>
                    <a:pt x="223" y="563"/>
                  </a:cubicBezTo>
                  <a:cubicBezTo>
                    <a:pt x="104" y="685"/>
                    <a:pt x="6" y="819"/>
                    <a:pt x="3" y="892"/>
                  </a:cubicBezTo>
                  <a:cubicBezTo>
                    <a:pt x="0" y="965"/>
                    <a:pt x="121" y="1151"/>
                    <a:pt x="206" y="1002"/>
                  </a:cubicBezTo>
                  <a:cubicBezTo>
                    <a:pt x="291" y="853"/>
                    <a:pt x="451" y="209"/>
                    <a:pt x="515" y="0"/>
                  </a:cubicBezTo>
                </a:path>
              </a:pathLst>
            </a:custGeom>
            <a:noFill/>
            <a:ln cap="sq" w="152280">
              <a:solidFill>
                <a:srgbClr val="009d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269" name=""/>
          <p:cNvSpPr/>
          <p:nvPr/>
        </p:nvSpPr>
        <p:spPr>
          <a:xfrm rot="12840000">
            <a:off x="417240" y="1469160"/>
            <a:ext cx="876240" cy="73080"/>
          </a:xfrm>
          <a:custGeom>
            <a:avLst/>
            <a:gdLst>
              <a:gd name="textAreaLeft" fmla="*/ 0 w 876240"/>
              <a:gd name="textAreaRight" fmla="*/ 876600 w 87624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dur="indefinite" fill="hold">
                      <p:stCondLst>
                        <p:cond delay="indefinite"/>
                      </p:stCondLst>
                      <p:childTnLst>
                        <p:par>
                          <p:cTn id="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 -6 L -3.46821 -7 C 0.0302099999999998 -0.0117900000000004 0.17466 -0.13064 0.18073 -0.07052 C 0.18681 -0.0104 0.06598 0.26798 0.03629 0.36069 C 0.0066 0.45341 0.00608 0.4578 0.00295 0.48555 C -0.00017 0.5133 -0.00312 0.52902 0.01719 0.52786 C 0.0375 0.52671 0.10278 0.48925 0.12518 0.47908 E">
                                      <p:cBhvr>
                                        <p:cTn id="21" dur="50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dur="indefinite" fill="hold">
                            <p:stCondLst>
                              <p:cond delay="5000"/>
                            </p:stCondLst>
                            <p:childTnLst>
                              <p:par>
                                <p:cTn id="23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0834 -0.07884 C 0.22466 0.1563 0.14098 0.39168 0.13542 0.48116 C 0.12986 0.57064 0.25174 0.46197 0.275 0.45804 E">
                                      <p:cBhvr>
                                        <p:cTn id="24" dur="50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dur="indefinite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5122 -0.09156 C 0.42309 -0.00532000000000001 0.30782 0.32439 0.28455 0.42613 C 0.26129 0.52786 0.2915 0.51769 0.31164 0.51931 C 0.33177 0.52069 0.39775 0.40971 0.40521 0.43468 C 0.41268 0.45942 0.37188 0.63561 0.35608 0.66936 C 0.34028 0.70312 0.2974 0.66821 0.31007 0.63769 C 0.32275 0.60717 0.40677 0.51723 0.43229 0.48555 E">
                                      <p:cBhvr>
                                        <p:cTn id="27" dur="50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dur="indefinite" fill="hold">
                            <p:stCondLst>
                              <p:cond delay="15000"/>
                            </p:stCondLst>
                            <p:childTnLst>
                              <p:par>
                                <p:cTn id="29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0799 0.21272 C 0.59236 0.25503 0.52761 0.41387 0.51441 0.46636 C 0.50122 0.51884 0.50729 0.53295 0.52865 0.52763 C 0.55 0.52231 0.61927 0.4541 0.64306 0.43468 E">
                                      <p:cBhvr>
                                        <p:cTn id="30" dur="50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dur="indefinite" fill="hold">
                            <p:stCondLst>
                              <p:cond delay="20000"/>
                            </p:stCondLst>
                            <p:childTnLst>
                              <p:par>
                                <p:cTn id="32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0834 0.21711 C 0.69479 0.26682 0.61789 0.47954 0.62743 0.51514 C 0.63698 0.55075 0.73681 0.44809 0.76563 0.43052 E">
                                      <p:cBhvr>
                                        <p:cTn id="33" dur="50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dur="indefinite" fill="hold">
                            <p:stCondLst>
                              <p:cond delay="25000"/>
                            </p:stCondLst>
                            <p:childTnLst>
                              <p:par>
                                <p:cTn id="35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2917 0.21711 C 0.82118 0.23977 0.79532 0.30751 0.78004 0.35283 C 0.76476 0.39815 0.74462 0.46058 0.73716 0.48971 C 0.72969 0.51884 0.73143 0.51977 0.73559 0.52786 C 0.73976 0.53595 0.74271 0.55191 0.7625 0.53827 C 0.78229 0.52462 0.84896 0.42312 0.85452 0.44532 C 0.86007 0.46751 0.81094 0.64439 0.79566 0.67145 C 0.78039 0.6985 0.74757 0.63977 0.76233 0.60809 C 0.77709 0.57642 0.85903 0.50751 0.88455 0.48116 E">
                                      <p:cBhvr>
                                        <p:cTn id="36" dur="50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857160" y="1714680"/>
            <a:ext cx="2643120" cy="257148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5143680" y="1785960"/>
            <a:ext cx="2286000" cy="250020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3571920" y="785880"/>
            <a:ext cx="1071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onstantia"/>
              </a:rPr>
              <a:t>,,</a:t>
            </a:r>
            <a:endParaRPr b="0" lang="en-US" sz="9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"/>
          <p:cNvSpPr/>
          <p:nvPr/>
        </p:nvSpPr>
        <p:spPr>
          <a:xfrm>
            <a:off x="7715160" y="714240"/>
            <a:ext cx="71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onstantia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"/>
          <p:cNvSpPr/>
          <p:nvPr/>
        </p:nvSpPr>
        <p:spPr>
          <a:xfrm>
            <a:off x="2786040" y="5143680"/>
            <a:ext cx="3429000" cy="914400"/>
          </a:xfrm>
          <a:prstGeom prst="rect">
            <a:avLst/>
          </a:prstGeom>
          <a:solidFill>
            <a:srgbClr val="ffff00"/>
          </a:solidFill>
          <a:ln cap="sq"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nstantia"/>
              </a:rPr>
              <a:t>Ч</a:t>
            </a:r>
            <a:r>
              <a:rPr b="1" lang="ru-RU" sz="5400" spc="-1" strike="noStrike">
                <a:solidFill>
                  <a:srgbClr val="ff0000"/>
                </a:solidFill>
                <a:latin typeface="Constantia"/>
              </a:rPr>
              <a:t>А</a:t>
            </a:r>
            <a:r>
              <a:rPr b="1" lang="ru-RU" sz="5400" spc="-1" strike="noStrike">
                <a:solidFill>
                  <a:srgbClr val="000000"/>
                </a:solidFill>
                <a:latin typeface="Constantia"/>
              </a:rPr>
              <a:t>ШКА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dur="indefinite" fill="hold">
                      <p:stCondLst>
                        <p:cond delay="indefinite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857240" y="2143080"/>
            <a:ext cx="1714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onstantia"/>
              </a:rPr>
              <a:t>Щ </a:t>
            </a:r>
            <a:endParaRPr b="0" lang="en-US" sz="9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"/>
          <p:cNvSpPr/>
          <p:nvPr/>
        </p:nvSpPr>
        <p:spPr>
          <a:xfrm>
            <a:off x="3500280" y="1071720"/>
            <a:ext cx="536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onstantia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4071960" y="2143080"/>
            <a:ext cx="1396800" cy="139716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2786040" y="4643280"/>
            <a:ext cx="3071880" cy="914400"/>
          </a:xfrm>
          <a:prstGeom prst="rect">
            <a:avLst/>
          </a:prstGeom>
          <a:solidFill>
            <a:srgbClr val="77d9e8"/>
          </a:solidFill>
          <a:ln cap="sq"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nstantia"/>
              </a:rPr>
              <a:t>Щ</a:t>
            </a:r>
            <a:r>
              <a:rPr b="1" lang="ru-RU" sz="6000" spc="-1" strike="noStrike">
                <a:solidFill>
                  <a:srgbClr val="ff0000"/>
                </a:solidFill>
                <a:latin typeface="Constantia"/>
              </a:rPr>
              <a:t>У</a:t>
            </a:r>
            <a:r>
              <a:rPr b="1" lang="ru-RU" sz="6000" spc="-1" strike="noStrike">
                <a:solidFill>
                  <a:srgbClr val="000000"/>
                </a:solidFill>
                <a:latin typeface="Constantia"/>
              </a:rPr>
              <a:t>КА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dur="indefinite" fill="hold">
                      <p:stCondLst>
                        <p:cond delay="indefinite"/>
                      </p:stCondLst>
                      <p:childTnLst>
                        <p:par>
                          <p:cTn id="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357120" y="714240"/>
            <a:ext cx="2714760" cy="192888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6000840" y="857160"/>
            <a:ext cx="2786040" cy="185760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3"/>
          <a:stretch/>
        </p:blipFill>
        <p:spPr>
          <a:xfrm>
            <a:off x="3000240" y="2786040"/>
            <a:ext cx="2571840" cy="175248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4"/>
          <a:stretch/>
        </p:blipFill>
        <p:spPr>
          <a:xfrm>
            <a:off x="285840" y="4643280"/>
            <a:ext cx="2500200" cy="192888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5"/>
          <a:stretch/>
        </p:blipFill>
        <p:spPr>
          <a:xfrm>
            <a:off x="5715000" y="4429080"/>
            <a:ext cx="3174840" cy="242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2143080" y="857160"/>
            <a:ext cx="1357200" cy="914400"/>
          </a:xfrm>
          <a:prstGeom prst="rect">
            <a:avLst/>
          </a:prstGeom>
          <a:solidFill>
            <a:srgbClr val="5ef0f7"/>
          </a:solidFill>
          <a:ln cap="sq"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ЩА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"/>
          <p:cNvSpPr/>
          <p:nvPr/>
        </p:nvSpPr>
        <p:spPr>
          <a:xfrm>
            <a:off x="2214720" y="3429000"/>
            <a:ext cx="1357200" cy="914400"/>
          </a:xfrm>
          <a:prstGeom prst="rect">
            <a:avLst/>
          </a:prstGeom>
          <a:solidFill>
            <a:srgbClr val="5ef0f7"/>
          </a:solidFill>
          <a:ln cap="sq"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ВЕЛЬ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"/>
          <p:cNvSpPr/>
          <p:nvPr/>
        </p:nvSpPr>
        <p:spPr>
          <a:xfrm>
            <a:off x="571680" y="5286240"/>
            <a:ext cx="1357200" cy="914400"/>
          </a:xfrm>
          <a:prstGeom prst="rect">
            <a:avLst/>
          </a:prstGeom>
          <a:solidFill>
            <a:srgbClr val="5ef0f7"/>
          </a:solidFill>
          <a:ln cap="sq"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ЧУ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"/>
          <p:cNvSpPr/>
          <p:nvPr/>
        </p:nvSpPr>
        <p:spPr>
          <a:xfrm>
            <a:off x="3857760" y="2000160"/>
            <a:ext cx="1357200" cy="914400"/>
          </a:xfrm>
          <a:prstGeom prst="rect">
            <a:avLst/>
          </a:prstGeom>
          <a:solidFill>
            <a:srgbClr val="5ef0f7"/>
          </a:solidFill>
          <a:ln cap="sq"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НИК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"/>
          <p:cNvSpPr/>
          <p:nvPr/>
        </p:nvSpPr>
        <p:spPr>
          <a:xfrm>
            <a:off x="5572080" y="3071880"/>
            <a:ext cx="1357200" cy="914400"/>
          </a:xfrm>
          <a:prstGeom prst="rect">
            <a:avLst/>
          </a:prstGeom>
          <a:solidFill>
            <a:srgbClr val="5ef0f7"/>
          </a:solidFill>
          <a:ln cap="sq"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ЧАЙ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" name=""/>
          <p:cNvSpPr/>
          <p:nvPr/>
        </p:nvSpPr>
        <p:spPr>
          <a:xfrm>
            <a:off x="4572000" y="5072040"/>
            <a:ext cx="1357200" cy="914400"/>
          </a:xfrm>
          <a:prstGeom prst="rect">
            <a:avLst/>
          </a:prstGeom>
          <a:solidFill>
            <a:srgbClr val="5ef0f7"/>
          </a:solidFill>
          <a:ln cap="sq"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ЛОК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"/>
          <p:cNvSpPr/>
          <p:nvPr/>
        </p:nvSpPr>
        <p:spPr>
          <a:xfrm>
            <a:off x="7286760" y="1428840"/>
            <a:ext cx="1357200" cy="914400"/>
          </a:xfrm>
          <a:prstGeom prst="rect">
            <a:avLst/>
          </a:prstGeom>
          <a:solidFill>
            <a:srgbClr val="5ef0f7"/>
          </a:solidFill>
          <a:ln cap="sq"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КА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"/>
          <p:cNvSpPr/>
          <p:nvPr/>
        </p:nvSpPr>
        <p:spPr>
          <a:xfrm>
            <a:off x="7286760" y="4714920"/>
            <a:ext cx="1357200" cy="914400"/>
          </a:xfrm>
          <a:prstGeom prst="rect">
            <a:avLst/>
          </a:prstGeom>
          <a:solidFill>
            <a:srgbClr val="5ef0f7"/>
          </a:solidFill>
          <a:ln cap="sq"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ЩУ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642960" y="207180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</a:t>
            </a:r>
            <a:r>
              <a:rPr b="1" lang="ru-RU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Ь</a:t>
            </a:r>
            <a:endParaRPr b="0" lang="en-US" sz="9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"/>
          <p:cNvSpPr/>
          <p:nvPr/>
        </p:nvSpPr>
        <p:spPr>
          <a:xfrm>
            <a:off x="5214960" y="1785960"/>
            <a:ext cx="46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/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2214720" y="4071960"/>
            <a:ext cx="4429080" cy="257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dur="indefinite" fill="hold">
                      <p:stCondLst>
                        <p:cond delay="indefinite"/>
                      </p:stCondLst>
                      <p:childTnLst>
                        <p:par>
                          <p:cTn id="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6" dur="20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2T14:45:25Z</dcterms:created>
  <dc:creator>Admin</dc:creator>
  <dc:description/>
  <dc:language>en-US</dc:language>
  <cp:lastModifiedBy>111</cp:lastModifiedBy>
  <dcterms:modified xsi:type="dcterms:W3CDTF">2012-10-06T15:34:21Z</dcterms:modified>
  <cp:revision>12</cp:revision>
  <dc:subject/>
  <dc:title>Слайд 1</dc:title>
</cp:coreProperties>
</file>