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2F59-8A55-4780-8391-E7DE0BAFE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100F-A269-402A-B810-71E41CA9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F376-168C-459D-9295-CA29D98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81C8-B7D0-4F64-9034-AE20410EC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A778-BEA9-4ADC-95A8-D759F463F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AF99-86BF-4962-B83E-3FFC2CE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5BA30-7CFB-449D-B2EC-BD2F373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F6FDB-A36D-4487-BF18-7F31C70B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D2DD5-3676-4DDC-BA0E-23899518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513A3-AE4B-49F3-B607-A95E63EA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7AD82-050A-456F-A9EE-E9826100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DE11-E488-4A44-A494-5AD95BA7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1BC05-F41F-43BB-9FD3-8317A99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60A06-A939-41D4-8C53-12CA1ED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C861F-2FE4-4954-82AE-1A50599B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C389-23CA-4EE4-9A91-DCBFF1B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94803-36E9-4DA0-A909-9B1488ABE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C75-95C7-4409-ABC2-ED5643EB8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5B55-A50D-4F1B-A1CF-EBFCBDE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A3E-1197-45EB-BB5F-DCFEF8A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E2D-BDC7-405C-AD6E-87FC36B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F73-3F03-4376-B399-517215FB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B14B-BE44-4943-A3E9-B06F8AD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E56-EC04-41B3-9A55-9103D542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42F2-C53F-4B3A-9787-10C5DEE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E794-F12F-46A6-B53F-7AF35EE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9D5-D2D8-402C-A90D-58C2F303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6D8-C795-4C33-8217-823E6590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3B5E-5C9B-49F9-81AD-F18C0AB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E39F-A103-4E89-BC4A-8D632778D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AB0D0-9723-4036-BA49-C8977651A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9B5B3-D96B-462F-880A-BD256156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01091-5935-4CAB-B2D0-37ABCCB6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8A23-2A1C-472E-88C7-9F53FC2B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17F27-A508-4DB6-B0EC-2AB3758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B1261-60A1-422E-82FA-B0E5C9B0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A141F-803C-454E-8BC5-39495916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22EB5-F19E-4BF0-BCFA-743D227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5ACC3-D109-4359-B7BD-FA8947D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C40D9-8847-4F08-8C32-74CB3355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E84CC-3B9F-46E4-9092-456B62D8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3B8B7-37A5-4D8F-954B-8B0B08D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83676-6A4E-4A2B-8ECD-04FE4A2A3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22B2-F4DE-41C9-A367-7D858651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5FF0-C827-414E-A24E-1330E48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C88E-97FC-4466-A75F-5AECBBF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80E9-9E29-4F0F-BEDF-C19AB7F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C2DC-85DB-49CA-A278-9B8AED96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B9D01-CA5C-4DFD-AFF2-BF78D2CF2684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7FF4296-EEFC-437D-8430-DCD46B8A6725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A9B2F16-44A0-4B9B-AB3B-77E045B00997}" type="slidenum">
              <a:rPr b="0" lang="ru-RU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8235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8235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30D68C-2718-43E1-8177-3E2569AC1079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rendgifts.ru/good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71280" y="17114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ЧА – ЩА, ЧУ – ЩУ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я к уроку русского языка учителя начальных классов  Акежевой   Луизы   Хезировны.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85880" y="3429000"/>
            <a:ext cx="2643120" cy="1440"/>
          </a:xfrm>
          <a:prstGeom prst="line">
            <a:avLst/>
          </a:prstGeom>
          <a:ln cap="sq"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307188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929040"/>
            <a:ext cx="2643120" cy="14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18.10.1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9953C-AACF-45A5-A525-4AA6D8E3AD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5716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-214200" y="1808280"/>
            <a:ext cx="93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…йка                  уш…                     скач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…н                    щ…ка                   тащ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ч…                     рощ…                   кач…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0368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ши с буквой 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00080" y="1071720"/>
            <a:ext cx="1571760" cy="1584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1071720" y="4643280"/>
            <a:ext cx="1643040" cy="1643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1000080" y="2857680"/>
            <a:ext cx="1571760" cy="1500120"/>
          </a:xfrm>
          <a:prstGeom prst="flowChartConnector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357200" y="3214080"/>
            <a:ext cx="21456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1928160" y="3214080"/>
            <a:ext cx="214200" cy="214200"/>
          </a:xfrm>
          <a:prstGeom prst="flowChartConnector">
            <a:avLst/>
          </a:prstGeom>
          <a:solidFill>
            <a:srgbClr val="bfbfb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428840" y="3857760"/>
            <a:ext cx="714240" cy="1440"/>
          </a:xfrm>
          <a:prstGeom prst="line">
            <a:avLst/>
          </a:prstGeom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2643120" y="1643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0cf9b"/>
                </a:solidFill>
                <a:latin typeface="Times New Roman"/>
                <a:ea typeface="Times New Roman"/>
              </a:rPr>
              <a:t>- всё получилось сегодн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2786040" y="35002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 были сомнени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2857680" y="492912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стоянно требовалась помощ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14240" y="10000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 flipV="1" rot="10800000">
            <a:off x="718920" y="2713680"/>
            <a:ext cx="56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hoto.sunduk.ru/przima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ащ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/>
          <p:nvPr/>
        </p:nvSpPr>
        <p:spPr>
          <a:xfrm>
            <a:off x="714240" y="307188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rikol.bigmir.net/view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ол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714240" y="37861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esiq.ru/forum/showthre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714240" y="40719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horek.net/viewtopic.ph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оро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785880" y="43578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ybirds.ru/forums/l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714240" y="4786200"/>
            <a:ext cx="5000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www.trendgifts.ru/good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час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714240" y="52149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fable.ro/forum/18-4814-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у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2786040" y="2858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616680" y="5786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galt-auto.ru/publ/168-1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щавел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"/>
          <p:cNvSpPr/>
          <p:nvPr/>
        </p:nvSpPr>
        <p:spPr>
          <a:xfrm>
            <a:off x="460440" y="5500800"/>
            <a:ext cx="50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new2012.comcouponcode.c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заяц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"/>
          <p:cNvSpPr/>
          <p:nvPr/>
        </p:nvSpPr>
        <p:spPr>
          <a:xfrm>
            <a:off x="7858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xn----btblb4acma9as1h.x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шка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8760" y="135720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2786040" y="1357200"/>
            <a:ext cx="439920" cy="914400"/>
          </a:xfrm>
          <a:custGeom>
            <a:avLst/>
            <a:gdLst>
              <a:gd name="textAreaLeft" fmla="*/ 129240 w 439920"/>
              <a:gd name="textAreaRight" fmla="*/ 440280 w 439920"/>
              <a:gd name="textAreaTop" fmla="*/ 18000 h 914400"/>
              <a:gd name="textAreaBottom" fmla="*/ 8964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3"/>
                  <a:pt x="0" y="866"/>
                </a:cubicBezTo>
                <a:lnTo>
                  <a:pt x="0" y="20734"/>
                </a:lnTo>
                <a:cubicBezTo>
                  <a:pt x="0" y="2116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/>
          <p:nvPr/>
        </p:nvSpPr>
        <p:spPr>
          <a:xfrm>
            <a:off x="5000760" y="128592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7000920" y="121428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/>
          <p:nvPr/>
        </p:nvSpPr>
        <p:spPr>
          <a:xfrm>
            <a:off x="39290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1643040" y="135720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60008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121428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/>
          <p:nvPr/>
        </p:nvSpPr>
        <p:spPr>
          <a:xfrm>
            <a:off x="642960" y="1428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3071880" y="14288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5286240" y="1428840"/>
            <a:ext cx="9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/>
          <p:nvPr/>
        </p:nvSpPr>
        <p:spPr>
          <a:xfrm>
            <a:off x="7286760" y="13572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'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71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/>
          <p:nvPr/>
        </p:nvSpPr>
        <p:spPr>
          <a:xfrm>
            <a:off x="7215120" y="4572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4714920" y="30718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929200" y="6000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6786720" y="2357280"/>
            <a:ext cx="192852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1214280" y="4071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7862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285840" y="3429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4286160" y="4000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2500200" y="29289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1357200" y="5715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/>
          <p:nvPr/>
        </p:nvSpPr>
        <p:spPr>
          <a:xfrm>
            <a:off x="3786120" y="228600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500280"/>
            <a:ext cx="1928880" cy="57168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2571840" y="485784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3214800" y="628668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5000760"/>
            <a:ext cx="1928880" cy="571320"/>
          </a:xfrm>
          <a:prstGeom prst="rect">
            <a:avLst/>
          </a:prstGeom>
          <a:solidFill>
            <a:srgbClr val="0f6fc6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34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500800" y="2637000"/>
            <a:ext cx="1658880" cy="2152440"/>
            <a:chOff x="5500800" y="2637000"/>
            <a:chExt cx="1658880" cy="2152440"/>
          </a:xfrm>
        </p:grpSpPr>
        <p:sp>
          <p:nvSpPr>
            <p:cNvPr id="238" name=""/>
            <p:cNvSpPr/>
            <p:nvPr/>
          </p:nvSpPr>
          <p:spPr>
            <a:xfrm>
              <a:off x="6140520" y="2637000"/>
              <a:ext cx="1019160" cy="215244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73880" y="2637000"/>
              <a:ext cx="1206360" cy="309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cap="sq" w="152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0800" y="287820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174760" y="476280"/>
            <a:ext cx="2463840" cy="4313160"/>
            <a:chOff x="2174760" y="476280"/>
            <a:chExt cx="2463840" cy="4313160"/>
          </a:xfrm>
        </p:grpSpPr>
        <p:sp>
          <p:nvSpPr>
            <p:cNvPr id="242" name=""/>
            <p:cNvSpPr/>
            <p:nvPr/>
          </p:nvSpPr>
          <p:spPr>
            <a:xfrm>
              <a:off x="2247840" y="504720"/>
              <a:ext cx="1755720" cy="217512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2175120"/>
                <a:gd name="textAreaBottom" fmla="*/ 2175480 h 217512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cap="sq" w="1522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27520" y="479520"/>
              <a:ext cx="1639800" cy="430992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4309920"/>
                <a:gd name="textAreaBottom" fmla="*/ 4310280 h 430992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cap="sq"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74760" y="112392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8920" y="476280"/>
              <a:ext cx="139680" cy="139680"/>
            </a:xfrm>
            <a:prstGeom prst="flowChartConnector">
              <a:avLst/>
            </a:prstGeom>
            <a:solidFill>
              <a:srgbClr val="ff33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2840000">
            <a:off x="2141280" y="1452240"/>
            <a:ext cx="812520" cy="73080"/>
          </a:xfrm>
          <a:custGeom>
            <a:avLst/>
            <a:gdLst>
              <a:gd name="textAreaLeft" fmla="*/ 0 w 812520"/>
              <a:gd name="textAreaRight" fmla="*/ 812880 w 812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3.46821 -7 C 0.0161500000000001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6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9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1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1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0920" y="476280"/>
            <a:ext cx="8601120" cy="4387680"/>
            <a:chOff x="250920" y="476280"/>
            <a:chExt cx="8601120" cy="4387680"/>
          </a:xfrm>
        </p:grpSpPr>
        <p:sp>
          <p:nvSpPr>
            <p:cNvPr id="248" name=""/>
            <p:cNvSpPr/>
            <p:nvPr/>
          </p:nvSpPr>
          <p:spPr>
            <a:xfrm>
              <a:off x="250920" y="47628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7280" y="2634120"/>
              <a:ext cx="8564760" cy="0"/>
            </a:xfrm>
            <a:prstGeom prst="line">
              <a:avLst/>
            </a:prstGeom>
            <a:ln cap="sq" w="57240">
              <a:solidFill>
                <a:srgbClr val="009dd9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4863960"/>
              <a:ext cx="8564400" cy="0"/>
            </a:xfrm>
            <a:prstGeom prst="line">
              <a:avLst/>
            </a:prstGeom>
            <a:ln cap="sq"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38640" y="2635200"/>
            <a:ext cx="3527640" cy="3403800"/>
            <a:chOff x="5138640" y="2635200"/>
            <a:chExt cx="3527640" cy="3403800"/>
          </a:xfrm>
        </p:grpSpPr>
        <p:grpSp>
          <p:nvGrpSpPr>
            <p:cNvPr id="252" name=""/>
            <p:cNvGrpSpPr/>
            <p:nvPr/>
          </p:nvGrpSpPr>
          <p:grpSpPr>
            <a:xfrm>
              <a:off x="5138640" y="2635200"/>
              <a:ext cx="3382920" cy="2136960"/>
              <a:chOff x="5138640" y="2635200"/>
              <a:chExt cx="3382920" cy="2136960"/>
            </a:xfrm>
          </p:grpSpPr>
          <p:sp>
            <p:nvSpPr>
              <p:cNvPr id="253" name=""/>
              <p:cNvSpPr/>
              <p:nvPr/>
            </p:nvSpPr>
            <p:spPr>
              <a:xfrm>
                <a:off x="6156360" y="2637000"/>
                <a:ext cx="1284120" cy="213516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135160"/>
                  <a:gd name="textAreaBottom" fmla="*/ 2135520 h 21351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38640" y="2708280"/>
                <a:ext cx="1284480" cy="2063880"/>
              </a:xfrm>
              <a:custGeom>
                <a:avLst/>
                <a:gdLst>
                  <a:gd name="textAreaLeft" fmla="*/ 0 w 1284480"/>
                  <a:gd name="textAreaRight" fmla="*/ 1284840 w 128448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7440" y="2708280"/>
                <a:ext cx="1284120" cy="2063880"/>
              </a:xfrm>
              <a:custGeom>
                <a:avLst/>
                <a:gdLst>
                  <a:gd name="textAreaLeft" fmla="*/ 0 w 1284120"/>
                  <a:gd name="textAreaRight" fmla="*/ 1284480 w 1284120"/>
                  <a:gd name="textAreaTop" fmla="*/ 0 h 2063880"/>
                  <a:gd name="textAreaBottom" fmla="*/ 2064240 h 206388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12000" y="26352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692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1080" y="263700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531200" y="4229280"/>
              <a:ext cx="1135080" cy="18097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82680" y="447840"/>
            <a:ext cx="4327560" cy="5603760"/>
            <a:chOff x="382680" y="447840"/>
            <a:chExt cx="4327560" cy="5603760"/>
          </a:xfrm>
        </p:grpSpPr>
        <p:grpSp>
          <p:nvGrpSpPr>
            <p:cNvPr id="261" name=""/>
            <p:cNvGrpSpPr/>
            <p:nvPr/>
          </p:nvGrpSpPr>
          <p:grpSpPr>
            <a:xfrm>
              <a:off x="382680" y="447840"/>
              <a:ext cx="4327560" cy="4368600"/>
              <a:chOff x="382680" y="447840"/>
              <a:chExt cx="4327560" cy="4368600"/>
            </a:xfrm>
          </p:grpSpPr>
          <p:sp>
            <p:nvSpPr>
              <p:cNvPr id="262" name=""/>
              <p:cNvSpPr/>
              <p:nvPr/>
            </p:nvSpPr>
            <p:spPr>
              <a:xfrm>
                <a:off x="455760" y="461880"/>
                <a:ext cx="1790640" cy="435456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4354560"/>
                  <a:gd name="textAreaBottom" fmla="*/ 4354920 h 435456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cap="sq" w="1522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98800" y="530280"/>
                <a:ext cx="1639800" cy="428472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84720"/>
                  <a:gd name="textAreaBottom" fmla="*/ 4285080 h 428472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2680" y="116856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056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85960" y="530280"/>
                <a:ext cx="1639800" cy="427500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4275000"/>
                  <a:gd name="textAreaBottom" fmla="*/ 4275360 h 427500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cap="sq"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57720" y="447840"/>
                <a:ext cx="139680" cy="139680"/>
              </a:xfrm>
              <a:prstGeom prst="flowChartConnector">
                <a:avLst/>
              </a:prstGeom>
              <a:solidFill>
                <a:srgbClr val="ff33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430440" y="4229280"/>
              <a:ext cx="1135080" cy="182232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cap="sq"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9" name=""/>
          <p:cNvSpPr/>
          <p:nvPr/>
        </p:nvSpPr>
        <p:spPr>
          <a:xfrm rot="12840000">
            <a:off x="417240" y="1469160"/>
            <a:ext cx="876240" cy="73080"/>
          </a:xfrm>
          <a:custGeom>
            <a:avLst/>
            <a:gdLst>
              <a:gd name="textAreaLeft" fmla="*/ 0 w 876240"/>
              <a:gd name="textAreaRight" fmla="*/ 876600 w 876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-3.46821 -7 C 0.0302099999999998 -0.0117900000000004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21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2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2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30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33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36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143680" y="1785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571920" y="78588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7715160" y="714240"/>
            <a:ext cx="7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2786040" y="5143680"/>
            <a:ext cx="3429000" cy="914400"/>
          </a:xfrm>
          <a:prstGeom prst="rect">
            <a:avLst/>
          </a:prstGeom>
          <a:solidFill>
            <a:srgbClr val="ffff00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ШК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57240" y="21430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Щ 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/>
          <p:nvPr/>
        </p:nvSpPr>
        <p:spPr>
          <a:xfrm>
            <a:off x="3500280" y="1071720"/>
            <a:ext cx="5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071960" y="2143080"/>
            <a:ext cx="1396800" cy="1397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786040" y="4643280"/>
            <a:ext cx="3071880" cy="914400"/>
          </a:xfrm>
          <a:prstGeom prst="rect">
            <a:avLst/>
          </a:prstGeom>
          <a:solidFill>
            <a:srgbClr val="77d9e8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Щ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000240" y="278604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85840" y="4643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715000" y="4429080"/>
            <a:ext cx="31748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857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2214720" y="342900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571680" y="52862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/>
          <p:nvPr/>
        </p:nvSpPr>
        <p:spPr>
          <a:xfrm>
            <a:off x="3857760" y="200016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5572080" y="307188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50720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/>
          <p:nvPr/>
        </p:nvSpPr>
        <p:spPr>
          <a:xfrm>
            <a:off x="7286760" y="142884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7286760" y="4714920"/>
            <a:ext cx="1357200" cy="914400"/>
          </a:xfrm>
          <a:prstGeom prst="rect">
            <a:avLst/>
          </a:prstGeom>
          <a:solidFill>
            <a:srgbClr val="5ef0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2960" y="2071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/>
          <p:nvPr/>
        </p:nvSpPr>
        <p:spPr>
          <a:xfrm>
            <a:off x="5214960" y="1785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14720" y="4071960"/>
            <a:ext cx="44290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45:25Z</dcterms:created>
  <dc:creator>Admin</dc:creator>
  <dc:description/>
  <dc:language>en-US</dc:language>
  <cp:lastModifiedBy>111</cp:lastModifiedBy>
  <dcterms:modified xsi:type="dcterms:W3CDTF">2012-10-06T15:34:21Z</dcterms:modified>
  <cp:revision>12</cp:revision>
  <dc:subject/>
  <dc:title>Слайд 1</dc:title>
</cp:coreProperties>
</file>