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397-5F99-4319-930C-11F439D8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93B-84D2-4601-B85B-72BF2C3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770-A4AF-4645-A627-54B49BB3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B6E-D862-405B-95F3-505C4E49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CF3-8AB7-4425-AAA7-3FA3A3BE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668-2CA2-48FF-993F-181FB4DB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BAB-2896-409B-8C8C-5AA12A22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F04-958A-4CA1-9FB7-7D19B6A8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3CB-FC78-4BF9-A0EB-D85C865F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255-B3C6-4282-84E6-8B6349A5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B1D-4E04-426C-941E-CB5E196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40A-B89D-4C5A-8C30-8CEADE3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44A-E3CA-4DF8-BD99-95B801A80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3240" y="762120"/>
            <a:ext cx="43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685800" y="1219320"/>
            <a:ext cx="80773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Школьная форм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вчера и сегод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04920" y="54000"/>
            <a:ext cx="80010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чем вводится школьная форм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743200" y="1893240"/>
            <a:ext cx="4419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-первых, стандарт одежды воспитывает чувство принадлежности к школе и гордости за 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-вторых, школьная форма имеет дисциплинирующее воз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- третьих-форма, это – средство коммуникации. От того, как ты выглядишь, зависит, как с тобой будут общаться окружающ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1673280" y="1666080"/>
            <a:ext cx="7448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гий стиль одежды создает в школе деловую атмосферу, необходимую для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рма дисциплинир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к в школьной форме думает об учебе, а не об одеж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 проблемы «В чем пойти в школу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кольная форма помогает ребенку почувствовать себя учеником и членом определенного коллектива, дает возможность ощутить свою причастность именно к этой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одежда придется ребенку по вкусу, он будет испытывать гордость за свой внешни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люсы школьной фор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1143000" y="1827720"/>
            <a:ext cx="7848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желание детей ее нос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еря индивидуальност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ение финансовых расходов на обучение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траты времени и сил родителей в связи с приобретением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ое качество материалов и пошива школьной фор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-228600" y="10605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инусы школьной фор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95280" y="2412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школь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320" y="783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школьной формы в России начинается с 1834 г. Тогда в Англии был принят закон, утвердивший общую систему всех гражданских мундиров в империи. Сначала для мальчиков, а затем, когда стали возникать женские гимназии, и для девочек. Мальчики щеголяли в фуражках с эмблемой гимназии, гимнастерках, шинелях, куртках, брюках, черных ботинках и с непременным ранцем за спиной. Форма девочек тоже была строга: коричневые платья с фартуками, правда, из ткани высокого качества и с изящным покроем, который делал девичий силуэт строй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ntonoff"/>
          <p:cNvPicPr/>
          <p:nvPr/>
        </p:nvPicPr>
        <p:blipFill>
          <a:blip r:embed="rId1"/>
          <a:srcRect l="20000" t="9646" r="20000" b="21621"/>
          <a:stretch/>
        </p:blipFill>
        <p:spPr>
          <a:xfrm>
            <a:off x="6172200" y="3200400"/>
            <a:ext cx="29527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3200400"/>
            <a:ext cx="6172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52280" y="252360"/>
            <a:ext cx="82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наменитом  французском интернате для девушек в Сен – Сир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Смольном институте каждому «возрасту» был присвоен свой цвет платья: для воспитанниц 6 – 9 лет – коричневый  (кофейный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– 12 лет – голубой, 12 – 15 лет серый и 15 – 18 лет – б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879640" y="1442880"/>
            <a:ext cx="6264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52280" y="39672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917 года школьная форма (форма гимназиста) была сословным признаком ( в гимназии могли учиться дети из состоятельных семей). Форму носили не только в гимназии, но и на улице, дома, во время торжеств, праздников. Она была предметом гордости. Мальчикам полагалось носить форму военного фасона, а девочкам- тёмные строгие платья с плиссированными юбками до ко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772240" y="1219320"/>
            <a:ext cx="3386160" cy="563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241956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52280" y="1468800"/>
            <a:ext cx="50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 это время фасон формы менялся несколько раз (1855, 1868, 1896 и 1913 годах) - соответственно веяниям м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im4"/>
          <p:cNvPicPr/>
          <p:nvPr/>
        </p:nvPicPr>
        <p:blipFill>
          <a:blip r:embed="rId1"/>
          <a:stretch/>
        </p:blipFill>
        <p:spPr>
          <a:xfrm>
            <a:off x="5402160" y="1057320"/>
            <a:ext cx="37134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8900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18г. Декрет « О единой школе…» отменил форму учащихся, признав её наследием царско – полицейского ре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89000" y="1447920"/>
            <a:ext cx="895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49г. форму ввели вновь. Маль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ов одели в военные гимнастёрки, а девочек – в коричневые шерстяные платья с чёрным передником ( по праздникам – белым). Но уже через несколько лет серые гимнастёрки у мальчиков были заменены синими костюмами. Форма девочек со временем не измен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67192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s"/>
          <p:cNvPicPr/>
          <p:nvPr/>
        </p:nvPicPr>
        <p:blipFill>
          <a:blip r:embed="rId2"/>
          <a:stretch/>
        </p:blipFill>
        <p:spPr>
          <a:xfrm>
            <a:off x="2819520" y="2971800"/>
            <a:ext cx="2663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28600" y="228600"/>
            <a:ext cx="81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88г. В порядке эксперимента некоторым школам было разрешено отказаться от ношения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9907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 80-х годах контроль за соблюдением школьной формы был не таким строгим. Девочкам разрешили носить плиссированные юбки, жилетки и блузки. Школьную фор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80-х можно увидеть, например, в фильмах «Гостья из будущего», «Приключения Электроника», «Школьный вальс» и «Плюмбум, или Опасная иг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90_138762"/>
          <p:cNvPicPr/>
          <p:nvPr/>
        </p:nvPicPr>
        <p:blipFill>
          <a:blip r:embed="rId1"/>
          <a:stretch/>
        </p:blipFill>
        <p:spPr>
          <a:xfrm>
            <a:off x="2362320" y="289548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ли годы, школьная форма становилась все более свободной и постепенно менялась. И, наконец, в 1992 году она была отменена в связи с принятием нового Закона «Об образовании». Новой стране с ее свободой, индивидуальностью личности, новыми проблемами школьная форма оказалась ни к ч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520" y="838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 РФ принял Закон об Образовании, в котором говорится и о  школьной форме. Он вступил в действие с 1 сентября 2013 года. При этом каждому ОУ предоставлялась возможность выбрать и утвердить свою, подходящую именно этому учреждению, фор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6:11:21Z</dcterms:created>
  <dc:creator>Diman</dc:creator>
  <dc:description/>
  <dc:language>en-US</dc:language>
  <cp:lastModifiedBy>XP GAME 2008</cp:lastModifiedBy>
  <dcterms:modified xsi:type="dcterms:W3CDTF">2013-11-17T10:12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