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1D3-B0B4-42CB-A3F5-73906442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394-19B7-4821-89E2-F6E076B7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A4A-34DE-4A4F-ADD9-9C0E97BD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7E4-8794-4379-BF8C-99135F98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C0A-8F5D-4824-9ABB-86D9DBE5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FAF-298A-45CA-AB6F-3081EF34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A04-FC84-4911-97CD-DB88D703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5FF-016C-4FCA-84A8-5D3EA653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328-8B34-45B2-9F72-76A50C21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1F4-75A6-44B7-83D5-0EB8F3C3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F6F-8E2B-4501-9603-F73772EC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81D-8801-4986-B33E-EA62E61D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3FD3-F8E9-4598-86E3-B0CA30F30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243240" y="762120"/>
            <a:ext cx="43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685800" y="1219320"/>
            <a:ext cx="80773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Школьная форм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вчера и сегод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04920" y="54000"/>
            <a:ext cx="800100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чем вводится школьная форма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743200" y="1893240"/>
            <a:ext cx="4419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-первых, стандарт одежды воспитывает чувство принадлежности к школе и гордости за 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-вторых, школьная форма имеет дисциплинирующее возде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- третьих-форма, это – средство коммуникации. От того, как ты выглядишь, зависит, как с тобой будут общаться окружающ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1673280" y="1666080"/>
            <a:ext cx="7448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огий стиль одежды создает в школе деловую атмосферу, необходимую для за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рма дисциплиниру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ник в школьной форме думает об учебе, а не об одеж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 проблемы «В чем пойти в школу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кольная форма помогает ребенку почувствовать себя учеником и членом определенного коллектива, дает возможность ощутить свою причастность именно к этой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одежда придется ребенку по вкусу, он будет испытывать гордость за свой внешний в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люсы школьной фор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1143000" y="1827720"/>
            <a:ext cx="78487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желание детей ее нос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теря индивидуальност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ышение финансовых расходов на обучение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траты времени и сил родителей в связи с приобретением фо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зкое качество материалов и пошива школьной фор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-228600" y="106056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инусы школьной форм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95280" y="2412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школьн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320" y="7830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школьной формы в России начинается с 1834 г. Тогда в Англии был принят закон, утвердивший общую систему всех гражданских мундиров в империи. Сначала для мальчиков, а затем, когда стали возникать женские гимназии, и для девочек. Мальчики щеголяли в фуражках с эмблемой гимназии, гимнастерках, шинелях, куртках, брюках, черных ботинках и с непременным ранцем за спиной. Форма девочек тоже была строга: коричневые платья с фартуками, правда, из ткани высокого качества и с изящным покроем, который делал девичий силуэт строй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Antonoff"/>
          <p:cNvPicPr/>
          <p:nvPr/>
        </p:nvPicPr>
        <p:blipFill>
          <a:blip r:embed="rId1"/>
          <a:srcRect l="20000" t="9646" r="20000" b="21621"/>
          <a:stretch/>
        </p:blipFill>
        <p:spPr>
          <a:xfrm>
            <a:off x="6172200" y="3200400"/>
            <a:ext cx="295272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3200400"/>
            <a:ext cx="61722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52280" y="252360"/>
            <a:ext cx="82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наменитом  французском интернате для девушек в Сен – Сир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Смольном институте каждому «возрасту» был присвоен свой цвет платья: для воспитанниц 6 – 9 лет – коричневый  (кофейный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– 12 лет – голубой, 12 – 15 лет серый и 15 – 18 лет – бе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879640" y="1442880"/>
            <a:ext cx="62643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52280" y="39672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917 года школьная форма (форма гимназиста) была сословным признаком ( в гимназии могли учиться дети из состоятельных семей). Форму носили не только в гимназии, но и на улице, дома, во время торжеств, праздников. Она была предметом гордости. Мальчикам полагалось носить форму военного фасона, а девочкам- тёмные строгие платья с плиссированными юбками до ко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772240" y="1219320"/>
            <a:ext cx="3386160" cy="563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352680" y="1219320"/>
            <a:ext cx="241956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52280" y="1468800"/>
            <a:ext cx="50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 это время фасон формы менялся несколько раз (1855, 1868, 1896 и 1913 годах) - соответственно веяниям м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im4"/>
          <p:cNvPicPr/>
          <p:nvPr/>
        </p:nvPicPr>
        <p:blipFill>
          <a:blip r:embed="rId1"/>
          <a:stretch/>
        </p:blipFill>
        <p:spPr>
          <a:xfrm>
            <a:off x="5402160" y="1057320"/>
            <a:ext cx="37134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8900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18г. Декрет « О единой школе…» отменил форму учащихся, признав её наследием царско – полицейского ре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89000" y="1447920"/>
            <a:ext cx="895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49г. форму ввели вновь. Маль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ов одели в военные гимнастёрки, а девочек – в коричневые шерстяные платья с чёрным передником ( по праздникам – белым). Но уже через несколько лет серые гимнастёрки у мальчиков были заменены синими костюмами. Форма девочек со временем не измени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67192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ages"/>
          <p:cNvPicPr/>
          <p:nvPr/>
        </p:nvPicPr>
        <p:blipFill>
          <a:blip r:embed="rId2"/>
          <a:stretch/>
        </p:blipFill>
        <p:spPr>
          <a:xfrm>
            <a:off x="2819520" y="2971800"/>
            <a:ext cx="26636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28600" y="228600"/>
            <a:ext cx="81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88г. В порядке эксперимента некоторым школам было разрешено отказаться от ношения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9907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в 80-х годах контроль за соблюдением школьной формы был не таким строгим. Девочкам разрешили носить плиссированные юбки, жилетки и блузки. Школьную фор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80-х можно увидеть, например, в фильмах «Гостья из будущего», «Приключения Электроника», «Школьный вальс» и «Плюмбум, или Опасная иг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90_138762"/>
          <p:cNvPicPr/>
          <p:nvPr/>
        </p:nvPicPr>
        <p:blipFill>
          <a:blip r:embed="rId1"/>
          <a:stretch/>
        </p:blipFill>
        <p:spPr>
          <a:xfrm>
            <a:off x="2362320" y="2895480"/>
            <a:ext cx="4902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ли годы, школьная форма становилась все более свободной и постепенно менялась. И, наконец, в 1992 году она была отменена в связи с принятием нового Закона «Об образовании». Новой стране с ее свободой, индивидуальностью личности, новыми проблемами школьная форма оказалась ни к ч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520" y="8380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 РФ принял Закон об Образовании, в котором говорится и о  школьной форме. Он вступил в действие с 1 сентября 2013 года. При этом каждому ОУ предоставлялась возможность выбрать и утвердить свою, подходящую именно этому учреждению, фор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6:11:21Z</dcterms:created>
  <dc:creator>Diman</dc:creator>
  <dc:description/>
  <dc:language>en-US</dc:language>
  <cp:lastModifiedBy>XP GAME 2008</cp:lastModifiedBy>
  <dcterms:modified xsi:type="dcterms:W3CDTF">2013-11-17T10:12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