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321-6674-4BE8-BAA9-60C9ABC9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CD9-5948-43C0-BCC8-24101C7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1F7-8EA3-4F6C-B6F2-0727AAB7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F60-34E6-43C9-8333-AD458101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E3D-6054-4830-8EFE-5E2D9B8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4D2-50C3-4066-A1F6-4663B7C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E34-DC60-4947-A795-198289D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864-2200-46A7-A86E-048E53E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118-D73C-49DE-A450-59D3721B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F43-4C14-4855-825C-7F7D4AF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346-CC18-404C-9B73-A05BDEA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784-F55D-4795-BA64-26043B0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89B-D2E5-40CD-BCC7-665A4663A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11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К «Перспективная начальная 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55640" y="3068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: Учимся определять начальн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882120" y="383076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556000" y="4606920"/>
            <a:ext cx="61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Сост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595959"/>
                </a:solidFill>
                <a:latin typeface="Arial"/>
              </a:rPr>
              <a:t>Яценко И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Вертикальный свиток 5"/>
          <p:cNvSpPr/>
          <p:nvPr/>
        </p:nvSpPr>
        <p:spPr>
          <a:xfrm>
            <a:off x="108000" y="888840"/>
            <a:ext cx="3887640" cy="5112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55640" y="1700280"/>
            <a:ext cx="25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ап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ыж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ареж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Вертикальный свиток 7"/>
          <p:cNvSpPr/>
          <p:nvPr/>
        </p:nvSpPr>
        <p:spPr>
          <a:xfrm>
            <a:off x="5502240" y="1125360"/>
            <a:ext cx="3635280" cy="504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6156360" y="2276640"/>
            <a:ext cx="223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с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-22320"/>
            <a:ext cx="9132840" cy="6850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User\Desktop\картинки\graphic_025.jpg"/>
          <p:cNvPicPr/>
          <p:nvPr/>
        </p:nvPicPr>
        <p:blipFill>
          <a:blip r:embed="rId2"/>
          <a:stretch/>
        </p:blipFill>
        <p:spPr>
          <a:xfrm>
            <a:off x="1380960" y="476280"/>
            <a:ext cx="6382080" cy="4537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24000" y="51577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ени – помещение между жилой частью дома и крыль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-2232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User\Desktop\картинки\untitled.png"/>
          <p:cNvPicPr/>
          <p:nvPr/>
        </p:nvPicPr>
        <p:blipFill>
          <a:blip r:embed="rId2"/>
          <a:stretch/>
        </p:blipFill>
        <p:spPr>
          <a:xfrm>
            <a:off x="250920" y="3530520"/>
            <a:ext cx="4535280" cy="308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User\Desktop\картинки\000_455.jpg"/>
          <p:cNvPicPr/>
          <p:nvPr/>
        </p:nvPicPr>
        <p:blipFill>
          <a:blip r:embed="rId3"/>
          <a:stretch/>
        </p:blipFill>
        <p:spPr>
          <a:xfrm>
            <a:off x="250920" y="260280"/>
            <a:ext cx="4535280" cy="281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946760" y="39060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сли – кормушка для стока, прикреплённая к сте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46760" y="3789360"/>
            <a:ext cx="41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сли – воспитательное учреждение для детей до трё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6480" y="-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9679-Muzykal_naya-fizminutka-dlya-praktiki(muzofon.com).mp3" descr=""/>
          <p:cNvPicPr/>
          <p:nvPr/>
        </p:nvPicPr>
        <p:blipFill>
          <a:blip r:embed="rId2"/>
          <a:stretch/>
        </p:blipFill>
        <p:spPr>
          <a:xfrm>
            <a:off x="1547640" y="115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9" descr=""/>
          <p:cNvPicPr/>
          <p:nvPr/>
        </p:nvPicPr>
        <p:blipFill>
          <a:blip r:embed="rId3"/>
          <a:stretch/>
        </p:blipFill>
        <p:spPr>
          <a:xfrm>
            <a:off x="853920" y="1689120"/>
            <a:ext cx="84726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571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User\Desktop\картинки\zima14_1280x1024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24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1116000" y="1484280"/>
            <a:ext cx="770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ffffff"/>
                </a:solidFill>
                <a:latin typeface="Arial Black"/>
              </a:rPr>
              <a:t>ИН</a:t>
            </a:r>
            <a:r>
              <a:rPr b="0" lang="ru-RU" sz="166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13800" spc="-1" strike="noStrike">
                <a:solidFill>
                  <a:srgbClr val="ffffff"/>
                </a:solidFill>
                <a:latin typeface="Arial Black"/>
              </a:rPr>
              <a:t>Й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211640" y="333360"/>
            <a:ext cx="12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 Black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211640" y="3500280"/>
            <a:ext cx="122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 Black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Облако 4"/>
          <p:cNvSpPr/>
          <p:nvPr/>
        </p:nvSpPr>
        <p:spPr>
          <a:xfrm>
            <a:off x="3924360" y="800280"/>
            <a:ext cx="5219640" cy="24476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5"/>
          <p:cNvSpPr/>
          <p:nvPr/>
        </p:nvSpPr>
        <p:spPr>
          <a:xfrm>
            <a:off x="108000" y="189000"/>
            <a:ext cx="3959280" cy="21603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блако 7"/>
          <p:cNvSpPr/>
          <p:nvPr/>
        </p:nvSpPr>
        <p:spPr>
          <a:xfrm>
            <a:off x="0" y="3573360"/>
            <a:ext cx="3986280" cy="180036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блако 8"/>
          <p:cNvSpPr/>
          <p:nvPr/>
        </p:nvSpPr>
        <p:spPr>
          <a:xfrm>
            <a:off x="5219640" y="5122800"/>
            <a:ext cx="3816360" cy="16560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не было труд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9679-Muzykal_naya-fizminutka-dlya-praktiki(muzofon.com).mp3" descr=""/>
          <p:cNvPicPr/>
          <p:nvPr/>
        </p:nvPicPr>
        <p:blipFill>
          <a:blip r:embed="rId1"/>
          <a:stretch/>
        </p:blipFill>
        <p:spPr>
          <a:xfrm>
            <a:off x="4267080" y="3557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картинки\82749.jpg"/>
          <p:cNvPicPr/>
          <p:nvPr/>
        </p:nvPicPr>
        <p:blipFill>
          <a:blip r:embed="rId2"/>
          <a:stretch/>
        </p:blipFill>
        <p:spPr>
          <a:xfrm>
            <a:off x="-9360" y="31680"/>
            <a:ext cx="91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User\Desktop\картинки\0_729c0_8e10e077_XL.png"/>
          <p:cNvPicPr/>
          <p:nvPr/>
        </p:nvPicPr>
        <p:blipFill>
          <a:blip r:embed="rId3"/>
          <a:stretch/>
        </p:blipFill>
        <p:spPr>
          <a:xfrm>
            <a:off x="6364440" y="1844640"/>
            <a:ext cx="2798640" cy="50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User\Desktop\картинки\svitolk13.png"/>
          <p:cNvPicPr/>
          <p:nvPr/>
        </p:nvPicPr>
        <p:blipFill>
          <a:blip r:embed="rId4"/>
          <a:stretch/>
        </p:blipFill>
        <p:spPr>
          <a:xfrm>
            <a:off x="-71280" y="3351240"/>
            <a:ext cx="3238200" cy="3402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95280" y="4373640"/>
            <a:ext cx="24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мог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жалуй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71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2"/>
          <a:stretch/>
        </p:blipFill>
        <p:spPr>
          <a:xfrm>
            <a:off x="249120" y="993600"/>
            <a:ext cx="856620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0" y="1468440"/>
            <a:ext cx="90216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1692360" y="6922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d9"/>
                </a:solidFill>
                <a:latin typeface="Arial Black"/>
              </a:rPr>
              <a:t>Цел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730440" y="170028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Повтори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"/>
          <p:cNvSpPr/>
          <p:nvPr/>
        </p:nvSpPr>
        <p:spPr>
          <a:xfrm>
            <a:off x="790200" y="27828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Научить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картинки\d17be902f17a.jpg"/>
          <p:cNvPicPr/>
          <p:nvPr/>
        </p:nvPicPr>
        <p:blipFill>
          <a:blip r:embed="rId1"/>
          <a:stretch/>
        </p:blipFill>
        <p:spPr>
          <a:xfrm>
            <a:off x="11160" y="27000"/>
            <a:ext cx="913284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539640" y="90792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Повторить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знания о начальной форме слов- названий предме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Научиться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ставить слова- названия предметов в начальную фор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- </a:t>
            </a:r>
            <a:r>
              <a:rPr b="0" lang="ru-RU" sz="3600" spc="-1" strike="noStrike" u="sng">
                <a:solidFill>
                  <a:srgbClr val="d9d9d9"/>
                </a:solidFill>
                <a:uFillTx/>
                <a:latin typeface="Arial Black"/>
              </a:rPr>
              <a:t>Научиться</a:t>
            </a:r>
            <a:r>
              <a:rPr b="0" lang="ru-RU" sz="3600" spc="-1" strike="noStrike">
                <a:solidFill>
                  <a:srgbClr val="d9d9d9"/>
                </a:solidFill>
                <a:latin typeface="Arial Black"/>
              </a:rPr>
              <a:t> изменять слова-  названия предметов по чис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1908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Выноска-облако 6"/>
          <p:cNvSpPr/>
          <p:nvPr/>
        </p:nvSpPr>
        <p:spPr>
          <a:xfrm>
            <a:off x="3348000" y="115920"/>
            <a:ext cx="5688000" cy="3457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210200" y="720720"/>
            <a:ext cx="408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ворона и 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ни ведрами вез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 из вишни в 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т вкусное вар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Горизонтальный свиток 4"/>
          <p:cNvSpPr/>
          <p:nvPr/>
        </p:nvSpPr>
        <p:spPr>
          <a:xfrm>
            <a:off x="539640" y="620640"/>
            <a:ext cx="8064720" cy="5977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дворе морос. Выпал пушыстый снек. Саша надел тёплую шупку и миховую шапк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User\Desktop\картинки\1207507184_vvs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Горизонтальный свиток 9"/>
          <p:cNvSpPr/>
          <p:nvPr/>
        </p:nvSpPr>
        <p:spPr>
          <a:xfrm>
            <a:off x="611280" y="189000"/>
            <a:ext cx="7993080" cy="655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928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а дворе моро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 Выпал пуш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тый сне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. Саша надел тёплую шу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у и м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ховую шап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Равно 13"/>
          <p:cNvSpPr/>
          <p:nvPr/>
        </p:nvSpPr>
        <p:spPr>
          <a:xfrm>
            <a:off x="1476360" y="4221000"/>
            <a:ext cx="2303640" cy="360360"/>
          </a:xfrm>
          <a:custGeom>
            <a:avLst/>
            <a:gdLst/>
            <a:ahLst/>
            <a:rect l="l" t="t" r="r" b="b"/>
            <a:pathLst>
              <a:path w="2303463" h="360362">
                <a:moveTo>
                  <a:pt x="305324" y="74235"/>
                </a:moveTo>
                <a:lnTo>
                  <a:pt x="1998139" y="74235"/>
                </a:lnTo>
                <a:lnTo>
                  <a:pt x="1998139" y="158992"/>
                </a:lnTo>
                <a:lnTo>
                  <a:pt x="305324" y="158992"/>
                </a:lnTo>
                <a:lnTo>
                  <a:pt x="305324" y="74235"/>
                </a:lnTo>
                <a:close/>
                <a:moveTo>
                  <a:pt x="305324" y="201370"/>
                </a:moveTo>
                <a:lnTo>
                  <a:pt x="1998139" y="201370"/>
                </a:lnTo>
                <a:lnTo>
                  <a:pt x="1998139" y="286127"/>
                </a:lnTo>
                <a:lnTo>
                  <a:pt x="305324" y="286127"/>
                </a:lnTo>
                <a:lnTo>
                  <a:pt x="305324" y="2013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 14"/>
          <p:cNvSpPr/>
          <p:nvPr/>
        </p:nvSpPr>
        <p:spPr>
          <a:xfrm>
            <a:off x="6459480" y="2600280"/>
            <a:ext cx="2376720" cy="433440"/>
          </a:xfrm>
          <a:custGeom>
            <a:avLst/>
            <a:gdLst/>
            <a:ahLst/>
            <a:rect l="l" t="t" r="r" b="b"/>
            <a:pathLst>
              <a:path w="2376487" h="433388">
                <a:moveTo>
                  <a:pt x="315003" y="89278"/>
                </a:moveTo>
                <a:lnTo>
                  <a:pt x="2061484" y="89278"/>
                </a:lnTo>
                <a:lnTo>
                  <a:pt x="2061484" y="191211"/>
                </a:lnTo>
                <a:lnTo>
                  <a:pt x="315003" y="191211"/>
                </a:lnTo>
                <a:lnTo>
                  <a:pt x="315003" y="89278"/>
                </a:lnTo>
                <a:close/>
                <a:moveTo>
                  <a:pt x="315003" y="242177"/>
                </a:moveTo>
                <a:lnTo>
                  <a:pt x="2061484" y="242177"/>
                </a:lnTo>
                <a:lnTo>
                  <a:pt x="2061484" y="344110"/>
                </a:lnTo>
                <a:lnTo>
                  <a:pt x="315003" y="344110"/>
                </a:lnTo>
                <a:lnTo>
                  <a:pt x="315003" y="24217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инус 15"/>
          <p:cNvSpPr/>
          <p:nvPr/>
        </p:nvSpPr>
        <p:spPr>
          <a:xfrm>
            <a:off x="4608360" y="3375000"/>
            <a:ext cx="1619280" cy="216000"/>
          </a:xfrm>
          <a:custGeom>
            <a:avLst/>
            <a:gdLst/>
            <a:ahLst/>
            <a:rect l="l" t="t" r="r" b="b"/>
            <a:pathLst>
              <a:path w="1619250" h="215900">
                <a:moveTo>
                  <a:pt x="214632" y="82560"/>
                </a:moveTo>
                <a:lnTo>
                  <a:pt x="1404618" y="82560"/>
                </a:lnTo>
                <a:lnTo>
                  <a:pt x="1404618" y="133340"/>
                </a:lnTo>
                <a:lnTo>
                  <a:pt x="214632" y="133340"/>
                </a:lnTo>
                <a:lnTo>
                  <a:pt x="214632" y="82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инус 16"/>
          <p:cNvSpPr/>
          <p:nvPr/>
        </p:nvSpPr>
        <p:spPr>
          <a:xfrm>
            <a:off x="6227640" y="3444840"/>
            <a:ext cx="1800360" cy="216000"/>
          </a:xfrm>
          <a:custGeom>
            <a:avLst/>
            <a:gdLst/>
            <a:ahLst/>
            <a:rect l="l" t="t" r="r" b="b"/>
            <a:pathLst>
              <a:path w="1800225" h="215900">
                <a:moveTo>
                  <a:pt x="238620" y="82560"/>
                </a:moveTo>
                <a:lnTo>
                  <a:pt x="1561605" y="82560"/>
                </a:lnTo>
                <a:lnTo>
                  <a:pt x="1561605" y="133340"/>
                </a:lnTo>
                <a:lnTo>
                  <a:pt x="238620" y="133340"/>
                </a:lnTo>
                <a:lnTo>
                  <a:pt x="238620" y="82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04:55Z</dcterms:created>
  <dc:creator>Пользователь</dc:creator>
  <dc:description/>
  <dc:language>en-US</dc:language>
  <cp:lastModifiedBy>Пользователь</cp:lastModifiedBy>
  <dcterms:modified xsi:type="dcterms:W3CDTF">2013-11-17T14:25:06Z</dcterms:modified>
  <cp:revision>26</cp:revision>
  <dc:subject/>
  <dc:title>Презентация PowerPoint</dc:title>
</cp:coreProperties>
</file>