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912-CE8B-47D1-B29B-21CC3B2D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1DF-AE05-4AD4-ACB7-06C17F93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8D5-0524-4A6A-A2AD-C0BBD12A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1B0-1710-4E64-B01D-4CDDAE54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17C-8A62-465D-8ADC-9EF0FF53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609-766C-43F2-96A0-A91229C3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8A2-F077-423E-B9F6-035FB3A1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FD2-EE5A-49F5-BAD2-48F52386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EBC-4526-4B62-AC6E-0C479573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4D0-DA15-45BF-A300-A5858101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E5A-82EC-4B18-A72F-A4066748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5D7-AC37-434B-A103-0D9DDE72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0318-1746-4F5E-9482-8FEC09117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27000"/>
            <a:ext cx="913284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11280" y="1484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К «Перспективная начальная шко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55640" y="3068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: Учимся определять начальную фор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882120" y="3830760"/>
            <a:ext cx="15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556000" y="4606920"/>
            <a:ext cx="61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Сост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Яценко И.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Вертикальный свиток 5"/>
          <p:cNvSpPr/>
          <p:nvPr/>
        </p:nvSpPr>
        <p:spPr>
          <a:xfrm>
            <a:off x="108000" y="888840"/>
            <a:ext cx="3887640" cy="5112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755640" y="1700280"/>
            <a:ext cx="252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апо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ыж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ареж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Вертикальный свиток 7"/>
          <p:cNvSpPr/>
          <p:nvPr/>
        </p:nvSpPr>
        <p:spPr>
          <a:xfrm>
            <a:off x="5502240" y="1125360"/>
            <a:ext cx="3635280" cy="504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156360" y="2276640"/>
            <a:ext cx="223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яс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-2232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User\Desktop\картинки\graphic_025.jpg"/>
          <p:cNvPicPr/>
          <p:nvPr/>
        </p:nvPicPr>
        <p:blipFill>
          <a:blip r:embed="rId2"/>
          <a:stretch/>
        </p:blipFill>
        <p:spPr>
          <a:xfrm>
            <a:off x="1380960" y="476280"/>
            <a:ext cx="6382080" cy="4537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324000" y="515772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ени – помещение между жилой частью дома и крыль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-22320"/>
            <a:ext cx="9132840" cy="685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User\Desktop\картинки\untitled.png"/>
          <p:cNvPicPr/>
          <p:nvPr/>
        </p:nvPicPr>
        <p:blipFill>
          <a:blip r:embed="rId2"/>
          <a:stretch/>
        </p:blipFill>
        <p:spPr>
          <a:xfrm>
            <a:off x="250920" y="3530520"/>
            <a:ext cx="4535280" cy="308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User\Desktop\картинки\000_455.jpg"/>
          <p:cNvPicPr/>
          <p:nvPr/>
        </p:nvPicPr>
        <p:blipFill>
          <a:blip r:embed="rId3"/>
          <a:stretch/>
        </p:blipFill>
        <p:spPr>
          <a:xfrm>
            <a:off x="250920" y="260280"/>
            <a:ext cx="4535280" cy="2813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946760" y="390600"/>
            <a:ext cx="410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Ясли – кормушка для стока, прикреплённая к сте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946760" y="3789360"/>
            <a:ext cx="410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Ясли – воспитательное учреждение для детей до трёх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6480" y="-20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9679-Muzykal_naya-fizminutka-dlya-praktiki(muzofon.com).mp3" descr=""/>
          <p:cNvPicPr/>
          <p:nvPr/>
        </p:nvPicPr>
        <p:blipFill>
          <a:blip r:embed="rId2"/>
          <a:stretch/>
        </p:blipFill>
        <p:spPr>
          <a:xfrm>
            <a:off x="1547640" y="115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1" name="TextBox 9" descr=""/>
          <p:cNvPicPr/>
          <p:nvPr/>
        </p:nvPicPr>
        <p:blipFill>
          <a:blip r:embed="rId3"/>
          <a:stretch/>
        </p:blipFill>
        <p:spPr>
          <a:xfrm>
            <a:off x="853920" y="1689120"/>
            <a:ext cx="84726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571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:\Users\User\Desktop\картинки\zima14_1280x1024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24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116000" y="1484280"/>
            <a:ext cx="7704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ffffff"/>
                </a:solidFill>
                <a:latin typeface="Arial Black"/>
              </a:rPr>
              <a:t>ИН</a:t>
            </a:r>
            <a:r>
              <a:rPr b="0" lang="ru-RU" sz="16600" spc="-1" strike="noStrike">
                <a:solidFill>
                  <a:srgbClr val="ff0000"/>
                </a:solidFill>
                <a:latin typeface="Arial Black"/>
              </a:rPr>
              <a:t>Е</a:t>
            </a:r>
            <a:r>
              <a:rPr b="0" lang="ru-RU" sz="13800" spc="-1" strike="noStrike">
                <a:solidFill>
                  <a:srgbClr val="ffffff"/>
                </a:solidFill>
                <a:latin typeface="Arial Black"/>
              </a:rPr>
              <a:t>Й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211640" y="333360"/>
            <a:ext cx="126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 Black"/>
              </a:rPr>
              <a:t>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211640" y="3500280"/>
            <a:ext cx="122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 Black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 Black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 Black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Облако 4"/>
          <p:cNvSpPr/>
          <p:nvPr/>
        </p:nvSpPr>
        <p:spPr>
          <a:xfrm>
            <a:off x="3924360" y="800280"/>
            <a:ext cx="5219640" cy="24476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блако 5"/>
          <p:cNvSpPr/>
          <p:nvPr/>
        </p:nvSpPr>
        <p:spPr>
          <a:xfrm>
            <a:off x="108000" y="189000"/>
            <a:ext cx="3959280" cy="216036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Я узна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блако 7"/>
          <p:cNvSpPr/>
          <p:nvPr/>
        </p:nvSpPr>
        <p:spPr>
          <a:xfrm>
            <a:off x="0" y="3573360"/>
            <a:ext cx="3986280" cy="180036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не понрав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блако 8"/>
          <p:cNvSpPr/>
          <p:nvPr/>
        </p:nvSpPr>
        <p:spPr>
          <a:xfrm>
            <a:off x="5219640" y="5122800"/>
            <a:ext cx="3816360" cy="165600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не было трудн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9679-Muzykal_naya-fizminutka-dlya-praktiki(muzofon.com).mp3" descr=""/>
          <p:cNvPicPr/>
          <p:nvPr/>
        </p:nvPicPr>
        <p:blipFill>
          <a:blip r:embed="rId1"/>
          <a:stretch/>
        </p:blipFill>
        <p:spPr>
          <a:xfrm>
            <a:off x="4267080" y="35575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картинки\82749.jpg"/>
          <p:cNvPicPr/>
          <p:nvPr/>
        </p:nvPicPr>
        <p:blipFill>
          <a:blip r:embed="rId2"/>
          <a:stretch/>
        </p:blipFill>
        <p:spPr>
          <a:xfrm>
            <a:off x="-9360" y="31680"/>
            <a:ext cx="91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User\Desktop\картинки\0_729c0_8e10e077_XL.png"/>
          <p:cNvPicPr/>
          <p:nvPr/>
        </p:nvPicPr>
        <p:blipFill>
          <a:blip r:embed="rId3"/>
          <a:stretch/>
        </p:blipFill>
        <p:spPr>
          <a:xfrm>
            <a:off x="6364440" y="1844640"/>
            <a:ext cx="2798640" cy="505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Users\User\Desktop\картинки\svitolk13.png"/>
          <p:cNvPicPr/>
          <p:nvPr/>
        </p:nvPicPr>
        <p:blipFill>
          <a:blip r:embed="rId4"/>
          <a:stretch/>
        </p:blipFill>
        <p:spPr>
          <a:xfrm>
            <a:off x="-71280" y="3351240"/>
            <a:ext cx="3238200" cy="3402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95280" y="4373640"/>
            <a:ext cx="24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мог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жалуйс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71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27000"/>
            <a:ext cx="9132840" cy="68515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249120" y="993600"/>
            <a:ext cx="8566200" cy="48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27000"/>
            <a:ext cx="9132840" cy="68515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4" descr=""/>
          <p:cNvPicPr/>
          <p:nvPr/>
        </p:nvPicPr>
        <p:blipFill>
          <a:blip r:embed="rId2"/>
          <a:stretch/>
        </p:blipFill>
        <p:spPr>
          <a:xfrm>
            <a:off x="0" y="1468440"/>
            <a:ext cx="90216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27000"/>
            <a:ext cx="9132840" cy="68515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1692360" y="6922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9d9d9"/>
                </a:solidFill>
                <a:latin typeface="Arial Black"/>
              </a:rPr>
              <a:t>Цели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730440" y="170028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- Повтори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790200" y="27828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- Научить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27000"/>
            <a:ext cx="913284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539640" y="90792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- </a:t>
            </a:r>
            <a:r>
              <a:rPr b="0" lang="ru-RU" sz="3600" spc="-1" strike="noStrike" u="sng">
                <a:solidFill>
                  <a:srgbClr val="d9d9d9"/>
                </a:solidFill>
                <a:uFillTx/>
                <a:latin typeface="Arial Black"/>
              </a:rPr>
              <a:t>Повторить</a:t>
            </a: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 знания о начальной форме слов- названий предме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- </a:t>
            </a:r>
            <a:r>
              <a:rPr b="0" lang="ru-RU" sz="3600" spc="-1" strike="noStrike" u="sng">
                <a:solidFill>
                  <a:srgbClr val="d9d9d9"/>
                </a:solidFill>
                <a:uFillTx/>
                <a:latin typeface="Arial Black"/>
              </a:rPr>
              <a:t>Научиться</a:t>
            </a: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 ставить слова- названия предметов в начальную форм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- </a:t>
            </a:r>
            <a:r>
              <a:rPr b="0" lang="ru-RU" sz="3600" spc="-1" strike="noStrike" u="sng">
                <a:solidFill>
                  <a:srgbClr val="d9d9d9"/>
                </a:solidFill>
                <a:uFillTx/>
                <a:latin typeface="Arial Black"/>
              </a:rPr>
              <a:t>Научиться</a:t>
            </a: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 изменять слова-  названия предметов по числ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1908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Выноска-облако 6"/>
          <p:cNvSpPr/>
          <p:nvPr/>
        </p:nvSpPr>
        <p:spPr>
          <a:xfrm>
            <a:off x="3348000" y="115920"/>
            <a:ext cx="5688000" cy="3457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4210200" y="720720"/>
            <a:ext cx="408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 ворона и верблю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ни ведрами вез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к из вишни в воскрес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т вкусное вар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Горизонтальный свиток 4"/>
          <p:cNvSpPr/>
          <p:nvPr/>
        </p:nvSpPr>
        <p:spPr>
          <a:xfrm>
            <a:off x="539640" y="620640"/>
            <a:ext cx="8064720" cy="5977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дворе морос. Выпал пушыстый снек. Саша надел тёплую шупку и миховую шапк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Горизонтальный свиток 9"/>
          <p:cNvSpPr/>
          <p:nvPr/>
        </p:nvSpPr>
        <p:spPr>
          <a:xfrm>
            <a:off x="611280" y="189000"/>
            <a:ext cx="7993080" cy="655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19280" y="907560"/>
            <a:ext cx="706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а дворе моро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. Выпал пуш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тый сне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г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. Саша надел тёплую шу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у и м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ховую шапк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Равно 13"/>
          <p:cNvSpPr/>
          <p:nvPr/>
        </p:nvSpPr>
        <p:spPr>
          <a:xfrm>
            <a:off x="1476360" y="4221000"/>
            <a:ext cx="2303640" cy="360360"/>
          </a:xfrm>
          <a:custGeom>
            <a:avLst/>
            <a:gdLst/>
            <a:ahLst/>
            <a:rect l="l" t="t" r="r" b="b"/>
            <a:pathLst>
              <a:path w="2303463" h="360362">
                <a:moveTo>
                  <a:pt x="305324" y="74235"/>
                </a:moveTo>
                <a:lnTo>
                  <a:pt x="1998139" y="74235"/>
                </a:lnTo>
                <a:lnTo>
                  <a:pt x="1998139" y="158992"/>
                </a:lnTo>
                <a:lnTo>
                  <a:pt x="305324" y="158992"/>
                </a:lnTo>
                <a:lnTo>
                  <a:pt x="305324" y="74235"/>
                </a:lnTo>
                <a:close/>
                <a:moveTo>
                  <a:pt x="305324" y="201370"/>
                </a:moveTo>
                <a:lnTo>
                  <a:pt x="1998139" y="201370"/>
                </a:lnTo>
                <a:lnTo>
                  <a:pt x="1998139" y="286127"/>
                </a:lnTo>
                <a:lnTo>
                  <a:pt x="305324" y="286127"/>
                </a:lnTo>
                <a:lnTo>
                  <a:pt x="305324" y="2013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 14"/>
          <p:cNvSpPr/>
          <p:nvPr/>
        </p:nvSpPr>
        <p:spPr>
          <a:xfrm>
            <a:off x="6459480" y="2600280"/>
            <a:ext cx="2376720" cy="433440"/>
          </a:xfrm>
          <a:custGeom>
            <a:avLst/>
            <a:gdLst/>
            <a:ahLst/>
            <a:rect l="l" t="t" r="r" b="b"/>
            <a:pathLst>
              <a:path w="2376487" h="433388">
                <a:moveTo>
                  <a:pt x="315003" y="89278"/>
                </a:moveTo>
                <a:lnTo>
                  <a:pt x="2061484" y="89278"/>
                </a:lnTo>
                <a:lnTo>
                  <a:pt x="2061484" y="191211"/>
                </a:lnTo>
                <a:lnTo>
                  <a:pt x="315003" y="191211"/>
                </a:lnTo>
                <a:lnTo>
                  <a:pt x="315003" y="89278"/>
                </a:lnTo>
                <a:close/>
                <a:moveTo>
                  <a:pt x="315003" y="242177"/>
                </a:moveTo>
                <a:lnTo>
                  <a:pt x="2061484" y="242177"/>
                </a:lnTo>
                <a:lnTo>
                  <a:pt x="2061484" y="344110"/>
                </a:lnTo>
                <a:lnTo>
                  <a:pt x="315003" y="344110"/>
                </a:lnTo>
                <a:lnTo>
                  <a:pt x="315003" y="24217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инус 15"/>
          <p:cNvSpPr/>
          <p:nvPr/>
        </p:nvSpPr>
        <p:spPr>
          <a:xfrm>
            <a:off x="4608360" y="3375000"/>
            <a:ext cx="1619280" cy="216000"/>
          </a:xfrm>
          <a:custGeom>
            <a:avLst/>
            <a:gdLst/>
            <a:ahLst/>
            <a:rect l="l" t="t" r="r" b="b"/>
            <a:pathLst>
              <a:path w="1619250" h="215900">
                <a:moveTo>
                  <a:pt x="214632" y="82560"/>
                </a:moveTo>
                <a:lnTo>
                  <a:pt x="1404618" y="82560"/>
                </a:lnTo>
                <a:lnTo>
                  <a:pt x="1404618" y="133340"/>
                </a:lnTo>
                <a:lnTo>
                  <a:pt x="214632" y="133340"/>
                </a:lnTo>
                <a:lnTo>
                  <a:pt x="214632" y="8256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инус 16"/>
          <p:cNvSpPr/>
          <p:nvPr/>
        </p:nvSpPr>
        <p:spPr>
          <a:xfrm>
            <a:off x="6227640" y="3444840"/>
            <a:ext cx="1800360" cy="216000"/>
          </a:xfrm>
          <a:custGeom>
            <a:avLst/>
            <a:gdLst/>
            <a:ahLst/>
            <a:rect l="l" t="t" r="r" b="b"/>
            <a:pathLst>
              <a:path w="1800225" h="215900">
                <a:moveTo>
                  <a:pt x="238620" y="82560"/>
                </a:moveTo>
                <a:lnTo>
                  <a:pt x="1561605" y="82560"/>
                </a:lnTo>
                <a:lnTo>
                  <a:pt x="1561605" y="133340"/>
                </a:lnTo>
                <a:lnTo>
                  <a:pt x="238620" y="133340"/>
                </a:lnTo>
                <a:lnTo>
                  <a:pt x="238620" y="8256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9:04:55Z</dcterms:created>
  <dc:creator>Пользователь</dc:creator>
  <dc:description/>
  <dc:language>en-US</dc:language>
  <cp:lastModifiedBy>Пользователь</cp:lastModifiedBy>
  <dcterms:modified xsi:type="dcterms:W3CDTF">2013-11-17T14:25:06Z</dcterms:modified>
  <cp:revision>26</cp:revision>
  <dc:subject/>
  <dc:title>Презентация PowerPoint</dc:title>
</cp:coreProperties>
</file>