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7.wmf" ContentType="image/x-wmf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4.png" ContentType="image/png"/>
  <Override PartName="/ppt/media/image27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8.jpeg" ContentType="image/jpeg"/>
  <Override PartName="/ppt/media/image2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730-401D-4DDB-8444-AA78CC83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D10-67BF-44BB-AEFA-054D9373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F4A-2018-4622-ADF6-327DC8EA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E2E-0A55-4D93-B57C-80C4B828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540B-5B84-4891-B7BC-94D72494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B12-F0A0-4E56-B328-7079FA7C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96E-FD75-4B75-835F-E9F3082C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4D3-4189-4039-8CDF-092ACD14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C29-8716-4FD7-A939-CB998C1B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187-666E-4501-ADBF-F38C7F9A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066-42CC-45E4-8209-6E0B9FBA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688-14E1-4772-9820-6200188A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C0DB-3E5E-4077-9FCE-5CCB4D8EC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uar.ru/ve/rogozina/ginnes/420/04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ефтяная промышленность Росс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Ресурсообеспече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соотношение между величиной природных ресурсов и размерами их использования. Она выражается количеством лет, на которые должно хватить данного ресурс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000" y="2708280"/>
          <a:ext cx="5184720" cy="3005280"/>
        </p:xfrm>
        <a:graphic>
          <a:graphicData uri="http://schemas.openxmlformats.org/drawingml/2006/table">
            <a:tbl>
              <a:tblPr/>
              <a:tblGrid>
                <a:gridCol w="2765160"/>
                <a:gridCol w="24195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вание стр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лет, на которые хватит неф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удовская Ара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ра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вей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А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82"/>
          <p:cNvSpPr/>
          <p:nvPr/>
        </p:nvSpPr>
        <p:spPr>
          <a:xfrm>
            <a:off x="3564000" y="227664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Способы добычи неф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2" descr="46ngk_fontan4"/>
          <p:cNvPicPr/>
          <p:nvPr/>
        </p:nvPicPr>
        <p:blipFill>
          <a:blip r:embed="rId1"/>
          <a:srcRect l="0" t="0" r="0" b="11475"/>
          <a:stretch/>
        </p:blipFill>
        <p:spPr>
          <a:xfrm>
            <a:off x="250920" y="1341360"/>
            <a:ext cx="507996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Добыча нефти"/>
          <p:cNvPicPr/>
          <p:nvPr/>
        </p:nvPicPr>
        <p:blipFill>
          <a:blip r:embed="rId2"/>
          <a:stretch/>
        </p:blipFill>
        <p:spPr>
          <a:xfrm>
            <a:off x="4284720" y="3573360"/>
            <a:ext cx="4859280" cy="30258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5"/>
          <p:cNvSpPr/>
          <p:nvPr/>
        </p:nvSpPr>
        <p:spPr>
          <a:xfrm>
            <a:off x="1187280" y="4365720"/>
            <a:ext cx="2232360" cy="1150920"/>
          </a:xfrm>
          <a:prstGeom prst="upArrowCallout">
            <a:avLst>
              <a:gd name="adj1" fmla="val 48495"/>
              <a:gd name="adj2" fmla="val 48491"/>
              <a:gd name="adj3" fmla="val 16667"/>
              <a:gd name="adj4" fmla="val 6666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58920" y="4941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онтанный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6300720" y="1557360"/>
            <a:ext cx="2374920" cy="1871640"/>
          </a:xfrm>
          <a:prstGeom prst="downArrowCallout">
            <a:avLst>
              <a:gd name="adj1" fmla="val 31725"/>
              <a:gd name="adj2" fmla="val 31722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659640" y="1916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Насос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я 1 место по добычи неф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2011г. Россия может поставить новый рекорд по добыче неф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0г более 500 млн т неф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57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работка неф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перегонка нефти"/>
          <p:cNvPicPr/>
          <p:nvPr/>
        </p:nvPicPr>
        <p:blipFill>
          <a:blip r:embed="rId1"/>
          <a:srcRect l="3341" t="10037" r="3190" b="5259"/>
          <a:stretch/>
        </p:blipFill>
        <p:spPr>
          <a:xfrm>
            <a:off x="4859280" y="1197000"/>
            <a:ext cx="4070520" cy="5356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900000" y="1700280"/>
            <a:ext cx="37432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ы переработки  неф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ка нефти к перерабо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гонка неф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ек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оли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еработка нефти происходит на НПЗ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009999"/>
                </a:solidFill>
                <a:uFillTx/>
                <a:latin typeface="Arial"/>
              </a:rPr>
              <a:t>Нефтеперерабатывающий завод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- завод, на котором нефть разгоняют на фракции и вырабатывают из них товарные нефтепродукты и сырье для дальнейшей переработки или органического синтез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анный момент в России действуют 28 заводов по переработке нефти, производственный процесс на НПЗ осуществляется круглосуто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нефть"/>
          <p:cNvPicPr/>
          <p:nvPr/>
        </p:nvPicPr>
        <p:blipFill>
          <a:blip r:embed="rId1"/>
          <a:stretch/>
        </p:blipFill>
        <p:spPr>
          <a:xfrm>
            <a:off x="2771640" y="3573360"/>
            <a:ext cx="36007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нп заводы"/>
          <p:cNvPicPr/>
          <p:nvPr/>
        </p:nvPicPr>
        <p:blipFill>
          <a:blip r:embed="rId1"/>
          <a:srcRect l="0" t="0" r="0" b="11995"/>
          <a:stretch/>
        </p:blipFill>
        <p:spPr>
          <a:xfrm>
            <a:off x="430200" y="333360"/>
            <a:ext cx="8713800" cy="597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в мире нефтеперерабатывающий завод был построен в России г.Ухта 174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Картинка 8 из 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213000"/>
            <a:ext cx="543564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нспортировка неф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start"/>
          <p:cNvPicPr/>
          <p:nvPr/>
        </p:nvPicPr>
        <p:blipFill>
          <a:blip r:embed="rId1"/>
          <a:srcRect l="0" t="0" r="5816" b="22451"/>
          <a:stretch/>
        </p:blipFill>
        <p:spPr>
          <a:xfrm>
            <a:off x="0" y="1413000"/>
            <a:ext cx="6192720" cy="3789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5508720" y="3213000"/>
            <a:ext cx="3203640" cy="3143160"/>
          </a:xfrm>
          <a:prstGeom prst="rect">
            <a:avLst/>
          </a:prstGeom>
          <a:solidFill>
            <a:srgbClr val="333399"/>
          </a:solidFill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троительство трубопроводов в 3-5 раз быстрее и дешевле, чем железных дорог. По трубопроводам транспортируется почти вся нефть (97%), природный газ, многие продукты нефтепереработки (20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упные нефтепроводы Росс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нефтепровод"/>
          <p:cNvPicPr/>
          <p:nvPr/>
        </p:nvPicPr>
        <p:blipFill>
          <a:blip r:embed="rId1"/>
          <a:stretch/>
        </p:blipFill>
        <p:spPr>
          <a:xfrm>
            <a:off x="0" y="1550880"/>
            <a:ext cx="8964720" cy="483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Rectangle 5"/>
          <p:cNvSpPr/>
          <p:nvPr/>
        </p:nvSpPr>
        <p:spPr>
          <a:xfrm>
            <a:off x="324720" y="119628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ис.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упнейшие нефтяные компании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значеки нефт компаний"/>
          <p:cNvPicPr/>
          <p:nvPr/>
        </p:nvPicPr>
        <p:blipFill>
          <a:blip r:embed="rId1"/>
          <a:stretch/>
        </p:blipFill>
        <p:spPr>
          <a:xfrm>
            <a:off x="611280" y="1341360"/>
            <a:ext cx="8137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Organization Chart 6"/>
          <p:cNvGrpSpPr/>
          <p:nvPr/>
        </p:nvGrpSpPr>
        <p:grpSpPr>
          <a:xfrm>
            <a:off x="539640" y="620640"/>
            <a:ext cx="8064000" cy="2736000"/>
            <a:chOff x="539640" y="620640"/>
            <a:chExt cx="8064000" cy="2736000"/>
          </a:xfrm>
        </p:grpSpPr>
        <p:cxnSp>
          <p:nvCxnSpPr>
            <p:cNvPr id="43" name="_s1028"/>
            <p:cNvCxnSpPr>
              <a:stCxn id="44" idx="0"/>
              <a:endCxn id="45" idx="2"/>
            </p:cNvCxnSpPr>
            <p:nvPr/>
          </p:nvCxnSpPr>
          <p:spPr>
            <a:xfrm flipV="1" rot="16200000">
              <a:off x="5860440" y="712800"/>
              <a:ext cx="513360" cy="255456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665324"/>
              </a:solidFill>
              <a:miter/>
            </a:ln>
          </p:spPr>
        </p:cxnSp>
        <p:cxnSp>
          <p:nvCxnSpPr>
            <p:cNvPr id="46" name="_s1029"/>
            <p:cNvCxnSpPr>
              <a:stCxn id="47" idx="0"/>
              <a:endCxn id="45" idx="2"/>
            </p:cNvCxnSpPr>
            <p:nvPr/>
          </p:nvCxnSpPr>
          <p:spPr>
            <a:xfrm flipH="1" flipV="1" rot="5400000">
              <a:off x="4449240" y="1855800"/>
              <a:ext cx="513360" cy="26928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665324"/>
              </a:solidFill>
              <a:miter/>
            </a:ln>
          </p:spPr>
        </p:cxnSp>
        <p:cxnSp>
          <p:nvCxnSpPr>
            <p:cNvPr id="48" name="_s1030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3038040" y="444600"/>
              <a:ext cx="513360" cy="309168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665324"/>
              </a:solidFill>
              <a:miter/>
            </a:ln>
          </p:spPr>
        </p:cxnSp>
        <p:sp>
          <p:nvSpPr>
            <p:cNvPr id="45" name="_s1031"/>
            <p:cNvSpPr/>
            <p:nvPr/>
          </p:nvSpPr>
          <p:spPr>
            <a:xfrm>
              <a:off x="2768400" y="620640"/>
              <a:ext cx="4138200" cy="1094400"/>
            </a:xfrm>
            <a:prstGeom prst="roundRect">
              <a:avLst>
                <a:gd name="adj" fmla="val 16667"/>
              </a:avLst>
            </a:prstGeom>
            <a:solidFill>
              <a:srgbClr val="ffe39d"/>
            </a:solidFill>
            <a:ln w="38160">
              <a:solidFill>
                <a:srgbClr val="665324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Состав нефтяно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промышленност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2"/>
            <p:cNvSpPr/>
            <p:nvPr/>
          </p:nvSpPr>
          <p:spPr>
            <a:xfrm>
              <a:off x="539640" y="2262240"/>
              <a:ext cx="2419200" cy="1094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665324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Разведка и добыч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нефти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3362040" y="2262240"/>
              <a:ext cx="2419200" cy="1094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665324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Переработк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нефти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1034"/>
            <p:cNvSpPr/>
            <p:nvPr/>
          </p:nvSpPr>
          <p:spPr>
            <a:xfrm>
              <a:off x="6184440" y="2262240"/>
              <a:ext cx="2419200" cy="1094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665324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Транспортировк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нефт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21" descr="96180485"/>
          <p:cNvPicPr/>
          <p:nvPr/>
        </p:nvPicPr>
        <p:blipFill>
          <a:blip r:embed="rId1"/>
          <a:stretch/>
        </p:blipFill>
        <p:spPr>
          <a:xfrm>
            <a:off x="468360" y="3978360"/>
            <a:ext cx="2031840" cy="2879640"/>
          </a:xfrm>
          <a:prstGeom prst="rect">
            <a:avLst/>
          </a:prstGeom>
          <a:ln w="9360">
            <a:solidFill>
              <a:srgbClr val="dedad4"/>
            </a:solidFill>
            <a:miter/>
          </a:ln>
        </p:spPr>
      </p:pic>
      <p:pic>
        <p:nvPicPr>
          <p:cNvPr id="51" name="Picture 18" descr="tseh4[1]"/>
          <p:cNvPicPr/>
          <p:nvPr/>
        </p:nvPicPr>
        <p:blipFill>
          <a:blip r:embed="rId2"/>
          <a:srcRect l="0" t="0" r="7660" b="0"/>
          <a:stretch/>
        </p:blipFill>
        <p:spPr>
          <a:xfrm>
            <a:off x="3924360" y="3357720"/>
            <a:ext cx="1781280" cy="292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нефтепровод"/>
          <p:cNvPicPr/>
          <p:nvPr/>
        </p:nvPicPr>
        <p:blipFill>
          <a:blip r:embed="rId3"/>
          <a:srcRect l="0" t="5784" r="0" b="0"/>
          <a:stretch/>
        </p:blipFill>
        <p:spPr>
          <a:xfrm>
            <a:off x="6084720" y="3500280"/>
            <a:ext cx="2735280" cy="18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ография нефтяных баз Росси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нефтяной запас россии"/>
          <p:cNvPicPr/>
          <p:nvPr/>
        </p:nvPicPr>
        <p:blipFill>
          <a:blip r:embed="rId1"/>
          <a:srcRect l="0" t="8110" r="0" b="0"/>
          <a:stretch/>
        </p:blipFill>
        <p:spPr>
          <a:xfrm>
            <a:off x="179280" y="1268280"/>
            <a:ext cx="8640720" cy="42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общен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стика нефтяной базы Ро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1-я группа -Западно-Сибирская баз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2-я группа Волго-Уральская б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3-я группа - Тимано – Печерская баз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99"/>
                </a:solidFill>
                <a:uFillTx/>
                <a:latin typeface="Arial"/>
              </a:rPr>
              <a:t>План характеристи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ческое поло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убина добы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я в общей добыче по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чество неф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место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ия 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о-экономические проблемы и перспективы развития нефтяной б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Западно-Сибирская нефтяная б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79280" y="1484280"/>
            <a:ext cx="4608720" cy="50403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900000" y="2276640"/>
            <a:ext cx="32403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Географическое полож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пределах Западно-Сибирской равнины на территории Тюмен-ской, Омской, Курганск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омской и частично Свердлов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й, Челябинской, Новосибир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й областей, Красноярског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тайского краев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Times New Roman"/>
              </a:rPr>
              <a:t>Добыва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0% российской неф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Основные месторожде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тлор, Мегион, Усть-Балык, Шаим, Стрежев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го-Уральская ба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79280" y="1341360"/>
            <a:ext cx="5616720" cy="5516640"/>
          </a:xfrm>
          <a:custGeom>
            <a:avLst/>
            <a:gdLst>
              <a:gd name="textAreaLeft" fmla="*/ 702000 w 5616720"/>
              <a:gd name="textAreaRight" fmla="*/ 4914720 w 5616720"/>
              <a:gd name="textAreaTop" fmla="*/ 375480 h 5516640"/>
              <a:gd name="textAreaBottom" fmla="*/ 4827240 h 5516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1471"/>
                </a:lnTo>
                <a:arcTo wR="21600" hR="20153" stAng="-3993615" swAng="498571"/>
                <a:lnTo>
                  <a:pt x="18900" y="1092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95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0921"/>
                </a:lnTo>
                <a:close/>
              </a:path>
              <a:path fill="none" w="21600" h="21600">
                <a:moveTo>
                  <a:pt x="5400" y="195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95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1471"/>
                </a:moveTo>
                <a:lnTo>
                  <a:pt x="2700" y="20371"/>
                </a:lnTo>
              </a:path>
              <a:path fill="none" w="21600" h="21600">
                <a:moveTo>
                  <a:pt x="18900" y="1471"/>
                </a:moveTo>
                <a:lnTo>
                  <a:pt x="18900" y="2037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26920" y="1628640"/>
            <a:ext cx="424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Географическое положение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оложена в восточной части Евро-пейской территории, в пределах республик Татарстан, Башкортостан, Удмуртия, Пермской, Оренбургской, Саратовской, Волго-градской, Кировской и Ульяновской областе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Добывается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3% российской нефти. </a:t>
            </a:r>
            <a:r>
              <a:rPr b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Основные месторождения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машкинское, Орловское, Елабужское, Нурлатское, Арланское, Кушкульское, Менеузовское, Четырманское, Мишкинское, Осинское 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мано-Печёрская  ба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79280" y="1557360"/>
            <a:ext cx="4680000" cy="511164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39640" y="2637000"/>
            <a:ext cx="3816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Географическое положение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оложена в пределах Коми, Ненецкого автономного округа Архангельской области и частично на прилегающих территориях. </a:t>
            </a:r>
            <a:r>
              <a:rPr b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Добыва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% российской нефти. </a:t>
            </a:r>
            <a:r>
              <a:rPr b="1" lang="ru-RU" sz="1800" spc="-1" strike="noStrike" u="sng">
                <a:solidFill>
                  <a:srgbClr val="990000"/>
                </a:solidFill>
                <a:uFillTx/>
                <a:latin typeface="Times New Roman"/>
              </a:rPr>
              <a:t>Основные месторождения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инское, Верхнегруеторское, Памгня, Ярега, Нижняя Омра, Водейско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2" descr="Разлив нефти. Архив http://www.2000.net.ua"/>
          <p:cNvPicPr/>
          <p:nvPr/>
        </p:nvPicPr>
        <p:blipFill>
          <a:blip r:embed="rId1"/>
          <a:stretch/>
        </p:blipFill>
        <p:spPr>
          <a:xfrm>
            <a:off x="0" y="0"/>
            <a:ext cx="5076720" cy="3789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грязь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горит нефть"/>
          <p:cNvPicPr/>
          <p:nvPr/>
        </p:nvPicPr>
        <p:blipFill>
          <a:blip r:embed="rId3"/>
          <a:stretch/>
        </p:blipFill>
        <p:spPr>
          <a:xfrm>
            <a:off x="0" y="3789360"/>
            <a:ext cx="4140360" cy="3068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Экологическ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 rot="21224400">
            <a:off x="1905120" y="1810800"/>
            <a:ext cx="5011560" cy="3313440"/>
          </a:xfrm>
          <a:custGeom>
            <a:avLst/>
            <a:gdLst>
              <a:gd name="textAreaLeft" fmla="*/ 0 w 5011560"/>
              <a:gd name="textAreaRight" fmla="*/ 5011920 w 5011560"/>
              <a:gd name="textAreaTop" fmla="*/ 429480 h 3313440"/>
              <a:gd name="textAreaBottom" fmla="*/ 2883960 h 3313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333399"/>
          </a:solidFill>
          <a:ln cap="rnd" w="2844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Экологические рис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мировых запасах горючих ископае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ефть составляет 10%, а уголь - 70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то время как их потребление, наоборо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ставляет 70% нефти и 10% уг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 сутки потребляется столько топли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олько природа может синтез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 тысячелетие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же называется нефтью, каковы причины её образова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91960" y="1699200"/>
            <a:ext cx="358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ий элементарный состав неф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2276640"/>
          <a:ext cx="3743280" cy="3381120"/>
        </p:xfrm>
        <a:graphic>
          <a:graphicData uri="http://schemas.openxmlformats.org/drawingml/2006/table">
            <a:tbl>
              <a:tblPr/>
              <a:tblGrid>
                <a:gridCol w="2638440"/>
                <a:gridCol w="1104840"/>
              </a:tblGrid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ческая м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гле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о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слород, аз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- 0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-0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надий, никель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86"/>
          <p:cNvSpPr/>
          <p:nvPr/>
        </p:nvSpPr>
        <p:spPr>
          <a:xfrm>
            <a:off x="179280" y="5877000"/>
            <a:ext cx="50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ефти встречаются углеводороды сложного строения: половые гормоны, холестер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Organization Chart 88"/>
          <p:cNvGrpSpPr/>
          <p:nvPr/>
        </p:nvGrpSpPr>
        <p:grpSpPr>
          <a:xfrm>
            <a:off x="5248440" y="1700280"/>
            <a:ext cx="3715560" cy="4983120"/>
            <a:chOff x="5248440" y="1700280"/>
            <a:chExt cx="3715560" cy="4983120"/>
          </a:xfrm>
        </p:grpSpPr>
        <p:cxnSp>
          <p:nvCxnSpPr>
            <p:cNvPr id="58" name="_s2052"/>
            <p:cNvCxnSpPr>
              <a:stCxn id="59" idx="0"/>
              <a:endCxn id="60" idx="2"/>
            </p:cNvCxnSpPr>
            <p:nvPr/>
          </p:nvCxnSpPr>
          <p:spPr>
            <a:xfrm flipV="1" rot="16200000">
              <a:off x="6906600" y="5236920"/>
              <a:ext cx="269280" cy="1152720"/>
            </a:xfrm>
            <a:prstGeom prst="bentConnector3">
              <a:avLst>
                <a:gd name="adj1" fmla="val 4257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1" name="_s2053"/>
            <p:cNvCxnSpPr>
              <a:stCxn id="62" idx="0"/>
              <a:endCxn id="63" idx="2"/>
            </p:cNvCxnSpPr>
            <p:nvPr/>
          </p:nvCxnSpPr>
          <p:spPr>
            <a:xfrm flipV="1" rot="16200000">
              <a:off x="6940800" y="3112920"/>
              <a:ext cx="394920" cy="1203840"/>
            </a:xfrm>
            <a:prstGeom prst="bentConnector3">
              <a:avLst>
                <a:gd name="adj1" fmla="val 2883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4" name="_s2054"/>
            <p:cNvCxnSpPr>
              <a:stCxn id="60" idx="1"/>
              <a:endCxn id="65" idx="2"/>
            </p:cNvCxnSpPr>
            <p:nvPr/>
          </p:nvCxnSpPr>
          <p:spPr>
            <a:xfrm flipH="1" rot="10800000">
              <a:off x="5362560" y="2436840"/>
              <a:ext cx="1402920" cy="2873520"/>
            </a:xfrm>
            <a:prstGeom prst="bentConnector4">
              <a:avLst>
                <a:gd name="adj1" fmla="val -8136"/>
                <a:gd name="adj2" fmla="val 5645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6" name="_s2055"/>
            <p:cNvCxnSpPr>
              <a:stCxn id="63" idx="1"/>
              <a:endCxn id="65" idx="2"/>
            </p:cNvCxnSpPr>
            <p:nvPr/>
          </p:nvCxnSpPr>
          <p:spPr>
            <a:xfrm flipH="1" rot="10800000">
              <a:off x="5434200" y="2436840"/>
              <a:ext cx="1330920" cy="714960"/>
            </a:xfrm>
            <a:prstGeom prst="bentConnector4">
              <a:avLst>
                <a:gd name="adj1" fmla="val -8576"/>
                <a:gd name="adj2" fmla="val 7591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65" name="_s2056"/>
            <p:cNvSpPr/>
            <p:nvPr/>
          </p:nvSpPr>
          <p:spPr>
            <a:xfrm>
              <a:off x="5292720" y="1700280"/>
              <a:ext cx="2949840" cy="737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Теории происхожд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неф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057"/>
            <p:cNvSpPr/>
            <p:nvPr/>
          </p:nvSpPr>
          <p:spPr>
            <a:xfrm>
              <a:off x="5435280" y="2781000"/>
              <a:ext cx="2202840" cy="737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Органическ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происхожд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2058"/>
            <p:cNvSpPr/>
            <p:nvPr/>
          </p:nvSpPr>
          <p:spPr>
            <a:xfrm>
              <a:off x="5363640" y="4941720"/>
              <a:ext cx="2202840" cy="737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Неорганическ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происхожд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2059"/>
            <p:cNvSpPr/>
            <p:nvPr/>
          </p:nvSpPr>
          <p:spPr>
            <a:xfrm>
              <a:off x="6516000" y="3912840"/>
              <a:ext cx="2448000" cy="734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Нефть произошла на основ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тмирания мельчайш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рганизм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060"/>
            <p:cNvSpPr/>
            <p:nvPr/>
          </p:nvSpPr>
          <p:spPr>
            <a:xfrm>
              <a:off x="6299280" y="5948280"/>
              <a:ext cx="2636640" cy="7351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Нефть образуется на основ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арбидов металл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ля чего она применяе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900000" y="3645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0" y="1484280"/>
            <a:ext cx="4248000" cy="216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ыром виде нефть практ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используется из-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ё высокой взрыво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Diagram 7"/>
          <p:cNvGrpSpPr/>
          <p:nvPr/>
        </p:nvGrpSpPr>
        <p:grpSpPr>
          <a:xfrm>
            <a:off x="3483720" y="1706760"/>
            <a:ext cx="5184360" cy="4740840"/>
            <a:chOff x="3483720" y="1706760"/>
            <a:chExt cx="5184360" cy="4740840"/>
          </a:xfrm>
        </p:grpSpPr>
        <p:sp>
          <p:nvSpPr>
            <p:cNvPr id="71" name="_s3076"/>
            <p:cNvSpPr/>
            <p:nvPr/>
          </p:nvSpPr>
          <p:spPr>
            <a:xfrm flipV="1">
              <a:off x="3483720" y="5657040"/>
              <a:ext cx="5184360" cy="790200"/>
            </a:xfrm>
            <a:custGeom>
              <a:avLst/>
              <a:gdLst>
                <a:gd name="textAreaLeft" fmla="*/ 659880 w 5184360"/>
                <a:gd name="textAreaRight" fmla="*/ 4524480 w 5184360"/>
                <a:gd name="textAreaTop" fmla="*/ 100440 h 790200"/>
                <a:gd name="textAreaBottom" fmla="*/ 689760 h 79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соединения, служащие сырьём для производ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пластмассы, химических волокон и т.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077"/>
            <p:cNvSpPr/>
            <p:nvPr/>
          </p:nvSpPr>
          <p:spPr>
            <a:xfrm flipV="1">
              <a:off x="3915000" y="4867920"/>
              <a:ext cx="4322160" cy="789840"/>
            </a:xfrm>
            <a:custGeom>
              <a:avLst/>
              <a:gdLst>
                <a:gd name="textAreaLeft" fmla="*/ 590040 w 4322160"/>
                <a:gd name="textAreaRight" fmla="*/ 3732120 w 4322160"/>
                <a:gd name="textAreaTop" fmla="*/ 107640 h 789840"/>
                <a:gd name="textAreaBottom" fmla="*/ 682200 h 78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мазу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078"/>
            <p:cNvSpPr/>
            <p:nvPr/>
          </p:nvSpPr>
          <p:spPr>
            <a:xfrm flipV="1">
              <a:off x="4348440" y="4077000"/>
              <a:ext cx="3455280" cy="790200"/>
            </a:xfrm>
            <a:custGeom>
              <a:avLst/>
              <a:gdLst>
                <a:gd name="textAreaLeft" fmla="*/ 519840 w 3455280"/>
                <a:gd name="textAreaRight" fmla="*/ 2935440 w 3455280"/>
                <a:gd name="textAreaTop" fmla="*/ 118800 h 790200"/>
                <a:gd name="textAreaBottom" fmla="*/ 671400 h 79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соля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079"/>
            <p:cNvSpPr/>
            <p:nvPr/>
          </p:nvSpPr>
          <p:spPr>
            <a:xfrm flipV="1">
              <a:off x="4780080" y="3286440"/>
              <a:ext cx="2592000" cy="790200"/>
            </a:xfrm>
            <a:custGeom>
              <a:avLst/>
              <a:gdLst>
                <a:gd name="textAreaLeft" fmla="*/ 450000 w 2592000"/>
                <a:gd name="textAreaRight" fmla="*/ 2142000 w 2592000"/>
                <a:gd name="textAreaTop" fmla="*/ 137160 h 790200"/>
                <a:gd name="textAreaBottom" fmla="*/ 653040 h 79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ероси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080"/>
            <p:cNvSpPr/>
            <p:nvPr/>
          </p:nvSpPr>
          <p:spPr>
            <a:xfrm flipV="1">
              <a:off x="5211000" y="2497320"/>
              <a:ext cx="1729800" cy="789840"/>
            </a:xfrm>
            <a:custGeom>
              <a:avLst/>
              <a:gdLst>
                <a:gd name="textAreaLeft" fmla="*/ 380160 w 1729800"/>
                <a:gd name="textAreaRight" fmla="*/ 1349640 w 1729800"/>
                <a:gd name="textAreaTop" fmla="*/ 173520 h 789840"/>
                <a:gd name="textAreaBottom" fmla="*/ 616320 h 78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бензи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3081"/>
            <p:cNvSpPr/>
            <p:nvPr/>
          </p:nvSpPr>
          <p:spPr>
            <a:xfrm flipV="1">
              <a:off x="5644440" y="1706400"/>
              <a:ext cx="862920" cy="790200"/>
            </a:xfrm>
            <a:custGeom>
              <a:avLst/>
              <a:gdLst>
                <a:gd name="textAreaLeft" fmla="*/ 309600 w 862920"/>
                <a:gd name="textAreaRight" fmla="*/ 553320 w 862920"/>
                <a:gd name="textAreaTop" fmla="*/ 283320 h 790200"/>
                <a:gd name="textAreaBottom" fmla="*/ 506880 h 79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Продук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переработ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нефт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7" descr="Рисунок1"/>
          <p:cNvPicPr/>
          <p:nvPr/>
        </p:nvPicPr>
        <p:blipFill>
          <a:blip r:embed="rId7"/>
          <a:srcRect l="0" t="0" r="0" b="6763"/>
          <a:stretch/>
        </p:blipFill>
        <p:spPr>
          <a:xfrm>
            <a:off x="395280" y="3933720"/>
            <a:ext cx="2735280" cy="232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611280" y="620640"/>
            <a:ext cx="77770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0000"/>
                </a:solidFill>
                <a:uFillTx/>
                <a:latin typeface="Times New Roman"/>
              </a:rPr>
              <a:t>Знаете ли вы</a:t>
            </a:r>
            <a:r>
              <a:rPr b="0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что, используя лишь 1 мг нефти можно нагреть на один градус целое ведро воды, а для того чтобы нагреть ведерный самовар нужно менее половины стакана неф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осторожно нефть"/>
          <p:cNvPicPr/>
          <p:nvPr/>
        </p:nvPicPr>
        <p:blipFill>
          <a:blip r:embed="rId1"/>
          <a:stretch/>
        </p:blipFill>
        <p:spPr>
          <a:xfrm>
            <a:off x="2195640" y="3645000"/>
            <a:ext cx="3816360" cy="28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во же значение  нефтяной промышленности в экономике Росс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11280" y="1808280"/>
          <a:ext cx="7993080" cy="4297320"/>
        </p:xfrm>
        <a:graphic>
          <a:graphicData uri="http://schemas.openxmlformats.org/drawingml/2006/table">
            <a:tbl>
              <a:tblPr/>
              <a:tblGrid>
                <a:gridCol w="4681440"/>
                <a:gridCol w="3311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траслевая структура хозяйства Росс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ля отрасли в общем объёме производ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Электроэнерг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,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опливная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,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Чёрная металлур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ветная металлур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,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имическая промышлен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ёгкая 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ашиностроение 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.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есная 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ищевая 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ч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ва доля нефти в экспорте топливно-энергетических товар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688000" cy="3595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611640" y="15566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ис.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фтяная промышленность является поставщиком значительной части валют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257800" cy="4319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50920" y="2133720"/>
            <a:ext cx="1619280" cy="1554120"/>
          </a:xfrm>
          <a:prstGeom prst="rect">
            <a:avLst/>
          </a:prstGeom>
          <a:solidFill>
            <a:srgbClr val="333399"/>
          </a:solid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редняя себестоимость добычи нефти составляет 7 долларов за барр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6948360" y="386064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7093080" y="4282920"/>
            <a:ext cx="1871640" cy="2527560"/>
          </a:xfrm>
          <a:prstGeom prst="rect">
            <a:avLst/>
          </a:prstGeom>
          <a:solidFill>
            <a:srgbClr val="bbe0e3"/>
          </a:solidFill>
          <a:ln cap="rnd" w="3816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оимо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 барреля нефти входит не только  цена 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ыч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оплива, но и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работ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ефти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став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о потребителя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пошл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ыча неф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1557360"/>
          <a:ext cx="3529080" cy="3475080"/>
        </p:xfrm>
        <a:graphic>
          <a:graphicData uri="http://schemas.openxmlformats.org/drawingml/2006/table">
            <a:tbl>
              <a:tblPr/>
              <a:tblGrid>
                <a:gridCol w="1895400"/>
                <a:gridCol w="163368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ны, обладающие крупными запаса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неф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веданные запас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млрд. 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удовская Ара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р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вей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А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80"/>
          <p:cNvSpPr/>
          <p:nvPr/>
        </p:nvSpPr>
        <p:spPr>
          <a:xfrm>
            <a:off x="0" y="378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00720" y="1557360"/>
          <a:ext cx="3887640" cy="3240000"/>
        </p:xfrm>
        <a:graphic>
          <a:graphicData uri="http://schemas.openxmlformats.org/drawingml/2006/table">
            <a:tbl>
              <a:tblPr/>
              <a:tblGrid>
                <a:gridCol w="2214360"/>
                <a:gridCol w="1673280"/>
              </a:tblGrid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быча нефти в странах 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быча в млн. 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удовская Ара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р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кс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52:57Z</dcterms:created>
  <dc:creator>Customer</dc:creator>
  <dc:description/>
  <dc:language>en-US</dc:language>
  <cp:lastModifiedBy>1</cp:lastModifiedBy>
  <dcterms:modified xsi:type="dcterms:W3CDTF">2013-11-09T19:12:37Z</dcterms:modified>
  <cp:revision>3</cp:revision>
  <dc:subject/>
  <dc:title>Слайд 1</dc:title>
</cp:coreProperties>
</file>