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3E6F-4EC2-467E-AAB6-F0DEB060DD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LCDNovaObl"/>
            </a:endParaRPr>
          </a:p>
        </p:txBody>
      </p:sp>
      <p:sp>
        <p:nvSpPr>
          <p:cNvPr id="3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01FF-6326-4ABB-BE67-82E161DD62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8F56-303A-4B6B-9166-CC5D161C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4FBF-F027-4D13-B3F3-01FED61E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54B6-6750-46C1-BE4F-F8918E78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EFD9-15E9-4D6D-BA92-ACDBBFBC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834E-0B45-466D-B0B3-C9DB4C28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0383-6399-438A-8772-B57EA305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D479-70B1-46B4-9EF4-8DBF2318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4545-3643-4613-8F9E-F61B9212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5574-611D-4DD4-8154-0BFFCBD4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D934-2950-49C6-9088-7D0E0D8D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AA4B-2D28-4B5F-A726-3FC021CD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5A29-9C6A-45B3-A29C-2546F824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029C-4366-49EA-9648-92E8BC0D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07AD-4390-4996-B693-B343DC09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3CB1-D8DD-4EA9-8D7C-A3D12FD8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A609-EF39-491A-AED2-0EEAC739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4A73-2E61-42E1-9C1D-6FB6571D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C15B5-BC64-43AB-AD5D-04282127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C49CF-D4BE-4362-85B1-9F2CC1E7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FC70A-901E-4D48-8E1E-9D302AB7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407FE-7175-4B17-B464-DAD790D2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CF89C-B5DE-44D2-BDCF-E5B62D05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69ED-E6E8-43FE-AE30-9FB49058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9156D-BE2B-4210-B8D0-C720A3B0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B9EA5-74B5-4EA9-AE96-EC1F6B6F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9451B-0B39-4A84-9B5F-F40382DC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E1136-DF76-4E14-8E76-F99E038D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F68A7-FE05-4824-8E1F-5A1F9F9A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780A8-327B-499B-A0AB-AA15D08D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4DBE5-D6B3-4241-86BE-0324D0C6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55F6F-F1C0-4799-9E83-55F0D83B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160D4-3A6B-4C6B-86E4-9BEE4F58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25FAC-0D6B-4EE2-95D4-00A06546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D123-AC49-4205-9921-86E2608D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BC00F-5818-4684-93AC-2E9EED77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AD6F8-FFF6-4D0C-8903-95C9F20A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ED0D5-06F2-445F-8D15-39D596C7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256E7-52BD-448D-99AF-450DA5A3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39CCB-4B4F-452F-977F-57CCF839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7DE1D-6B0E-451D-9A67-CC0B97C0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94F21-FD03-49D7-965E-0B02E1F6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1A8A5-FECC-4C1A-A664-8F388CD1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83CDD-AD49-4487-AFF7-69AABE14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8E8DC-71AA-43EB-83C9-7C8A2EA3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7CE5-75D5-475D-A27E-64044B45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9DF46-B479-4599-9DD9-CB01AA49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1EF2A-6AE9-4932-A15A-72DDA949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58437-A8A0-492E-B519-0D97239F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1BF9A-89F4-435B-848F-767DB264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4CCE8-B380-4DAC-949C-6E41AAB1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F603B-08C0-4DA8-A166-C27C2B86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237EB-A280-4A03-99D2-743A764A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6078D-96C3-4165-A999-CB26CA3D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C076C-793E-41E7-8804-F63D2270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17B0D-7B19-4A2B-A17F-600AB4C0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004C-3773-4E9B-8FC5-4E7F2CCA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30A3A-5E2C-41B8-9891-A2B4D8BA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EFD18-50D1-4817-9058-6970F5DC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27D0E-5800-4C2F-842A-29608C0B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8D4CC-AD14-4BAF-96E7-0B4280B8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9B3EE-2162-4931-BF7B-4848DC29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D67FE-7DB2-4BF6-A86D-202EDE22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1F508-6AC0-4C0D-83E9-1CBB0E7B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692D3-3FC1-4CC8-A4B2-F08B4853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6CF47-5F40-45FE-8952-69069A31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2A466-3943-4F09-95CC-32DD9A3A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23E3-C20A-4B9A-8FDB-BF899F62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F72D3-BCB3-4D4E-8DBC-D61D03E0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42D35-F32D-43FD-A089-0086A983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408BF-65ED-46A3-AA04-0D37C5E3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C9F7A-44C8-4BCA-9FF8-68EDBCEF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07421-B836-4677-8D9C-5F1865D4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658B0-5888-41DD-B869-53A1974C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1A6B5-E96B-4B4F-8249-31C717E9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5711B-0128-44AE-A63B-6B259A2C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E8C0E-1C38-43E6-AD95-1F13FAFC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6175D-01FC-400A-83B8-8FAA4A0E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C75D-1B4C-405A-8F2C-71966F36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F14BF-74B5-4C14-9531-34E7C7C8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1D8D8-DD4C-40F5-8E67-CD9DA186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1AD4E-C15B-47FE-BDAA-C8F070DF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9C925-CC08-49C3-9BCC-163EB177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036A7-560C-4E01-B661-39509A3B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D90F-19DE-4B5A-B748-64B3806E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C7D8-433E-456F-893B-984E0B5EBBC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6867-CBBF-4BE1-B04A-D16CA63F289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6DEF-E947-4E30-900B-A2A4D0F6D9D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6A17-CA43-4FE5-8FEC-30886B94127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CFE8-CCED-4073-80DF-C363348B772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0AD2-5170-435C-BEC6-81AAB9B57D1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19F5-5A23-4E21-9939-DF8D0A02ADD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5;&#1086;&#1077;&#1082;&#1090;%20&#1043;&#1091;&#1089;&#1077;&#1074;&#1072;" TargetMode="External"/><Relationship Id="rId3" Type="http://schemas.openxmlformats.org/officeDocument/2006/relationships/hyperlink" Target="file:///&#1055;&#1086;&#1077;&#1082;&#1090;%20&#1043;&#1091;&#1089;&#1077;&#1074;&#1072;" TargetMode="External"/><Relationship Id="rId4" Type="http://schemas.openxmlformats.org/officeDocument/2006/relationships/hyperlink" Target="file:///&#1055;&#1086;&#1077;&#1082;&#1090;%20&#1043;&#1091;&#1089;&#1077;&#1074;&#1072;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-360"/>
            <a:ext cx="740700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b0f0"/>
                </a:solidFill>
                <a:latin typeface="Corbel"/>
              </a:rPr>
              <a:t>Творческий проект по технологии</a:t>
            </a:r>
            <a:br>
              <a:rPr sz="3200"/>
            </a:br>
            <a:r>
              <a:rPr b="1" i="1" lang="en-US" sz="3200" spc="-1" strike="noStrike">
                <a:solidFill>
                  <a:srgbClr val="00b0f0"/>
                </a:solidFill>
                <a:latin typeface="Corbel"/>
              </a:rPr>
              <a:t>«Петушок и Лодочка»</a:t>
            </a:r>
            <a:br>
              <a:rPr sz="24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rbel"/>
              </a:rPr>
              <a:t>Выполнили:  бригада 9 «б» класс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rbel"/>
              </a:rPr>
              <a:t>Бригадир - Лашичева Полина и Гусева Кристи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rbel"/>
              </a:rPr>
              <a:t>            </a:t>
            </a:r>
            <a:r>
              <a:rPr b="1" lang="en-US" sz="2400" spc="-1" strike="noStrike">
                <a:solidFill>
                  <a:srgbClr val="00b0f0"/>
                </a:solidFill>
                <a:latin typeface="Corbel"/>
              </a:rPr>
              <a:t>Руководитель - учитель технологии  Иванова Н. 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Rectangle 1"/>
          <p:cNvSpPr/>
          <p:nvPr/>
        </p:nvSpPr>
        <p:spPr>
          <a:xfrm>
            <a:off x="3348000" y="609372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Arial"/>
                <a:ea typeface="Calibri"/>
              </a:rPr>
              <a:t>г. Данилов, 201</a:t>
            </a:r>
            <a:r>
              <a:rPr b="0" lang="ru-RU" sz="1800" spc="-1" strike="noStrike">
                <a:solidFill>
                  <a:srgbClr val="00b0f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b0f0"/>
                </a:solidFill>
                <a:latin typeface="Arial"/>
                <a:ea typeface="Calibri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Picture 2" descr="закуска"/>
          <p:cNvPicPr/>
          <p:nvPr/>
        </p:nvPicPr>
        <p:blipFill>
          <a:blip r:embed="rId2"/>
          <a:stretch/>
        </p:blipFill>
        <p:spPr>
          <a:xfrm>
            <a:off x="1403280" y="1557360"/>
            <a:ext cx="2881440" cy="240804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2" descr="C:\Documents and Settings\Татьяна\Рабочий стол\проект кулинария\картинки салатов\петушок.jpeg"/>
          <p:cNvPicPr/>
          <p:nvPr/>
        </p:nvPicPr>
        <p:blipFill>
          <a:blip r:embed="rId3"/>
          <a:stretch/>
        </p:blipFill>
        <p:spPr>
          <a:xfrm>
            <a:off x="5292720" y="1484280"/>
            <a:ext cx="3183120" cy="25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434960" y="-360"/>
            <a:ext cx="74995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Как варить макарон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Как варить ри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Corbel"/>
                <a:hlinkClick r:id="rId4"/>
              </a:rPr>
              <a:t>Рецепты салатов</a:t>
            </a:r>
            <a:r>
              <a:rPr b="1" lang="en-US" sz="3200" spc="-1" strike="noStrike">
                <a:solidFill>
                  <a:srgbClr val="00b0f0"/>
                </a:solidFill>
                <a:latin typeface="Corbe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891a7"/>
                </a:solidFill>
                <a:latin typeface="Arial Black"/>
              </a:rPr>
              <a:t>Салат из фасоли и ветчин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891a7"/>
                </a:solidFill>
                <a:latin typeface="Arial Black"/>
              </a:rPr>
              <a:t>Испанский рисовый сала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lnSpc>
                <a:spcPct val="100000"/>
              </a:lnSpc>
              <a:spcBef>
                <a:spcPts val="2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891a7"/>
                </a:solidFill>
                <a:latin typeface="Arial Black"/>
              </a:rPr>
              <a:t>Салат    из   риса  и   укропа</a:t>
            </a:r>
            <a:r>
              <a:rPr b="1" i="1" lang="en-US" sz="1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>
            <a:off x="1692360" y="3357720"/>
            <a:ext cx="2663640" cy="20160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219640" y="393372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85016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rbel"/>
              </a:rPr>
              <a:t>Инструкционная карта к салату «Лодочки»</a:t>
            </a:r>
            <a:br>
              <a:rPr sz="29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252080" y="764640"/>
            <a:ext cx="789156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91960" indent="-226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1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Лук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                                               2.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Яиц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                   3.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Рис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↓                                                                             ↓                                             ↓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rbel"/>
              </a:rPr>
              <a:t>Очистить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.                                                         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rbel"/>
              </a:rPr>
              <a:t>Отварить.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       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rbel"/>
              </a:rPr>
              <a:t>Отварить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↓                                                                             ↓                                             ↓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rbel"/>
              </a:rPr>
              <a:t>Нарезать мелкими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                              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rbel"/>
              </a:rPr>
              <a:t>Очистить.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        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rbel"/>
              </a:rPr>
              <a:t>Промыть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rbel"/>
              </a:rPr>
              <a:t>кубиками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.                                                                    ↓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rbel"/>
              </a:rPr>
              <a:t>Отделить желток от белка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                      ↓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rbel"/>
              </a:rPr>
              <a:t>Белок мелко нарезать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Ингредиенты салата  положить в миску и заправить майонезо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rbel"/>
              </a:rPr>
              <a:t>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4.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rbel"/>
              </a:rPr>
              <a:t>Открыть кукурузу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,                             5.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rbel"/>
              </a:rPr>
              <a:t>Крабовые палочки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                                  ↓                                                                              ↓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                     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rbel"/>
              </a:rPr>
              <a:t>слить воду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                           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rbel"/>
              </a:rPr>
              <a:t>мелко нарезать  кубиками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В тарелочки из помидор выложить салат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rbel"/>
              </a:rPr>
              <a:t>Помидоры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rbel"/>
              </a:rPr>
              <a:t> вымыть,    разрезать на 2 части,    вычистить мякоть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219640" y="609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Picture 2" descr="закуска"/>
          <p:cNvPicPr/>
          <p:nvPr/>
        </p:nvPicPr>
        <p:blipFill>
          <a:blip r:embed="rId2"/>
          <a:stretch/>
        </p:blipFill>
        <p:spPr>
          <a:xfrm>
            <a:off x="0" y="4734000"/>
            <a:ext cx="2268360" cy="2124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891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rbel"/>
              </a:rPr>
              <a:t>Инструкционная карта салата «Петушок»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71280" y="765000"/>
            <a:ext cx="7962840" cy="548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1) курица                 2) макароны            3)яйцо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                                                   ↓                                                                   ↓                                                           ↓ 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промыть                                                    отварить                                          отварить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                                                   ↓                                                                  ↓                                                            ↓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отварить до готовности                           промыть                                              остудить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Всё перемешать и  заправить майонезом</a:t>
            </a:r>
            <a:r>
              <a:rPr b="1" i="1" lang="ru-RU" sz="14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Украшен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ыложить макароны с курицей, заправленные майонезом  на тарелку, в виде гнезда, сверху уложить оформленное яйцо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арёное яйцо оформить в виде петушка: гребешок – из болгарского красного перца, хвост и клюв  - из болгарского желтого перца, глаза - из чёрного перц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ольки помидор разложить веером вокруг макарон, по краю украсив капельками майонез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красить салат зеленью петрушк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8" name="Рисунок 2" descr="C:\Documents and Settings\Татьяна\Рабочий стол\проект кулинария\картинки салатов\петушок.jpeg"/>
          <p:cNvPicPr/>
          <p:nvPr/>
        </p:nvPicPr>
        <p:blipFill>
          <a:blip r:embed="rId2"/>
          <a:stretch/>
        </p:blipFill>
        <p:spPr>
          <a:xfrm>
            <a:off x="0" y="1700280"/>
            <a:ext cx="2268360" cy="2100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Corbel"/>
              </a:rPr>
              <a:t>Себестоимость салата «Лодочки»</a:t>
            </a: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547640" y="1428840"/>
          <a:ext cx="7056360" cy="4160520"/>
        </p:xfrm>
        <a:graphic>
          <a:graphicData uri="http://schemas.openxmlformats.org/drawingml/2006/table">
            <a:tbl>
              <a:tblPr/>
              <a:tblGrid>
                <a:gridCol w="1764360"/>
                <a:gridCol w="1762920"/>
                <a:gridCol w="1764720"/>
                <a:gridCol w="1764360"/>
              </a:tblGrid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оду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Рас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Цена(кг,ш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49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мид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ш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9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ш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9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у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ш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0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рабовые палоч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па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9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укуру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\2ба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9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г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9.10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5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9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йоне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 вкус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5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61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pic>
        <p:nvPicPr>
          <p:cNvPr id="381" name="Таблица 6" descr=""/>
          <p:cNvPicPr/>
          <p:nvPr/>
        </p:nvPicPr>
        <p:blipFill>
          <a:blip r:embed="rId2"/>
          <a:stretch/>
        </p:blipFill>
        <p:spPr>
          <a:xfrm>
            <a:off x="1547640" y="5516640"/>
            <a:ext cx="7056720" cy="615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Corbel"/>
              </a:rPr>
              <a:t>Себестоимость салата «Петушок»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619280" y="1428840"/>
          <a:ext cx="7056000" cy="3944520"/>
        </p:xfrm>
        <a:graphic>
          <a:graphicData uri="http://schemas.openxmlformats.org/drawingml/2006/table">
            <a:tbl>
              <a:tblPr/>
              <a:tblGrid>
                <a:gridCol w="2352960"/>
                <a:gridCol w="2350440"/>
                <a:gridCol w="2352600"/>
              </a:tblGrid>
              <a:tr h="497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роду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асх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Це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ур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0г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9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кар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0г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йоне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\2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91760">
                <a:tc>
                  <a:txBody>
                    <a:bodyPr lIns="68760" rIns="68760" tIns="0" bIns="0" anchor="t">
                      <a:noAutofit/>
                    </a:bodyPr>
                    <a:p>
                      <a:pPr marL="684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мид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84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ш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84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94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ерец слад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\2ш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9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йц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ш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9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елень петруш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веточ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pic>
        <p:nvPicPr>
          <p:cNvPr id="384" name="Таблица 8" descr=""/>
          <p:cNvPicPr/>
          <p:nvPr/>
        </p:nvPicPr>
        <p:blipFill>
          <a:blip r:embed="rId2"/>
          <a:stretch/>
        </p:blipFill>
        <p:spPr>
          <a:xfrm>
            <a:off x="1619280" y="5300640"/>
            <a:ext cx="70563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orbel"/>
              </a:rPr>
              <a:t>Реклама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600" y="981000"/>
            <a:ext cx="688212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02760" indent="-234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Даже если на диет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2760" indent="-234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Сидите вы всегд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2760" indent="-234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Приходите к нам скоре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2760" indent="-234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Вы сюд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2760" indent="-234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Будет вкусно и красив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2760" indent="-234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И полезно вам всегда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2760" indent="-234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Салат всегда мы вам преподнесе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2760" indent="-234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«Петушок и Лодочки»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у на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2760" indent="-234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В эксклюзиве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2760" indent="-234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Приходите к нам еще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27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2760" indent="-234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7" name="Picture 2" descr="закуска"/>
          <p:cNvPicPr/>
          <p:nvPr/>
        </p:nvPicPr>
        <p:blipFill>
          <a:blip r:embed="rId2"/>
          <a:stretch/>
        </p:blipFill>
        <p:spPr>
          <a:xfrm>
            <a:off x="6659640" y="0"/>
            <a:ext cx="2484360" cy="207792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2" descr="C:\Documents and Settings\Татьяна\Рабочий стол\проект кулинария\картинки салатов\петушок.jpeg"/>
          <p:cNvPicPr/>
          <p:nvPr/>
        </p:nvPicPr>
        <p:blipFill>
          <a:blip r:embed="rId3"/>
          <a:stretch/>
        </p:blipFill>
        <p:spPr>
          <a:xfrm>
            <a:off x="0" y="1860480"/>
            <a:ext cx="280836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спользуемые источник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«банк информации для проектирования»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http://kulinariya-salaty.ru/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http://gotovim-doma.ru/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http://www.pokushay.ru/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orbel"/>
              </a:rPr>
              <a:t>Обоснование проекта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197000"/>
            <a:ext cx="74995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На конкурсном собеседовании администрация кафе «Русская чайная» пред нами поставила свою проблему -  у посетителей кафе большой спрос на салаты, которые в меню кафе не включены. Поэтому,  перед нами стоит </a:t>
            </a:r>
            <a:r>
              <a:rPr b="1" i="1" lang="en-US" sz="2400" spc="-1" strike="noStrike">
                <a:solidFill>
                  <a:srgbClr val="000000"/>
                </a:solidFill>
                <a:latin typeface="Corbel"/>
              </a:rPr>
              <a:t>задача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- разработать в проекте данные блюд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orbel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Разработать и изготовить кулинарное блюдо (салат), которое должно отвечать потребностям посетителей кафе «Русская чайная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b0f0"/>
                </a:solidFill>
                <a:latin typeface="Corbel"/>
              </a:rPr>
              <a:t>  </a:t>
            </a:r>
            <a:r>
              <a:rPr b="1" lang="en-US" sz="4800" spc="-1" strike="noStrike">
                <a:solidFill>
                  <a:srgbClr val="00b0f0"/>
                </a:solidFill>
                <a:latin typeface="Corbel"/>
              </a:rPr>
              <a:t>Задачи проекта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16000" y="907560"/>
            <a:ext cx="80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2280" indent="-609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Выбор лучшей идеи среди предложенных участниками конкурс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Планирование деятельност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Дизайн- анализ проект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Составление технологии приготовления (инструкционная карта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Расчёт себестоимости издел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Составление реклам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Оформление документац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Выполнение технологического этап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Защита проект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497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b0f0"/>
                </a:solidFill>
                <a:latin typeface="Corbel"/>
              </a:rPr>
              <a:t> </a:t>
            </a:r>
            <a:r>
              <a:rPr b="1" lang="en-US" sz="4000" spc="-1" strike="noStrike">
                <a:solidFill>
                  <a:srgbClr val="00b0f0"/>
                </a:solidFill>
                <a:latin typeface="Corbel"/>
              </a:rPr>
              <a:t>Звездочка обдумывани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571760" y="1447920"/>
            <a:ext cx="736272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5-конечная звезда 3"/>
          <p:cNvSpPr/>
          <p:nvPr/>
        </p:nvSpPr>
        <p:spPr>
          <a:xfrm>
            <a:off x="3924360" y="2565360"/>
            <a:ext cx="2147760" cy="24480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Прямоугольник 5"/>
          <p:cNvSpPr/>
          <p:nvPr/>
        </p:nvSpPr>
        <p:spPr>
          <a:xfrm>
            <a:off x="2700360" y="105264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1.Сбор информации и её анализ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38" name="Прямая со стрелкой 10"/>
          <p:cNvCxnSpPr>
            <a:stCxn id="336" idx="5"/>
            <a:endCxn id="337" idx="2"/>
          </p:cNvCxnSpPr>
          <p:nvPr/>
        </p:nvCxnSpPr>
        <p:spPr>
          <a:xfrm flipH="1" flipV="1">
            <a:off x="4931640" y="1448640"/>
            <a:ext cx="67320" cy="11041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39" name="Rectangle 5"/>
          <p:cNvSpPr/>
          <p:nvPr/>
        </p:nvSpPr>
        <p:spPr>
          <a:xfrm>
            <a:off x="5429160" y="3344760"/>
            <a:ext cx="507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Calibri"/>
              </a:rPr>
              <a:t>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5508720" y="1475280"/>
            <a:ext cx="331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Составление технологии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изготовлен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41" name="Прямая со стрелкой 18"/>
          <p:cNvCxnSpPr>
            <a:stCxn id="336" idx="6"/>
          </p:cNvCxnSpPr>
          <p:nvPr/>
        </p:nvCxnSpPr>
        <p:spPr>
          <a:xfrm flipH="1">
            <a:off x="2771280" y="5025600"/>
            <a:ext cx="1563120" cy="8499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42" name="Rectangle 7"/>
          <p:cNvSpPr/>
          <p:nvPr/>
        </p:nvSpPr>
        <p:spPr>
          <a:xfrm>
            <a:off x="7020000" y="3123000"/>
            <a:ext cx="212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3.Расчёт                                                                себестоимости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43" name="Прямая со стрелкой 21"/>
          <p:cNvCxnSpPr>
            <a:stCxn id="336" idx="7"/>
            <a:endCxn id="342" idx="1"/>
          </p:cNvCxnSpPr>
          <p:nvPr/>
        </p:nvCxnSpPr>
        <p:spPr>
          <a:xfrm>
            <a:off x="6084720" y="3499920"/>
            <a:ext cx="936000" cy="2804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44" name="Rectangle 8"/>
          <p:cNvSpPr/>
          <p:nvPr/>
        </p:nvSpPr>
        <p:spPr>
          <a:xfrm>
            <a:off x="6516720" y="4902480"/>
            <a:ext cx="199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4. Составление                                                             рекламы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    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45" name="Прямая со стрелкой 24"/>
          <p:cNvCxnSpPr/>
          <p:nvPr/>
        </p:nvCxnSpPr>
        <p:spPr>
          <a:xfrm flipH="1">
            <a:off x="2842920" y="3500280"/>
            <a:ext cx="1073520" cy="380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46" name="Прямоугольник 25"/>
          <p:cNvSpPr/>
          <p:nvPr/>
        </p:nvSpPr>
        <p:spPr>
          <a:xfrm>
            <a:off x="1979640" y="5950080"/>
            <a:ext cx="203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5. Оформление документаци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47" name="Прямая со стрелкой 27"/>
          <p:cNvCxnSpPr>
            <a:stCxn id="336" idx="8"/>
            <a:endCxn id="344" idx="1"/>
          </p:cNvCxnSpPr>
          <p:nvPr/>
        </p:nvCxnSpPr>
        <p:spPr>
          <a:xfrm>
            <a:off x="5662080" y="5025600"/>
            <a:ext cx="855000" cy="839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48" name="Rectangle 9"/>
          <p:cNvSpPr/>
          <p:nvPr/>
        </p:nvSpPr>
        <p:spPr>
          <a:xfrm>
            <a:off x="1187280" y="3797640"/>
            <a:ext cx="2643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6. Технологический                    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этап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        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Calibri"/>
              </a:rPr>
              <a:t>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49" name="Прямая со стрелкой 30"/>
          <p:cNvCxnSpPr>
            <a:stCxn id="336" idx="9"/>
            <a:endCxn id="340" idx="1"/>
          </p:cNvCxnSpPr>
          <p:nvPr/>
        </p:nvCxnSpPr>
        <p:spPr>
          <a:xfrm flipV="1">
            <a:off x="4998960" y="1979280"/>
            <a:ext cx="510480" cy="5738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50" name="Прямоугольник 31"/>
          <p:cNvSpPr/>
          <p:nvPr/>
        </p:nvSpPr>
        <p:spPr>
          <a:xfrm>
            <a:off x="1835280" y="2421000"/>
            <a:ext cx="133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7 Защита проект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51" name="Прямая со стрелкой 33"/>
          <p:cNvCxnSpPr>
            <a:endCxn id="350" idx="3"/>
          </p:cNvCxnSpPr>
          <p:nvPr/>
        </p:nvCxnSpPr>
        <p:spPr>
          <a:xfrm flipH="1">
            <a:off x="3174480" y="2644920"/>
            <a:ext cx="1772640" cy="1274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Corbel"/>
              </a:rPr>
              <a:t>Выбор идеи проектирования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71280" y="836280"/>
            <a:ext cx="43210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76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rbel"/>
              </a:rPr>
              <a:t>Иде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1   Салат «Пирамидка» 24 ба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7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2 Салат «Лодочки» 29 ба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7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3 Салат «Петушок» 29 ба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61040" y="907560"/>
            <a:ext cx="3673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rbel"/>
              </a:rPr>
              <a:t>Критерии выбор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1.Высокие вкусовые качеств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2.Высокие питательные качества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3.Оригинальнос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4.Полезнос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5.Вкусный запах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6.Эстетичнос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7.Быстрота приготовле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8.Экономнос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9.Безатходное производств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60897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f0"/>
                </a:solidFill>
                <a:latin typeface="Corbel"/>
              </a:rPr>
              <a:t>Наилучшие идеи 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470560" y="1735200"/>
            <a:ext cx="367344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orbel"/>
              </a:rPr>
              <a:t>Салат «Лодочки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rbel"/>
              </a:rPr>
              <a:t>Ингредиенты: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мидоры 2ш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йца 3ш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ук 1ш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бовые палочки 5ш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йонез по вкусу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куруза 1\2 банк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 100гр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"/>
          <p:cNvSpPr/>
          <p:nvPr/>
        </p:nvSpPr>
        <p:spPr>
          <a:xfrm>
            <a:off x="900000" y="1796040"/>
            <a:ext cx="417672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Салат«Петушок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нгредиенты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рица- 300г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кароны отварные- 150г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мидоры- 1ш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йонез - ½ с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йцо - 1ш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ц сладкий - ½ ш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елень петрушк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ль по вкусу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Рисунок 2" descr="C:\Documents and Settings\Татьяна\Рабочий стол\проект кулинария\картинки салатов\петушок.jpeg"/>
          <p:cNvPicPr/>
          <p:nvPr/>
        </p:nvPicPr>
        <p:blipFill>
          <a:blip r:embed="rId2"/>
          <a:stretch/>
        </p:blipFill>
        <p:spPr>
          <a:xfrm>
            <a:off x="0" y="0"/>
            <a:ext cx="2195640" cy="1739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закуска"/>
          <p:cNvPicPr/>
          <p:nvPr/>
        </p:nvPicPr>
        <p:blipFill>
          <a:blip r:embed="rId3"/>
          <a:stretch/>
        </p:blipFill>
        <p:spPr>
          <a:xfrm>
            <a:off x="7020000" y="0"/>
            <a:ext cx="2124000" cy="17762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f0"/>
                </a:solidFill>
                <a:latin typeface="Corbel"/>
              </a:rPr>
              <a:t>Дизайн-анализ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00000" y="1341360"/>
            <a:ext cx="82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85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Минеральные веществ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85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 ингредиентах салат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85640" indent="-411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алат -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вкусная витаминная пища, богатая клетчаткой, которая способствует пищеварению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85640" indent="-411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Кукуруза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– содержит калий, магний, в «больших»  количестве «помогает » функцонировать нервной и сердечнососудистой систе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85640" indent="-411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Овощ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- исключительный источник витаминов и минеральных веществ. В них много клетчатки и мало калорий, поэтому они должны занимать значительное место в рационе – не менее  450 г. В день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85640" indent="-411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Рис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- очень полез, содержит крахмал  из-за этого очень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85640" indent="-411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итателен, он богат белками, витаминами, минералами,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85640" indent="-411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летчатко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644480" y="-360"/>
            <a:ext cx="7499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Corbel"/>
              </a:rPr>
              <a:t>История салатов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403280" y="764640"/>
            <a:ext cx="75312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Изначально под словом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rbel"/>
              </a:rPr>
              <a:t>салат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подразумевалось исключительно растительное блюдо, притом из зелёных листьев и огородных трав ,вплоть до 20 века назывались салатными растения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В 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международную кухню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салаты вошли как блюдо Древнего Рим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Во Францию попал салат лишь в начале средних веков, как изысканное блюдо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В самом конце 18 века в салаты вошла капуста, а также сельдерей, перец и т.д.но все еще зеленого цвета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На 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рубеже 18 и 19 веков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в салаты начинают добавлять не зелёные растения и корнеплоды. Усложняется и салатная заправка -вводятся соусы, и в первую очередь майонез. Свёклу, картофель, морковь стали отваривать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Два </a:t>
            </a:r>
            <a:r>
              <a:rPr b="1" i="1" lang="en-US" sz="2000" spc="-1" strike="noStrike">
                <a:solidFill>
                  <a:srgbClr val="000000"/>
                </a:solidFill>
                <a:latin typeface="Corbel"/>
              </a:rPr>
              <a:t>основных преимущества салата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во-первых, быстрота приготовления и отсутствие подогрева; а, во-вторых - витамины!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176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9628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orbel"/>
              </a:rPr>
              <a:t>Полезные советы для </a:t>
            </a:r>
            <a:br>
              <a:rPr sz="3200"/>
            </a:br>
            <a:r>
              <a:rPr b="1" lang="en-US" sz="3200" spc="-1" strike="noStrike">
                <a:solidFill>
                  <a:srgbClr val="00b0f0"/>
                </a:solidFill>
                <a:latin typeface="Corbel"/>
              </a:rPr>
              <a:t>приготовления вкусных салатов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619280" y="1447920"/>
            <a:ext cx="7315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При приготовлении салата все овощи для салатов следует нарезать не   слишком мелк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Все салаты из сырых овощей нужно готовить перед подачей на сто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Картофель, свеклу и морковь для салата лучше варить в кожиц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Очищать и резать овощи нужно перед приготовлением салат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Нельзя смешивать в салате теплые продукты с  холодным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Готовя салат, солить и заправлять его следует перед подачей на сто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Продукты для соуса для салата должны быть свежим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964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2:35:49Z</dcterms:created>
  <dc:creator>User</dc:creator>
  <dc:description/>
  <dc:language>en-US</dc:language>
  <cp:lastModifiedBy>ученик</cp:lastModifiedBy>
  <dcterms:modified xsi:type="dcterms:W3CDTF">2013-11-18T06:39:25Z</dcterms:modified>
  <cp:revision>39</cp:revision>
  <dc:subject/>
  <dc:title>Слайд 1</dc:title>
</cp:coreProperties>
</file>