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268-F07C-426B-B420-308B243C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D15-EE38-4951-B7D5-128EFCBA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174-5D6B-4D43-A638-F8D2DC7B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CFD-5F29-4CEA-9114-0BAD6F67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A05-9664-4AC8-857A-39BF6D78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503E-5FCC-42CF-9EBD-E2E470EF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E7A-1D14-4E24-B525-7C2ED6C7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BEF2-0A19-4C63-AAD8-423AEFCF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6746-BE68-4823-8999-42389D7C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F6A-33D1-4D78-8F6C-7DDE09B3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8A3B-6BA8-4926-9CA6-4C56165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9A8-6A36-40D1-A5C1-91FF443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9814-D850-4B73-AD6B-92E24EC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9250-DB86-46FF-A4B7-93C9A82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EC0-533E-4173-9B6C-397C4FB2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733-39D0-484D-BADB-FABB5D50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6744-43AD-4403-BE0E-A9D4D679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9D5-5F9B-4843-ABF1-FDBE95A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6BD-449B-40A8-97AF-CCC0C8EA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461-4592-4271-954A-770CB43B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DAF-F2F1-4BCA-B9F0-03C8A80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1DB-31A8-4C37-9A22-7CEC95F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A42-2D0C-4F78-AF12-2088F48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551-D40E-4F8F-879B-C54FC01B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CE21-12F1-4293-991C-A4BEAA3B4C92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6C0-A0CE-4584-9B01-CAA980F8412F}" type="slidenum">
              <a:rPr b="0" lang="en-US" sz="1400" spc="-1" strike="noStrike">
                <a:solidFill>
                  <a:srgbClr val="99663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entury Gothic"/>
              </a:rPr>
              <a:t>Отгадай!!!</a:t>
            </a:r>
            <a:endParaRPr b="0" lang="en-US" sz="5400" spc="-1" strike="noStrike">
              <a:solidFill>
                <a:srgbClr val="cc6600"/>
              </a:solidFill>
              <a:latin typeface="Century Gothic"/>
            </a:endParaRPr>
          </a:p>
        </p:txBody>
      </p:sp>
      <p:pic>
        <p:nvPicPr>
          <p:cNvPr id="85" name="Подзаголовок 2" descr=""/>
          <p:cNvPicPr/>
          <p:nvPr/>
        </p:nvPicPr>
        <p:blipFill>
          <a:blip r:embed="rId1"/>
          <a:stretch/>
        </p:blipFill>
        <p:spPr>
          <a:xfrm>
            <a:off x="268200" y="1407960"/>
            <a:ext cx="8882280" cy="346896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6" descr=""/>
          <p:cNvPicPr/>
          <p:nvPr/>
        </p:nvPicPr>
        <p:blipFill>
          <a:blip r:embed="rId2"/>
          <a:stretch/>
        </p:blipFill>
        <p:spPr>
          <a:xfrm>
            <a:off x="2541600" y="5205240"/>
            <a:ext cx="49863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214200"/>
            <a:ext cx="6373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  <p:grpSp>
        <p:nvGrpSpPr>
          <p:cNvPr id="88" name="Текст 3"/>
          <p:cNvGrpSpPr/>
          <p:nvPr/>
        </p:nvGrpSpPr>
        <p:grpSpPr>
          <a:xfrm>
            <a:off x="268200" y="1407960"/>
            <a:ext cx="8601120" cy="3426120"/>
            <a:chOff x="268200" y="1407960"/>
            <a:chExt cx="8601120" cy="3426120"/>
          </a:xfrm>
        </p:grpSpPr>
        <p:pic>
          <p:nvPicPr>
            <p:cNvPr id="89" name="Текст 3" descr=""/>
            <p:cNvPicPr/>
            <p:nvPr/>
          </p:nvPicPr>
          <p:blipFill>
            <a:blip r:embed="rId1"/>
            <a:stretch/>
          </p:blipFill>
          <p:spPr>
            <a:xfrm>
              <a:off x="268200" y="1407960"/>
              <a:ext cx="86011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5840" y="1428840"/>
              <a:ext cx="856908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b050"/>
                  </a:solidFill>
                  <a:latin typeface="Century Gothic"/>
                </a:rPr>
                <a:t>Причастие. Повторение. Обобщение.</a:t>
              </a:r>
              <a:endParaRPr b="0" lang="en-US" sz="72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bfc"/>
                </a:solidFill>
                <a:latin typeface="Century Gothic"/>
              </a:rPr>
              <a:t>ЭОР</a:t>
            </a:r>
            <a:br>
              <a:rPr sz="4400"/>
            </a:br>
            <a:endParaRPr b="0" lang="en-US" sz="4400" spc="-1" strike="noStrike">
              <a:solidFill>
                <a:srgbClr val="cc6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3"/>
          <p:cNvGrpSpPr/>
          <p:nvPr/>
        </p:nvGrpSpPr>
        <p:grpSpPr>
          <a:xfrm>
            <a:off x="328680" y="109440"/>
            <a:ext cx="8480520" cy="1444680"/>
            <a:chOff x="328680" y="109440"/>
            <a:chExt cx="8480520" cy="1444680"/>
          </a:xfrm>
        </p:grpSpPr>
        <p:pic>
          <p:nvPicPr>
            <p:cNvPr id="93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28680" y="109440"/>
              <a:ext cx="8480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b050"/>
                  </a:solidFill>
                  <a:latin typeface="Century Gothic"/>
                </a:rPr>
                <a:t>Причастие-это</a:t>
              </a:r>
              <a:endParaRPr b="0" lang="en-US" sz="54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pic>
        <p:nvPicPr>
          <p:cNvPr id="95" name="Текст 2" descr=""/>
          <p:cNvPicPr/>
          <p:nvPr/>
        </p:nvPicPr>
        <p:blipFill>
          <a:blip r:embed="rId2"/>
          <a:stretch/>
        </p:blipFill>
        <p:spPr>
          <a:xfrm>
            <a:off x="1841400" y="3859200"/>
            <a:ext cx="57848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96" name="Текст 5"/>
          <p:cNvGrpSpPr/>
          <p:nvPr/>
        </p:nvGrpSpPr>
        <p:grpSpPr>
          <a:xfrm>
            <a:off x="622440" y="1122480"/>
            <a:ext cx="7521480" cy="2554200"/>
            <a:chOff x="622440" y="1122480"/>
            <a:chExt cx="7521480" cy="2554200"/>
          </a:xfrm>
        </p:grpSpPr>
        <p:pic>
          <p:nvPicPr>
            <p:cNvPr id="97" name="Текст 5" descr=""/>
            <p:cNvPicPr/>
            <p:nvPr/>
          </p:nvPicPr>
          <p:blipFill>
            <a:blip r:embed="rId3"/>
            <a:stretch/>
          </p:blipFill>
          <p:spPr>
            <a:xfrm>
              <a:off x="622440" y="1122480"/>
              <a:ext cx="7521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42960" y="1143000"/>
              <a:ext cx="7488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собая форма глагола,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обозначающая</a:t>
              </a:r>
              <a:br>
                <a:rPr sz="3600"/>
              </a:b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признак предмета по действию</a:t>
              </a: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,</a:t>
              </a:r>
              <a:br>
                <a:rPr sz="2800"/>
              </a:br>
              <a:endParaRPr b="0" lang="en-US" sz="36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99" name="Стрелка вправо 4"/>
          <p:cNvSpPr/>
          <p:nvPr/>
        </p:nvSpPr>
        <p:spPr>
          <a:xfrm>
            <a:off x="7236000" y="5805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7528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Красив в октябре лес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5280" cy="31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Красив  в октябре  лес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Радуют взгляд раскрашенные осенью клёны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С них облетают листья шелестящие под ногами.</a:t>
            </a: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Century Gothic"/>
            </a:endParaRPr>
          </a:p>
        </p:txBody>
      </p:sp>
      <p:sp>
        <p:nvSpPr>
          <p:cNvPr id="102" name="Стрелка вправо 4"/>
          <p:cNvSpPr/>
          <p:nvPr/>
        </p:nvSpPr>
        <p:spPr>
          <a:xfrm>
            <a:off x="7596360" y="5805360"/>
            <a:ext cx="792000" cy="432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971640" y="404640"/>
          <a:ext cx="7272360" cy="5616720"/>
        </p:xfrm>
        <a:graphic>
          <a:graphicData uri="http://schemas.openxmlformats.org/drawingml/2006/table">
            <a:tbl>
              <a:tblPr/>
              <a:tblGrid>
                <a:gridCol w="2448000"/>
                <a:gridCol w="2376360"/>
                <a:gridCol w="24480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яжё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ля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я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вещав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ча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зываем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танав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е – это ....... форма ....., которая совмещает в себе признаки ....... (время, вид) и признаки ........ (изменяется по родам, числам и падежам)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образуются от ....... с помощью специальных суффиксов: ....... 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в предложении обычно бывают ........ и отвечают на вопросы: 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них часто находятся зависимые слова и образуют  ......., который может находиться как перед........, так и после него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ричастный оборот стоит перед......, то он .......запятой, если же он стоит после ....... слова, то он всегда …….запятым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частия могут быть страдательными и .......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тельные и страдательные причастия имеют полную и .......формы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ие причастия в предложении всегда выступают в роли ...... 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Прямоугольник 20"/>
          <p:cNvSpPr/>
          <p:nvPr/>
        </p:nvSpPr>
        <p:spPr>
          <a:xfrm>
            <a:off x="255600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7" name="Прямоугольник 22"/>
          <p:cNvSpPr/>
          <p:nvPr/>
        </p:nvSpPr>
        <p:spPr>
          <a:xfrm>
            <a:off x="3924360" y="6922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4140360" y="981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Прямоугольник 24"/>
          <p:cNvSpPr/>
          <p:nvPr/>
        </p:nvSpPr>
        <p:spPr>
          <a:xfrm flipH="1">
            <a:off x="826200" y="981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611280" y="177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12 (а)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3924360" y="148428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5940360" y="206064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3" name="Прямоугольник 28"/>
          <p:cNvSpPr/>
          <p:nvPr/>
        </p:nvSpPr>
        <p:spPr>
          <a:xfrm>
            <a:off x="1763640" y="22766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6 (а)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4" name="Прямоугольник 29"/>
          <p:cNvSpPr/>
          <p:nvPr/>
        </p:nvSpPr>
        <p:spPr>
          <a:xfrm>
            <a:off x="7308720" y="256536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4067280" y="2852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6" name="Прямоугольник 31"/>
          <p:cNvSpPr/>
          <p:nvPr/>
        </p:nvSpPr>
        <p:spPr>
          <a:xfrm>
            <a:off x="6372360" y="31417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7" name="Прямоугольник 32"/>
          <p:cNvSpPr/>
          <p:nvPr/>
        </p:nvSpPr>
        <p:spPr>
          <a:xfrm>
            <a:off x="5219640" y="314172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8" name="Прямоугольник 33"/>
          <p:cNvSpPr/>
          <p:nvPr/>
        </p:nvSpPr>
        <p:spPr>
          <a:xfrm>
            <a:off x="5651640" y="3716280"/>
            <a:ext cx="51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Прямоугольник 34"/>
          <p:cNvSpPr/>
          <p:nvPr/>
        </p:nvSpPr>
        <p:spPr>
          <a:xfrm>
            <a:off x="2556000" y="342900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Прямоугольник 35"/>
          <p:cNvSpPr/>
          <p:nvPr/>
        </p:nvSpPr>
        <p:spPr>
          <a:xfrm>
            <a:off x="5435640" y="3357720"/>
            <a:ext cx="51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611280" y="4292640"/>
            <a:ext cx="734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2" name="Прямоугольник 37"/>
          <p:cNvSpPr/>
          <p:nvPr/>
        </p:nvSpPr>
        <p:spPr>
          <a:xfrm>
            <a:off x="7812000" y="4508640"/>
            <a:ext cx="66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9:43:42Z</dcterms:created>
  <dc:creator>учитель</dc:creator>
  <dc:description/>
  <cp:keywords/>
  <dc:language>en-US</dc:language>
  <cp:lastModifiedBy>User</cp:lastModifiedBy>
  <dcterms:modified xsi:type="dcterms:W3CDTF">2013-11-07T17:37:08Z</dcterms:modified>
  <cp:revision>59</cp:revision>
  <dc:subject/>
  <dc:title>Отгад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