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99C-8D06-4600-AA9E-B6FFF778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090-E100-45FD-8973-4D4B8B26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181-3FD5-4966-BAB0-C124924D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5DD-5C37-40BB-96F1-C72B839A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63B0-5578-44C8-9E47-9F8D2439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EB8C-894A-4907-96B3-0133B3EC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78B6-18C0-4736-9FAA-8C7F56A1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8ABF-DC67-4F34-B33E-0E3B2C82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6903-3F01-444F-985F-5B39FEA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3A0F-356E-429C-AF7D-E3DC3F07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3AC4-0598-4F71-9D9C-F6CAE527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C9F-CD96-4E29-AB21-7A2F3462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8C9D-F084-440F-9A42-04C7032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9409-E41B-49C8-964D-9653545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102A-C1CE-409D-AC54-8CA0DDF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879A-5628-4052-AEB8-AA687F12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A6BA-F82D-45F5-8957-2CB67D08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4AA-3101-4662-AECE-D0028081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4AB-5C9D-4AB9-9DB6-C99BDE34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DE6-0FA2-4478-B29C-D39D453B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BF9-140B-4B7B-ABFC-D3C4F384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AD5-1658-463F-99CF-C9E00449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2F5-45F7-4472-A771-317E859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CF5-BC42-440C-877D-54179A9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24D-5100-4A72-BF8B-97311C236576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9F4-9FAA-44BB-94A1-5AA586C6B01E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Отгадай!!!</a:t>
            </a:r>
            <a:endParaRPr b="0" lang="en-US" sz="5400" spc="-1" strike="noStrike">
              <a:solidFill>
                <a:srgbClr val="cc6600"/>
              </a:solidFill>
              <a:latin typeface="Century Gothic"/>
            </a:endParaRPr>
          </a:p>
        </p:txBody>
      </p:sp>
      <p:pic>
        <p:nvPicPr>
          <p:cNvPr id="85" name="Подзаголовок 2" descr=""/>
          <p:cNvPicPr/>
          <p:nvPr/>
        </p:nvPicPr>
        <p:blipFill>
          <a:blip r:embed="rId1"/>
          <a:stretch/>
        </p:blipFill>
        <p:spPr>
          <a:xfrm>
            <a:off x="268200" y="1407960"/>
            <a:ext cx="8882280" cy="346896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6" descr=""/>
          <p:cNvPicPr/>
          <p:nvPr/>
        </p:nvPicPr>
        <p:blipFill>
          <a:blip r:embed="rId2"/>
          <a:stretch/>
        </p:blipFill>
        <p:spPr>
          <a:xfrm>
            <a:off x="2541600" y="5205240"/>
            <a:ext cx="49863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3738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entury Gothic"/>
              </a:rPr>
              <a:t>ТЕМА УРОКА: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grpSp>
        <p:nvGrpSpPr>
          <p:cNvPr id="88" name="Текст 3"/>
          <p:cNvGrpSpPr/>
          <p:nvPr/>
        </p:nvGrpSpPr>
        <p:grpSpPr>
          <a:xfrm>
            <a:off x="268200" y="1407960"/>
            <a:ext cx="8601120" cy="3426120"/>
            <a:chOff x="268200" y="1407960"/>
            <a:chExt cx="8601120" cy="3426120"/>
          </a:xfrm>
        </p:grpSpPr>
        <p:pic>
          <p:nvPicPr>
            <p:cNvPr id="89" name="Текст 3" descr=""/>
            <p:cNvPicPr/>
            <p:nvPr/>
          </p:nvPicPr>
          <p:blipFill>
            <a:blip r:embed="rId1"/>
            <a:stretch/>
          </p:blipFill>
          <p:spPr>
            <a:xfrm>
              <a:off x="268200" y="1407960"/>
              <a:ext cx="860112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85840" y="1428840"/>
              <a:ext cx="8569080" cy="33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b050"/>
                  </a:solidFill>
                  <a:latin typeface="Century Gothic"/>
                </a:rPr>
                <a:t>Причастие. Повторение. Обобщение.</a:t>
              </a:r>
              <a:endParaRPr b="0" lang="en-US" sz="7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bfc"/>
                </a:solidFill>
                <a:latin typeface="Century Gothic"/>
              </a:rPr>
              <a:t>ЭОР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3"/>
          <p:cNvGrpSpPr/>
          <p:nvPr/>
        </p:nvGrpSpPr>
        <p:grpSpPr>
          <a:xfrm>
            <a:off x="328680" y="109440"/>
            <a:ext cx="8480520" cy="1444680"/>
            <a:chOff x="328680" y="109440"/>
            <a:chExt cx="8480520" cy="1444680"/>
          </a:xfrm>
        </p:grpSpPr>
        <p:pic>
          <p:nvPicPr>
            <p:cNvPr id="93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28680" y="109440"/>
              <a:ext cx="8480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b050"/>
                  </a:solidFill>
                  <a:latin typeface="Century Gothic"/>
                </a:rPr>
                <a:t>Причастие-это</a:t>
              </a:r>
              <a:endParaRPr b="0" lang="en-US" sz="54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pic>
        <p:nvPicPr>
          <p:cNvPr id="95" name="Текст 2" descr=""/>
          <p:cNvPicPr/>
          <p:nvPr/>
        </p:nvPicPr>
        <p:blipFill>
          <a:blip r:embed="rId2"/>
          <a:stretch/>
        </p:blipFill>
        <p:spPr>
          <a:xfrm>
            <a:off x="1841400" y="3859200"/>
            <a:ext cx="5784840" cy="1889280"/>
          </a:xfrm>
          <a:prstGeom prst="rect">
            <a:avLst/>
          </a:prstGeom>
          <a:ln w="0">
            <a:noFill/>
          </a:ln>
        </p:spPr>
      </p:pic>
      <p:grpSp>
        <p:nvGrpSpPr>
          <p:cNvPr id="96" name="Текст 5"/>
          <p:cNvGrpSpPr/>
          <p:nvPr/>
        </p:nvGrpSpPr>
        <p:grpSpPr>
          <a:xfrm>
            <a:off x="622440" y="1122480"/>
            <a:ext cx="7521480" cy="2554200"/>
            <a:chOff x="622440" y="1122480"/>
            <a:chExt cx="7521480" cy="2554200"/>
          </a:xfrm>
        </p:grpSpPr>
        <p:pic>
          <p:nvPicPr>
            <p:cNvPr id="97" name="Текст 5" descr=""/>
            <p:cNvPicPr/>
            <p:nvPr/>
          </p:nvPicPr>
          <p:blipFill>
            <a:blip r:embed="rId3"/>
            <a:stretch/>
          </p:blipFill>
          <p:spPr>
            <a:xfrm>
              <a:off x="622440" y="1122480"/>
              <a:ext cx="7521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42960" y="1143000"/>
              <a:ext cx="7488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собая форма глагола,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бозначающая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признак предмета по действию</a:t>
              </a: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,</a:t>
              </a: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9" name="Стрелка вправо 4"/>
          <p:cNvSpPr/>
          <p:nvPr/>
        </p:nvSpPr>
        <p:spPr>
          <a:xfrm>
            <a:off x="7236000" y="5805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7528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Красив в октябре лес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5280" cy="31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Красив  в октябре  лес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2" name="Стрелка вправо 4"/>
          <p:cNvSpPr/>
          <p:nvPr/>
        </p:nvSpPr>
        <p:spPr>
          <a:xfrm>
            <a:off x="7596360" y="5805360"/>
            <a:ext cx="792000" cy="4320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971640" y="404640"/>
          <a:ext cx="7272360" cy="5616720"/>
        </p:xfrm>
        <a:graphic>
          <a:graphicData uri="http://schemas.openxmlformats.org/drawingml/2006/table">
            <a:tbl>
              <a:tblPr/>
              <a:tblGrid>
                <a:gridCol w="2448000"/>
                <a:gridCol w="2376360"/>
                <a:gridCol w="24480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ы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яжё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ля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я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вещав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ча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зывае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танав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е – это ....... форма ....., которая совмещает в себе признаки ....... (время, вид) и признаки ........ (изменяется по родам, числам и падежам)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образуются от ....... с помощью специальных суффиксов: ....... 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в предложении обычно бывают ........ и отвечают на вопросы: 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них часто находятся зависимые слова и образуют  ......., который может находиться как перед........, так и после него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причастный оборот стоит перед......, то он .......запятой, если же он стоит после ....... слова, то он всегда …….запятыми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могут быть страдательными и .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ые и страдательные причастия имеют полную и .......формы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ткие причастия в предложении всегда выступают в роли .....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Прямоугольник 20"/>
          <p:cNvSpPr/>
          <p:nvPr/>
        </p:nvSpPr>
        <p:spPr>
          <a:xfrm>
            <a:off x="255600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7" name="Прямоугольник 22"/>
          <p:cNvSpPr/>
          <p:nvPr/>
        </p:nvSpPr>
        <p:spPr>
          <a:xfrm>
            <a:off x="3924360" y="6922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8" name="Прямоугольник 23"/>
          <p:cNvSpPr/>
          <p:nvPr/>
        </p:nvSpPr>
        <p:spPr>
          <a:xfrm>
            <a:off x="4140360" y="981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9" name="Прямоугольник 24"/>
          <p:cNvSpPr/>
          <p:nvPr/>
        </p:nvSpPr>
        <p:spPr>
          <a:xfrm flipH="1">
            <a:off x="826200" y="981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" name="Прямоугольник 25"/>
          <p:cNvSpPr/>
          <p:nvPr/>
        </p:nvSpPr>
        <p:spPr>
          <a:xfrm>
            <a:off x="611280" y="177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12 (а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1" name="Прямоугольник 26"/>
          <p:cNvSpPr/>
          <p:nvPr/>
        </p:nvSpPr>
        <p:spPr>
          <a:xfrm>
            <a:off x="3924360" y="148428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2" name="Прямоугольник 27"/>
          <p:cNvSpPr/>
          <p:nvPr/>
        </p:nvSpPr>
        <p:spPr>
          <a:xfrm>
            <a:off x="5940360" y="206064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3" name="Прямоугольник 28"/>
          <p:cNvSpPr/>
          <p:nvPr/>
        </p:nvSpPr>
        <p:spPr>
          <a:xfrm>
            <a:off x="1763640" y="22766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6 (а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4" name="Прямоугольник 29"/>
          <p:cNvSpPr/>
          <p:nvPr/>
        </p:nvSpPr>
        <p:spPr>
          <a:xfrm>
            <a:off x="7308720" y="256536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4067280" y="285264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6" name="Прямоугольник 31"/>
          <p:cNvSpPr/>
          <p:nvPr/>
        </p:nvSpPr>
        <p:spPr>
          <a:xfrm>
            <a:off x="6372360" y="31417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7" name="Прямоугольник 32"/>
          <p:cNvSpPr/>
          <p:nvPr/>
        </p:nvSpPr>
        <p:spPr>
          <a:xfrm>
            <a:off x="5219640" y="3141720"/>
            <a:ext cx="5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8" name="Прямоугольник 33"/>
          <p:cNvSpPr/>
          <p:nvPr/>
        </p:nvSpPr>
        <p:spPr>
          <a:xfrm>
            <a:off x="5651640" y="3716280"/>
            <a:ext cx="51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" name="Прямоугольник 34"/>
          <p:cNvSpPr/>
          <p:nvPr/>
        </p:nvSpPr>
        <p:spPr>
          <a:xfrm>
            <a:off x="2556000" y="3429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0" name="Прямоугольник 35"/>
          <p:cNvSpPr/>
          <p:nvPr/>
        </p:nvSpPr>
        <p:spPr>
          <a:xfrm>
            <a:off x="5435640" y="3357720"/>
            <a:ext cx="51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611280" y="4292640"/>
            <a:ext cx="734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2" name="Прямоугольник 37"/>
          <p:cNvSpPr/>
          <p:nvPr/>
        </p:nvSpPr>
        <p:spPr>
          <a:xfrm>
            <a:off x="7812000" y="4508640"/>
            <a:ext cx="66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9:43:42Z</dcterms:created>
  <dc:creator>учитель</dc:creator>
  <dc:description/>
  <cp:keywords/>
  <dc:language>en-US</dc:language>
  <cp:lastModifiedBy>User</cp:lastModifiedBy>
  <dcterms:modified xsi:type="dcterms:W3CDTF">2013-11-07T17:37:08Z</dcterms:modified>
  <cp:revision>59</cp:revision>
  <dc:subject/>
  <dc:title>Отгад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