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CD6-3087-4EA5-831F-0294FE0F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246-E651-43F1-8605-BC446864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1F7-09D9-4B42-9E47-0D70ECAB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B56-6987-4669-AD8B-5D1F2225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2449-DA78-4D3D-8A2C-96A6D175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0999-A913-493C-87AD-B5368026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E7CA-201D-49DA-A0C4-38BBDD00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6E98-A68F-4B8F-BA0B-EBCA70BC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FEA5-9255-4CFF-9E0B-162B2A39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CB02-FF5D-43F4-B00F-00513C7A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9F4E-1F5E-4FE1-9E1C-39340F8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A04-CA6A-4E01-9A0C-C83C9408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8695-8918-480E-85C4-5761089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ED96-4FD2-4212-8F26-C9199744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02B9-9C71-4E7E-970A-D69C8CF7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AC65-FBA5-48E0-A329-C7803AF4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0718-E15B-4AF6-A95D-65181126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C86-CD38-4CD1-AA36-CCEE58F7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FB6-0815-450C-930F-B92EA337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6E3-4EE9-44F6-B691-B5288286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5C9-9CC2-48D4-99B1-4F1D4AA0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69D-E04C-4948-A35C-939E8E97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81F-5764-4ED6-99E9-C70F30CD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CFA-C67D-4540-A94C-4A663A73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B8EE-B8D3-4FDE-9D13-E653DC9A4DAF}" type="slidenum">
              <a:rPr b="0" lang="en-US" sz="1400" spc="-1" strike="noStrike">
                <a:solidFill>
                  <a:srgbClr val="99663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0C3A-0CF2-4667-8011-7C65AEF9BB67}" type="slidenum">
              <a:rPr b="0" lang="en-US" sz="1400" spc="-1" strike="noStrike">
                <a:solidFill>
                  <a:srgbClr val="99663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entury Gothic"/>
              </a:rPr>
              <a:t>Отгадай!!!</a:t>
            </a:r>
            <a:endParaRPr b="0" lang="en-US" sz="5400" spc="-1" strike="noStrike">
              <a:solidFill>
                <a:srgbClr val="cc6600"/>
              </a:solidFill>
              <a:latin typeface="Century Gothic"/>
            </a:endParaRPr>
          </a:p>
        </p:txBody>
      </p:sp>
      <p:pic>
        <p:nvPicPr>
          <p:cNvPr id="85" name="Подзаголовок 2" descr=""/>
          <p:cNvPicPr/>
          <p:nvPr/>
        </p:nvPicPr>
        <p:blipFill>
          <a:blip r:embed="rId1"/>
          <a:stretch/>
        </p:blipFill>
        <p:spPr>
          <a:xfrm>
            <a:off x="268200" y="1407960"/>
            <a:ext cx="8882280" cy="3468960"/>
          </a:xfrm>
          <a:prstGeom prst="rect">
            <a:avLst/>
          </a:prstGeom>
          <a:ln w="0">
            <a:noFill/>
          </a:ln>
        </p:spPr>
      </p:pic>
      <p:pic>
        <p:nvPicPr>
          <p:cNvPr id="86" name="Текст 6" descr=""/>
          <p:cNvPicPr/>
          <p:nvPr/>
        </p:nvPicPr>
        <p:blipFill>
          <a:blip r:embed="rId2"/>
          <a:stretch/>
        </p:blipFill>
        <p:spPr>
          <a:xfrm>
            <a:off x="2541600" y="5205240"/>
            <a:ext cx="49863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37380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Century Gothic"/>
              </a:rPr>
              <a:t>ТЕМА УРОКА: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grpSp>
        <p:nvGrpSpPr>
          <p:cNvPr id="88" name="Текст 3"/>
          <p:cNvGrpSpPr/>
          <p:nvPr/>
        </p:nvGrpSpPr>
        <p:grpSpPr>
          <a:xfrm>
            <a:off x="268200" y="1407960"/>
            <a:ext cx="8601120" cy="3426120"/>
            <a:chOff x="268200" y="1407960"/>
            <a:chExt cx="8601120" cy="3426120"/>
          </a:xfrm>
        </p:grpSpPr>
        <p:pic>
          <p:nvPicPr>
            <p:cNvPr id="89" name="Текст 3" descr=""/>
            <p:cNvPicPr/>
            <p:nvPr/>
          </p:nvPicPr>
          <p:blipFill>
            <a:blip r:embed="rId1"/>
            <a:stretch/>
          </p:blipFill>
          <p:spPr>
            <a:xfrm>
              <a:off x="268200" y="1407960"/>
              <a:ext cx="860112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85840" y="1428840"/>
              <a:ext cx="8569080" cy="33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b050"/>
                  </a:solidFill>
                  <a:latin typeface="Century Gothic"/>
                </a:rPr>
                <a:t>Причастие. Повторение. Обобщение.</a:t>
              </a:r>
              <a:endParaRPr b="0" lang="en-US" sz="72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bfc"/>
                </a:solidFill>
                <a:latin typeface="Century Gothic"/>
              </a:rPr>
              <a:t>ЭОР</a:t>
            </a:r>
            <a:br>
              <a:rPr sz="4400"/>
            </a:b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Заголовок 3"/>
          <p:cNvGrpSpPr/>
          <p:nvPr/>
        </p:nvGrpSpPr>
        <p:grpSpPr>
          <a:xfrm>
            <a:off x="328680" y="109440"/>
            <a:ext cx="8480520" cy="1444680"/>
            <a:chOff x="328680" y="109440"/>
            <a:chExt cx="8480520" cy="1444680"/>
          </a:xfrm>
        </p:grpSpPr>
        <p:pic>
          <p:nvPicPr>
            <p:cNvPr id="93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28680" y="109440"/>
              <a:ext cx="84805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b050"/>
                  </a:solidFill>
                  <a:latin typeface="Century Gothic"/>
                </a:rPr>
                <a:t>Причастие-это</a:t>
              </a:r>
              <a:endParaRPr b="0" lang="en-US" sz="54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pic>
        <p:nvPicPr>
          <p:cNvPr id="95" name="Текст 2" descr=""/>
          <p:cNvPicPr/>
          <p:nvPr/>
        </p:nvPicPr>
        <p:blipFill>
          <a:blip r:embed="rId2"/>
          <a:stretch/>
        </p:blipFill>
        <p:spPr>
          <a:xfrm>
            <a:off x="1841400" y="3859200"/>
            <a:ext cx="5784840" cy="1889280"/>
          </a:xfrm>
          <a:prstGeom prst="rect">
            <a:avLst/>
          </a:prstGeom>
          <a:ln w="0">
            <a:noFill/>
          </a:ln>
        </p:spPr>
      </p:pic>
      <p:grpSp>
        <p:nvGrpSpPr>
          <p:cNvPr id="96" name="Текст 5"/>
          <p:cNvGrpSpPr/>
          <p:nvPr/>
        </p:nvGrpSpPr>
        <p:grpSpPr>
          <a:xfrm>
            <a:off x="622440" y="1122480"/>
            <a:ext cx="7521480" cy="2554200"/>
            <a:chOff x="622440" y="1122480"/>
            <a:chExt cx="7521480" cy="2554200"/>
          </a:xfrm>
        </p:grpSpPr>
        <p:pic>
          <p:nvPicPr>
            <p:cNvPr id="97" name="Текст 5" descr=""/>
            <p:cNvPicPr/>
            <p:nvPr/>
          </p:nvPicPr>
          <p:blipFill>
            <a:blip r:embed="rId3"/>
            <a:stretch/>
          </p:blipFill>
          <p:spPr>
            <a:xfrm>
              <a:off x="622440" y="1122480"/>
              <a:ext cx="7521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42960" y="1143000"/>
              <a:ext cx="7488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особая форма глагола,</a:t>
              </a:r>
              <a:br>
                <a:rPr sz="3600"/>
              </a:b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обозначающая</a:t>
              </a:r>
              <a:br>
                <a:rPr sz="3600"/>
              </a:b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признак предмета по действию</a:t>
              </a: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,</a:t>
              </a:r>
              <a:br>
                <a:rPr sz="2800"/>
              </a:br>
              <a:endParaRPr b="0" lang="en-US" sz="3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99" name="Стрелка вправо 4"/>
          <p:cNvSpPr/>
          <p:nvPr/>
        </p:nvSpPr>
        <p:spPr>
          <a:xfrm>
            <a:off x="7236000" y="5805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7528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С них облетают листья шелестящие под ногами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Красив в октябре лес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Радуют взгляд раскрашенные осенью клёны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3141720"/>
            <a:ext cx="7775280" cy="31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Красив  в октябре  лес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Радуют взгляд раскрашенные осенью клёны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С них облетают листья шелестящие под ногами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02" name="Стрелка вправо 4"/>
          <p:cNvSpPr/>
          <p:nvPr/>
        </p:nvSpPr>
        <p:spPr>
          <a:xfrm>
            <a:off x="7596360" y="5805360"/>
            <a:ext cx="792000" cy="4320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971640" y="404640"/>
          <a:ext cx="7272360" cy="5616720"/>
        </p:xfrm>
        <a:graphic>
          <a:graphicData uri="http://schemas.openxmlformats.org/drawingml/2006/table">
            <a:tbl>
              <a:tblPr/>
              <a:tblGrid>
                <a:gridCol w="2448000"/>
                <a:gridCol w="2376360"/>
                <a:gridCol w="244800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лаг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лаг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ы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яжё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ля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оя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вещав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ча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зываем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танавл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е – это ....... форма ....., которая совмещает в себе признаки ....... (время, вид) и признаки ........ (изменяется по родам, числам и падежам)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образуются от ....... с помощью специальных суффиксов: ....... 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в предложении обычно бывают ........ и отвечают на вопросы: ......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них часто находятся зависимые слова и образуют  ......., который может находиться как перед........, так и после него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причастный оборот стоит перед......, то он .......запятой, если же он стоит после ....... слова, то он всегда …….запятыми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могут быть страдательными и .......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ые и страдательные причастия имеют полную и .......формы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аткие причастия в предложении всегда выступают в роли ......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" name="Прямоугольник 20"/>
          <p:cNvSpPr/>
          <p:nvPr/>
        </p:nvSpPr>
        <p:spPr>
          <a:xfrm>
            <a:off x="255600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7" name="Прямоугольник 22"/>
          <p:cNvSpPr/>
          <p:nvPr/>
        </p:nvSpPr>
        <p:spPr>
          <a:xfrm>
            <a:off x="3924360" y="6922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8" name="Прямоугольник 23"/>
          <p:cNvSpPr/>
          <p:nvPr/>
        </p:nvSpPr>
        <p:spPr>
          <a:xfrm>
            <a:off x="4140360" y="98100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9" name="Прямоугольник 24"/>
          <p:cNvSpPr/>
          <p:nvPr/>
        </p:nvSpPr>
        <p:spPr>
          <a:xfrm flipH="1">
            <a:off x="826200" y="981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0" name="Прямоугольник 25"/>
          <p:cNvSpPr/>
          <p:nvPr/>
        </p:nvSpPr>
        <p:spPr>
          <a:xfrm>
            <a:off x="611280" y="177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12 (а)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1" name="Прямоугольник 26"/>
          <p:cNvSpPr/>
          <p:nvPr/>
        </p:nvSpPr>
        <p:spPr>
          <a:xfrm>
            <a:off x="3924360" y="148428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2" name="Прямоугольник 27"/>
          <p:cNvSpPr/>
          <p:nvPr/>
        </p:nvSpPr>
        <p:spPr>
          <a:xfrm>
            <a:off x="5940360" y="206064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3" name="Прямоугольник 28"/>
          <p:cNvSpPr/>
          <p:nvPr/>
        </p:nvSpPr>
        <p:spPr>
          <a:xfrm>
            <a:off x="1763640" y="227664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6 (а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4" name="Прямоугольник 29"/>
          <p:cNvSpPr/>
          <p:nvPr/>
        </p:nvSpPr>
        <p:spPr>
          <a:xfrm>
            <a:off x="7308720" y="256536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4067280" y="285264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6" name="Прямоугольник 31"/>
          <p:cNvSpPr/>
          <p:nvPr/>
        </p:nvSpPr>
        <p:spPr>
          <a:xfrm>
            <a:off x="6372360" y="314172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7" name="Прямоугольник 32"/>
          <p:cNvSpPr/>
          <p:nvPr/>
        </p:nvSpPr>
        <p:spPr>
          <a:xfrm>
            <a:off x="5219640" y="3141720"/>
            <a:ext cx="5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8" name="Прямоугольник 33"/>
          <p:cNvSpPr/>
          <p:nvPr/>
        </p:nvSpPr>
        <p:spPr>
          <a:xfrm>
            <a:off x="5651640" y="3716280"/>
            <a:ext cx="519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9" name="Прямоугольник 34"/>
          <p:cNvSpPr/>
          <p:nvPr/>
        </p:nvSpPr>
        <p:spPr>
          <a:xfrm>
            <a:off x="2556000" y="342900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0" name="Прямоугольник 35"/>
          <p:cNvSpPr/>
          <p:nvPr/>
        </p:nvSpPr>
        <p:spPr>
          <a:xfrm>
            <a:off x="5435640" y="3357720"/>
            <a:ext cx="51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1" name="Прямоугольник 36"/>
          <p:cNvSpPr/>
          <p:nvPr/>
        </p:nvSpPr>
        <p:spPr>
          <a:xfrm>
            <a:off x="611280" y="4292640"/>
            <a:ext cx="734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2" name="Прямоугольник 37"/>
          <p:cNvSpPr/>
          <p:nvPr/>
        </p:nvSpPr>
        <p:spPr>
          <a:xfrm>
            <a:off x="7812000" y="4508640"/>
            <a:ext cx="66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9:43:42Z</dcterms:created>
  <dc:creator>учитель</dc:creator>
  <dc:description/>
  <cp:keywords/>
  <dc:language>en-US</dc:language>
  <cp:lastModifiedBy>User</cp:lastModifiedBy>
  <dcterms:modified xsi:type="dcterms:W3CDTF">2013-11-07T17:37:08Z</dcterms:modified>
  <cp:revision>59</cp:revision>
  <dc:subject/>
  <dc:title>Отгада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