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ED6C-CD92-499E-9BCC-E2F80FC40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FAEE-D044-4ED2-97C8-D54221C66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8F22-87B3-4B81-93A1-9063C13EC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69A8-B8FA-4B64-9FAD-9B424D0E3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D71B4C-3853-463E-9A6A-D92F63923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F69F5D-1A20-4269-A759-158323698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1C1B62-ABF4-4477-AA0B-A28AB72BA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DB36A0-44D7-449B-A064-E944CC175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2FE3E4-93DE-4AA1-9E21-EE8193C74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2FD31F-6124-4E26-AAE7-19B72018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B72B37-EC9E-4136-8B9B-B67AAC50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31C8-4CAB-41BD-B078-3D22C8111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91B217-FD74-4226-86D7-ED83884E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9E29D7-2D4B-4D7E-9E11-6E8DA23B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CCE664-7021-4415-AFE0-884AFFC4B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3E8979-ED86-43C3-BDC9-CEA11F06F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F8221C-4DB2-40E3-B138-9D311146B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95E6-A173-4C0E-B9EE-4E3D8EBE0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08D3-9AF3-447B-A8C3-1A2CC7807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C45B-50F8-46D8-93D8-161B02D32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AC5C-09CB-4AE8-B945-3EC424B56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8B2F-A968-4D57-A5DE-EFF53B6D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A191-2E23-42DB-960B-9613D6CC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ACD7-07AA-470E-BD0E-9764616A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3D451-A111-4A34-A71C-9452A487410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4B565-A9B5-4656-9B11-53D388FA68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476360" y="476280"/>
            <a:ext cx="6408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деля русского языка</a:t>
            </a:r>
            <a:endParaRPr b="0" lang="en-US" sz="4000" spc="1" strike="noStrike">
              <a:ln w="19080">
                <a:solidFill>
                  <a:srgbClr val="ff00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268360" y="2852640"/>
            <a:ext cx="5112000" cy="34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23640" y="404640"/>
            <a:ext cx="828036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Пунктуация – раздел науки о языке, в котором изучается система знаков препинания и правила их постановки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187280" y="620640"/>
            <a:ext cx="69138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808000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резентация предмета</a:t>
            </a:r>
            <a:endParaRPr b="0" lang="en-US" sz="2800" spc="1" strike="noStrike">
              <a:ln w="12600">
                <a:solidFill>
                  <a:srgbClr val="808000"/>
                </a:solidFill>
                <a:miter/>
              </a:ln>
              <a:solidFill>
                <a:srgbClr val="ff66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808000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     </a:t>
            </a:r>
            <a:r>
              <a:rPr b="0" lang="en-US" sz="2800" spc="1" strike="noStrike">
                <a:ln w="12600">
                  <a:solidFill>
                    <a:srgbClr val="808000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"Русский язык"</a:t>
            </a:r>
            <a:endParaRPr b="0" lang="en-US" sz="2800" spc="1" strike="noStrike">
              <a:ln w="12600">
                <a:solidFill>
                  <a:srgbClr val="808000"/>
                </a:solidFill>
                <a:miter/>
              </a:ln>
              <a:solidFill>
                <a:srgbClr val="ff66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564000" y="2708280"/>
            <a:ext cx="277344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684360" y="1557360"/>
            <a:ext cx="763272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нформация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 </a:t>
            </a: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  размышлению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79280" y="189000"/>
          <a:ext cx="914400" cy="5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89000"/>
                    <a:ext cx="9144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4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4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4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4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828036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Неологизмы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8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это новые слова,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возникающие в языке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Подробнее о них вы сможете узнать, изучая раздел науки о языке – лексикологию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684360" y="1557360"/>
            <a:ext cx="763272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нформация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 </a:t>
            </a: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  размышлению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Морфология – раздел науки о языке, изучающий слово как часть речи, то есть общее значение, грамматические признаки и синтаксическую роль слов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3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7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684360" y="1268280"/>
            <a:ext cx="763272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нформация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 </a:t>
            </a: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  размышлению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75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0728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"/>
              </a:rPr>
              <a:t>Орфография – раздел науки о языке, в котором изучаются правила написания слов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" dur="3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4360" y="1557360"/>
            <a:ext cx="763272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нформация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 </a:t>
            </a: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  размышлению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4T09:35:09Z</dcterms:created>
  <dc:creator>СОШ-2</dc:creator>
  <dc:description/>
  <dc:language>en-US</dc:language>
  <cp:lastModifiedBy>СОШ-2</cp:lastModifiedBy>
  <dcterms:modified xsi:type="dcterms:W3CDTF">2009-02-18T10:40:21Z</dcterms:modified>
  <cp:revision>4</cp:revision>
  <dc:subject/>
  <dc:title>Слайд 1</dc:title>
</cp:coreProperties>
</file>