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8F1-2D6B-4ECE-B12D-728E6BA1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647-BA0C-4A91-866E-065E124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7F8-768C-4CAD-B426-4FB9ABA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728-C5C4-4A84-9280-238BB563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A195C-F3AB-434D-A2E6-ED02C17C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53B12-84A3-4CDD-A00D-D995EE4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6810-57B2-4063-8425-0DD1156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EB7B-AAC1-453B-BF4C-2BCD57C8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A10A3-4274-4CD3-B6F4-ED62F37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5501-06FC-422E-AD74-E30881F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700AD-4DC9-42B5-B2E3-BC062EF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302-5ABA-48A0-BF84-22892AD5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A595-DFB2-4623-A171-A0EE3B0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6065-E421-4656-8B1E-E6FA7F9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DE921-D03E-4119-92C8-F7B1014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09BF-9777-4300-B513-F15BEEA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432CF-3479-489D-A625-DF46EA71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B1E-39EB-40BB-9A90-D785876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98C-795A-4D98-BE54-FC6E96A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A8-A1BE-4037-B9ED-E293CF3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819-CFA7-4119-BA8D-6FB3942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115-DB47-4E0A-876D-EA6291A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091-178D-46AB-91EC-B0EA401D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831-17BA-4DE9-9EC9-14713B6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969E-4764-40D8-B750-3A830E6A1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DDA3-94BD-4E92-8955-7F374A6AB1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76360" y="476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деля русского языка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1120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унктуация – раздел науки о языке, в котором изучается система знаков препинания и правила их постановк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87280" y="620640"/>
            <a:ext cx="691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езентация предмета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</a:t>
            </a: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Русский язык"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773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89000"/>
          <a:ext cx="914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914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Неологизм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это новые слова,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зникающие в языке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Подробнее о них вы сможете узнать, изучая раздел науки о языке – лексикологию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Морфология – раздел науки о языке, изучающий слово как часть речи, то есть общее значение, грамматические признаки и синтаксическую роль сл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126828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Орфография – раздел науки о языке, в котором изучаются правила написания слов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9:35:09Z</dcterms:created>
  <dc:creator>СОШ-2</dc:creator>
  <dc:description/>
  <dc:language>en-US</dc:language>
  <cp:lastModifiedBy>СОШ-2</cp:lastModifiedBy>
  <dcterms:modified xsi:type="dcterms:W3CDTF">2009-02-18T10:40:21Z</dcterms:modified>
  <cp:revision>4</cp:revision>
  <dc:subject/>
  <dc:title>Слайд 1</dc:title>
</cp:coreProperties>
</file>