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1571-B524-46A5-98B2-1584CA89F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B0FF-2478-44F9-AA8A-7F3E91C2E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B6D3-E3BB-468D-9E3E-C13158F0E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C4AD-C1BC-42D8-9FB5-100FAFD02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34FBF6-8F87-43D4-AC39-6A6842A79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126B49-B40C-4820-A0DD-0C8AF3D5C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C6FCE2-F125-4961-B408-B9D733E89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947E39-2158-46C8-B319-341AAB521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16FCF5-1842-41B3-BEE8-DD286F3E6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A0A53A-B1FC-4DDF-8178-1E84727F7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C82F3E-6598-4160-BB24-10D071443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6F21-1C60-4FEB-9824-6E5208520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E9EC6C-9E61-4103-8952-7926FF980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E74180-B5D2-468B-892C-A3B5E0228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5EAC75-5C80-41EC-9A18-4BAB07498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44C473-1828-4105-82F6-764267065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32B4CE-9C8D-4D18-948D-E2786DEA0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B8B3-7ACC-4F52-A37B-40707B377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F9D7-CEF6-44CE-B511-DA372D8AD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0C8F-69BB-4631-A29C-1BC9B3101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13EE-A2FC-4767-95B7-A2F2FC6B0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B834-A54C-4F44-AAD6-E668DEF48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A5AF-803D-4DE2-8A76-B14A1DC31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E7AE-9DBE-44D0-8224-D6C2F8AA3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89FCA-0C8C-4BDD-A5C8-CD629DB02D2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17E19-3D1F-45A3-8E3B-4532C7FDD35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1476360" y="476280"/>
            <a:ext cx="64087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46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деля русского языка</a:t>
            </a:r>
            <a:endParaRPr b="0" lang="en-US" sz="4000" spc="1" strike="noStrike">
              <a:ln w="19080">
                <a:solidFill>
                  <a:srgbClr val="ff00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2268360" y="2852640"/>
            <a:ext cx="5112000" cy="34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" dur="3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23640" y="404640"/>
            <a:ext cx="828036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Пунктуация – раздел науки о языке, в котором изучается система знаков препинания и правила их постановки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1187280" y="620640"/>
            <a:ext cx="691380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808000"/>
                  </a:solidFill>
                  <a:miter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резентация предмета</a:t>
            </a:r>
            <a:endParaRPr b="0" lang="en-US" sz="2800" spc="1" strike="noStrike">
              <a:ln w="12600">
                <a:solidFill>
                  <a:srgbClr val="808000"/>
                </a:solidFill>
                <a:miter/>
              </a:ln>
              <a:solidFill>
                <a:srgbClr val="ff66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808000"/>
                  </a:solidFill>
                  <a:miter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      </a:t>
            </a:r>
            <a:r>
              <a:rPr b="0" lang="en-US" sz="2800" spc="1" strike="noStrike">
                <a:ln w="12600">
                  <a:solidFill>
                    <a:srgbClr val="808000"/>
                  </a:solidFill>
                  <a:miter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"Русский язык"</a:t>
            </a:r>
            <a:endParaRPr b="0" lang="en-US" sz="2800" spc="1" strike="noStrike">
              <a:ln w="12600">
                <a:solidFill>
                  <a:srgbClr val="808000"/>
                </a:solidFill>
                <a:miter/>
              </a:ln>
              <a:solidFill>
                <a:srgbClr val="ff66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564000" y="2708280"/>
            <a:ext cx="277344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" dur="3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684360" y="1557360"/>
            <a:ext cx="763272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Информация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66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  </a:t>
            </a: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к  размышлению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66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79280" y="189000"/>
          <a:ext cx="914400" cy="5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89000"/>
                    <a:ext cx="91440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4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4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4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4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68000" y="404280"/>
            <a:ext cx="828036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Неологизмы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8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i="1" lang="en-US" sz="4800" spc="-1" strike="noStrike">
                <a:solidFill>
                  <a:srgbClr val="ffff00"/>
                </a:solidFill>
                <a:latin typeface="Arial"/>
              </a:rPr>
              <a:t>это новые слова,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4800" spc="-1" strike="noStrike">
                <a:solidFill>
                  <a:srgbClr val="ffff00"/>
                </a:solidFill>
                <a:latin typeface="Arial"/>
              </a:rPr>
              <a:t>возникающие в языке</a:t>
            </a: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Подробнее о них вы сможете узнать, изучая раздел науки о языке – лексикологию.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684360" y="1557360"/>
            <a:ext cx="763272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Информация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66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  </a:t>
            </a: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к  размышлению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66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4960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Морфология – раздел науки о языке, изучающий слово как часть речи, то есть общее значение, грамматические признаки и синтаксическую роль слов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3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7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684360" y="1268280"/>
            <a:ext cx="763272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66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Информация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66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66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  </a:t>
            </a: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66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к  размышлению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66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75" dur="3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0728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Arial"/>
              </a:rPr>
              <a:t>Орфография – раздел науки о языке, в котором изучаются правила написания слов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2" dur="3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4360" y="1557360"/>
            <a:ext cx="763272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Информация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66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  </a:t>
            </a: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к  размышлению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66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4T09:35:09Z</dcterms:created>
  <dc:creator>СОШ-2</dc:creator>
  <dc:description/>
  <dc:language>en-US</dc:language>
  <cp:lastModifiedBy>СОШ-2</cp:lastModifiedBy>
  <dcterms:modified xsi:type="dcterms:W3CDTF">2009-02-18T10:40:21Z</dcterms:modified>
  <cp:revision>4</cp:revision>
  <dc:subject/>
  <dc:title>Слайд 1</dc:title>
</cp:coreProperties>
</file>