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7.jpeg" ContentType="image/jpeg"/>
  <Override PartName="/ppt/media/image17.gif" ContentType="image/gif"/>
  <Override PartName="/ppt/media/image4.jpeg" ContentType="image/jpeg"/>
  <Override PartName="/ppt/media/image2.png" ContentType="image/png"/>
  <Override PartName="/ppt/media/image25.jpeg" ContentType="image/jpeg"/>
  <Override PartName="/ppt/media/image13.gif" ContentType="image/gif"/>
  <Override PartName="/ppt/media/image11.gif" ContentType="image/gif"/>
  <Override PartName="/ppt/media/image7.gif" ContentType="image/gif"/>
  <Override PartName="/ppt/media/image26.jpeg" ContentType="image/jpeg"/>
  <Override PartName="/ppt/media/image32.gif" ContentType="image/gif"/>
  <Override PartName="/ppt/media/image12.gif" ContentType="image/gif"/>
  <Override PartName="/ppt/media/image8.jpeg" ContentType="image/jpeg"/>
  <Override PartName="/ppt/media/image30.png" ContentType="image/png"/>
  <Override PartName="/ppt/media/image9.gif" ContentType="image/gif"/>
  <Override PartName="/ppt/media/image10.gif" ContentType="image/gif"/>
  <Override PartName="/ppt/media/image6.png" ContentType="image/png"/>
  <Override PartName="/ppt/media/image31.gif" ContentType="image/gif"/>
  <Override PartName="/ppt/media/image3.png" ContentType="image/png"/>
  <Override PartName="/ppt/media/image16.png" ContentType="image/png"/>
  <Override PartName="/ppt/media/image23.gif" ContentType="image/gif"/>
  <Override PartName="/ppt/media/image1.jpeg" ContentType="image/jpeg"/>
  <Override PartName="/ppt/media/image14.gif" ContentType="image/gif"/>
  <Override PartName="/ppt/media/image5.jpeg" ContentType="image/jpeg"/>
  <Override PartName="/ppt/media/image15.gif" ContentType="image/gif"/>
  <Override PartName="/ppt/media/image18.png" ContentType="image/png"/>
  <Override PartName="/ppt/media/image28.jpeg" ContentType="image/jpeg"/>
  <Override PartName="/ppt/media/image22.png" ContentType="image/png"/>
  <Override PartName="/ppt/media/image19.gif" ContentType="image/gif"/>
  <Override PartName="/ppt/media/image21.gif" ContentType="image/gif"/>
  <Override PartName="/ppt/media/image20.gif" ContentType="image/gif"/>
  <Override PartName="/ppt/media/image24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246E-4DAB-45B4-83C4-8EC0212408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BAC4-EEBA-4034-B70B-ADC06E09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D4275-8F55-4B58-BFE1-BA7721CA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20A65-D909-4D5D-BCD9-818AEEF1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BF6AB-F537-44F5-A8B1-547C2CF0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67AFB-0794-4BF0-B761-5F4F02EF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77031-249A-462C-82F9-29D10842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EAF12-5DDF-49ED-B783-251686B8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76B74-E69D-4384-99D4-3DEFBEFC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A30E2-F9C1-4F77-95F7-494C4F32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6B572-3D58-4A2F-ACEB-B721DCAFE0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2725-9814-4FF4-AF40-29B7F9A5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F22E-ADD5-45DA-A860-378F2F8079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8DA67-EB31-4E58-9251-987808F435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B0141-38DB-472E-B1E8-8F7B9460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968D3-BFC6-4B4A-9C3A-E955C0CB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80C04-1FA8-430F-AD5D-DC9D4DDF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F2BAF-4C01-4A34-A299-FEC74667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B14DE-6ED8-4B7A-A18E-1CC7D878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35DB3-E736-443C-9DA8-10FCD743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F154-BFBD-40FE-B6AA-2672CBDF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7BF26-191C-4DC4-9C8D-99CCA0AC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5D426-971E-4EC3-85BB-B9C6DE13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FDCBD-3580-4538-8CAD-E1BCA1AE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0EECE-E997-451D-BD73-9EF29218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CA65F-6853-462D-AB74-0736A13455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FE51-64E9-4E9F-ACA1-FF8D82B1CC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AC50-A59C-42EE-90AB-CD0D319C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2F72-7175-4C59-A2A2-77C79283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F951-649C-42FD-A45D-FD288F87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D175-27BD-4687-9DDB-ADE4F492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887B-550B-40F7-A603-81674344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E190-B4F9-4409-93AE-D5E78C4C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5361-B59B-46FA-B496-E454DF67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8AEF-06E6-49F4-A7CE-E1A8B80A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38DE-0901-44B9-9DB7-F11048AD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D59C-CD2A-45A9-B985-8C750B48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F49A-3E18-4331-BEC9-E29815D0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D4D5-9266-4811-94AB-60AD9610CF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560AF-06B2-45D4-84F5-EB86A4219B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7D635-49C0-4A4F-B317-6301A8D1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E95B6-1252-456C-A177-C684453A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2B07-2377-41FB-9C22-EF629195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8C44D-051A-4FF2-9639-04D353A0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82C01-8667-41C5-A79C-5505CEDB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DB31D-1E7A-4B0E-84CE-4C75510D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8954F-7A53-4760-95B5-23A6496D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E4237-D78E-4B1B-A5F8-AC99B361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2E34F-809D-4AE7-81F4-FBA25CD1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459C6-6BCB-42AA-A8C3-DA82E4C8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DE2B3-BA43-4B9B-8412-61C4AEB9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A37E6-5292-4E0C-8BDE-05FF67F98D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46CB27-F442-424E-826C-6FDA843F59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9F0A-E954-4E7B-97EB-4C87037E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E9CAA-1E02-4F95-9F74-40A1B07A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192540-A84A-485F-A16E-F1D68C32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017D6-97C3-436F-9DDF-7298B4B9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57A16-357D-45AB-8CA4-B9232D14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780B82-D65E-4CA1-BB9A-7E63EAC3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2A28A9-53C0-4EC8-A4F5-80CFDAB2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0A95AC-8444-45FF-B631-D9A4E2B4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A12881-DF9C-4244-90FD-267F93AA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6E3F8D-4EDF-4D0A-BE31-22803935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27F391-7915-4674-B474-47BAD967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7A75-FF1C-4229-834F-1182EEC5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A340C6-8C6A-4268-910F-1295C96438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E7E1A-E2FC-4468-BC1B-0A4D6CB767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EDA15-2AB3-429B-99AB-AEDB382B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9380A-6F32-47A0-9A10-C1861640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37D7A-26F9-4347-BDE7-CABAA236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A237-EC70-4B62-B8E2-C61CFAF6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617D9-7428-43C5-984C-2AC491BD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6DF4B-1F08-46BB-B1A2-3E023460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F723F-A3E5-422C-8C93-DF72F3CE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F7B2E-E525-4930-8885-0C6C22CA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4C86F-484B-46A2-9614-3A6FFE6A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6D18C-00BE-48A6-BF8A-388511B5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528D6-002E-4331-B468-D1C1D039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D93F0-603F-4E90-BF1C-D4BFA415B2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4CC20-8FD8-4A32-9320-0B44867212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D5599-41CF-4563-90B6-A90922C2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8D426-F098-478C-B454-803D629E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AB19B6-561F-4597-8019-8392622F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811F5-B495-4704-A913-CEA7DFB7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2133A-684C-4811-85ED-6CD7EEEE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1B52D-A9A0-494F-9CB2-A847EA33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1FC52-5066-48A7-B08C-E7A30886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417190-6FB8-4DDD-B9FC-0DE06C48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CA0C6-943E-4499-8091-5D6A088B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C1BFC-EAF1-4437-A7A5-7856406D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11958-6D39-4BBE-AAA1-3FA1076D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F3860-6243-4EA6-A2E7-908D57BBB8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94A2E4-891F-4A0E-BEB0-EA251DBFF1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0E82AD-427D-4A0A-B49B-5664A33F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457829-1781-4E72-A1BF-F7344033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EEB70E-0975-4582-AD65-85302F18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22C8CF-0892-4855-98DA-CE5C4C4D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98E1-BE3A-464D-8E37-7178E522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70A366-C1A0-4FB1-9EC8-625E6FDB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227BF6-B257-4763-9334-13597EDF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69944E-3B26-42D2-B8AE-EEF2852A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DC90A8-BD53-43CE-B07A-F98B8D2A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D090A2-054E-4ABA-8CA5-C99CDF04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793488-5094-481B-82BD-8C30F89E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5466CC-70C0-419B-8068-29CEB6C047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71765-26DC-4C57-AFFE-1D9A70B556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A6B6B-3E63-4D22-ACE5-9859095D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B648B-BD5C-48E0-8A95-BCD1802D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17019C-BCD7-4110-8BD4-8DE59C10836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2B0EE03-CDCC-4AF9-82CD-E5B574DDE3B3}" type="slidenum"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878F4C6-F612-4881-A989-1F412E195E8C}" type="slidenum"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2EADDEA-987A-4886-A776-72C0B842B5F0}" type="slidenum"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FC436E9-9E53-4515-B34A-352B1C093135}" type="slidenum"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8E7FB3E-C302-42E5-A380-41C469B741E6}" type="slidenum"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8A176A7-4A59-4FB2-82A5-5E27AF3C877C}" type="slidenum"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85B15D0-8D5B-4285-BDF2-EE069340FAC2}" type="slidenum"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942BDE1-7923-40B3-9364-773C031E9A1C}" type="slidenum"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png"/><Relationship Id="rId11" Type="http://schemas.openxmlformats.org/officeDocument/2006/relationships/image" Target="../media/image17.gif"/><Relationship Id="rId12" Type="http://schemas.openxmlformats.org/officeDocument/2006/relationships/image" Target="../media/image18.png"/><Relationship Id="rId13" Type="http://schemas.openxmlformats.org/officeDocument/2006/relationships/image" Target="../media/image19.gif"/><Relationship Id="rId14" Type="http://schemas.openxmlformats.org/officeDocument/2006/relationships/image" Target="../media/image20.gif"/><Relationship Id="rId15" Type="http://schemas.openxmlformats.org/officeDocument/2006/relationships/image" Target="../media/image21.gif"/><Relationship Id="rId16" Type="http://schemas.openxmlformats.org/officeDocument/2006/relationships/image" Target="../media/image22.png"/><Relationship Id="rId17" Type="http://schemas.openxmlformats.org/officeDocument/2006/relationships/image" Target="../media/image23.gif"/><Relationship Id="rId18" Type="http://schemas.openxmlformats.org/officeDocument/2006/relationships/image" Target="../media/image24.gif"/><Relationship Id="rId1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png"/><Relationship Id="rId11" Type="http://schemas.openxmlformats.org/officeDocument/2006/relationships/image" Target="../media/image18.png"/><Relationship Id="rId12" Type="http://schemas.openxmlformats.org/officeDocument/2006/relationships/image" Target="../media/image19.gif"/><Relationship Id="rId13" Type="http://schemas.openxmlformats.org/officeDocument/2006/relationships/image" Target="../media/image21.gif"/><Relationship Id="rId14" Type="http://schemas.openxmlformats.org/officeDocument/2006/relationships/image" Target="../media/image22.png"/><Relationship Id="rId15" Type="http://schemas.openxmlformats.org/officeDocument/2006/relationships/image" Target="../media/image23.gif"/><Relationship Id="rId16" Type="http://schemas.openxmlformats.org/officeDocument/2006/relationships/image" Target="../media/image24.gif"/><Relationship Id="rId17" Type="http://schemas.openxmlformats.org/officeDocument/2006/relationships/image" Target="../media/image29.gif"/><Relationship Id="rId1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png"/><Relationship Id="rId11" Type="http://schemas.openxmlformats.org/officeDocument/2006/relationships/image" Target="../media/image18.png"/><Relationship Id="rId12" Type="http://schemas.openxmlformats.org/officeDocument/2006/relationships/image" Target="../media/image19.gif"/><Relationship Id="rId13" Type="http://schemas.openxmlformats.org/officeDocument/2006/relationships/image" Target="../media/image21.gif"/><Relationship Id="rId14" Type="http://schemas.openxmlformats.org/officeDocument/2006/relationships/image" Target="../media/image22.png"/><Relationship Id="rId15" Type="http://schemas.openxmlformats.org/officeDocument/2006/relationships/image" Target="../media/image23.gif"/><Relationship Id="rId16" Type="http://schemas.openxmlformats.org/officeDocument/2006/relationships/image" Target="../media/image24.gif"/><Relationship Id="rId17" Type="http://schemas.openxmlformats.org/officeDocument/2006/relationships/image" Target="../media/image29.gif"/><Relationship Id="rId1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10.gif"/><Relationship Id="rId4" Type="http://schemas.openxmlformats.org/officeDocument/2006/relationships/image" Target="../media/image31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10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2.gif"/><Relationship Id="rId4" Type="http://schemas.openxmlformats.org/officeDocument/2006/relationships/image" Target="../media/image2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10.gif"/><Relationship Id="rId4" Type="http://schemas.openxmlformats.org/officeDocument/2006/relationships/image" Target="../media/image32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png"/><Relationship Id="rId11" Type="http://schemas.openxmlformats.org/officeDocument/2006/relationships/image" Target="../media/image17.gif"/><Relationship Id="rId12" Type="http://schemas.openxmlformats.org/officeDocument/2006/relationships/image" Target="../media/image18.png"/><Relationship Id="rId13" Type="http://schemas.openxmlformats.org/officeDocument/2006/relationships/image" Target="../media/image19.gif"/><Relationship Id="rId14" Type="http://schemas.openxmlformats.org/officeDocument/2006/relationships/image" Target="../media/image20.gif"/><Relationship Id="rId15" Type="http://schemas.openxmlformats.org/officeDocument/2006/relationships/image" Target="../media/image21.gif"/><Relationship Id="rId16" Type="http://schemas.openxmlformats.org/officeDocument/2006/relationships/image" Target="../media/image22.png"/><Relationship Id="rId17" Type="http://schemas.openxmlformats.org/officeDocument/2006/relationships/image" Target="../media/image23.gif"/><Relationship Id="rId18" Type="http://schemas.openxmlformats.org/officeDocument/2006/relationships/image" Target="../media/image24.gif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357200" y="1285920"/>
            <a:ext cx="578664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         </a:t>
            </a: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Стремиться к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и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ждать чуд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04920" y="281160"/>
            <a:ext cx="8686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04920" y="281160"/>
            <a:ext cx="8686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304920" y="281160"/>
            <a:ext cx="8686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51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7072200" y="214200"/>
            <a:ext cx="1714680" cy="15098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6215040" y="4286160"/>
            <a:ext cx="1200240" cy="22100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5"/>
          <a:stretch/>
        </p:blipFill>
        <p:spPr>
          <a:xfrm>
            <a:off x="5072040" y="3786120"/>
            <a:ext cx="514440" cy="5716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6"/>
          <a:stretch/>
        </p:blipFill>
        <p:spPr>
          <a:xfrm>
            <a:off x="6715080" y="57150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7"/>
          <a:stretch/>
        </p:blipFill>
        <p:spPr>
          <a:xfrm>
            <a:off x="2357280" y="55008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8"/>
          <a:stretch/>
        </p:blipFill>
        <p:spPr>
          <a:xfrm>
            <a:off x="5643720" y="6072120"/>
            <a:ext cx="9284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9"/>
          <a:stretch/>
        </p:blipFill>
        <p:spPr>
          <a:xfrm>
            <a:off x="500040" y="50720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0"/>
          <a:stretch/>
        </p:blipFill>
        <p:spPr>
          <a:xfrm>
            <a:off x="785880" y="6072120"/>
            <a:ext cx="714240" cy="5954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1"/>
          <a:stretch/>
        </p:blipFill>
        <p:spPr>
          <a:xfrm>
            <a:off x="285840" y="1285920"/>
            <a:ext cx="8501040" cy="838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2"/>
          <a:stretch/>
        </p:blipFill>
        <p:spPr>
          <a:xfrm>
            <a:off x="5072040" y="585792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3"/>
          <a:stretch/>
        </p:blipFill>
        <p:spPr>
          <a:xfrm>
            <a:off x="1714680" y="5429160"/>
            <a:ext cx="428400" cy="5000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4"/>
          <a:stretch/>
        </p:blipFill>
        <p:spPr>
          <a:xfrm>
            <a:off x="2357280" y="5072040"/>
            <a:ext cx="2214720" cy="4856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5"/>
          <a:stretch/>
        </p:blipFill>
        <p:spPr>
          <a:xfrm>
            <a:off x="4000680" y="557208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16"/>
          <a:stretch/>
        </p:blipFill>
        <p:spPr>
          <a:xfrm rot="1740000">
            <a:off x="3187440" y="932040"/>
            <a:ext cx="384120" cy="27756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17"/>
          <a:stretch/>
        </p:blipFill>
        <p:spPr>
          <a:xfrm>
            <a:off x="7572240" y="3786120"/>
            <a:ext cx="1571760" cy="27813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18"/>
          <a:stretch/>
        </p:blipFill>
        <p:spPr>
          <a:xfrm>
            <a:off x="6572160" y="4071960"/>
            <a:ext cx="428760" cy="35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7072200" y="214200"/>
            <a:ext cx="1714680" cy="15098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6215040" y="4286160"/>
            <a:ext cx="1200240" cy="22100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5"/>
          <a:stretch/>
        </p:blipFill>
        <p:spPr>
          <a:xfrm>
            <a:off x="500040" y="4786200"/>
            <a:ext cx="514440" cy="5716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6"/>
          <a:stretch/>
        </p:blipFill>
        <p:spPr>
          <a:xfrm>
            <a:off x="6715080" y="57150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7"/>
          <a:stretch/>
        </p:blipFill>
        <p:spPr>
          <a:xfrm>
            <a:off x="1857240" y="557208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8"/>
          <a:stretch/>
        </p:blipFill>
        <p:spPr>
          <a:xfrm>
            <a:off x="7858080" y="6000840"/>
            <a:ext cx="928800" cy="642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9"/>
          <a:stretch/>
        </p:blipFill>
        <p:spPr>
          <a:xfrm>
            <a:off x="500040" y="50720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0"/>
          <a:stretch/>
        </p:blipFill>
        <p:spPr>
          <a:xfrm>
            <a:off x="785880" y="6072120"/>
            <a:ext cx="714240" cy="5954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1"/>
          <a:stretch/>
        </p:blipFill>
        <p:spPr>
          <a:xfrm>
            <a:off x="5857920" y="614376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2"/>
          <a:stretch/>
        </p:blipFill>
        <p:spPr>
          <a:xfrm>
            <a:off x="1714680" y="5143680"/>
            <a:ext cx="428400" cy="5000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3"/>
          <a:stretch/>
        </p:blipFill>
        <p:spPr>
          <a:xfrm>
            <a:off x="4071960" y="542916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4"/>
          <a:stretch/>
        </p:blipFill>
        <p:spPr>
          <a:xfrm rot="1740000">
            <a:off x="3258720" y="1432080"/>
            <a:ext cx="384120" cy="2775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15"/>
          <a:stretch/>
        </p:blipFill>
        <p:spPr>
          <a:xfrm>
            <a:off x="7572240" y="3786120"/>
            <a:ext cx="1571760" cy="278136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16"/>
          <a:stretch/>
        </p:blipFill>
        <p:spPr>
          <a:xfrm>
            <a:off x="6572160" y="4071960"/>
            <a:ext cx="428760" cy="3506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7"/>
          <a:stretch/>
        </p:blipFill>
        <p:spPr>
          <a:xfrm rot="2520000">
            <a:off x="1541160" y="1874520"/>
            <a:ext cx="140328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0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64 -0.00972 C 0.12378 -0.00902 0.1401 -0.00949 0.15625 -0.00787 C 0.16614 -0.00694 0.17621 0.00371 0.18489 0.00926 C 0.19444 0.01551 0.2059 0.01737 0.21632 0.01875 C 0.22205 0.03056 0.21649 0.0176 0.22066 0.03403 C 0.22344 0.04491 0.22691 0.05602 0.23055 0.06644 C 0.23281 0.07246 0.23316 0.08241 0.23628 0.0875 C 0.23924 0.09237 0.24375 0.09537 0.24635 0.1007 C 0.24722 0.10255 0.24826 0.10463 0.24913 0.10649 C 0.24861 0.11019 0.2493 0.11459 0.24774 0.11783 C 0.24566 0.12199 0.24167 0.12385 0.23906 0.12732 C 0.23125 0.13774 0.22778 0.14375 0.21771 0.15024 C 0.20937 0.16412 0.2 0.17616 0.19201 0.19028 C 0.19826 0.19561 0.20156 0.1963 0.2092 0.19792 C 0.21163 0.19908 0.21389 0.2007 0.21632 0.20162 C 0.2191 0.20255 0.22205 0.20255 0.22483 0.20371 C 0.22639 0.2044 0.2276 0.20649 0.22917 0.20741 C 0.23264 0.20949 0.23941 0.21181 0.2434 0.2132 C 0.24462 0.22732 0.24566 0.24561 0.25052 0.2588 C 0.25208 0.26297 0.25278 0.26991 0.25625 0.27037 C 0.26059 0.27107 0.26476 0.27153 0.2691 0.27223 C 0.27483 0.27477 0.28038 0.27778 0.28628 0.27987 C 0.27812 0.30764 0.25538 0.30973 0.23628 0.31598 C 0.23351 0.33889 0.22604 0.36227 0.22066 0.38449 C 0.22083 0.38866 0.22344 0.41644 0.22344 0.42848 E">
                                      <p:cBhvr>
                                        <p:cTn id="111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7072200" y="214200"/>
            <a:ext cx="1714680" cy="15098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6215040" y="4286160"/>
            <a:ext cx="1200240" cy="22100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5"/>
          <a:stretch/>
        </p:blipFill>
        <p:spPr>
          <a:xfrm>
            <a:off x="5072040" y="3786120"/>
            <a:ext cx="514440" cy="5716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6"/>
          <a:stretch/>
        </p:blipFill>
        <p:spPr>
          <a:xfrm>
            <a:off x="6715080" y="57150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7"/>
          <a:stretch/>
        </p:blipFill>
        <p:spPr>
          <a:xfrm>
            <a:off x="2357280" y="55008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8"/>
          <a:stretch/>
        </p:blipFill>
        <p:spPr>
          <a:xfrm>
            <a:off x="7786800" y="5500800"/>
            <a:ext cx="928440" cy="64296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9"/>
          <a:stretch/>
        </p:blipFill>
        <p:spPr>
          <a:xfrm>
            <a:off x="1357200" y="478620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10"/>
          <a:stretch/>
        </p:blipFill>
        <p:spPr>
          <a:xfrm>
            <a:off x="785880" y="6072120"/>
            <a:ext cx="714240" cy="5954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1"/>
          <a:stretch/>
        </p:blipFill>
        <p:spPr>
          <a:xfrm>
            <a:off x="5072040" y="585792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2"/>
          <a:stretch/>
        </p:blipFill>
        <p:spPr>
          <a:xfrm>
            <a:off x="1785960" y="6143760"/>
            <a:ext cx="428760" cy="5000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3"/>
          <a:stretch/>
        </p:blipFill>
        <p:spPr>
          <a:xfrm>
            <a:off x="4000680" y="557208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4"/>
          <a:stretch/>
        </p:blipFill>
        <p:spPr>
          <a:xfrm rot="1740000">
            <a:off x="3187440" y="932040"/>
            <a:ext cx="384120" cy="2775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5"/>
          <a:stretch/>
        </p:blipFill>
        <p:spPr>
          <a:xfrm>
            <a:off x="0" y="3714840"/>
            <a:ext cx="1571760" cy="2781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6"/>
          <a:stretch/>
        </p:blipFill>
        <p:spPr>
          <a:xfrm>
            <a:off x="6572160" y="4071960"/>
            <a:ext cx="428760" cy="3506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7"/>
          <a:stretch/>
        </p:blipFill>
        <p:spPr>
          <a:xfrm rot="2520000">
            <a:off x="3613320" y="4946400"/>
            <a:ext cx="1403280" cy="129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14400" y="3240"/>
            <a:ext cx="9129600" cy="68547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6000840" y="5219640"/>
            <a:ext cx="1200240" cy="1638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285840" y="214200"/>
            <a:ext cx="5000400" cy="20480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 rot="2520000">
            <a:off x="2980800" y="5189040"/>
            <a:ext cx="146376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0880" y="4805280"/>
            <a:ext cx="845820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088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29600" cy="70689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5286240" y="4714920"/>
            <a:ext cx="1552680" cy="17859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 rot="1140000">
            <a:off x="2099880" y="1962000"/>
            <a:ext cx="1376280" cy="8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 rot="19140000">
            <a:off x="6064200" y="465120"/>
            <a:ext cx="2209680" cy="21114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 rot="1140000">
            <a:off x="3035160" y="1560600"/>
            <a:ext cx="1376640" cy="86184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6429240" y="4572000"/>
            <a:ext cx="15526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 -6 L 2.59259 -6 C -0.0128499999999998 -0.000700000000000145 -0.02587 -0.0007 -0.03872 -0.00186 C -0.05903 -0.00371 -0.07552 -0.02037 -0.09427 -0.02662 C -0.10104 -0.03565 -0.12466 -0.03635 -0.13438 -0.04005 C -0.14584 -0.04422 -0.15365 -0.05602 -0.16441 -0.06111 C -0.175 -0.08218 -0.19358 -0.0919 -0.21146 -0.09723 C -0.21875 -0.09931 -0.22587 -0.10209 -0.23299 -0.10486 C -0.23577 -0.10602 -0.2415 -0.10857 -0.2415 -0.10857 C -0.24931 -0.11574 -0.25643 -0.12084 -0.2658 -0.12385 C -0.29028 -0.15 -0.31823 -0.14885 -0.34861 -0.15047 C -0.35573 -0.15371 -0.36146 -0.1588 -0.36858 -0.16204 C -0.3757 -0.16528 -0.38229 -0.16806 -0.38872 -0.17338 C -0.45625 -0.16875 -0.52743 -0.19121 -0.5915 -0.16389 C -0.59549 -0.15834 -0.60035 -0.15324 -0.60573 -0.15047 C -0.61025 -0.1419 -0.61684 -0.13658 -0.62153 -0.12778 C -0.62414 -0.11713 -0.62934 -0.1132 -0.63438 -0.10486 C -0.63889 -0.09746 -0.64323 -0.08727 -0.65 -0.0838 C -0.65625 -0.07593 -0.65504 -0.06135 -0.66007 -0.05139 C -0.66059 -0.04954 -0.66077 -0.04769 -0.66146 -0.04584 C -0.66233 -0.04375 -0.66389 -0.04213 -0.66441 -0.04005 C -0.6658 -0.03519 -0.66719 -0.02477 -0.66719 -0.02477 C -0.66598 0.02407 -0.67188 0.02407 -0.65868 0.05139 C -0.65729 0.05787 -0.65625 0.06597 -0.65434 0.07222 C -0.65052 0.08426 -0.65226 0.07176 -0.65 0.08379 C -0.64844 0.09189 -0.64896 0.09676 -0.64584 0.10463 C -0.64358 0.11041 -0.6408 0.11574 -0.63872 0.12176 C -0.63368 0.1368 -0.63924 0.13032 -0.63143 0.13703 C -0.62778 0.14722 -0.62118 0.15393 -0.61719 0.16365 C -0.60764 0.1868 -0.61563 0.17152 -0.60712 0.18657 C -0.60625 0.19166 -0.60521 0.19676 -0.60434 0.20185 C -0.60348 0.20625 -0.59861 0.21319 -0.59861 0.21319 C -0.59497 0.22824 -0.58941 0.23356 -0.58299 0.2456 C -0.58177 0.24791 -0.58125 0.25092 -0.58004 0.25324 C -0.57431 0.26481 -0.5632 0.27291 -0.55573 0.28194 C -0.54653 0.29305 -0.54271 0.29953 -0.53004 0.30277 C -0.52344 0.30648 -0.51702 0.3081 -0.51007 0.31041 C -0.4974 0.32106 -0.5158 0.30694 -0.48299 0.3162 C -0.47761 0.31782 -0.46268 0.32847 -0.45573 0.33148 C -0.4441 0.3368 -0.43507 0.33611 -0.42153 0.33703 C -0.40539 0.33588 -0.38907 0.33495 -0.37292 0.33333 C -0.36754 0.33287 -0.3625 0.32916 -0.35712 0.32754 C -0.34479 0.32407 -0.33229 0.32199 -0.32014 0.31805 C -0.29636 0.31018 -0.27431 0.29838 -0.25 0.29328 C -0.22118 0.27986 -0.19132 0.27754 -0.16146 0.27037 C -0.14427 0.2662 -0.12726 0.26111 -0.11007 0.25717 C -0.10417 0.25578 -0.09879 0.25208 -0.09289 0.25139 C -0.07726 0.2493 -0.06146 0.24884 -0.04584 0.24745 C -0.03577 0.24305 -0.02483 0.24236 -0.01441 0.24004 C 0.00399 0.23611 0.02152 0.22963 0.03993 0.22662 C 0.04913 0.21828 0.07014 0.21574 0.08142 0.21134 C 0.09722 0.20532 0.1118 0.19583 0.12708 0.18842 C 0.12951 0.1787 0.12968 0.16828 0.13142 0.1581 C 0.13194 0.15115 0.13159 0.13055 0.13559 0.12384 C 0.13802 0.1199 0.14288 0.1162 0.14566 0.11227 C 0.14809 0.10231 0.15139 0.09352 0.15416 0.08379 C 0.15521 0.07662 0.1585 0.0699 0.1585 0.06273 C 0.15955 -0.02523 0.15955 -0.02199 0.15139 -0.07824 C 0.15034 -0.08496 0.14896 -0.0919 0.14566 -0.09723 C 0.13281 -0.11806 0.11996 -0.13912 0.10711 -0.15996 C 0.10451 -0.16412 0.08229 -0.17292 0.07708 -0.17523 C 0.06909 -0.18241 0.07621 -0.17732 0.06284 -0.18102 C 0.05086 -0.18449 0.04062 -0.1882 0.02847 -0.19051 C 0.01284 -0.18982 -0.00295 -0.18959 -0.01858 -0.18866 C -0.0283 -0.18797 -0.0375 -0.18148 -0.04723 -0.18102 C -0.07622 -0.17917 -0.10539 -0.17848 -0.13438 -0.17732 C -0.15226 -0.17084 -0.16493 -0.17084 -0.18438 -0.16968 C -0.19063 -0.15672 -0.19375 -0.14121 -0.20573 -0.13519 C -0.20764 -0.12778 -0.20886 -0.12616 -0.21459 -0.12385 C -0.21754 -0.11042 -0.21354 -0.1257 -0.21858 -0.1125 C -0.22153 -0.10486 -0.22223 -0.09676 -0.2257 -0.08959 C -0.22986 -0.06945 -0.22431 -0.09306 -0.23004 -0.07616 C -0.23299 -0.06736 -0.23316 -0.06042 -0.23872 -0.05348 C -0.24028 -0.04699 -0.24202 -0.04283 -0.24601 -0.0382 C -0.24809 -0.02894 -0.25122 -0.02454 -0.25712 -0.01922 C -0.25938 -0.01088 -0.2665 -0.0044 -0.27153 0.00185 C -0.27344 0.01018 -0.27726 0.01713 -0.28004 0.02477 C -0.28073 0.02662 -0.28039 0.02893 -0.28143 0.03032 C -0.28195 0.03102 -0.28247 0.02916 -0.28299 0.02847 E">
                                      <p:cBhvr>
                                        <p:cTn id="117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6429240" y="5500800"/>
            <a:ext cx="932040" cy="1071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 rot="19140000">
            <a:off x="3241800" y="711360"/>
            <a:ext cx="1838160" cy="142848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5"/>
          <a:stretch/>
        </p:blipFill>
        <p:spPr>
          <a:xfrm rot="2460000">
            <a:off x="2553840" y="1333440"/>
            <a:ext cx="1305000" cy="8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0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 -6 0.08843 L -0.34843 -0.61111">
                                      <p:cBhvr>
                                        <p:cTn id="123" dur="2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04920" y="281160"/>
            <a:ext cx="8686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14200" y="1484280"/>
            <a:ext cx="89298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Человек на протяжении всей сво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жизни должен стремиться 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достижению своей цел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используя  любые возможнос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0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42920" y="1214280"/>
            <a:ext cx="88488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Человек на протяжении всей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не должен стремиться к достиж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своей цел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для этого существуют удача или чу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900000" y="1557360"/>
            <a:ext cx="723744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b13f9a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en-US" sz="44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- предмет стремлен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то, что над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желательно осуществ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0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000080" y="1143000"/>
            <a:ext cx="74296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b13f9a"/>
                </a:solidFill>
                <a:uFillTx/>
                <a:latin typeface="Times New Roman"/>
                <a:ea typeface="Times New Roman"/>
              </a:rPr>
              <a:t>Мечта</a:t>
            </a: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– нечт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созданное воображение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мысленно представляем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0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428920" y="1000080"/>
            <a:ext cx="41432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b13f9a"/>
                </a:solidFill>
                <a:latin typeface="Franklin Gothic Book"/>
                <a:ea typeface="Times New Roman"/>
              </a:rPr>
              <a:t>Я – птица</a:t>
            </a:r>
            <a:r>
              <a:rPr b="1" lang="ru-RU" sz="60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428840" y="2928960"/>
            <a:ext cx="383040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7072200" y="214200"/>
            <a:ext cx="1714680" cy="15098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6215040" y="4286160"/>
            <a:ext cx="1200240" cy="22100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5072040" y="3786120"/>
            <a:ext cx="514440" cy="571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6715080" y="57150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7"/>
          <a:stretch/>
        </p:blipFill>
        <p:spPr>
          <a:xfrm>
            <a:off x="2357280" y="55008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5643720" y="6072120"/>
            <a:ext cx="928440" cy="6429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9"/>
          <a:stretch/>
        </p:blipFill>
        <p:spPr>
          <a:xfrm>
            <a:off x="500040" y="50720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0"/>
          <a:stretch/>
        </p:blipFill>
        <p:spPr>
          <a:xfrm>
            <a:off x="785880" y="6072120"/>
            <a:ext cx="714240" cy="595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11"/>
          <a:stretch/>
        </p:blipFill>
        <p:spPr>
          <a:xfrm>
            <a:off x="357120" y="2000160"/>
            <a:ext cx="8501040" cy="8384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12"/>
          <a:stretch/>
        </p:blipFill>
        <p:spPr>
          <a:xfrm>
            <a:off x="5072040" y="585792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3"/>
          <a:stretch/>
        </p:blipFill>
        <p:spPr>
          <a:xfrm>
            <a:off x="1714680" y="5429160"/>
            <a:ext cx="428400" cy="5000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4"/>
          <a:stretch/>
        </p:blipFill>
        <p:spPr>
          <a:xfrm>
            <a:off x="2357280" y="5072040"/>
            <a:ext cx="2214720" cy="4856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5"/>
          <a:stretch/>
        </p:blipFill>
        <p:spPr>
          <a:xfrm>
            <a:off x="4000680" y="557208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16"/>
          <a:stretch/>
        </p:blipFill>
        <p:spPr>
          <a:xfrm rot="1740000">
            <a:off x="3258720" y="1432080"/>
            <a:ext cx="384120" cy="2775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17"/>
          <a:stretch/>
        </p:blipFill>
        <p:spPr>
          <a:xfrm>
            <a:off x="7572240" y="3786120"/>
            <a:ext cx="1571760" cy="27813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18"/>
          <a:stretch/>
        </p:blipFill>
        <p:spPr>
          <a:xfrm>
            <a:off x="6572160" y="4071960"/>
            <a:ext cx="428760" cy="3506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9"/>
          <a:stretch/>
        </p:blipFill>
        <p:spPr>
          <a:xfrm>
            <a:off x="21420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04920" y="281160"/>
            <a:ext cx="8686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02T13:22:59Z</dcterms:modified>
  <cp:revision>63</cp:revision>
  <dc:subject/>
  <dc:title>Слайд 1</dc:title>
</cp:coreProperties>
</file>