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7.jpeg" ContentType="image/jpeg"/>
  <Override PartName="/ppt/media/image17.gif" ContentType="image/gif"/>
  <Override PartName="/ppt/media/image4.jpeg" ContentType="image/jpeg"/>
  <Override PartName="/ppt/media/image2.png" ContentType="image/png"/>
  <Override PartName="/ppt/media/image25.jpeg" ContentType="image/jpeg"/>
  <Override PartName="/ppt/media/image13.gif" ContentType="image/gif"/>
  <Override PartName="/ppt/media/image11.gif" ContentType="image/gif"/>
  <Override PartName="/ppt/media/image7.gif" ContentType="image/gif"/>
  <Override PartName="/ppt/media/image26.jpeg" ContentType="image/jpeg"/>
  <Override PartName="/ppt/media/image32.gif" ContentType="image/gif"/>
  <Override PartName="/ppt/media/image12.gif" ContentType="image/gif"/>
  <Override PartName="/ppt/media/image8.jpeg" ContentType="image/jpeg"/>
  <Override PartName="/ppt/media/image30.png" ContentType="image/png"/>
  <Override PartName="/ppt/media/image9.gif" ContentType="image/gif"/>
  <Override PartName="/ppt/media/image10.gif" ContentType="image/gif"/>
  <Override PartName="/ppt/media/image6.png" ContentType="image/png"/>
  <Override PartName="/ppt/media/image31.gif" ContentType="image/gif"/>
  <Override PartName="/ppt/media/image3.png" ContentType="image/png"/>
  <Override PartName="/ppt/media/image16.png" ContentType="image/png"/>
  <Override PartName="/ppt/media/image23.gif" ContentType="image/gif"/>
  <Override PartName="/ppt/media/image1.jpeg" ContentType="image/jpeg"/>
  <Override PartName="/ppt/media/image14.gif" ContentType="image/gif"/>
  <Override PartName="/ppt/media/image5.jpeg" ContentType="image/jpeg"/>
  <Override PartName="/ppt/media/image15.gif" ContentType="image/gif"/>
  <Override PartName="/ppt/media/image18.png" ContentType="image/png"/>
  <Override PartName="/ppt/media/image28.jpeg" ContentType="image/jpeg"/>
  <Override PartName="/ppt/media/image22.png" ContentType="image/png"/>
  <Override PartName="/ppt/media/image19.gif" ContentType="image/gif"/>
  <Override PartName="/ppt/media/image21.gif" ContentType="image/gif"/>
  <Override PartName="/ppt/media/image20.gif" ContentType="image/gif"/>
  <Override PartName="/ppt/media/image24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275D-C328-4FDC-A989-431D45642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DA8A-D6CD-4B40-BA9E-20B33F6A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B378B-3C09-416B-8698-B834EC86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8ECCD-C843-408E-BB9D-2F03051F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7DDCD-6F3C-417B-B1B5-89DE866F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31727-70EC-4F08-B18E-7907FE70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DAE30-8C00-4355-814D-E312D779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10093-B5C5-44E8-B471-79554068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22641-F797-4626-A8B3-FBF7C5CA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E528A-4FA0-4A04-8C2D-26600B12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426D6-A73F-453F-AA80-8775F726E7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10E9-E568-45C1-B9EF-71EF451D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1F72F-FA0B-4D83-AEF4-188DC20509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B9C41-4A64-4A31-9001-360DDC0CE8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DEF13-0D83-44F1-95F4-75C13CAF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2C10A-96D3-4570-A408-179E6779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0CFAF-46B6-46D1-8424-12223C72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88E60-2971-4BB3-AF37-18DF3372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023E9-C5A5-4421-90E7-202D1ADF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9A48C-6E90-45E0-98E4-0CE37CDE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43F7E-1B94-46D6-A10A-61EC4C2D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744B5-597F-4E04-9827-26BDB5C9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3944A-7EE2-4453-98D7-7E77B2A6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8DB6C-1308-43FF-BA3C-C2F87871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42D8B-E01F-4A38-A945-EBF324FD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C2CD0-82F7-4D12-83A3-99A17898C8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3057-2CC9-4B0E-8FE0-287C768541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F85A-C4A4-48AD-BC86-384598B8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BF42-D6AC-46AB-909A-FFD707A7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1E9D-38B9-4664-9140-91129711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A79D-ABAF-443A-91AA-6AE6B253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56388-0859-48F2-A7BE-9E486BA7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B089-9516-49AF-B7E1-32017129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2443-CEA0-4365-9BC6-E7F10C46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92A6-5740-46C0-9449-CEFD59AB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D4C1-BFD4-45BF-B8C4-0E738CB9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0D06-AAED-4ABA-A7FD-82CC6144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EE04-D4FF-4624-A0BE-0487F861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2A69-BF9A-49EC-BD83-C2C522C5EA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F5A6E-1261-4045-A036-CA335E8839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14EC7-44D4-4E72-84CC-5FFFE23C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1A647-9E03-447D-94E3-B5A47866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B750-E3A5-4E5F-8195-E193C0DD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54773-7372-45AE-8041-795216ED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1A587-CB42-42CF-8AB7-67846C19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93585-82C1-4F49-BBA0-94534ECE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C67F3-498E-4E8C-B43F-3693CDFD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0F139-F8B9-419F-8277-652F2E7E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47676-207D-496C-AB44-DF3EA2A9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59E2F-E886-47A6-8B7F-80B972AF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3ABCB-933D-4690-A696-722B2E28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1BFEA-3B49-44AB-ABB3-D470F3FC8E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F89AB-FDD6-4247-BF5D-72C40DFFD1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953D9-822A-46B9-9881-9D7B2E8C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9EE872-5074-44EF-A6B1-6E77062E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CC1B9-9A49-4959-8833-B9E0114E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9AE86F-A051-4B04-A7C5-D99F0159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E90AC3-0700-4D19-8AC3-C27BA30B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DE875A-CCA0-4875-8519-98B88733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E699D-6524-4052-B469-22CD45B4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3E44A9-28D5-4750-9196-A8E0D486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8191F2-C31B-4AD8-B942-91217FEB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4EBBE-85EB-4C65-82FE-0C438679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A874C-17DC-4A0B-864A-8EA84B04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CFF5-7D85-4CC7-8FE9-8E016057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66082-EC1B-42D1-8150-22A2361A54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28A6D-60A4-4694-9D05-1A4D9CAA4A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4DA7C-FF4A-4D44-BDAE-2AD37E7B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08103-809F-4FFF-B54F-8BC634AC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FA962-8A23-4E65-9019-1EA17E8E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36558-57D0-483C-9894-0AD3791B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ADCD1-6289-4ECD-A44C-6D66C26D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E3264-EBBB-4034-8193-A3AF5D38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BA820-4D97-445F-9D6D-B72D25ED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F623E-B2EC-45DF-A1DB-37E14313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E25B-BBF1-40CB-B6F2-0283F4DF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7D843-E5F5-4327-9CFF-7695FDFE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E6271-A638-4DFD-A53A-E44A3EE8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73C8-9DDC-4744-957D-356FF7260B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4A993F-B1F2-4CFE-B496-45E4C25CC1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5A1D24-3DED-4D18-96EC-B953D50C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F653B7-C33C-4088-8E4F-11A5794D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84426B-01B1-4974-8644-F76E7206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96E639-45AF-4837-A08E-DF518A7A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A3416-92C6-46D6-9CC0-E99386BB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506FB-C751-4205-8C00-4536A3BA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8B2BA-B26F-427E-83CB-F29BDB82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42959-A84F-4F92-8D36-D28E6600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6AA69-BB10-45F3-9F79-432891DA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09B1D-AAEA-4482-A3F6-9CA723C2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7AC9A2-42EE-42EE-96EA-6CE44A3B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65B72-7BA9-4615-89E3-787AD88728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D5E206-4989-49A7-B866-0A3E12CDB4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C60E1E-A190-485F-BE6A-6996618A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04B76B-31C5-4D2E-943A-875F6839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71E6F0-8076-496F-A8DC-C9D991C9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CC44BB-179A-4D99-96E8-C0FA67A8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2C2B4-6B5D-4572-9D4C-76B2A888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7CDADC-ED1B-4E3A-A1B4-6993CFF3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3D8E5B-5704-46F1-BB6B-4D495DCE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2DC3A4-E171-4E6D-892D-4D112E9A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3A80D1-E514-435D-81D4-D2223216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0B7743-8B95-4A37-834B-0E298017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E31569-E2AD-43C5-9999-21A5C064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D8F4B6-621C-495D-9322-4DF5559EB8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4C007-BE0D-4C22-8AFC-AE62CD9A8B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02136-6ED6-4650-BF53-DBEC60D5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02A09-6B9E-4F11-95C7-2FCF4C63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D34A44-E5C6-441B-84BB-64DB4557B33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4BC436D-EE76-45B1-9669-9B6E063F0C6E}" type="slidenum"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F2E9D0D-B269-4DCA-8587-13E8EF9577EA}" type="slidenum"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72AFAD3-2A48-40C4-8804-C2766E5010D4}" type="slidenum"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F8C6DAD-4837-45DC-B775-CAFDFB833B26}" type="slidenum"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6B7D65F-FB89-4280-9A68-E18A114A7A49}" type="slidenum"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CC2418D-7539-4712-8FF7-4FD032A54A6F}" type="slidenum"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04D820D-D38C-4728-B68D-CB9B9237148E}" type="slidenum"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894BEA9-36FC-46B5-977D-4B8C8A56D2E6}" type="slidenum">
              <a:rPr b="0" lang="ru-RU" sz="1200" spc="-1" strike="noStrike">
                <a:solidFill>
                  <a:srgbClr val="a2355b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png"/><Relationship Id="rId11" Type="http://schemas.openxmlformats.org/officeDocument/2006/relationships/image" Target="../media/image17.gif"/><Relationship Id="rId12" Type="http://schemas.openxmlformats.org/officeDocument/2006/relationships/image" Target="../media/image18.png"/><Relationship Id="rId13" Type="http://schemas.openxmlformats.org/officeDocument/2006/relationships/image" Target="../media/image19.gif"/><Relationship Id="rId14" Type="http://schemas.openxmlformats.org/officeDocument/2006/relationships/image" Target="../media/image20.gif"/><Relationship Id="rId15" Type="http://schemas.openxmlformats.org/officeDocument/2006/relationships/image" Target="../media/image21.gif"/><Relationship Id="rId16" Type="http://schemas.openxmlformats.org/officeDocument/2006/relationships/image" Target="../media/image22.png"/><Relationship Id="rId17" Type="http://schemas.openxmlformats.org/officeDocument/2006/relationships/image" Target="../media/image23.gif"/><Relationship Id="rId18" Type="http://schemas.openxmlformats.org/officeDocument/2006/relationships/image" Target="../media/image24.gif"/><Relationship Id="rId1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png"/><Relationship Id="rId11" Type="http://schemas.openxmlformats.org/officeDocument/2006/relationships/image" Target="../media/image18.png"/><Relationship Id="rId12" Type="http://schemas.openxmlformats.org/officeDocument/2006/relationships/image" Target="../media/image19.gif"/><Relationship Id="rId13" Type="http://schemas.openxmlformats.org/officeDocument/2006/relationships/image" Target="../media/image21.gif"/><Relationship Id="rId14" Type="http://schemas.openxmlformats.org/officeDocument/2006/relationships/image" Target="../media/image22.png"/><Relationship Id="rId15" Type="http://schemas.openxmlformats.org/officeDocument/2006/relationships/image" Target="../media/image23.gif"/><Relationship Id="rId16" Type="http://schemas.openxmlformats.org/officeDocument/2006/relationships/image" Target="../media/image24.gif"/><Relationship Id="rId17" Type="http://schemas.openxmlformats.org/officeDocument/2006/relationships/image" Target="../media/image29.gif"/><Relationship Id="rId1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png"/><Relationship Id="rId11" Type="http://schemas.openxmlformats.org/officeDocument/2006/relationships/image" Target="../media/image18.png"/><Relationship Id="rId12" Type="http://schemas.openxmlformats.org/officeDocument/2006/relationships/image" Target="../media/image19.gif"/><Relationship Id="rId13" Type="http://schemas.openxmlformats.org/officeDocument/2006/relationships/image" Target="../media/image21.gif"/><Relationship Id="rId14" Type="http://schemas.openxmlformats.org/officeDocument/2006/relationships/image" Target="../media/image22.png"/><Relationship Id="rId15" Type="http://schemas.openxmlformats.org/officeDocument/2006/relationships/image" Target="../media/image23.gif"/><Relationship Id="rId16" Type="http://schemas.openxmlformats.org/officeDocument/2006/relationships/image" Target="../media/image24.gif"/><Relationship Id="rId17" Type="http://schemas.openxmlformats.org/officeDocument/2006/relationships/image" Target="../media/image29.gif"/><Relationship Id="rId1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10.gif"/><Relationship Id="rId4" Type="http://schemas.openxmlformats.org/officeDocument/2006/relationships/image" Target="../media/image31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10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2.gif"/><Relationship Id="rId4" Type="http://schemas.openxmlformats.org/officeDocument/2006/relationships/image" Target="../media/image2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10.gif"/><Relationship Id="rId4" Type="http://schemas.openxmlformats.org/officeDocument/2006/relationships/image" Target="../media/image32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png"/><Relationship Id="rId11" Type="http://schemas.openxmlformats.org/officeDocument/2006/relationships/image" Target="../media/image17.gif"/><Relationship Id="rId12" Type="http://schemas.openxmlformats.org/officeDocument/2006/relationships/image" Target="../media/image18.png"/><Relationship Id="rId13" Type="http://schemas.openxmlformats.org/officeDocument/2006/relationships/image" Target="../media/image19.gif"/><Relationship Id="rId14" Type="http://schemas.openxmlformats.org/officeDocument/2006/relationships/image" Target="../media/image20.gif"/><Relationship Id="rId15" Type="http://schemas.openxmlformats.org/officeDocument/2006/relationships/image" Target="../media/image21.gif"/><Relationship Id="rId16" Type="http://schemas.openxmlformats.org/officeDocument/2006/relationships/image" Target="../media/image22.png"/><Relationship Id="rId17" Type="http://schemas.openxmlformats.org/officeDocument/2006/relationships/image" Target="../media/image23.gif"/><Relationship Id="rId18" Type="http://schemas.openxmlformats.org/officeDocument/2006/relationships/image" Target="../media/image24.gif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357200" y="1285920"/>
            <a:ext cx="578664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         </a:t>
            </a: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Стремиться к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и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ждать чуд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04920" y="281160"/>
            <a:ext cx="8686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04920" y="281160"/>
            <a:ext cx="8686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304920" y="281160"/>
            <a:ext cx="8686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51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7072200" y="214200"/>
            <a:ext cx="1714680" cy="15098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6215040" y="4286160"/>
            <a:ext cx="1200240" cy="22100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5"/>
          <a:stretch/>
        </p:blipFill>
        <p:spPr>
          <a:xfrm>
            <a:off x="5072040" y="3786120"/>
            <a:ext cx="514440" cy="5716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6"/>
          <a:stretch/>
        </p:blipFill>
        <p:spPr>
          <a:xfrm>
            <a:off x="6715080" y="57150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7"/>
          <a:stretch/>
        </p:blipFill>
        <p:spPr>
          <a:xfrm>
            <a:off x="2357280" y="55008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8"/>
          <a:stretch/>
        </p:blipFill>
        <p:spPr>
          <a:xfrm>
            <a:off x="5643720" y="6072120"/>
            <a:ext cx="9284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9"/>
          <a:stretch/>
        </p:blipFill>
        <p:spPr>
          <a:xfrm>
            <a:off x="500040" y="50720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0"/>
          <a:stretch/>
        </p:blipFill>
        <p:spPr>
          <a:xfrm>
            <a:off x="785880" y="6072120"/>
            <a:ext cx="714240" cy="5954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1"/>
          <a:stretch/>
        </p:blipFill>
        <p:spPr>
          <a:xfrm>
            <a:off x="285840" y="1285920"/>
            <a:ext cx="8501040" cy="838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2"/>
          <a:stretch/>
        </p:blipFill>
        <p:spPr>
          <a:xfrm>
            <a:off x="5072040" y="585792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3"/>
          <a:stretch/>
        </p:blipFill>
        <p:spPr>
          <a:xfrm>
            <a:off x="1714680" y="5429160"/>
            <a:ext cx="428400" cy="5000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4"/>
          <a:stretch/>
        </p:blipFill>
        <p:spPr>
          <a:xfrm>
            <a:off x="2357280" y="5072040"/>
            <a:ext cx="2214720" cy="4856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5"/>
          <a:stretch/>
        </p:blipFill>
        <p:spPr>
          <a:xfrm>
            <a:off x="4000680" y="557208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16"/>
          <a:stretch/>
        </p:blipFill>
        <p:spPr>
          <a:xfrm rot="1740000">
            <a:off x="3187440" y="932040"/>
            <a:ext cx="384120" cy="27756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17"/>
          <a:stretch/>
        </p:blipFill>
        <p:spPr>
          <a:xfrm>
            <a:off x="7572240" y="3786120"/>
            <a:ext cx="1571760" cy="27813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18"/>
          <a:stretch/>
        </p:blipFill>
        <p:spPr>
          <a:xfrm>
            <a:off x="6572160" y="4071960"/>
            <a:ext cx="428760" cy="35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7072200" y="214200"/>
            <a:ext cx="1714680" cy="15098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6215040" y="4286160"/>
            <a:ext cx="1200240" cy="22100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5"/>
          <a:stretch/>
        </p:blipFill>
        <p:spPr>
          <a:xfrm>
            <a:off x="500040" y="4786200"/>
            <a:ext cx="514440" cy="5716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6"/>
          <a:stretch/>
        </p:blipFill>
        <p:spPr>
          <a:xfrm>
            <a:off x="6715080" y="57150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7"/>
          <a:stretch/>
        </p:blipFill>
        <p:spPr>
          <a:xfrm>
            <a:off x="1857240" y="557208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8"/>
          <a:stretch/>
        </p:blipFill>
        <p:spPr>
          <a:xfrm>
            <a:off x="7858080" y="6000840"/>
            <a:ext cx="928800" cy="642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9"/>
          <a:stretch/>
        </p:blipFill>
        <p:spPr>
          <a:xfrm>
            <a:off x="500040" y="50720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0"/>
          <a:stretch/>
        </p:blipFill>
        <p:spPr>
          <a:xfrm>
            <a:off x="785880" y="6072120"/>
            <a:ext cx="714240" cy="5954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1"/>
          <a:stretch/>
        </p:blipFill>
        <p:spPr>
          <a:xfrm>
            <a:off x="5857920" y="614376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2"/>
          <a:stretch/>
        </p:blipFill>
        <p:spPr>
          <a:xfrm>
            <a:off x="1714680" y="5143680"/>
            <a:ext cx="428400" cy="5000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3"/>
          <a:stretch/>
        </p:blipFill>
        <p:spPr>
          <a:xfrm>
            <a:off x="4071960" y="542916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14"/>
          <a:stretch/>
        </p:blipFill>
        <p:spPr>
          <a:xfrm rot="1740000">
            <a:off x="3258720" y="1432080"/>
            <a:ext cx="384120" cy="2775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15"/>
          <a:stretch/>
        </p:blipFill>
        <p:spPr>
          <a:xfrm>
            <a:off x="7572240" y="3786120"/>
            <a:ext cx="1571760" cy="278136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16"/>
          <a:stretch/>
        </p:blipFill>
        <p:spPr>
          <a:xfrm>
            <a:off x="6572160" y="4071960"/>
            <a:ext cx="428760" cy="3506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7"/>
          <a:stretch/>
        </p:blipFill>
        <p:spPr>
          <a:xfrm rot="2520000">
            <a:off x="1541160" y="1874520"/>
            <a:ext cx="140328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0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64 -0.00972 C 0.12378 -0.00902 0.1401 -0.00949 0.15625 -0.00787 C 0.16614 -0.00694 0.17621 0.00371 0.18489 0.00926 C 0.19444 0.01551 0.2059 0.01737 0.21632 0.01875 C 0.22205 0.03056 0.21649 0.0176 0.22066 0.03403 C 0.22344 0.04491 0.22691 0.05602 0.23055 0.06644 C 0.23281 0.07246 0.23316 0.08241 0.23628 0.0875 C 0.23924 0.09237 0.24375 0.09537 0.24635 0.1007 C 0.24722 0.10255 0.24826 0.10463 0.24913 0.10649 C 0.24861 0.11019 0.2493 0.11459 0.24774 0.11783 C 0.24566 0.12199 0.24167 0.12385 0.23906 0.12732 C 0.23125 0.13774 0.22778 0.14375 0.21771 0.15024 C 0.20937 0.16412 0.2 0.17616 0.19201 0.19028 C 0.19826 0.19561 0.20156 0.1963 0.2092 0.19792 C 0.21163 0.19908 0.21389 0.2007 0.21632 0.20162 C 0.2191 0.20255 0.22205 0.20255 0.22483 0.20371 C 0.22639 0.2044 0.2276 0.20649 0.22917 0.20741 C 0.23264 0.20949 0.23941 0.21181 0.2434 0.2132 C 0.24462 0.22732 0.24566 0.24561 0.25052 0.2588 C 0.25208 0.26297 0.25278 0.26991 0.25625 0.27037 C 0.26059 0.27107 0.26476 0.27153 0.2691 0.27223 C 0.27483 0.27477 0.28038 0.27778 0.28628 0.27987 C 0.27812 0.30764 0.25538 0.30973 0.23628 0.31598 C 0.23351 0.33889 0.22604 0.36227 0.22066 0.38449 C 0.22083 0.38866 0.22344 0.41644 0.22344 0.42848 E">
                                      <p:cBhvr>
                                        <p:cTn id="111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7072200" y="214200"/>
            <a:ext cx="1714680" cy="15098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6215040" y="4286160"/>
            <a:ext cx="1200240" cy="22100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5"/>
          <a:stretch/>
        </p:blipFill>
        <p:spPr>
          <a:xfrm>
            <a:off x="5072040" y="3786120"/>
            <a:ext cx="514440" cy="5716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6"/>
          <a:stretch/>
        </p:blipFill>
        <p:spPr>
          <a:xfrm>
            <a:off x="6715080" y="57150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7"/>
          <a:stretch/>
        </p:blipFill>
        <p:spPr>
          <a:xfrm>
            <a:off x="2357280" y="55008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8"/>
          <a:stretch/>
        </p:blipFill>
        <p:spPr>
          <a:xfrm>
            <a:off x="7786800" y="5500800"/>
            <a:ext cx="928440" cy="64296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9"/>
          <a:stretch/>
        </p:blipFill>
        <p:spPr>
          <a:xfrm>
            <a:off x="1357200" y="478620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10"/>
          <a:stretch/>
        </p:blipFill>
        <p:spPr>
          <a:xfrm>
            <a:off x="785880" y="6072120"/>
            <a:ext cx="714240" cy="5954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1"/>
          <a:stretch/>
        </p:blipFill>
        <p:spPr>
          <a:xfrm>
            <a:off x="5072040" y="585792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2"/>
          <a:stretch/>
        </p:blipFill>
        <p:spPr>
          <a:xfrm>
            <a:off x="1785960" y="6143760"/>
            <a:ext cx="428760" cy="5000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3"/>
          <a:stretch/>
        </p:blipFill>
        <p:spPr>
          <a:xfrm>
            <a:off x="4000680" y="557208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4"/>
          <a:stretch/>
        </p:blipFill>
        <p:spPr>
          <a:xfrm rot="1740000">
            <a:off x="3187440" y="932040"/>
            <a:ext cx="384120" cy="2775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5"/>
          <a:stretch/>
        </p:blipFill>
        <p:spPr>
          <a:xfrm>
            <a:off x="0" y="3714840"/>
            <a:ext cx="1571760" cy="2781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6"/>
          <a:stretch/>
        </p:blipFill>
        <p:spPr>
          <a:xfrm>
            <a:off x="6572160" y="4071960"/>
            <a:ext cx="428760" cy="3506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7"/>
          <a:stretch/>
        </p:blipFill>
        <p:spPr>
          <a:xfrm rot="2520000">
            <a:off x="3613320" y="4946400"/>
            <a:ext cx="1403280" cy="129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14400" y="3240"/>
            <a:ext cx="9129600" cy="68547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6000840" y="5219640"/>
            <a:ext cx="1200240" cy="1638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285840" y="214200"/>
            <a:ext cx="5000400" cy="20480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 rot="2520000">
            <a:off x="2980800" y="5189040"/>
            <a:ext cx="146376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0880" y="4805280"/>
            <a:ext cx="845820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088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29600" cy="706896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5286240" y="4714920"/>
            <a:ext cx="1552680" cy="17859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 rot="1140000">
            <a:off x="2099880" y="1962000"/>
            <a:ext cx="1376280" cy="8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 rot="19140000">
            <a:off x="6064200" y="465120"/>
            <a:ext cx="2209680" cy="21114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 rot="1140000">
            <a:off x="3035160" y="1560600"/>
            <a:ext cx="1376640" cy="86184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6429240" y="4572000"/>
            <a:ext cx="15526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 -6 L 2.59259 -6 C -0.0128499999999998 -0.000700000000000145 -0.02587 -0.0007 -0.03872 -0.00186 C -0.05903 -0.00371 -0.07552 -0.02037 -0.09427 -0.02662 C -0.10104 -0.03565 -0.12466 -0.03635 -0.13438 -0.04005 C -0.14584 -0.04422 -0.15365 -0.05602 -0.16441 -0.06111 C -0.175 -0.08218 -0.19358 -0.0919 -0.21146 -0.09723 C -0.21875 -0.09931 -0.22587 -0.10209 -0.23299 -0.10486 C -0.23577 -0.10602 -0.2415 -0.10857 -0.2415 -0.10857 C -0.24931 -0.11574 -0.25643 -0.12084 -0.2658 -0.12385 C -0.29028 -0.15 -0.31823 -0.14885 -0.34861 -0.15047 C -0.35573 -0.15371 -0.36146 -0.1588 -0.36858 -0.16204 C -0.3757 -0.16528 -0.38229 -0.16806 -0.38872 -0.17338 C -0.45625 -0.16875 -0.52743 -0.19121 -0.5915 -0.16389 C -0.59549 -0.15834 -0.60035 -0.15324 -0.60573 -0.15047 C -0.61025 -0.1419 -0.61684 -0.13658 -0.62153 -0.12778 C -0.62414 -0.11713 -0.62934 -0.1132 -0.63438 -0.10486 C -0.63889 -0.09746 -0.64323 -0.08727 -0.65 -0.0838 C -0.65625 -0.07593 -0.65504 -0.06135 -0.66007 -0.05139 C -0.66059 -0.04954 -0.66077 -0.04769 -0.66146 -0.04584 C -0.66233 -0.04375 -0.66389 -0.04213 -0.66441 -0.04005 C -0.6658 -0.03519 -0.66719 -0.02477 -0.66719 -0.02477 C -0.66598 0.02407 -0.67188 0.02407 -0.65868 0.05139 C -0.65729 0.05787 -0.65625 0.06597 -0.65434 0.07222 C -0.65052 0.08426 -0.65226 0.07176 -0.65 0.08379 C -0.64844 0.09189 -0.64896 0.09676 -0.64584 0.10463 C -0.64358 0.11041 -0.6408 0.11574 -0.63872 0.12176 C -0.63368 0.1368 -0.63924 0.13032 -0.63143 0.13703 C -0.62778 0.14722 -0.62118 0.15393 -0.61719 0.16365 C -0.60764 0.1868 -0.61563 0.17152 -0.60712 0.18657 C -0.60625 0.19166 -0.60521 0.19676 -0.60434 0.20185 C -0.60348 0.20625 -0.59861 0.21319 -0.59861 0.21319 C -0.59497 0.22824 -0.58941 0.23356 -0.58299 0.2456 C -0.58177 0.24791 -0.58125 0.25092 -0.58004 0.25324 C -0.57431 0.26481 -0.5632 0.27291 -0.55573 0.28194 C -0.54653 0.29305 -0.54271 0.29953 -0.53004 0.30277 C -0.52344 0.30648 -0.51702 0.3081 -0.51007 0.31041 C -0.4974 0.32106 -0.5158 0.30694 -0.48299 0.3162 C -0.47761 0.31782 -0.46268 0.32847 -0.45573 0.33148 C -0.4441 0.3368 -0.43507 0.33611 -0.42153 0.33703 C -0.40539 0.33588 -0.38907 0.33495 -0.37292 0.33333 C -0.36754 0.33287 -0.3625 0.32916 -0.35712 0.32754 C -0.34479 0.32407 -0.33229 0.32199 -0.32014 0.31805 C -0.29636 0.31018 -0.27431 0.29838 -0.25 0.29328 C -0.22118 0.27986 -0.19132 0.27754 -0.16146 0.27037 C -0.14427 0.2662 -0.12726 0.26111 -0.11007 0.25717 C -0.10417 0.25578 -0.09879 0.25208 -0.09289 0.25139 C -0.07726 0.2493 -0.06146 0.24884 -0.04584 0.24745 C -0.03577 0.24305 -0.02483 0.24236 -0.01441 0.24004 C 0.00399 0.23611 0.02152 0.22963 0.03993 0.22662 C 0.04913 0.21828 0.07014 0.21574 0.08142 0.21134 C 0.09722 0.20532 0.1118 0.19583 0.12708 0.18842 C 0.12951 0.1787 0.12968 0.16828 0.13142 0.1581 C 0.13194 0.15115 0.13159 0.13055 0.13559 0.12384 C 0.13802 0.1199 0.14288 0.1162 0.14566 0.11227 C 0.14809 0.10231 0.15139 0.09352 0.15416 0.08379 C 0.15521 0.07662 0.1585 0.0699 0.1585 0.06273 C 0.15955 -0.02523 0.15955 -0.02199 0.15139 -0.07824 C 0.15034 -0.08496 0.14896 -0.0919 0.14566 -0.09723 C 0.13281 -0.11806 0.11996 -0.13912 0.10711 -0.15996 C 0.10451 -0.16412 0.08229 -0.17292 0.07708 -0.17523 C 0.06909 -0.18241 0.07621 -0.17732 0.06284 -0.18102 C 0.05086 -0.18449 0.04062 -0.1882 0.02847 -0.19051 C 0.01284 -0.18982 -0.00295 -0.18959 -0.01858 -0.18866 C -0.0283 -0.18797 -0.0375 -0.18148 -0.04723 -0.18102 C -0.07622 -0.17917 -0.10539 -0.17848 -0.13438 -0.17732 C -0.15226 -0.17084 -0.16493 -0.17084 -0.18438 -0.16968 C -0.19063 -0.15672 -0.19375 -0.14121 -0.20573 -0.13519 C -0.20764 -0.12778 -0.20886 -0.12616 -0.21459 -0.12385 C -0.21754 -0.11042 -0.21354 -0.1257 -0.21858 -0.1125 C -0.22153 -0.10486 -0.22223 -0.09676 -0.2257 -0.08959 C -0.22986 -0.06945 -0.22431 -0.09306 -0.23004 -0.07616 C -0.23299 -0.06736 -0.23316 -0.06042 -0.23872 -0.05348 C -0.24028 -0.04699 -0.24202 -0.04283 -0.24601 -0.0382 C -0.24809 -0.02894 -0.25122 -0.02454 -0.25712 -0.01922 C -0.25938 -0.01088 -0.2665 -0.0044 -0.27153 0.00185 C -0.27344 0.01018 -0.27726 0.01713 -0.28004 0.02477 C -0.28073 0.02662 -0.28039 0.02893 -0.28143 0.03032 C -0.28195 0.03102 -0.28247 0.02916 -0.28299 0.02847 E">
                                      <p:cBhvr>
                                        <p:cTn id="117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6429240" y="5500800"/>
            <a:ext cx="932040" cy="1071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 rot="19140000">
            <a:off x="3241800" y="711360"/>
            <a:ext cx="1838160" cy="142848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5"/>
          <a:stretch/>
        </p:blipFill>
        <p:spPr>
          <a:xfrm rot="2460000">
            <a:off x="2553840" y="1333440"/>
            <a:ext cx="1305000" cy="8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0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 -6 0.08843 L -0.34843 -0.61111">
                                      <p:cBhvr>
                                        <p:cTn id="123" dur="2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04920" y="281160"/>
            <a:ext cx="8686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14200" y="1484280"/>
            <a:ext cx="89298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Человек на протяжении всей сво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жизни должен стремиться 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достижению своей цел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используя  любые возможнос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0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42920" y="1214280"/>
            <a:ext cx="88488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Человек на протяжении всей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не должен стремиться к достиж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своей цел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2920"/>
                <a:tab algn="l" pos="2227320"/>
                <a:tab algn="l" pos="3141720"/>
                <a:tab algn="l" pos="4056120"/>
                <a:tab algn="l" pos="4970520"/>
                <a:tab algn="l" pos="5884920"/>
                <a:tab algn="l" pos="6799320"/>
                <a:tab algn="l" pos="7713720"/>
                <a:tab algn="l" pos="8628120"/>
                <a:tab algn="l" pos="9542520"/>
                <a:tab algn="l" pos="1045692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для этого существуют удача или чу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0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900000" y="1557360"/>
            <a:ext cx="723744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b13f9a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en-US" sz="44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- предмет стремлен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то, что над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желательно осуществи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0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000080" y="1143000"/>
            <a:ext cx="74296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b13f9a"/>
                </a:solidFill>
                <a:uFillTx/>
                <a:latin typeface="Times New Roman"/>
                <a:ea typeface="Times New Roman"/>
              </a:rPr>
              <a:t>Мечта</a:t>
            </a: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 – нечт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созданное воображение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мысленно представляем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0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428920" y="1000080"/>
            <a:ext cx="41432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b13f9a"/>
                </a:solidFill>
                <a:latin typeface="Franklin Gothic Book"/>
                <a:ea typeface="Times New Roman"/>
              </a:rPr>
              <a:t>Я – птица</a:t>
            </a:r>
            <a:r>
              <a:rPr b="1" lang="ru-RU" sz="60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428840" y="2928960"/>
            <a:ext cx="383040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7072200" y="214200"/>
            <a:ext cx="1714680" cy="15098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6215040" y="4286160"/>
            <a:ext cx="1200240" cy="22100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5072040" y="3786120"/>
            <a:ext cx="514440" cy="571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6715080" y="57150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7"/>
          <a:stretch/>
        </p:blipFill>
        <p:spPr>
          <a:xfrm>
            <a:off x="2357280" y="55008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8"/>
          <a:stretch/>
        </p:blipFill>
        <p:spPr>
          <a:xfrm>
            <a:off x="5643720" y="6072120"/>
            <a:ext cx="928440" cy="6429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9"/>
          <a:stretch/>
        </p:blipFill>
        <p:spPr>
          <a:xfrm>
            <a:off x="500040" y="50720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0"/>
          <a:stretch/>
        </p:blipFill>
        <p:spPr>
          <a:xfrm>
            <a:off x="785880" y="6072120"/>
            <a:ext cx="714240" cy="595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11"/>
          <a:stretch/>
        </p:blipFill>
        <p:spPr>
          <a:xfrm>
            <a:off x="357120" y="2000160"/>
            <a:ext cx="8501040" cy="8384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12"/>
          <a:stretch/>
        </p:blipFill>
        <p:spPr>
          <a:xfrm>
            <a:off x="5072040" y="585792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3"/>
          <a:stretch/>
        </p:blipFill>
        <p:spPr>
          <a:xfrm>
            <a:off x="1714680" y="5429160"/>
            <a:ext cx="428400" cy="5000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4"/>
          <a:stretch/>
        </p:blipFill>
        <p:spPr>
          <a:xfrm>
            <a:off x="2357280" y="5072040"/>
            <a:ext cx="2214720" cy="4856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5"/>
          <a:stretch/>
        </p:blipFill>
        <p:spPr>
          <a:xfrm>
            <a:off x="4000680" y="557208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16"/>
          <a:stretch/>
        </p:blipFill>
        <p:spPr>
          <a:xfrm rot="1740000">
            <a:off x="3258720" y="1432080"/>
            <a:ext cx="384120" cy="2775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17"/>
          <a:stretch/>
        </p:blipFill>
        <p:spPr>
          <a:xfrm>
            <a:off x="7572240" y="3786120"/>
            <a:ext cx="1571760" cy="278136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18"/>
          <a:stretch/>
        </p:blipFill>
        <p:spPr>
          <a:xfrm>
            <a:off x="6572160" y="4071960"/>
            <a:ext cx="428760" cy="3506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9"/>
          <a:stretch/>
        </p:blipFill>
        <p:spPr>
          <a:xfrm>
            <a:off x="21420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04920" y="281160"/>
            <a:ext cx="8686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02T13:22:59Z</dcterms:modified>
  <cp:revision>63</cp:revision>
  <dc:subject/>
  <dc:title>Слайд 1</dc:title>
</cp:coreProperties>
</file>