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F9C-6155-4BAC-BADE-6609A150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C15-BA35-447B-9B2A-05EF848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6CF92-C6FE-4C4F-8ECF-377C32A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985D-9DC5-4C0F-9A2F-DABF74A4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24276-B0B2-48EB-B18E-2140239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CF96-3888-449F-B2E3-B4A3787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D6B8-9069-4A14-ABD7-5CDDBF07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35239-C20E-47C7-8B8E-CBE59787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8FA62-0AD4-42CA-B897-B702BF7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102E-0FC7-456C-860F-77A1DCD5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55FDE-9E16-42E9-95BD-3677E590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33B-D0D6-4B58-AE88-6CA19E34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5A9-A3C9-43BE-BC0A-1FE2EE10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4E3F-B249-4E22-ABF8-474AE27E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4603-32DF-438E-96BA-EA20C7E5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EFF8-BC6F-4E28-9938-28F0F6A5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773-C509-42A0-BB7E-9720DBC3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CA9D-B035-4B5E-948A-4B4666C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6BEE-C787-4CBC-BB5C-824B11DC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6E35-A1BC-413A-8C63-86FBAA5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8679-393F-4167-A4E0-A3FB63F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3DFC-6F80-4C6A-AB66-1C1FD75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A4DC-4101-4E0E-A613-FFBBE23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786D-D2FB-4FB5-AEA1-9192AD78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8CDB-BAA5-44E7-AA98-8BA00440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7745-3802-4DFF-8826-7E561A1B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9A7A-F9D4-4512-9089-511A1CB6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5F98-334B-4EEB-8260-2052625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9B53-55B1-4B4A-878D-D83B4A9F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F5A0-81B0-411A-BC88-CE0AED8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E1E6-0B48-488F-9265-9985F136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D9F-122C-429C-B6C5-DC380B4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6F5D7-5378-4677-8480-2E46A3FF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582B-173B-4766-9E38-29B1927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E646-F4CA-406D-89B7-C5F3CC7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7B22-A81D-4F2C-B399-1F96929E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0BAA9-4642-4E8D-9E0A-DEE3A6C0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B394-1FB9-4340-B2C2-25BD986D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083E-7930-46F9-8D82-DD08F67D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3981E-B0B9-40E4-9F02-924AC2EB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E546-A158-4970-B25D-8C222988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8ED3-5245-4C13-9A11-77185FE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BBCF-BBF9-4D75-88E5-ECC1F59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A3CBA-6AA7-45FA-BD14-5F4893D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2B21-F613-48A2-B275-7BA5B966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1475-5214-439D-A1C9-EC0874CC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0D6B-EA14-4193-95FB-6182B94A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5452-E28F-4D22-96DC-7D6A29E1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60F3-982E-419C-A1D7-0B3181F3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7075-31B0-4BEF-BA8A-1CC9D3D2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E050-2817-4018-B3D1-4A5C5BF0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D14F-CA4A-4065-AB13-927A21D5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2C23-2C5D-4BEE-A57B-9EE774E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D12-B5BA-4917-AD6C-4AE2EE49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2504A-4C9E-4B34-9081-74D7D23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9C53-5E9B-47D5-895B-99FEED74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98F81-27DC-4AF7-B7BB-DAF6443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A3C9F-210A-485C-A89E-C25C59C6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C844-CDAE-423E-A34D-54A58B4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6678-1F73-47CE-BB65-1FFF62F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DB7A-9FF2-4677-A409-FBC22EE8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B1C70-931D-4D03-8426-A2468D68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A013-9DFD-4B8F-89F6-F1A0BC78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E6B87-0613-408A-AEEA-4F6C36F4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67E-513D-4919-9DE8-1208D160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0E86-4EAD-41B0-8CEA-08340CEA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950A-BA84-4F8B-A261-9DE2FAA1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C6D87-54E4-4928-B320-1DF800B7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D620-F0B3-4B4A-972D-017DC757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5661-E6C5-43FC-80B4-60006F2F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42641-A535-4109-B8AA-4C1FABA3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4803-6D13-4931-AB46-2B1A702F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CD0BD-B50C-40D3-94F7-44C8A33F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8B5C2-60A4-42F0-B20A-EE97864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6FE9-46C8-4E7D-9DB8-CFB21A51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A65-F740-47B1-8E03-EE7AA94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7599D-65D2-41B2-A75A-A488FD32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8E3A8-C87A-4CC7-AF87-BBD0FBAD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8E1DF-2ACB-4528-92A2-4F03CB0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8D869-D47E-4601-BFBA-9613B288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6C736-64CB-4A40-8F71-8E5B3A60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5F0A-9E55-441F-AC4C-B165600A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7DA0A-F125-4644-B206-301A955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49098-8D8E-4F3A-94C0-9B60478B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27451-C666-43C2-A9A2-8DA0749D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6ACA-3C69-40FE-8EA9-979175F8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1AC-370D-45AC-9522-A07E19AD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F197-C5D3-4702-8C90-8F02F91A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FA9B3-D327-4C80-A4D8-220BB1B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1A91B-D0FA-451C-9E39-455063E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8BE14-A988-4F78-88F9-9CC96AC6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EF924-DF66-4C16-B264-7C28851A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07C6-863A-4756-A332-3A6CE044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B624-A695-41CC-A29E-C8CA1A06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78BAD-3176-41DF-B2ED-E15DD72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857AB-826C-477D-8F9D-518824E1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5FD13-B362-4B78-A4DF-BB11B64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C9C-7FB9-4D5E-B47D-C5A8AAD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4F72A-4D01-4CBE-B3C6-B30C390D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FA457-5BAD-45EB-8E9D-C9C6F2E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31FC-CD3E-46F2-975E-5A61981C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52185-F047-473F-A9D2-C9FDF9EB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EB6A-5400-43D2-BAEA-91E0D4A4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5CFAB-E84D-4CC6-A907-C340CF74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541AA-D748-41FE-B266-824361F6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F5C58-5131-415F-8DB0-A45F52FA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D5A94-B487-4B33-932A-C0C8296C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3A9E5-DFF2-4E8F-97FA-EA79688D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F384-C7DB-49FA-B512-4189ECA0B4E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03C6-BE17-48EE-B938-93129487960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BE96-DBD5-4963-ACB3-4D7B804B933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ADB6-CD43-4DB8-B19E-C3F8B5BA53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1D7-CA1A-4315-9745-8BF26D6E2A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764D-C355-42F9-84D3-BB34175F66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3D66-950C-47FB-B58C-0DBFAEC6933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339A-86CE-4CDB-BB76-A96E8D7D5C2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5F7-318D-4828-BADC-CC7AEDB4DB1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ime-of-success.ucoz.ru/blog/stikhi_i_zagadki_pro_sport_detjam/2011-02-10-12" TargetMode="External"/><Relationship Id="rId2" Type="http://schemas.openxmlformats.org/officeDocument/2006/relationships/hyperlink" Target="http://zagadka.yaxy.ru/" TargetMode="External"/><Relationship Id="rId3" Type="http://schemas.openxmlformats.org/officeDocument/2006/relationships/hyperlink" Target="http://zagadka.yaxy.ru/" TargetMode="External"/><Relationship Id="rId4" Type="http://schemas.openxmlformats.org/officeDocument/2006/relationships/hyperlink" Target="http://zagadka.yaxy.ru/" TargetMode="External"/><Relationship Id="rId5" Type="http://schemas.openxmlformats.org/officeDocument/2006/relationships/hyperlink" Target="http://zagadka.yaxy.ru/" TargetMode="External"/><Relationship Id="rId6" Type="http://schemas.openxmlformats.org/officeDocument/2006/relationships/hyperlink" Target="http://zagadka.yaxy.ru/" TargetMode="External"/><Relationship Id="rId7" Type="http://schemas.openxmlformats.org/officeDocument/2006/relationships/hyperlink" Target="http://zagadka.yaxy.ru/zagadki_dlya_detei_do10_let.html" TargetMode="External"/><Relationship Id="rId8" Type="http://schemas.openxmlformats.org/officeDocument/2006/relationships/hyperlink" Target="http://zagadka.yaxy.ru/zagadki_dlya_detei_do10_let.html" TargetMode="External"/><Relationship Id="rId9" Type="http://schemas.openxmlformats.org/officeDocument/2006/relationships/hyperlink" Target="http://zagadka.yaxy.ru/zagadki_dlya_detei_do10_let.html" TargetMode="External"/><Relationship Id="rId10" Type="http://schemas.openxmlformats.org/officeDocument/2006/relationships/hyperlink" Target="http://zagadka.yaxy.ru/zagadki_dlya_detei_do10_let.html" TargetMode="External"/><Relationship Id="rId11" Type="http://schemas.openxmlformats.org/officeDocument/2006/relationships/hyperlink" Target="http://zagadka.yaxy.ru/zagadki_dlya_detei_do10_let.html" TargetMode="External"/><Relationship Id="rId12" Type="http://schemas.openxmlformats.org/officeDocument/2006/relationships/hyperlink" Target="http://zagadka.yaxy.ru/zagadki_dlya_detei_do10_let.html" TargetMode="External"/><Relationship Id="rId13" Type="http://schemas.openxmlformats.org/officeDocument/2006/relationships/hyperlink" Target="http://zagadka.yaxy.ru/zagadki_dlya_detei_do10_let.html" TargetMode="External"/><Relationship Id="rId14" Type="http://schemas.openxmlformats.org/officeDocument/2006/relationships/hyperlink" Target="http://zagadka.yaxy.ru/zagadki_dlya_detei_do10_let.html" TargetMode="External"/><Relationship Id="rId15" Type="http://schemas.openxmlformats.org/officeDocument/2006/relationships/hyperlink" Target="http://zagadka.yaxy.ru/zagadki_dlya_detei_do10_let.html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9156960" cy="2340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C:\Users\Елена\Downloads\здор.jpg"/>
          <p:cNvPicPr/>
          <p:nvPr/>
        </p:nvPicPr>
        <p:blipFill>
          <a:blip r:embed="rId2"/>
          <a:stretch/>
        </p:blipFill>
        <p:spPr>
          <a:xfrm>
            <a:off x="1116000" y="2060640"/>
            <a:ext cx="69325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Прямоугольник 3" descr=""/>
          <p:cNvPicPr/>
          <p:nvPr/>
        </p:nvPicPr>
        <p:blipFill>
          <a:blip r:embed="rId1"/>
          <a:stretch/>
        </p:blipFill>
        <p:spPr>
          <a:xfrm>
            <a:off x="281160" y="42840"/>
            <a:ext cx="8448480" cy="1103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Елена\Downloads\спорт.jpg"/>
          <p:cNvPicPr/>
          <p:nvPr/>
        </p:nvPicPr>
        <p:blipFill>
          <a:blip r:embed="rId2"/>
          <a:stretch/>
        </p:blipFill>
        <p:spPr>
          <a:xfrm>
            <a:off x="1928880" y="1214280"/>
            <a:ext cx="550080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Отдых наш - физкультминутка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Занимай свои места.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Раз присели, два - привстали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Руки кверху все подняли.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Сели, встали, сели, встали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Ванькой- встанькой словно стали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А потом пустились вскачь,</a:t>
            </a:r>
            <a:br>
              <a:rPr sz="4400"/>
            </a:br>
            <a:r>
              <a:rPr b="0" lang="ru-RU" sz="4400" spc="-1" strike="noStrike">
                <a:solidFill>
                  <a:srgbClr val="523227"/>
                </a:solidFill>
                <a:latin typeface="Franklin Gothic Book"/>
              </a:rPr>
              <a:t>Словно мой упругий мяч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Прямоугольник 3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156960" cy="1103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Елена\Downloads\здоровое питание.jpg"/>
          <p:cNvPicPr/>
          <p:nvPr/>
        </p:nvPicPr>
        <p:blipFill>
          <a:blip r:embed="rId2"/>
          <a:stretch/>
        </p:blipFill>
        <p:spPr>
          <a:xfrm>
            <a:off x="1071720" y="1071720"/>
            <a:ext cx="7072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Users\Елена\Downloads\морк.jpg"/>
          <p:cNvPicPr/>
          <p:nvPr/>
        </p:nvPicPr>
        <p:blipFill>
          <a:blip r:embed="rId1"/>
          <a:stretch/>
        </p:blipFill>
        <p:spPr>
          <a:xfrm>
            <a:off x="357120" y="157176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Елена\Downloads\кап.jpg"/>
          <p:cNvPicPr/>
          <p:nvPr/>
        </p:nvPicPr>
        <p:blipFill>
          <a:blip r:embed="rId2"/>
          <a:stretch/>
        </p:blipFill>
        <p:spPr>
          <a:xfrm>
            <a:off x="6786720" y="5286240"/>
            <a:ext cx="1527120" cy="1109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C:\Users\Елена\Downloads\яб.jpg"/>
          <p:cNvPicPr/>
          <p:nvPr/>
        </p:nvPicPr>
        <p:blipFill>
          <a:blip r:embed="rId3"/>
          <a:stretch/>
        </p:blipFill>
        <p:spPr>
          <a:xfrm>
            <a:off x="3929040" y="1643040"/>
            <a:ext cx="1357200" cy="1393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Users\Елена\Downloads\орех.jpg"/>
          <p:cNvPicPr/>
          <p:nvPr/>
        </p:nvPicPr>
        <p:blipFill>
          <a:blip r:embed="rId4"/>
          <a:stretch/>
        </p:blipFill>
        <p:spPr>
          <a:xfrm>
            <a:off x="4357800" y="321480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Users\Елена\Downloads\хлеб.jpg"/>
          <p:cNvPicPr/>
          <p:nvPr/>
        </p:nvPicPr>
        <p:blipFill>
          <a:blip r:embed="rId5"/>
          <a:stretch/>
        </p:blipFill>
        <p:spPr>
          <a:xfrm>
            <a:off x="6929280" y="357192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C:\Users\Елена\Downloads\i (1).jpg"/>
          <p:cNvPicPr/>
          <p:nvPr/>
        </p:nvPicPr>
        <p:blipFill>
          <a:blip r:embed="rId6"/>
          <a:stretch/>
        </p:blipFill>
        <p:spPr>
          <a:xfrm>
            <a:off x="714240" y="5072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C:\Users\Елена\Downloads\1.jpg"/>
          <p:cNvPicPr/>
          <p:nvPr/>
        </p:nvPicPr>
        <p:blipFill>
          <a:blip r:embed="rId7"/>
          <a:stretch/>
        </p:blipFill>
        <p:spPr>
          <a:xfrm>
            <a:off x="6286680" y="1571760"/>
            <a:ext cx="2314440" cy="1466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C:\Users\Елена\Downloads\i (2).jpg"/>
          <p:cNvPicPr/>
          <p:nvPr/>
        </p:nvPicPr>
        <p:blipFill>
          <a:blip r:embed="rId8"/>
          <a:stretch/>
        </p:blipFill>
        <p:spPr>
          <a:xfrm>
            <a:off x="3714840" y="5143680"/>
            <a:ext cx="1828800" cy="1304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C:\Users\Елена\Downloads\i (3).jpg"/>
          <p:cNvPicPr/>
          <p:nvPr/>
        </p:nvPicPr>
        <p:blipFill>
          <a:blip r:embed="rId9"/>
          <a:stretch/>
        </p:blipFill>
        <p:spPr>
          <a:xfrm>
            <a:off x="2500200" y="1643040"/>
            <a:ext cx="762120" cy="14288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C:\Users\Елена\Downloads\i (4).jpg"/>
          <p:cNvPicPr/>
          <p:nvPr/>
        </p:nvPicPr>
        <p:blipFill>
          <a:blip r:embed="rId10"/>
          <a:stretch/>
        </p:blipFill>
        <p:spPr>
          <a:xfrm>
            <a:off x="1357200" y="34290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12" descr=""/>
          <p:cNvPicPr/>
          <p:nvPr/>
        </p:nvPicPr>
        <p:blipFill>
          <a:blip r:embed="rId11"/>
          <a:stretch/>
        </p:blipFill>
        <p:spPr>
          <a:xfrm>
            <a:off x="-6480" y="-109440"/>
            <a:ext cx="9156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71288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620720"/>
            <a:ext cx="6145200" cy="1208160"/>
          </a:xfrm>
          <a:prstGeom prst="rect">
            <a:avLst/>
          </a:prstGeom>
          <a:ln w="0">
            <a:noFill/>
          </a:ln>
        </p:spPr>
      </p:pic>
      <p:pic>
        <p:nvPicPr>
          <p:cNvPr id="433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2335320"/>
            <a:ext cx="7010640" cy="120636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оугольник 4" descr=""/>
          <p:cNvPicPr/>
          <p:nvPr/>
        </p:nvPicPr>
        <p:blipFill>
          <a:blip r:embed="rId4"/>
          <a:stretch/>
        </p:blipFill>
        <p:spPr>
          <a:xfrm>
            <a:off x="-6480" y="3121200"/>
            <a:ext cx="8394840" cy="175572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5" descr=""/>
          <p:cNvPicPr/>
          <p:nvPr/>
        </p:nvPicPr>
        <p:blipFill>
          <a:blip r:embed="rId5"/>
          <a:stretch/>
        </p:blipFill>
        <p:spPr>
          <a:xfrm>
            <a:off x="-579600" y="4548240"/>
            <a:ext cx="7583760" cy="1206360"/>
          </a:xfrm>
          <a:prstGeom prst="rect">
            <a:avLst/>
          </a:prstGeom>
          <a:ln w="0">
            <a:noFill/>
          </a:ln>
        </p:spPr>
      </p:pic>
      <p:pic>
        <p:nvPicPr>
          <p:cNvPr id="436" name="Прямоугольник 6" descr=""/>
          <p:cNvPicPr/>
          <p:nvPr/>
        </p:nvPicPr>
        <p:blipFill>
          <a:blip r:embed="rId6"/>
          <a:stretch/>
        </p:blipFill>
        <p:spPr>
          <a:xfrm>
            <a:off x="-933480" y="5334120"/>
            <a:ext cx="82249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0" y="-360"/>
            <a:ext cx="9144000" cy="2071800"/>
          </a:xfrm>
          <a:prstGeom prst="rect">
            <a:avLst/>
          </a:prstGeom>
          <a:gradFill rotWithShape="0">
            <a:gsLst>
              <a:gs pos="0">
                <a:srgbClr val="fae5d5"/>
              </a:gs>
              <a:gs pos="100000">
                <a:srgbClr val="efab6f"/>
              </a:gs>
            </a:gsLst>
            <a:lin ang="5400000"/>
          </a:gradFill>
          <a:ln w="10080">
            <a:solidFill>
              <a:srgbClr val="c3986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6700" spc="-1" strike="noStrike">
                <a:solidFill>
                  <a:srgbClr val="c00000"/>
                </a:solidFill>
                <a:latin typeface="Franklin Gothic Book"/>
              </a:rPr>
              <a:t>Желаем   всем крепкого здоровья!</a:t>
            </a:r>
            <a:endParaRPr b="0" lang="en-US" sz="6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8" name="Picture 2" descr="C:\Users\Елена\Downloads\дети.png"/>
          <p:cNvPicPr/>
          <p:nvPr/>
        </p:nvPicPr>
        <p:blipFill>
          <a:blip r:embed="rId1"/>
          <a:stretch/>
        </p:blipFill>
        <p:spPr>
          <a:xfrm>
            <a:off x="2286000" y="2214720"/>
            <a:ext cx="43149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476280"/>
            <a:ext cx="8686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Список литературы и адреса сайт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1.Журнал «Чем развлечь гостей» №1 2009, с.24, №5, 2007, с.13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2. Зашифрованная запись взята из разработки Кузичкиной Н.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3. 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time-of-success.ucoz.ru/blog/stikhi_i_zagadki_pro_sport_detjam/2011-02-10-12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про спорт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4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zagadka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yaxy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ru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› 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zagadki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dlya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detei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_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do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10</a:t>
            </a:r>
            <a:r>
              <a:rPr b="0" lang="ru-RU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15"/>
              </a:rPr>
              <a:t>_</a:t>
            </a:r>
            <a:r>
              <a:rPr b="1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let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.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ml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о предметах личной гигиены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5.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fiskult-ura.ucoz.ru/publ/17-1-0-68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загадки о спортивных предметах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6.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ejka.ru/blog/zagadki/419.html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загадк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7. </a:t>
            </a:r>
            <a:r>
              <a:rPr b="0" lang="ru-RU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http://images.yandex.ru/</a:t>
            </a: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картинки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8. Фотографии из личного архива Макаровой Е.В.  слайды 7, 8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акарова Елена Валерьевна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Учитель начальных клас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МКОУ «Частоозерская сош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урганская область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0"/>
            <a:ext cx="8223480" cy="1328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C:\Users\Елена\Downloads\умывание.jpg"/>
          <p:cNvPicPr/>
          <p:nvPr/>
        </p:nvPicPr>
        <p:blipFill>
          <a:blip r:embed="rId2"/>
          <a:stretch/>
        </p:blipFill>
        <p:spPr>
          <a:xfrm>
            <a:off x="2143080" y="1428840"/>
            <a:ext cx="49291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4400" spc="-1" strike="noStrike">
                <a:solidFill>
                  <a:srgbClr val="91581f"/>
                </a:solidFill>
                <a:latin typeface="Franklin Gothic Book"/>
              </a:rPr>
              <a:t>Прочтите зашифрованную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1581f"/>
                </a:solidFill>
                <a:latin typeface="Franklin Gothic Book"/>
              </a:rPr>
              <a:t>телеграмму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15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Ключ: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а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в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2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г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д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4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з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5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и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6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л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7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о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8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р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9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с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0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т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1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ч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2,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 ь 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13, </a:t>
            </a: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я</a:t>
            </a:r>
            <a:r>
              <a:rPr b="0" lang="ru-RU" sz="6000" spc="-1" strike="noStrike">
                <a:solidFill>
                  <a:srgbClr val="4e3b30"/>
                </a:solidFill>
                <a:latin typeface="Franklin Gothic Book"/>
              </a:rPr>
              <a:t>- 14.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1581f"/>
                </a:solidFill>
                <a:latin typeface="Franklin Gothic Book"/>
              </a:rPr>
              <a:t>Чистота – залог здоровья</a:t>
            </a: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4" descr="C:\Users\Елена\Downloads\в ванне.png"/>
          <p:cNvPicPr/>
          <p:nvPr/>
        </p:nvPicPr>
        <p:blipFill>
          <a:blip r:embed="rId1"/>
          <a:stretch/>
        </p:blipFill>
        <p:spPr>
          <a:xfrm>
            <a:off x="1214280" y="1828800"/>
            <a:ext cx="68803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42840"/>
            <a:ext cx="8199720" cy="1103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C:\Users\Елена\Downloads\режим.gif"/>
          <p:cNvPicPr/>
          <p:nvPr/>
        </p:nvPicPr>
        <p:blipFill>
          <a:blip r:embed="rId2"/>
          <a:stretch/>
        </p:blipFill>
        <p:spPr>
          <a:xfrm>
            <a:off x="928800" y="1312920"/>
            <a:ext cx="7143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ежим — это установленны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распорядок жизни человека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который включает в себя труд,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Medium"/>
              </a:rPr>
              <a:t>питание, отдых и сон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128520"/>
            <a:ext cx="8242560" cy="1274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Мария\ВСЕ КАРТИНКИ\Фотки с цифровика\2б\100CANON\IMG_1083.JPG"/>
          <p:cNvPicPr/>
          <p:nvPr/>
        </p:nvPicPr>
        <p:blipFill>
          <a:blip r:embed="rId2"/>
          <a:stretch/>
        </p:blipFill>
        <p:spPr>
          <a:xfrm>
            <a:off x="1428840" y="1643040"/>
            <a:ext cx="62481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2747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Мария\ВСЕ КАРТИНКИ\Фотки с цифровика\2б\100CANON\IMG_1095.JPG"/>
          <p:cNvPicPr/>
          <p:nvPr/>
        </p:nvPicPr>
        <p:blipFill>
          <a:blip r:embed="rId2"/>
          <a:stretch/>
        </p:blipFill>
        <p:spPr>
          <a:xfrm>
            <a:off x="1630440" y="155412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8242560" cy="1225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Елена\Downloads\игры на воде.jpg"/>
          <p:cNvPicPr/>
          <p:nvPr/>
        </p:nvPicPr>
        <p:blipFill>
          <a:blip r:embed="rId2"/>
          <a:stretch/>
        </p:blipFill>
        <p:spPr>
          <a:xfrm>
            <a:off x="928800" y="1571760"/>
            <a:ext cx="745308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0:09:49Z</dcterms:created>
  <dc:creator>Елена</dc:creator>
  <dc:description/>
  <dc:language>en-US</dc:language>
  <cp:lastModifiedBy>Елена</cp:lastModifiedBy>
  <dcterms:modified xsi:type="dcterms:W3CDTF">2013-11-18T11:54:54Z</dcterms:modified>
  <cp:revision>31</cp:revision>
  <dc:subject/>
  <dc:title>Слайд 1</dc:title>
</cp:coreProperties>
</file>