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29.jpeg" ContentType="image/jpeg"/>
  <Override PartName="/ppt/media/image8.jpeg" ContentType="image/jpeg"/>
  <Override PartName="/ppt/media/image38.png" ContentType="image/png"/>
  <Override PartName="/ppt/media/image13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4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4.png" ContentType="image/png"/>
  <Override PartName="/ppt/media/image1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2ED2-6F6C-4A16-9707-DC93718A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0E1-79F2-4EC7-B17B-BFF9FB4E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F0F2F-B236-475A-B44E-1AFFAE26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3C024-7547-4AB8-AB3C-703A0F16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AB580-4B63-4D26-8587-CB4BA565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8774C-00CA-4F99-82CB-CB21B578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0F60B-43B3-4F53-B21D-722E25C8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B1519-391C-4BA7-BFAE-7B80CA6B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5F61A-31D8-4FA1-B594-BC0F70EC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7CBD0-F62E-4A2E-8F9C-218EAD9D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6CCAC-4FFE-4AE7-B64A-BB125995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D5E-41E0-4A35-8491-1CFD2F29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382-FF8B-4D06-9FFD-160F93F7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0B97-21CF-4C1E-ABCB-5B3C5461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41D8-1729-42E0-9F2B-53A913AA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4166-DC23-4449-BBE9-1455C87E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8326-426D-473E-9F5C-C775421B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AF86-E1AE-4A36-BFD2-E30AB9ED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2885-2749-4269-A913-C3254382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564D-A88E-40EB-B38F-E35604B0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B8F-9881-4BB8-B5BD-F36BEE93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DCBC-E435-4EEF-ADDB-094FA55E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DD75-E437-4B66-92CB-05E408CB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397D-7B8C-4209-8430-9B100D28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58D4-8FAC-4A24-8A36-ED4ED02A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E6FF-AFDA-45A5-A61C-05DEEE04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F4772-1AB7-4259-A399-86ECC215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5C3D-975F-4167-86C7-1B3934A2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33278-4247-40C9-8994-78C7EAA0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28A3E-B9DC-4736-8973-AE375B88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09008-B42E-425F-9C09-E6FB881B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760-3E1D-4E48-A955-F29C3BE1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06790-62FB-48F7-990A-569B1A95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7E2F6-4933-454D-8632-53E908C7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91DD4-37C2-44D7-AD52-D827AC61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8C52-C655-4A59-A635-D5EAD940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7276C-5088-431A-A3E8-BBA2434C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4DB2C-803A-471B-BC4C-C884A1B5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71B3-4CF5-4C7D-8761-E4B7666E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63528-5DBE-4762-ADEC-BB72A968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17FCF-47F2-46C0-A7EE-5FDA6646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32BBD-1039-4496-A9E0-717CB97B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9BF-31D4-417F-9522-E6A1FFC3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EB83A-55BB-4137-9AA4-9A4254E9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C7F95-7FBF-41B1-B7D9-9116914D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900C3-9FD4-4441-8DAB-9585C485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A35FA-8538-4290-9A6A-D9152F37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939FE-C2C0-420A-82A4-050D51D4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B7457-96F0-47E8-9BEF-8CACEAEE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D119F-B82F-49E8-A7B2-077F22B4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F1C9F-5242-43B8-8A5A-4D34595D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6EC58-08E0-4A94-B98D-320B0B7D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1E41A-19B7-407A-B90F-20921917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AAA-9DCB-4DF6-BFF4-15F3B806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562C7-3BB1-4ADF-A248-CBF59A6C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8A409-7139-4C3A-8BB1-2C49B81A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DDF6C-1F1F-4801-902F-0D17569D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724BC-ABE7-4DE5-B630-5C5779AD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5AA9F-50F0-49E0-AC61-A7ACE5DB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2F7E4-6829-4061-A523-A8049A83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9CF89-E49F-47A2-9F6F-800334C7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62D9E-EECB-41F2-BACA-A130F1F2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BE8A2-7996-4BD4-9F3E-C2003816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2AF4D-6ABB-4331-BEBE-B5400D35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7E0-C9AD-4B7A-866E-54F151E1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FE52B-2107-4FF4-9FE4-07D46BC3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CEED0-F7F2-4F68-98E4-7D4B0AF8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71323-1907-46D4-A11E-3935FC8C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55EB4-2A4A-4A01-A263-60F40FFE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2A66D-4813-476C-A512-57F5AA48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E71BD-DBE2-4259-A3AE-4C41CCD7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278F8-F786-4693-95FC-7BF7D7F7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993CB-4351-45BD-83BF-6B613437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09091-43C7-4D6C-86E2-E3CD7019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56760-1785-4B8F-83D2-1F3E30BD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0CE-C0BC-49EA-9BA9-8DF99BC8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9511D-1022-4856-963A-0E34F78A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D8C42-7520-4338-8784-3840FF15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1603C-F2E6-4A5D-997B-68BB4CE8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D56AD-39FA-4B77-9410-87E7F226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1EA2D-7C0A-4E21-9FC0-8F2273BE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A7B62-B259-4BA1-893C-253B801E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03D6C-B9A6-4207-9E15-2BBC5D08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10CDD-892D-4AFB-8BF3-58726FE1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167E2-ED0A-4B77-B79B-4E88B000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08825-CCB3-46A0-A95B-BC2BF13F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29E-7E6B-4C0A-9C6B-3F62C47C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C8700-0745-4FEA-A9A0-9C6C6CEE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98542-77C9-43FD-913A-B6D22399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4ED56-3208-4BC2-9B30-C7A94C6F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15A82-84A2-4031-ACA3-85E35980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2960B-FDB5-4215-83B7-BF5F664F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E0B85-CF06-499E-8053-EA41E776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CE0CF-F2C4-4E68-97BB-977AE616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089A2-4A5D-4DF6-8F7F-F8B2AC06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A9358-3499-40EE-96E9-6BFB5424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C44CE-680C-44FB-B780-55D979FF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F77-370C-40EF-A88E-36D03FF0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78813-C1FB-42B1-94AE-51566F78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1B166-E33A-4F81-B591-A0114903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A3476-17AC-4C6D-9D2E-FA53B0BB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3103E-9EEC-4C29-A792-C1F9DD19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52FE3-569A-44AA-854D-FDE4C2E3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C1825-2A6C-474F-BA80-EB05DF8F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28E86-BD27-4746-B4D5-3FEC0A93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DBD41-C0A6-42C4-B878-6BC640E4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04D71-A863-4F56-AA76-5B80E247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8AB4A-BDA0-4C42-822F-145E1368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B1D7-3FE0-4B2A-AB6E-C7744D0B21B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3084-7D24-449F-81DC-5B07C99E6DA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A911-EB40-4401-AC89-DCED34B7DC4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8E3B-0554-4519-9417-3F8E28FA88A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D11C-119B-410C-AD2D-DA16FD31DDD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4ACA-F48F-42B9-88CE-7D6237E0C6F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3B49-6B52-41AF-8443-3F14DB93F5C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F72A-850B-406C-8C92-19B4CD92DFB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EE9A-5CF7-4EBC-9B68-5FB3E99C7D0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time-of-success.ucoz.ru/blog/stikhi_i_zagadki_pro_sport_detjam/2011-02-10-12" TargetMode="External"/><Relationship Id="rId2" Type="http://schemas.openxmlformats.org/officeDocument/2006/relationships/hyperlink" Target="http://zagadka.yaxy.ru/" TargetMode="External"/><Relationship Id="rId3" Type="http://schemas.openxmlformats.org/officeDocument/2006/relationships/hyperlink" Target="http://zagadka.yaxy.ru/" TargetMode="External"/><Relationship Id="rId4" Type="http://schemas.openxmlformats.org/officeDocument/2006/relationships/hyperlink" Target="http://zagadka.yaxy.ru/" TargetMode="External"/><Relationship Id="rId5" Type="http://schemas.openxmlformats.org/officeDocument/2006/relationships/hyperlink" Target="http://zagadka.yaxy.ru/" TargetMode="External"/><Relationship Id="rId6" Type="http://schemas.openxmlformats.org/officeDocument/2006/relationships/hyperlink" Target="http://zagadka.yaxy.ru/" TargetMode="External"/><Relationship Id="rId7" Type="http://schemas.openxmlformats.org/officeDocument/2006/relationships/hyperlink" Target="http://zagadka.yaxy.ru/zagadki_dlya_detei_do10_let.html" TargetMode="External"/><Relationship Id="rId8" Type="http://schemas.openxmlformats.org/officeDocument/2006/relationships/hyperlink" Target="http://zagadka.yaxy.ru/zagadki_dlya_detei_do10_let.html" TargetMode="External"/><Relationship Id="rId9" Type="http://schemas.openxmlformats.org/officeDocument/2006/relationships/hyperlink" Target="http://zagadka.yaxy.ru/zagadki_dlya_detei_do10_let.html" TargetMode="External"/><Relationship Id="rId10" Type="http://schemas.openxmlformats.org/officeDocument/2006/relationships/hyperlink" Target="http://zagadka.yaxy.ru/zagadki_dlya_detei_do10_let.html" TargetMode="External"/><Relationship Id="rId11" Type="http://schemas.openxmlformats.org/officeDocument/2006/relationships/hyperlink" Target="http://zagadka.yaxy.ru/zagadki_dlya_detei_do10_let.html" TargetMode="External"/><Relationship Id="rId12" Type="http://schemas.openxmlformats.org/officeDocument/2006/relationships/hyperlink" Target="http://zagadka.yaxy.ru/zagadki_dlya_detei_do10_let.html" TargetMode="External"/><Relationship Id="rId13" Type="http://schemas.openxmlformats.org/officeDocument/2006/relationships/hyperlink" Target="http://zagadka.yaxy.ru/zagadki_dlya_detei_do10_let.html" TargetMode="External"/><Relationship Id="rId14" Type="http://schemas.openxmlformats.org/officeDocument/2006/relationships/hyperlink" Target="http://zagadka.yaxy.ru/zagadki_dlya_detei_do10_let.html" TargetMode="External"/><Relationship Id="rId15" Type="http://schemas.openxmlformats.org/officeDocument/2006/relationships/hyperlink" Target="http://zagadka.yaxy.ru/zagadki_dlya_detei_do10_let.html" TargetMode="External"/><Relationship Id="rId1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9156960" cy="2340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C:\Users\Елена\Downloads\здор.jpg"/>
          <p:cNvPicPr/>
          <p:nvPr/>
        </p:nvPicPr>
        <p:blipFill>
          <a:blip r:embed="rId2"/>
          <a:stretch/>
        </p:blipFill>
        <p:spPr>
          <a:xfrm>
            <a:off x="1116000" y="2060640"/>
            <a:ext cx="693252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Прямоугольник 3" descr=""/>
          <p:cNvPicPr/>
          <p:nvPr/>
        </p:nvPicPr>
        <p:blipFill>
          <a:blip r:embed="rId1"/>
          <a:stretch/>
        </p:blipFill>
        <p:spPr>
          <a:xfrm>
            <a:off x="281160" y="42840"/>
            <a:ext cx="8448480" cy="11034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C:\Users\Елена\Downloads\спорт.jpg"/>
          <p:cNvPicPr/>
          <p:nvPr/>
        </p:nvPicPr>
        <p:blipFill>
          <a:blip r:embed="rId2"/>
          <a:stretch/>
        </p:blipFill>
        <p:spPr>
          <a:xfrm>
            <a:off x="1928880" y="1214280"/>
            <a:ext cx="550080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4292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23227"/>
                </a:solidFill>
                <a:latin typeface="Franklin Gothic Book"/>
              </a:rPr>
              <a:t>Отдых наш - физкультминутка,</a:t>
            </a:r>
            <a:br>
              <a:rPr sz="4400"/>
            </a:br>
            <a:r>
              <a:rPr b="0" lang="ru-RU" sz="4400" spc="-1" strike="noStrike">
                <a:solidFill>
                  <a:srgbClr val="523227"/>
                </a:solidFill>
                <a:latin typeface="Franklin Gothic Book"/>
              </a:rPr>
              <a:t>Занимай свои места.</a:t>
            </a:r>
            <a:br>
              <a:rPr sz="4400"/>
            </a:br>
            <a:r>
              <a:rPr b="0" lang="ru-RU" sz="4400" spc="-1" strike="noStrike">
                <a:solidFill>
                  <a:srgbClr val="523227"/>
                </a:solidFill>
                <a:latin typeface="Franklin Gothic Book"/>
              </a:rPr>
              <a:t>Раз присели, два - привстали,</a:t>
            </a:r>
            <a:br>
              <a:rPr sz="4400"/>
            </a:br>
            <a:r>
              <a:rPr b="0" lang="ru-RU" sz="4400" spc="-1" strike="noStrike">
                <a:solidFill>
                  <a:srgbClr val="523227"/>
                </a:solidFill>
                <a:latin typeface="Franklin Gothic Book"/>
              </a:rPr>
              <a:t>Руки кверху все подняли.</a:t>
            </a:r>
            <a:br>
              <a:rPr sz="4400"/>
            </a:br>
            <a:r>
              <a:rPr b="0" lang="ru-RU" sz="4400" spc="-1" strike="noStrike">
                <a:solidFill>
                  <a:srgbClr val="523227"/>
                </a:solidFill>
                <a:latin typeface="Franklin Gothic Book"/>
              </a:rPr>
              <a:t>Сели, встали, сели, встали</a:t>
            </a:r>
            <a:br>
              <a:rPr sz="4400"/>
            </a:br>
            <a:r>
              <a:rPr b="0" lang="ru-RU" sz="4400" spc="-1" strike="noStrike">
                <a:solidFill>
                  <a:srgbClr val="523227"/>
                </a:solidFill>
                <a:latin typeface="Franklin Gothic Book"/>
              </a:rPr>
              <a:t>Ванькой- встанькой словно стали</a:t>
            </a:r>
            <a:br>
              <a:rPr sz="4400"/>
            </a:br>
            <a:r>
              <a:rPr b="0" lang="ru-RU" sz="4400" spc="-1" strike="noStrike">
                <a:solidFill>
                  <a:srgbClr val="523227"/>
                </a:solidFill>
                <a:latin typeface="Franklin Gothic Book"/>
              </a:rPr>
              <a:t>А потом пустились вскачь,</a:t>
            </a:r>
            <a:br>
              <a:rPr sz="4400"/>
            </a:br>
            <a:r>
              <a:rPr b="0" lang="ru-RU" sz="4400" spc="-1" strike="noStrike">
                <a:solidFill>
                  <a:srgbClr val="523227"/>
                </a:solidFill>
                <a:latin typeface="Franklin Gothic Book"/>
              </a:rPr>
              <a:t>Словно мой упругий мяч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30240"/>
            <a:ext cx="9156960" cy="1103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Users\Елена\Downloads\здоровое питание.jpg"/>
          <p:cNvPicPr/>
          <p:nvPr/>
        </p:nvPicPr>
        <p:blipFill>
          <a:blip r:embed="rId2"/>
          <a:stretch/>
        </p:blipFill>
        <p:spPr>
          <a:xfrm>
            <a:off x="1071720" y="1071720"/>
            <a:ext cx="7072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C:\Users\Елена\Downloads\морк.jpg"/>
          <p:cNvPicPr/>
          <p:nvPr/>
        </p:nvPicPr>
        <p:blipFill>
          <a:blip r:embed="rId1"/>
          <a:stretch/>
        </p:blipFill>
        <p:spPr>
          <a:xfrm>
            <a:off x="357120" y="157176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Users\Елена\Downloads\кап.jpg"/>
          <p:cNvPicPr/>
          <p:nvPr/>
        </p:nvPicPr>
        <p:blipFill>
          <a:blip r:embed="rId2"/>
          <a:stretch/>
        </p:blipFill>
        <p:spPr>
          <a:xfrm>
            <a:off x="6786720" y="5286240"/>
            <a:ext cx="1527120" cy="1109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C:\Users\Елена\Downloads\яб.jpg"/>
          <p:cNvPicPr/>
          <p:nvPr/>
        </p:nvPicPr>
        <p:blipFill>
          <a:blip r:embed="rId3"/>
          <a:stretch/>
        </p:blipFill>
        <p:spPr>
          <a:xfrm>
            <a:off x="3929040" y="1643040"/>
            <a:ext cx="1357200" cy="1393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Users\Елена\Downloads\орех.jpg"/>
          <p:cNvPicPr/>
          <p:nvPr/>
        </p:nvPicPr>
        <p:blipFill>
          <a:blip r:embed="rId4"/>
          <a:stretch/>
        </p:blipFill>
        <p:spPr>
          <a:xfrm>
            <a:off x="4357800" y="321480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:\Users\Елена\Downloads\хлеб.jpg"/>
          <p:cNvPicPr/>
          <p:nvPr/>
        </p:nvPicPr>
        <p:blipFill>
          <a:blip r:embed="rId5"/>
          <a:stretch/>
        </p:blipFill>
        <p:spPr>
          <a:xfrm>
            <a:off x="6929280" y="3571920"/>
            <a:ext cx="1428840" cy="1133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C:\Users\Елена\Downloads\i (1).jpg"/>
          <p:cNvPicPr/>
          <p:nvPr/>
        </p:nvPicPr>
        <p:blipFill>
          <a:blip r:embed="rId6"/>
          <a:stretch/>
        </p:blipFill>
        <p:spPr>
          <a:xfrm>
            <a:off x="714240" y="50720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C:\Users\Елена\Downloads\1.jpg"/>
          <p:cNvPicPr/>
          <p:nvPr/>
        </p:nvPicPr>
        <p:blipFill>
          <a:blip r:embed="rId7"/>
          <a:stretch/>
        </p:blipFill>
        <p:spPr>
          <a:xfrm>
            <a:off x="6286680" y="1571760"/>
            <a:ext cx="2314440" cy="1466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C:\Users\Елена\Downloads\i (2).jpg"/>
          <p:cNvPicPr/>
          <p:nvPr/>
        </p:nvPicPr>
        <p:blipFill>
          <a:blip r:embed="rId8"/>
          <a:stretch/>
        </p:blipFill>
        <p:spPr>
          <a:xfrm>
            <a:off x="3714840" y="5143680"/>
            <a:ext cx="1828800" cy="1304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C:\Users\Елена\Downloads\i (3).jpg"/>
          <p:cNvPicPr/>
          <p:nvPr/>
        </p:nvPicPr>
        <p:blipFill>
          <a:blip r:embed="rId9"/>
          <a:stretch/>
        </p:blipFill>
        <p:spPr>
          <a:xfrm>
            <a:off x="2500200" y="1643040"/>
            <a:ext cx="762120" cy="14288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C:\Users\Елена\Downloads\i (4).jpg"/>
          <p:cNvPicPr/>
          <p:nvPr/>
        </p:nvPicPr>
        <p:blipFill>
          <a:blip r:embed="rId10"/>
          <a:stretch/>
        </p:blipFill>
        <p:spPr>
          <a:xfrm>
            <a:off x="1357200" y="3429000"/>
            <a:ext cx="1928880" cy="1285920"/>
          </a:xfrm>
          <a:prstGeom prst="rect">
            <a:avLst/>
          </a:prstGeom>
          <a:ln w="0">
            <a:noFill/>
          </a:ln>
        </p:spPr>
      </p:pic>
      <p:pic>
        <p:nvPicPr>
          <p:cNvPr id="430" name="Прямоугольник 12" descr=""/>
          <p:cNvPicPr/>
          <p:nvPr/>
        </p:nvPicPr>
        <p:blipFill>
          <a:blip r:embed="rId11"/>
          <a:stretch/>
        </p:blipFill>
        <p:spPr>
          <a:xfrm>
            <a:off x="-6480" y="-109440"/>
            <a:ext cx="91569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71288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1620720"/>
            <a:ext cx="6145200" cy="1208160"/>
          </a:xfrm>
          <a:prstGeom prst="rect">
            <a:avLst/>
          </a:prstGeom>
          <a:ln w="0">
            <a:noFill/>
          </a:ln>
        </p:spPr>
      </p:pic>
      <p:pic>
        <p:nvPicPr>
          <p:cNvPr id="433" name="Прямоугольник 3" descr=""/>
          <p:cNvPicPr/>
          <p:nvPr/>
        </p:nvPicPr>
        <p:blipFill>
          <a:blip r:embed="rId3"/>
          <a:stretch/>
        </p:blipFill>
        <p:spPr>
          <a:xfrm>
            <a:off x="-6480" y="2335320"/>
            <a:ext cx="7010640" cy="120636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оугольник 4" descr=""/>
          <p:cNvPicPr/>
          <p:nvPr/>
        </p:nvPicPr>
        <p:blipFill>
          <a:blip r:embed="rId4"/>
          <a:stretch/>
        </p:blipFill>
        <p:spPr>
          <a:xfrm>
            <a:off x="-6480" y="3121200"/>
            <a:ext cx="8394840" cy="175572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5" descr=""/>
          <p:cNvPicPr/>
          <p:nvPr/>
        </p:nvPicPr>
        <p:blipFill>
          <a:blip r:embed="rId5"/>
          <a:stretch/>
        </p:blipFill>
        <p:spPr>
          <a:xfrm>
            <a:off x="-579600" y="4548240"/>
            <a:ext cx="7583760" cy="1206360"/>
          </a:xfrm>
          <a:prstGeom prst="rect">
            <a:avLst/>
          </a:prstGeom>
          <a:ln w="0">
            <a:noFill/>
          </a:ln>
        </p:spPr>
      </p:pic>
      <p:pic>
        <p:nvPicPr>
          <p:cNvPr id="436" name="Прямоугольник 6" descr=""/>
          <p:cNvPicPr/>
          <p:nvPr/>
        </p:nvPicPr>
        <p:blipFill>
          <a:blip r:embed="rId6"/>
          <a:stretch/>
        </p:blipFill>
        <p:spPr>
          <a:xfrm>
            <a:off x="-933480" y="5334120"/>
            <a:ext cx="822492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0" y="-360"/>
            <a:ext cx="9144000" cy="2071800"/>
          </a:xfrm>
          <a:prstGeom prst="rect">
            <a:avLst/>
          </a:pr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6700" spc="-1" strike="noStrike">
                <a:solidFill>
                  <a:srgbClr val="c00000"/>
                </a:solidFill>
                <a:latin typeface="Franklin Gothic Book"/>
              </a:rPr>
              <a:t>Желаем   всем крепкого здоровья!</a:t>
            </a:r>
            <a:endParaRPr b="0" lang="en-US" sz="67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8" name="Picture 2" descr="C:\Users\Елена\Downloads\дети.png"/>
          <p:cNvPicPr/>
          <p:nvPr/>
        </p:nvPicPr>
        <p:blipFill>
          <a:blip r:embed="rId1"/>
          <a:stretch/>
        </p:blipFill>
        <p:spPr>
          <a:xfrm>
            <a:off x="2286000" y="2214720"/>
            <a:ext cx="43149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04920" y="476280"/>
            <a:ext cx="8686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писок литературы и адреса сайт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1.Журнал «Чем развлечь гостей» №1 2009, с.24, №5, 2007, с.13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2. Зашифрованная запись взята из разработки Кузичкиной Н.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3.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http://time-of-success.ucoz.ru/blog/stikhi_i_zagadki_pro_sport_detjam/2011-02-10-12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загадки про спорт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4.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zagadka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yaxy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ru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› 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zagadki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_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9"/>
              </a:rPr>
              <a:t>dlya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10"/>
              </a:rPr>
              <a:t>_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11"/>
              </a:rPr>
              <a:t>detei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12"/>
              </a:rPr>
              <a:t>_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13"/>
              </a:rPr>
              <a:t>do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14"/>
              </a:rPr>
              <a:t>10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15"/>
              </a:rPr>
              <a:t>_</a:t>
            </a:r>
            <a:r>
              <a:rPr b="1" lang="en-US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let</a:t>
            </a:r>
            <a:r>
              <a:rPr b="0" lang="ru-RU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.</a:t>
            </a:r>
            <a:r>
              <a:rPr b="0" lang="en-US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html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загадки о предметах личной гигиены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5.</a:t>
            </a:r>
            <a:r>
              <a:rPr b="0" lang="ru-RU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http://fiskult-ura.ucoz.ru/publ/17-1-0-68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загадки о спортивных предметах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6.</a:t>
            </a:r>
            <a:r>
              <a:rPr b="0" lang="ru-RU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http://ejka.ru/blog/zagadki/419.html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загадк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7. </a:t>
            </a:r>
            <a:r>
              <a:rPr b="0" lang="ru-RU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http://images.yandex.ru/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картинк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8. Фотографии из личного архива Макаровой Е.В.  слайды 7, 8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Макарова Елена Валерьевна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Учитель начальных классов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МКОУ «Частоозерская сош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урганская область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0"/>
            <a:ext cx="8223480" cy="1328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C:\Users\Елена\Downloads\умывание.jpg"/>
          <p:cNvPicPr/>
          <p:nvPr/>
        </p:nvPicPr>
        <p:blipFill>
          <a:blip r:embed="rId2"/>
          <a:stretch/>
        </p:blipFill>
        <p:spPr>
          <a:xfrm>
            <a:off x="2143080" y="1428840"/>
            <a:ext cx="492912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4400" spc="-1" strike="noStrike">
                <a:solidFill>
                  <a:srgbClr val="91581f"/>
                </a:solidFill>
                <a:latin typeface="Franklin Gothic Book"/>
              </a:rPr>
              <a:t>Прочтите зашифрованную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1581f"/>
                </a:solidFill>
                <a:latin typeface="Franklin Gothic Book"/>
              </a:rPr>
              <a:t>телеграмму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Ключ: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а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1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в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2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г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3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д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4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з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5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и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6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л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7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о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8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р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9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с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10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т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11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ч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12,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 ь 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13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я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14.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1581f"/>
                </a:solidFill>
                <a:latin typeface="Franklin Gothic Book"/>
              </a:rPr>
              <a:t>Чистота – залог здоровья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4" descr="C:\Users\Елена\Downloads\в ванне.png"/>
          <p:cNvPicPr/>
          <p:nvPr/>
        </p:nvPicPr>
        <p:blipFill>
          <a:blip r:embed="rId1"/>
          <a:stretch/>
        </p:blipFill>
        <p:spPr>
          <a:xfrm>
            <a:off x="1214280" y="1828800"/>
            <a:ext cx="688032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42840"/>
            <a:ext cx="8199720" cy="1103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Users\Елена\Downloads\режим.gif"/>
          <p:cNvPicPr/>
          <p:nvPr/>
        </p:nvPicPr>
        <p:blipFill>
          <a:blip r:embed="rId2"/>
          <a:stretch/>
        </p:blipFill>
        <p:spPr>
          <a:xfrm>
            <a:off x="928800" y="1312920"/>
            <a:ext cx="7143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Medium"/>
              </a:rPr>
              <a:t>Режим — это установленный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Medium"/>
              </a:rPr>
              <a:t>распорядок жизни человека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Medium"/>
              </a:rPr>
              <a:t>который включает в себя труд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Medium"/>
              </a:rPr>
              <a:t>питание, отдых и сон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242560" cy="1274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Мария\ВСЕ КАРТИНКИ\Фотки с цифровика\2б\100CANON\IMG_1083.JPG"/>
          <p:cNvPicPr/>
          <p:nvPr/>
        </p:nvPicPr>
        <p:blipFill>
          <a:blip r:embed="rId2"/>
          <a:stretch/>
        </p:blipFill>
        <p:spPr>
          <a:xfrm>
            <a:off x="1428840" y="1643040"/>
            <a:ext cx="62481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242560" cy="12747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Мария\ВСЕ КАРТИНКИ\Фотки с цифровика\2б\100CANON\IMG_1095.JPG"/>
          <p:cNvPicPr/>
          <p:nvPr/>
        </p:nvPicPr>
        <p:blipFill>
          <a:blip r:embed="rId2"/>
          <a:stretch/>
        </p:blipFill>
        <p:spPr>
          <a:xfrm>
            <a:off x="1630440" y="155412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450720" y="-146160"/>
            <a:ext cx="8242560" cy="12258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C:\Users\Елена\Downloads\игры на воде.jpg"/>
          <p:cNvPicPr/>
          <p:nvPr/>
        </p:nvPicPr>
        <p:blipFill>
          <a:blip r:embed="rId2"/>
          <a:stretch/>
        </p:blipFill>
        <p:spPr>
          <a:xfrm>
            <a:off x="928800" y="1571760"/>
            <a:ext cx="745308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0:09:49Z</dcterms:created>
  <dc:creator>Елена</dc:creator>
  <dc:description/>
  <dc:language>en-US</dc:language>
  <cp:lastModifiedBy>Елена</cp:lastModifiedBy>
  <dcterms:modified xsi:type="dcterms:W3CDTF">2013-11-18T11:54:54Z</dcterms:modified>
  <cp:revision>31</cp:revision>
  <dc:subject/>
  <dc:title>Слайд 1</dc:title>
</cp:coreProperties>
</file>