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4623-46D9-4121-BBA9-251FF859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AD5D-0320-4BD3-B788-B3AFDF1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1D84-C705-495E-AB96-612EE4BB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C118-3488-499A-9657-D7803977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9F36-468F-4ABC-914E-ED45E3F6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FC1A-C189-4DD9-BB61-898EB608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E80-17CC-4E22-AA55-022D40D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FF1C-92E6-4FEC-9EC5-25DE305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8CB5-5880-4648-AAE0-6D8A96C3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99BF-6FC4-4463-8CBC-32A9402E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5E42-AACA-4FB7-B295-839580C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9415-8149-4FA1-AC7E-1BD64DE6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F671-65E7-4646-ABDE-4AF9318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F8F-EE21-413B-A12D-8449457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8F5-C174-47BD-8492-0C886AD9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1A05-2BB8-410C-8F1A-620855F8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6EE3-3D93-4A88-94B3-BA0C9CE0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D932-DEFF-45F9-8DA4-3B8C69D8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BBDA-7812-478D-8893-0DC6F98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0738-DD52-4267-B383-DD560FF7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772D-BBF2-4DD5-A2E8-FF210624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E578-F0D2-4C51-8D6D-102D892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7E35-DB47-48F3-9D44-3169F408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3C2B-5283-424E-A2B8-5933E48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EC4-15E8-47F1-A48E-88FB19C25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30FA-F3F6-4AD7-BA4E-2E733A832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00280" y="2437920"/>
            <a:ext cx="50436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Типы населённых пунктов Росс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5920" y="7164000"/>
            <a:ext cx="45147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ца 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вашкина  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33000" y="826920"/>
            <a:ext cx="6172200" cy="75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родски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свыше 2 тыс. человек, имеющие промышленные и коммунальные предприятия, социально-культурные учреждения, предприятия торговли, общественного питания, бытового обслуж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урортны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не менее 2 тыс. человек, на территории которых расположены санатории, дома отдыха, пансионаты, другие оздоровительные учреждения, предприятия торговли, общественного питания и бытового обслуживания населения, культурно-просветительные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бочие посёл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населённые пункты с численностью населения не менее 500 человек, расположенные при промышленных предприятиях, электростанциях, стройках, железнодорожных станциях                                   и других объ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45000" y="7451640"/>
            <a:ext cx="1063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5920" y="1042560"/>
            <a:ext cx="5977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Населённый пунк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—    населённое людьми место (поселение), первичная единица расселения людей в пределах одного застроенного земельного участ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6280" y="3780000"/>
            <a:ext cx="5976360" cy="3043800"/>
            <a:chOff x="476280" y="3780000"/>
            <a:chExt cx="5976360" cy="3043800"/>
          </a:xfrm>
        </p:grpSpPr>
        <p:cxnSp>
          <p:nvCxnSpPr>
            <p:cNvPr id="110" name="_s66576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205880" y="4255560"/>
              <a:ext cx="609480" cy="2091960"/>
            </a:xfrm>
            <a:prstGeom prst="bentConnector3">
              <a:avLst>
                <a:gd name="adj1" fmla="val 187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66571"/>
            <p:cNvCxnSpPr>
              <a:stCxn id="114" idx="0"/>
              <a:endCxn id="112" idx="2"/>
            </p:cNvCxnSpPr>
            <p:nvPr/>
          </p:nvCxnSpPr>
          <p:spPr>
            <a:xfrm flipV="1">
              <a:off x="3464640" y="4996800"/>
              <a:ext cx="2880" cy="60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66570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113920" y="4255560"/>
              <a:ext cx="609480" cy="2091960"/>
            </a:xfrm>
            <a:prstGeom prst="bentConnector3">
              <a:avLst>
                <a:gd name="adj1" fmla="val 187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66566"/>
            <p:cNvSpPr/>
            <p:nvPr/>
          </p:nvSpPr>
          <p:spPr>
            <a:xfrm>
              <a:off x="2567880" y="378000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аселён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унк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66567"/>
            <p:cNvSpPr/>
            <p:nvPr/>
          </p:nvSpPr>
          <p:spPr>
            <a:xfrm>
              <a:off x="47628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ель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66568"/>
            <p:cNvSpPr/>
            <p:nvPr/>
          </p:nvSpPr>
          <p:spPr>
            <a:xfrm>
              <a:off x="256788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6575"/>
            <p:cNvSpPr/>
            <p:nvPr/>
          </p:nvSpPr>
          <p:spPr>
            <a:xfrm>
              <a:off x="4659840" y="5606280"/>
              <a:ext cx="1792800" cy="1217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Промежуточные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81360" y="7020000"/>
            <a:ext cx="1384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33000" y="111564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переписи 2002 года число населённые пунктов России распределило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а — 1 0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ёлки городского типа — 1 8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льские населённые пункты — 155 2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том числе без населения — 13 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65360" y="6659640"/>
            <a:ext cx="1673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44"/>
                </a:solidFill>
                <a:latin typeface="Times New Roman"/>
              </a:rPr>
              <a:t>Город -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крупный  (по сложившимся стереотипам) населённый пункт, жители которого заняты, как правило, вне сельск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4640" y="6877080"/>
            <a:ext cx="147024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33360" y="2627280"/>
            <a:ext cx="6263280" cy="6120720"/>
            <a:chOff x="333360" y="2627280"/>
            <a:chExt cx="6263280" cy="6120720"/>
          </a:xfrm>
        </p:grpSpPr>
        <p:cxnSp>
          <p:nvCxnSpPr>
            <p:cNvPr id="124" name="_s4120"/>
            <p:cNvCxnSpPr>
              <a:stCxn id="125" idx="1"/>
              <a:endCxn id="126" idx="2"/>
            </p:cNvCxnSpPr>
            <p:nvPr/>
          </p:nvCxnSpPr>
          <p:spPr>
            <a:xfrm rot="10800000">
              <a:off x="2298960" y="3656520"/>
              <a:ext cx="410400" cy="466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4109"/>
            <p:cNvCxnSpPr>
              <a:stCxn id="128" idx="1"/>
              <a:endCxn id="126" idx="2"/>
            </p:cNvCxnSpPr>
            <p:nvPr/>
          </p:nvCxnSpPr>
          <p:spPr>
            <a:xfrm rot="10800000">
              <a:off x="2299680" y="3656520"/>
              <a:ext cx="336600" cy="3445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4108"/>
            <p:cNvCxnSpPr>
              <a:stCxn id="130" idx="1"/>
              <a:endCxn id="126" idx="2"/>
            </p:cNvCxnSpPr>
            <p:nvPr/>
          </p:nvCxnSpPr>
          <p:spPr>
            <a:xfrm rot="10800000">
              <a:off x="2299680" y="3656520"/>
              <a:ext cx="336600" cy="219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107"/>
            <p:cNvCxnSpPr>
              <a:stCxn id="132" idx="1"/>
              <a:endCxn id="126" idx="2"/>
            </p:cNvCxnSpPr>
            <p:nvPr/>
          </p:nvCxnSpPr>
          <p:spPr>
            <a:xfrm rot="10800000">
              <a:off x="2298960" y="3656520"/>
              <a:ext cx="365040" cy="87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4103"/>
            <p:cNvSpPr/>
            <p:nvPr/>
          </p:nvSpPr>
          <p:spPr>
            <a:xfrm>
              <a:off x="333360" y="262728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ПО ФУНКЦИЯ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04"/>
            <p:cNvSpPr/>
            <p:nvPr/>
          </p:nvSpPr>
          <p:spPr>
            <a:xfrm>
              <a:off x="2664000" y="401508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МЫШЛ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05"/>
            <p:cNvSpPr/>
            <p:nvPr/>
          </p:nvSpPr>
          <p:spPr>
            <a:xfrm>
              <a:off x="2636280" y="5435640"/>
              <a:ext cx="3932640" cy="8370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УРОР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06"/>
            <p:cNvSpPr/>
            <p:nvPr/>
          </p:nvSpPr>
          <p:spPr>
            <a:xfrm>
              <a:off x="2636280" y="6587640"/>
              <a:ext cx="3932640" cy="1029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РАНСПОР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19"/>
            <p:cNvSpPr/>
            <p:nvPr/>
          </p:nvSpPr>
          <p:spPr>
            <a:xfrm>
              <a:off x="2709360" y="7885800"/>
              <a:ext cx="3859560" cy="8622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АУЧНЫЕ  ЦЕН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20640" y="684360"/>
            <a:ext cx="5604480" cy="7990560"/>
            <a:chOff x="620640" y="684360"/>
            <a:chExt cx="5604480" cy="7990560"/>
          </a:xfrm>
        </p:grpSpPr>
        <p:cxnSp>
          <p:nvCxnSpPr>
            <p:cNvPr id="134" name="_s63508"/>
            <p:cNvCxnSpPr>
              <a:stCxn id="135" idx="1"/>
              <a:endCxn id="136" idx="2"/>
            </p:cNvCxnSpPr>
            <p:nvPr/>
          </p:nvCxnSpPr>
          <p:spPr>
            <a:xfrm rot="10800000">
              <a:off x="2301120" y="1482480"/>
              <a:ext cx="560880" cy="679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3506"/>
            <p:cNvCxnSpPr>
              <a:stCxn id="138" idx="1"/>
              <a:endCxn id="136" idx="2"/>
            </p:cNvCxnSpPr>
            <p:nvPr/>
          </p:nvCxnSpPr>
          <p:spPr>
            <a:xfrm rot="10800000">
              <a:off x="2301120" y="1482480"/>
              <a:ext cx="560880" cy="4395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63504"/>
            <p:cNvCxnSpPr>
              <a:stCxn id="140" idx="1"/>
              <a:endCxn id="136" idx="2"/>
            </p:cNvCxnSpPr>
            <p:nvPr/>
          </p:nvCxnSpPr>
          <p:spPr>
            <a:xfrm rot="10800000">
              <a:off x="2301120" y="1482480"/>
              <a:ext cx="560880" cy="559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63500"/>
            <p:cNvCxnSpPr>
              <a:stCxn id="142" idx="1"/>
              <a:endCxn id="136" idx="2"/>
            </p:cNvCxnSpPr>
            <p:nvPr/>
          </p:nvCxnSpPr>
          <p:spPr>
            <a:xfrm rot="10800000">
              <a:off x="2301120" y="1482480"/>
              <a:ext cx="560880" cy="319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63499"/>
            <p:cNvCxnSpPr>
              <a:stCxn id="144" idx="1"/>
              <a:endCxn id="136" idx="2"/>
            </p:cNvCxnSpPr>
            <p:nvPr/>
          </p:nvCxnSpPr>
          <p:spPr>
            <a:xfrm rot="10800000">
              <a:off x="2301120" y="1482480"/>
              <a:ext cx="560880" cy="200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63498"/>
            <p:cNvCxnSpPr>
              <a:stCxn id="146" idx="1"/>
              <a:endCxn id="136" idx="2"/>
            </p:cNvCxnSpPr>
            <p:nvPr/>
          </p:nvCxnSpPr>
          <p:spPr>
            <a:xfrm rot="10800000">
              <a:off x="2301120" y="1482480"/>
              <a:ext cx="560880" cy="79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63494"/>
            <p:cNvSpPr/>
            <p:nvPr/>
          </p:nvSpPr>
          <p:spPr>
            <a:xfrm>
              <a:off x="620640" y="68436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по численности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495"/>
            <p:cNvSpPr/>
            <p:nvPr/>
          </p:nvSpPr>
          <p:spPr>
            <a:xfrm>
              <a:off x="2862360" y="188280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Мал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3496"/>
            <p:cNvSpPr/>
            <p:nvPr/>
          </p:nvSpPr>
          <p:spPr>
            <a:xfrm>
              <a:off x="2862360" y="308160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редн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63497"/>
            <p:cNvSpPr/>
            <p:nvPr/>
          </p:nvSpPr>
          <p:spPr>
            <a:xfrm>
              <a:off x="2862360" y="428004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ольши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63503"/>
            <p:cNvSpPr/>
            <p:nvPr/>
          </p:nvSpPr>
          <p:spPr>
            <a:xfrm>
              <a:off x="2862360" y="667728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Крупнейш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3505"/>
            <p:cNvSpPr/>
            <p:nvPr/>
          </p:nvSpPr>
          <p:spPr>
            <a:xfrm>
              <a:off x="2862360" y="547884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Крупны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3507"/>
            <p:cNvSpPr/>
            <p:nvPr/>
          </p:nvSpPr>
          <p:spPr>
            <a:xfrm>
              <a:off x="2862360" y="7876080"/>
              <a:ext cx="3362760" cy="798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Миллионер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04640" y="6732720"/>
            <a:ext cx="13845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социально-экономической географии города с населением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 50 тысяч жителей обычно относят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50 до 100 тысяч —           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ед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0 до 250 тысяч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ьш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250 тысяч до 500 тысяч —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н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500 тысяч до 1 миллиона –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нейш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ыше 1 миллиона —                         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ллионерам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Сельские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селённые  пункты, население которых занято в основном в сельскохозяйственном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3080" y="2627280"/>
            <a:ext cx="6171120" cy="5760720"/>
            <a:chOff x="343080" y="2627280"/>
            <a:chExt cx="6171120" cy="5760720"/>
          </a:xfrm>
        </p:grpSpPr>
        <p:cxnSp>
          <p:nvCxnSpPr>
            <p:cNvPr id="151" name="_s65560"/>
            <p:cNvCxnSpPr>
              <a:stCxn id="152" idx="1"/>
              <a:endCxn id="153" idx="2"/>
            </p:cNvCxnSpPr>
            <p:nvPr/>
          </p:nvCxnSpPr>
          <p:spPr>
            <a:xfrm rot="10800000">
              <a:off x="2193480" y="3069720"/>
              <a:ext cx="617760" cy="509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65557"/>
            <p:cNvCxnSpPr>
              <a:stCxn id="155" idx="1"/>
              <a:endCxn id="153" idx="2"/>
            </p:cNvCxnSpPr>
            <p:nvPr/>
          </p:nvCxnSpPr>
          <p:spPr>
            <a:xfrm rot="10800000">
              <a:off x="2193480" y="3069720"/>
              <a:ext cx="617760" cy="443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65555"/>
            <p:cNvCxnSpPr>
              <a:stCxn id="157" idx="1"/>
              <a:endCxn id="153" idx="2"/>
            </p:cNvCxnSpPr>
            <p:nvPr/>
          </p:nvCxnSpPr>
          <p:spPr>
            <a:xfrm rot="10800000">
              <a:off x="2193480" y="3069720"/>
              <a:ext cx="617760" cy="111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5553"/>
            <p:cNvCxnSpPr>
              <a:stCxn id="159" idx="1"/>
              <a:endCxn id="153" idx="2"/>
            </p:cNvCxnSpPr>
            <p:nvPr/>
          </p:nvCxnSpPr>
          <p:spPr>
            <a:xfrm rot="10800000">
              <a:off x="2193480" y="3069720"/>
              <a:ext cx="617760" cy="177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65551"/>
            <p:cNvCxnSpPr>
              <a:stCxn id="161" idx="1"/>
              <a:endCxn id="153" idx="2"/>
            </p:cNvCxnSpPr>
            <p:nvPr/>
          </p:nvCxnSpPr>
          <p:spPr>
            <a:xfrm rot="10800000">
              <a:off x="2193480" y="3069720"/>
              <a:ext cx="617760" cy="243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65548"/>
            <p:cNvCxnSpPr>
              <a:stCxn id="163" idx="1"/>
              <a:endCxn id="153" idx="2"/>
            </p:cNvCxnSpPr>
            <p:nvPr/>
          </p:nvCxnSpPr>
          <p:spPr>
            <a:xfrm rot="10800000">
              <a:off x="2193480" y="3069720"/>
              <a:ext cx="617760" cy="376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5547"/>
            <p:cNvCxnSpPr>
              <a:stCxn id="165" idx="1"/>
              <a:endCxn id="153" idx="2"/>
            </p:cNvCxnSpPr>
            <p:nvPr/>
          </p:nvCxnSpPr>
          <p:spPr>
            <a:xfrm rot="10800000">
              <a:off x="2193480" y="3069720"/>
              <a:ext cx="617760" cy="310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65546"/>
            <p:cNvCxnSpPr>
              <a:stCxn id="167" idx="1"/>
              <a:endCxn id="153" idx="2"/>
            </p:cNvCxnSpPr>
            <p:nvPr/>
          </p:nvCxnSpPr>
          <p:spPr>
            <a:xfrm rot="10800000">
              <a:off x="2193480" y="3069720"/>
              <a:ext cx="617760" cy="44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65542"/>
            <p:cNvSpPr/>
            <p:nvPr/>
          </p:nvSpPr>
          <p:spPr>
            <a:xfrm>
              <a:off x="343080" y="262728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ельские  населённые  пун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5543"/>
            <p:cNvSpPr/>
            <p:nvPr/>
          </p:nvSpPr>
          <p:spPr>
            <a:xfrm>
              <a:off x="2811600" y="329220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ело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5544"/>
            <p:cNvSpPr/>
            <p:nvPr/>
          </p:nvSpPr>
          <p:spPr>
            <a:xfrm>
              <a:off x="2811600" y="595188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Станиц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5545"/>
            <p:cNvSpPr/>
            <p:nvPr/>
          </p:nvSpPr>
          <p:spPr>
            <a:xfrm>
              <a:off x="2811600" y="661680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Хутор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5550"/>
            <p:cNvSpPr/>
            <p:nvPr/>
          </p:nvSpPr>
          <p:spPr>
            <a:xfrm>
              <a:off x="2811600" y="528696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Кишла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5552"/>
            <p:cNvSpPr/>
            <p:nvPr/>
          </p:nvSpPr>
          <p:spPr>
            <a:xfrm>
              <a:off x="2811600" y="462204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Аул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65554"/>
            <p:cNvSpPr/>
            <p:nvPr/>
          </p:nvSpPr>
          <p:spPr>
            <a:xfrm>
              <a:off x="2811600" y="395712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Деревн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65556"/>
            <p:cNvSpPr/>
            <p:nvPr/>
          </p:nvSpPr>
          <p:spPr>
            <a:xfrm>
              <a:off x="2811600" y="7281720"/>
              <a:ext cx="3702600" cy="443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лобода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475920" y="6659640"/>
              <a:ext cx="1379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_s65559"/>
            <p:cNvSpPr/>
            <p:nvPr/>
          </p:nvSpPr>
          <p:spPr>
            <a:xfrm>
              <a:off x="2811600" y="7946640"/>
              <a:ext cx="3702600" cy="441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сё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42720" y="684000"/>
            <a:ext cx="6172200" cy="80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шла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барак  -название посёлка в Средней Азии и Афганистане. Первоначально обозначал зимовку кочевников. Кишлаки окружались глухими глинобитными ст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ло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один из видов сельских населённых пунктов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́в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населённый пункт с несколькими десятками или сотнями домов индивидуальной застройки, преобладающее занятие жителей (обычно это крестьяне) — сельское хозяйство, промыслы. Слобода́ — вид поселения или района города в  России, Белоруссии и Укра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ни́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дминистративная казачья сельская единица, состоит из одного или нескольких казачьих посе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́тор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населённый пункт крайне маленького размера; отдельная крестьянская усадьба с обособленным хозяй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у́с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удел, один из видов населённых пунктов в Азиатской части России, сходен с хуто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ё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небольшие населенные пункты, которые имели историческое наз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кочевое или оседлое сборище жилищ, собрание хат, изб мазанок,  юрт, кочевых              кибиток у всех  азиатских народов                                                    и у многих кавказ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00640" y="7308720"/>
            <a:ext cx="10638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0044"/>
                </a:solidFill>
                <a:latin typeface="Times New Roman"/>
              </a:rPr>
              <a:t>Промежуточны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тип поселения, по численности населения занимающее промежуточное  положение межд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ород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ел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3080" y="2641680"/>
            <a:ext cx="6171120" cy="5745960"/>
            <a:chOff x="343080" y="2641680"/>
            <a:chExt cx="6171120" cy="5745960"/>
          </a:xfrm>
        </p:grpSpPr>
        <p:cxnSp>
          <p:nvCxnSpPr>
            <p:cNvPr id="173" name="_s71692"/>
            <p:cNvCxnSpPr>
              <a:stCxn id="174" idx="1"/>
              <a:endCxn id="175" idx="2"/>
            </p:cNvCxnSpPr>
            <p:nvPr/>
          </p:nvCxnSpPr>
          <p:spPr>
            <a:xfrm rot="10800000">
              <a:off x="2193480" y="3685680"/>
              <a:ext cx="617760" cy="417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71691"/>
            <p:cNvCxnSpPr>
              <a:stCxn id="177" idx="1"/>
              <a:endCxn id="175" idx="2"/>
            </p:cNvCxnSpPr>
            <p:nvPr/>
          </p:nvCxnSpPr>
          <p:spPr>
            <a:xfrm rot="10800000">
              <a:off x="2193480" y="3685680"/>
              <a:ext cx="617760" cy="261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71690"/>
            <p:cNvCxnSpPr>
              <a:stCxn id="179" idx="1"/>
              <a:endCxn id="175" idx="2"/>
            </p:cNvCxnSpPr>
            <p:nvPr/>
          </p:nvCxnSpPr>
          <p:spPr>
            <a:xfrm rot="10800000">
              <a:off x="2193480" y="3685680"/>
              <a:ext cx="617760" cy="104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71686"/>
            <p:cNvSpPr/>
            <p:nvPr/>
          </p:nvSpPr>
          <p:spPr>
            <a:xfrm>
              <a:off x="343080" y="264168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Промежуточные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71687"/>
            <p:cNvSpPr/>
            <p:nvPr/>
          </p:nvSpPr>
          <p:spPr>
            <a:xfrm>
              <a:off x="2811600" y="420876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Рабочие  посёлк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71688"/>
            <p:cNvSpPr/>
            <p:nvPr/>
          </p:nvSpPr>
          <p:spPr>
            <a:xfrm>
              <a:off x="2811600" y="577584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Посёлки  городског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тип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71689"/>
            <p:cNvSpPr/>
            <p:nvPr/>
          </p:nvSpPr>
          <p:spPr>
            <a:xfrm>
              <a:off x="2811600" y="7342920"/>
              <a:ext cx="3702600" cy="1044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Курортные  посёлк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475920" y="6512040"/>
              <a:ext cx="1426680" cy="187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37:17Z</dcterms:created>
  <dc:creator>User</dc:creator>
  <dc:description/>
  <dc:language>en-US</dc:language>
  <cp:lastModifiedBy>User</cp:lastModifiedBy>
  <dcterms:modified xsi:type="dcterms:W3CDTF">2012-04-11T03:20:25Z</dcterms:modified>
  <cp:revision>3</cp:revision>
  <dc:subject/>
  <dc:title>Слайд 1</dc:title>
</cp:coreProperties>
</file>