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6E422-D9AC-4AD9-99A8-641DF67D9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2720" y="534780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C0459-626F-4E38-A1BA-9EF56A42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5053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66BAF-8E36-40EC-A42D-D26440009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42964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1656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4272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42964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51656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5F849-3109-4CF9-BE1F-8E8C5D0C5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6263-21E7-4480-8454-871695472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C0CF-5D58-489B-8A1A-27F93F53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9C6F-1139-4EFF-807B-71C083EB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3B3E-1E10-43D5-A211-477B617F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089D-9315-40D3-BC73-99672D32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42720" y="609480"/>
            <a:ext cx="61722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D7BB-69CF-45B0-86B6-CD0A39CF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B191-EF88-4BF5-BF47-8B8BD7D2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F1A91-A536-40CA-BE21-75846E4C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5053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C16F-CA8E-43EF-8E5C-4151CCA0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C792-A58B-4D9C-9AFB-E1EE28B0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2720" y="534780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CE56-1AB8-4EEA-BD54-DD45FF72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5053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7921-DE0E-4BCE-B261-6D3856C1C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42964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1656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272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242964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451656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D4FF-4334-44BC-8173-42662EDE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A5CA3-D3F2-4378-A4E3-3BABE604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D1810-1FAA-4232-A952-552E126E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3FB36-06AD-470B-9EED-9389F2F2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42720" y="609480"/>
            <a:ext cx="61722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C220C-7FB8-43FE-8B27-14F41A53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2F31D-172F-449A-AC6F-6D535503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5053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3E346-036F-44E7-9588-367D4624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4D2EC-A666-4300-B32F-D581E81B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E734-B5E7-4C5A-AA14-2F9E406300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6857640" cy="728280"/>
            <a:chOff x="0" y="0"/>
            <a:chExt cx="6857640" cy="72828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14200" cy="711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f839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9600" y="180000"/>
              <a:ext cx="6548040" cy="366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4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07080" y="180000"/>
              <a:ext cx="103320" cy="1879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10400" y="0"/>
              <a:ext cx="104760" cy="1843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10400" y="180000"/>
              <a:ext cx="104760" cy="18792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05920" y="366120"/>
              <a:ext cx="102240" cy="1843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8640" y="181800"/>
              <a:ext cx="105840" cy="18432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7080" y="361800"/>
              <a:ext cx="103320" cy="18432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05920" y="546480"/>
              <a:ext cx="102240" cy="18180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6857640" cy="9143640"/>
            <a:chOff x="0" y="0"/>
            <a:chExt cx="6857640" cy="914364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2628720" cy="914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f839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87000" y="2253960"/>
              <a:ext cx="5570640" cy="337788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422000"/>
              <a:ext cx="2149920" cy="4209480"/>
              <a:chOff x="0" y="1422000"/>
              <a:chExt cx="2149920" cy="4209480"/>
            </a:xfrm>
          </p:grpSpPr>
          <p:sp>
            <p:nvSpPr>
              <p:cNvPr id="55" name=""/>
              <p:cNvSpPr/>
              <p:nvPr/>
            </p:nvSpPr>
            <p:spPr>
              <a:xfrm>
                <a:off x="429840" y="4776840"/>
                <a:ext cx="432000" cy="85464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287000" y="2253600"/>
                <a:ext cx="430920" cy="85716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0720" y="1422000"/>
                <a:ext cx="439200" cy="84636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56080" y="4776840"/>
                <a:ext cx="437760" cy="85464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10720" y="2253600"/>
                <a:ext cx="439200" cy="8571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56080" y="3098160"/>
                <a:ext cx="437760" cy="84420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98160"/>
                <a:ext cx="436680" cy="84420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287000" y="3098160"/>
                <a:ext cx="430920" cy="84420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29840" y="3930120"/>
                <a:ext cx="432000" cy="85896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6080" y="3930120"/>
                <a:ext cx="437760" cy="8589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547B-A526-4537-9136-3112E90EC8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00280" y="2437920"/>
            <a:ext cx="504360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Типы населённых пунктов России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15920" y="7164000"/>
            <a:ext cx="45147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у  выполн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еница  6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равашкина  Ан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33000" y="826920"/>
            <a:ext cx="6172200" cy="756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Городские посёлк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— населённые пункты с численностью населения свыше 2 тыс. человек, имеющие промышленные и коммунальные предприятия, социально-культурные учреждения, предприятия торговли, общественного питания, бытового обслужи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урортные посёлк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— населённые пункты с численностью населения не менее 2 тыс. человек, на территории которых расположены санатории, дома отдыха, пансионаты, другие оздоровительные учреждения, предприятия торговли, общественного питания и бытового обслуживания населения, культурно-просветительные учреж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абочие посёлк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— населённые пункты с численностью населения не менее 500 человек, расположенные при промышленных предприятиях, электростанциях, стройках, железнодорожных станциях                                   и других объек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445000" y="7451640"/>
            <a:ext cx="10638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5920" y="1042560"/>
            <a:ext cx="59770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0044"/>
                </a:solidFill>
                <a:latin typeface="Times New Roman"/>
              </a:rPr>
              <a:t>Населённый пунк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—    населённое людьми место (поселение), первичная единица расселения людей в пределах одного застроенного земельного участк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76280" y="3780000"/>
            <a:ext cx="5976360" cy="3043800"/>
            <a:chOff x="476280" y="3780000"/>
            <a:chExt cx="5976360" cy="3043800"/>
          </a:xfrm>
        </p:grpSpPr>
        <p:cxnSp>
          <p:nvCxnSpPr>
            <p:cNvPr id="110" name="_s66576"/>
            <p:cNvCxnSpPr>
              <a:stCxn id="111" idx="0"/>
              <a:endCxn id="112" idx="2"/>
            </p:cNvCxnSpPr>
            <p:nvPr/>
          </p:nvCxnSpPr>
          <p:spPr>
            <a:xfrm flipV="1" rot="16200000">
              <a:off x="4205880" y="4255560"/>
              <a:ext cx="609480" cy="2091960"/>
            </a:xfrm>
            <a:prstGeom prst="bentConnector3">
              <a:avLst>
                <a:gd name="adj1" fmla="val 187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66571"/>
            <p:cNvCxnSpPr>
              <a:stCxn id="114" idx="0"/>
              <a:endCxn id="112" idx="2"/>
            </p:cNvCxnSpPr>
            <p:nvPr/>
          </p:nvCxnSpPr>
          <p:spPr>
            <a:xfrm flipV="1">
              <a:off x="3464640" y="4996800"/>
              <a:ext cx="2880" cy="609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66570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2113920" y="4255560"/>
              <a:ext cx="609480" cy="2091960"/>
            </a:xfrm>
            <a:prstGeom prst="bentConnector3">
              <a:avLst>
                <a:gd name="adj1" fmla="val 187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2" name="_s66566"/>
            <p:cNvSpPr/>
            <p:nvPr/>
          </p:nvSpPr>
          <p:spPr>
            <a:xfrm>
              <a:off x="2567880" y="3780000"/>
              <a:ext cx="1792800" cy="121752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Населённы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пунк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66567"/>
            <p:cNvSpPr/>
            <p:nvPr/>
          </p:nvSpPr>
          <p:spPr>
            <a:xfrm>
              <a:off x="476280" y="5606280"/>
              <a:ext cx="1792800" cy="12175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Сельск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66568"/>
            <p:cNvSpPr/>
            <p:nvPr/>
          </p:nvSpPr>
          <p:spPr>
            <a:xfrm>
              <a:off x="2567880" y="5606280"/>
              <a:ext cx="1792800" cy="12175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66575"/>
            <p:cNvSpPr/>
            <p:nvPr/>
          </p:nvSpPr>
          <p:spPr>
            <a:xfrm>
              <a:off x="4659840" y="5606280"/>
              <a:ext cx="1792800" cy="12175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Промежуточные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781360" y="7020000"/>
            <a:ext cx="13842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33000" y="111564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 переписи 2002 года число населённые пунктов России распределило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орода — 1 0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сёлки городского типа — 1 8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льские населённые пункты — 155 28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том числе без населения — 13 0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65360" y="6659640"/>
            <a:ext cx="1673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44"/>
                </a:solidFill>
                <a:latin typeface="Times New Roman"/>
              </a:rPr>
              <a:t>Город -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крупный  (по сложившимся стереотипам) населённый пункт, жители которого заняты, как правило, вне сельского хозя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10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04640" y="6877080"/>
            <a:ext cx="1470240" cy="183528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33360" y="2627280"/>
            <a:ext cx="6263280" cy="6120720"/>
            <a:chOff x="333360" y="2627280"/>
            <a:chExt cx="6263280" cy="6120720"/>
          </a:xfrm>
        </p:grpSpPr>
        <p:cxnSp>
          <p:nvCxnSpPr>
            <p:cNvPr id="124" name="_s4120"/>
            <p:cNvCxnSpPr>
              <a:stCxn id="125" idx="1"/>
              <a:endCxn id="126" idx="2"/>
            </p:cNvCxnSpPr>
            <p:nvPr/>
          </p:nvCxnSpPr>
          <p:spPr>
            <a:xfrm rot="10800000">
              <a:off x="2298960" y="3656520"/>
              <a:ext cx="410400" cy="4662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4109"/>
            <p:cNvCxnSpPr>
              <a:stCxn id="128" idx="1"/>
              <a:endCxn id="126" idx="2"/>
            </p:cNvCxnSpPr>
            <p:nvPr/>
          </p:nvCxnSpPr>
          <p:spPr>
            <a:xfrm rot="10800000">
              <a:off x="2299680" y="3656520"/>
              <a:ext cx="336600" cy="3445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4108"/>
            <p:cNvCxnSpPr>
              <a:stCxn id="130" idx="1"/>
              <a:endCxn id="126" idx="2"/>
            </p:cNvCxnSpPr>
            <p:nvPr/>
          </p:nvCxnSpPr>
          <p:spPr>
            <a:xfrm rot="10800000">
              <a:off x="2299680" y="3656520"/>
              <a:ext cx="336600" cy="2197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4107"/>
            <p:cNvCxnSpPr>
              <a:stCxn id="132" idx="1"/>
              <a:endCxn id="126" idx="2"/>
            </p:cNvCxnSpPr>
            <p:nvPr/>
          </p:nvCxnSpPr>
          <p:spPr>
            <a:xfrm rot="10800000">
              <a:off x="2298960" y="3656520"/>
              <a:ext cx="365040" cy="873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6" name="_s4103"/>
            <p:cNvSpPr/>
            <p:nvPr/>
          </p:nvSpPr>
          <p:spPr>
            <a:xfrm>
              <a:off x="333360" y="2627280"/>
              <a:ext cx="3932640" cy="10299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ГОРОДА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ПО ФУНКЦИЯМ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4104"/>
            <p:cNvSpPr/>
            <p:nvPr/>
          </p:nvSpPr>
          <p:spPr>
            <a:xfrm>
              <a:off x="2664000" y="4015080"/>
              <a:ext cx="3932640" cy="10299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ПРОМЫШЛЕ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4105"/>
            <p:cNvSpPr/>
            <p:nvPr/>
          </p:nvSpPr>
          <p:spPr>
            <a:xfrm>
              <a:off x="2636280" y="5435640"/>
              <a:ext cx="3932640" cy="83700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КУРОР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4106"/>
            <p:cNvSpPr/>
            <p:nvPr/>
          </p:nvSpPr>
          <p:spPr>
            <a:xfrm>
              <a:off x="2636280" y="6587640"/>
              <a:ext cx="3932640" cy="10299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ТРАНСПОРТ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4119"/>
            <p:cNvSpPr/>
            <p:nvPr/>
          </p:nvSpPr>
          <p:spPr>
            <a:xfrm>
              <a:off x="2709360" y="7885800"/>
              <a:ext cx="3859560" cy="86220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АУЧНЫЕ  ЦЕНТ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620640" y="684360"/>
            <a:ext cx="5604480" cy="7990560"/>
            <a:chOff x="620640" y="684360"/>
            <a:chExt cx="5604480" cy="7990560"/>
          </a:xfrm>
        </p:grpSpPr>
        <p:cxnSp>
          <p:nvCxnSpPr>
            <p:cNvPr id="134" name="_s63508"/>
            <p:cNvCxnSpPr>
              <a:stCxn id="135" idx="1"/>
              <a:endCxn id="136" idx="2"/>
            </p:cNvCxnSpPr>
            <p:nvPr/>
          </p:nvCxnSpPr>
          <p:spPr>
            <a:xfrm rot="10800000">
              <a:off x="2301120" y="1482480"/>
              <a:ext cx="560880" cy="679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63506"/>
            <p:cNvCxnSpPr>
              <a:stCxn id="138" idx="1"/>
              <a:endCxn id="136" idx="2"/>
            </p:cNvCxnSpPr>
            <p:nvPr/>
          </p:nvCxnSpPr>
          <p:spPr>
            <a:xfrm rot="10800000">
              <a:off x="2301120" y="1482480"/>
              <a:ext cx="560880" cy="4395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9" name="_s63504"/>
            <p:cNvCxnSpPr>
              <a:stCxn id="140" idx="1"/>
              <a:endCxn id="136" idx="2"/>
            </p:cNvCxnSpPr>
            <p:nvPr/>
          </p:nvCxnSpPr>
          <p:spPr>
            <a:xfrm rot="10800000">
              <a:off x="2301120" y="1482480"/>
              <a:ext cx="560880" cy="5594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1" name="_s63500"/>
            <p:cNvCxnSpPr>
              <a:stCxn id="142" idx="1"/>
              <a:endCxn id="136" idx="2"/>
            </p:cNvCxnSpPr>
            <p:nvPr/>
          </p:nvCxnSpPr>
          <p:spPr>
            <a:xfrm rot="10800000">
              <a:off x="2301120" y="1482480"/>
              <a:ext cx="560880" cy="3196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63499"/>
            <p:cNvCxnSpPr>
              <a:stCxn id="144" idx="1"/>
              <a:endCxn id="136" idx="2"/>
            </p:cNvCxnSpPr>
            <p:nvPr/>
          </p:nvCxnSpPr>
          <p:spPr>
            <a:xfrm rot="10800000">
              <a:off x="2301120" y="1482480"/>
              <a:ext cx="560880" cy="2001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" name="_s63498"/>
            <p:cNvCxnSpPr>
              <a:stCxn id="146" idx="1"/>
              <a:endCxn id="136" idx="2"/>
            </p:cNvCxnSpPr>
            <p:nvPr/>
          </p:nvCxnSpPr>
          <p:spPr>
            <a:xfrm rot="10800000">
              <a:off x="2301120" y="1482480"/>
              <a:ext cx="560880" cy="799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6" name="_s63494"/>
            <p:cNvSpPr/>
            <p:nvPr/>
          </p:nvSpPr>
          <p:spPr>
            <a:xfrm>
              <a:off x="620640" y="684360"/>
              <a:ext cx="3362760" cy="79884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Города 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по численности)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63495"/>
            <p:cNvSpPr/>
            <p:nvPr/>
          </p:nvSpPr>
          <p:spPr>
            <a:xfrm>
              <a:off x="2862360" y="1882800"/>
              <a:ext cx="3362760" cy="798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Малые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63496"/>
            <p:cNvSpPr/>
            <p:nvPr/>
          </p:nvSpPr>
          <p:spPr>
            <a:xfrm>
              <a:off x="2862360" y="3081600"/>
              <a:ext cx="3362760" cy="798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Средние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63497"/>
            <p:cNvSpPr/>
            <p:nvPr/>
          </p:nvSpPr>
          <p:spPr>
            <a:xfrm>
              <a:off x="2862360" y="4280040"/>
              <a:ext cx="3362760" cy="798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Большие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63503"/>
            <p:cNvSpPr/>
            <p:nvPr/>
          </p:nvSpPr>
          <p:spPr>
            <a:xfrm>
              <a:off x="2862360" y="6677280"/>
              <a:ext cx="3362760" cy="798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Крупнейшие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63505"/>
            <p:cNvSpPr/>
            <p:nvPr/>
          </p:nvSpPr>
          <p:spPr>
            <a:xfrm>
              <a:off x="2862360" y="5478840"/>
              <a:ext cx="3362760" cy="798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Крупные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63507"/>
            <p:cNvSpPr/>
            <p:nvPr/>
          </p:nvSpPr>
          <p:spPr>
            <a:xfrm>
              <a:off x="2862360" y="7876080"/>
              <a:ext cx="3362760" cy="798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Миллионеры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04640" y="6732720"/>
            <a:ext cx="138456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42720" y="684000"/>
            <a:ext cx="6172200" cy="80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 социально-экономической географии города с населением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о 50 тысяч жителей обычно относят 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алы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 50 до 100 тысяч —                          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редни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 100 до 250 тысяч 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ольши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 250 тысяч до 500 тысяч —               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рупны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 500 тысяч до 1 миллиона –               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рупнейши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выше 1 миллиона —                         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иллионерам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0044"/>
                </a:solidFill>
                <a:latin typeface="Times New Roman"/>
              </a:rPr>
              <a:t>Сельские 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населённые  пункты, население которых занято в основном в сельскохозяйственном производ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43080" y="2627280"/>
            <a:ext cx="6171120" cy="5760720"/>
            <a:chOff x="343080" y="2627280"/>
            <a:chExt cx="6171120" cy="5760720"/>
          </a:xfrm>
        </p:grpSpPr>
        <p:cxnSp>
          <p:nvCxnSpPr>
            <p:cNvPr id="151" name="_s65560"/>
            <p:cNvCxnSpPr>
              <a:stCxn id="152" idx="1"/>
              <a:endCxn id="153" idx="2"/>
            </p:cNvCxnSpPr>
            <p:nvPr/>
          </p:nvCxnSpPr>
          <p:spPr>
            <a:xfrm rot="10800000">
              <a:off x="2193480" y="3069720"/>
              <a:ext cx="617760" cy="5098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4" name="_s65557"/>
            <p:cNvCxnSpPr>
              <a:stCxn id="155" idx="1"/>
              <a:endCxn id="153" idx="2"/>
            </p:cNvCxnSpPr>
            <p:nvPr/>
          </p:nvCxnSpPr>
          <p:spPr>
            <a:xfrm rot="10800000">
              <a:off x="2193480" y="3069720"/>
              <a:ext cx="617760" cy="443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6" name="_s65555"/>
            <p:cNvCxnSpPr>
              <a:stCxn id="157" idx="1"/>
              <a:endCxn id="153" idx="2"/>
            </p:cNvCxnSpPr>
            <p:nvPr/>
          </p:nvCxnSpPr>
          <p:spPr>
            <a:xfrm rot="10800000">
              <a:off x="2193480" y="3069720"/>
              <a:ext cx="617760" cy="1110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65553"/>
            <p:cNvCxnSpPr>
              <a:stCxn id="159" idx="1"/>
              <a:endCxn id="153" idx="2"/>
            </p:cNvCxnSpPr>
            <p:nvPr/>
          </p:nvCxnSpPr>
          <p:spPr>
            <a:xfrm rot="10800000">
              <a:off x="2193480" y="3069720"/>
              <a:ext cx="617760" cy="1775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" name="_s65551"/>
            <p:cNvCxnSpPr>
              <a:stCxn id="161" idx="1"/>
              <a:endCxn id="153" idx="2"/>
            </p:cNvCxnSpPr>
            <p:nvPr/>
          </p:nvCxnSpPr>
          <p:spPr>
            <a:xfrm rot="10800000">
              <a:off x="2193480" y="3069720"/>
              <a:ext cx="617760" cy="2438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2" name="_s65548"/>
            <p:cNvCxnSpPr>
              <a:stCxn id="163" idx="1"/>
              <a:endCxn id="153" idx="2"/>
            </p:cNvCxnSpPr>
            <p:nvPr/>
          </p:nvCxnSpPr>
          <p:spPr>
            <a:xfrm rot="10800000">
              <a:off x="2193480" y="3069720"/>
              <a:ext cx="617760" cy="376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65547"/>
            <p:cNvCxnSpPr>
              <a:stCxn id="165" idx="1"/>
              <a:endCxn id="153" idx="2"/>
            </p:cNvCxnSpPr>
            <p:nvPr/>
          </p:nvCxnSpPr>
          <p:spPr>
            <a:xfrm rot="10800000">
              <a:off x="2193480" y="3069720"/>
              <a:ext cx="617760" cy="3103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65546"/>
            <p:cNvCxnSpPr>
              <a:stCxn id="167" idx="1"/>
              <a:endCxn id="153" idx="2"/>
            </p:cNvCxnSpPr>
            <p:nvPr/>
          </p:nvCxnSpPr>
          <p:spPr>
            <a:xfrm rot="10800000">
              <a:off x="2193480" y="3069720"/>
              <a:ext cx="617760" cy="445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3" name="_s65542"/>
            <p:cNvSpPr/>
            <p:nvPr/>
          </p:nvSpPr>
          <p:spPr>
            <a:xfrm>
              <a:off x="343080" y="2627280"/>
              <a:ext cx="3702600" cy="443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Сельские  населённые  пунк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65543"/>
            <p:cNvSpPr/>
            <p:nvPr/>
          </p:nvSpPr>
          <p:spPr>
            <a:xfrm>
              <a:off x="2811600" y="3292200"/>
              <a:ext cx="3702600" cy="4431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Село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65544"/>
            <p:cNvSpPr/>
            <p:nvPr/>
          </p:nvSpPr>
          <p:spPr>
            <a:xfrm>
              <a:off x="2811600" y="5951880"/>
              <a:ext cx="3702600" cy="4431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Станица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65545"/>
            <p:cNvSpPr/>
            <p:nvPr/>
          </p:nvSpPr>
          <p:spPr>
            <a:xfrm>
              <a:off x="2811600" y="6616800"/>
              <a:ext cx="3702600" cy="4431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Хутор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65550"/>
            <p:cNvSpPr/>
            <p:nvPr/>
          </p:nvSpPr>
          <p:spPr>
            <a:xfrm>
              <a:off x="2811600" y="5286960"/>
              <a:ext cx="3702600" cy="4431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Кишлак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65552"/>
            <p:cNvSpPr/>
            <p:nvPr/>
          </p:nvSpPr>
          <p:spPr>
            <a:xfrm>
              <a:off x="2811600" y="4622040"/>
              <a:ext cx="3702600" cy="4431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Аул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65554"/>
            <p:cNvSpPr/>
            <p:nvPr/>
          </p:nvSpPr>
          <p:spPr>
            <a:xfrm>
              <a:off x="2811600" y="3957120"/>
              <a:ext cx="3702600" cy="4431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Деревня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65556"/>
            <p:cNvSpPr/>
            <p:nvPr/>
          </p:nvSpPr>
          <p:spPr>
            <a:xfrm>
              <a:off x="2811600" y="7281720"/>
              <a:ext cx="3702600" cy="4431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Слобода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475920" y="6659640"/>
              <a:ext cx="137988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_s65559"/>
            <p:cNvSpPr/>
            <p:nvPr/>
          </p:nvSpPr>
          <p:spPr>
            <a:xfrm>
              <a:off x="2811600" y="7946640"/>
              <a:ext cx="3702600" cy="4413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Посёл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42720" y="684000"/>
            <a:ext cx="6172200" cy="80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ишла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барак  -название посёлка в Средней Азии и Афганистане. Первоначально обозначал зимовку кочевников. Кишлаки окружались глухими глинобитными сте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ло́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один из видов сельских населённых пунктов 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ре́вн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населённый пункт с несколькими десятками или сотнями домов индивидуальной застройки, преобладающее занятие жителей (обычно это крестьяне) — сельское хозяйство, промыслы. Слобода́ — вид поселения или района города в  России, Белоруссии и Укра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ни́ц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— административная казачья сельская единица, состоит из одного или нескольких казачьих посел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у́тор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населённый пункт крайне маленького размера; отдельная крестьянская усадьба с обособленным хозяй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лу́с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удел, один из видов населённых пунктов в Азиатской части России, сходен с хуто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ёло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небольшие населенные пункты, которые имели историческое назва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у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это кочевое или оседлое сборище жилищ, собрание хат, изб мазанок,  юрт, кочевых              кибиток у всех  азиатских народов                                                    и у многих кавказц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00640" y="7308720"/>
            <a:ext cx="10638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0044"/>
                </a:solidFill>
                <a:latin typeface="Times New Roman"/>
              </a:rPr>
              <a:t>Промежуточны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тип поселения, по численности населения занимающее промежуточное  положение межд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городом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село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43080" y="2641680"/>
            <a:ext cx="6171120" cy="5745960"/>
            <a:chOff x="343080" y="2641680"/>
            <a:chExt cx="6171120" cy="5745960"/>
          </a:xfrm>
        </p:grpSpPr>
        <p:cxnSp>
          <p:nvCxnSpPr>
            <p:cNvPr id="173" name="_s71692"/>
            <p:cNvCxnSpPr>
              <a:stCxn id="174" idx="1"/>
              <a:endCxn id="175" idx="2"/>
            </p:cNvCxnSpPr>
            <p:nvPr/>
          </p:nvCxnSpPr>
          <p:spPr>
            <a:xfrm rot="10800000">
              <a:off x="2193480" y="3685680"/>
              <a:ext cx="617760" cy="4179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71691"/>
            <p:cNvCxnSpPr>
              <a:stCxn id="177" idx="1"/>
              <a:endCxn id="175" idx="2"/>
            </p:cNvCxnSpPr>
            <p:nvPr/>
          </p:nvCxnSpPr>
          <p:spPr>
            <a:xfrm rot="10800000">
              <a:off x="2193480" y="3685680"/>
              <a:ext cx="617760" cy="2612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8" name="_s71690"/>
            <p:cNvCxnSpPr>
              <a:stCxn id="179" idx="1"/>
              <a:endCxn id="175" idx="2"/>
            </p:cNvCxnSpPr>
            <p:nvPr/>
          </p:nvCxnSpPr>
          <p:spPr>
            <a:xfrm rot="10800000">
              <a:off x="2193480" y="3685680"/>
              <a:ext cx="617760" cy="104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5" name="_s71686"/>
            <p:cNvSpPr/>
            <p:nvPr/>
          </p:nvSpPr>
          <p:spPr>
            <a:xfrm>
              <a:off x="343080" y="2641680"/>
              <a:ext cx="3702600" cy="104472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Промежуточные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71687"/>
            <p:cNvSpPr/>
            <p:nvPr/>
          </p:nvSpPr>
          <p:spPr>
            <a:xfrm>
              <a:off x="2811600" y="4208760"/>
              <a:ext cx="3702600" cy="10447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Рабочие  посёлки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71688"/>
            <p:cNvSpPr/>
            <p:nvPr/>
          </p:nvSpPr>
          <p:spPr>
            <a:xfrm>
              <a:off x="2811600" y="5775840"/>
              <a:ext cx="3702600" cy="10447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Посёлки  городского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типа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71689"/>
            <p:cNvSpPr/>
            <p:nvPr/>
          </p:nvSpPr>
          <p:spPr>
            <a:xfrm>
              <a:off x="2811600" y="7342920"/>
              <a:ext cx="3702600" cy="10447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Курортные  посёлки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475920" y="6512040"/>
              <a:ext cx="1426680" cy="1875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14:37:17Z</dcterms:created>
  <dc:creator>User</dc:creator>
  <dc:description/>
  <dc:language>en-US</dc:language>
  <cp:lastModifiedBy>User</cp:lastModifiedBy>
  <dcterms:modified xsi:type="dcterms:W3CDTF">2012-04-11T03:20:25Z</dcterms:modified>
  <cp:revision>3</cp:revision>
  <dc:subject/>
  <dc:title>Слайд 1</dc:title>
</cp:coreProperties>
</file>