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4F6-0445-446B-BBE1-95672940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662-5AD4-4B25-A84E-D6EC67F8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101-40D8-476E-9EA3-DD50D6CD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B50-921C-44DA-A240-250F4F5E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E9A-598A-4D42-B3E7-0F254AD1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898-6D54-42CB-BED1-821C70E2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75F-DD06-4CC2-A69C-BCCBC507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867-81BC-4786-8A41-822DDD0A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813-1B4C-4CA9-8C74-C36B360B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5D9-074D-4578-8631-1A825C48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209-59F2-4D7A-8E19-619A77FE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31C-C2EA-4F7A-9F95-044F4CA1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5E83-8F35-4865-AC24-EA6E730E2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edthreaddesign.ru/citizen/page/2/" TargetMode="External"/><Relationship Id="rId2" Type="http://schemas.openxmlformats.org/officeDocument/2006/relationships/hyperlink" Target="http://avtoport.com.ua/useful_inforamtion/6424/6474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38080" y="304920"/>
            <a:ext cx="76201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cc0066"/>
                    </a:gs>
                  </a:gsLst>
                  <a:lin ang="5400000"/>
                </a:gradFill>
                <a:latin typeface="Arial"/>
              </a:rPr>
              <a:t>В стране </a:t>
            </a:r>
            <a:endParaRPr b="1" i="1" lang="en-US" sz="1800" spc="1" strike="noStrike">
              <a:ln w="93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cc00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cc0066"/>
                    </a:gs>
                  </a:gsLst>
                  <a:lin ang="5400000"/>
                </a:gradFill>
                <a:latin typeface="Arial"/>
              </a:rPr>
              <a:t>дорожных знаков</a:t>
            </a:r>
            <a:endParaRPr b="1" i="1" lang="en-US" sz="1800" spc="1" strike="noStrike">
              <a:ln w="93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cc00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2" name="01_snova_v_shkolu.mp3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100_0468"/>
          <p:cNvPicPr/>
          <p:nvPr/>
        </p:nvPicPr>
        <p:blipFill>
          <a:blip r:embed="rId2"/>
          <a:stretch/>
        </p:blipFill>
        <p:spPr>
          <a:xfrm>
            <a:off x="2438280" y="2514600"/>
            <a:ext cx="4876920" cy="3200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2457360" y="152280"/>
            <a:ext cx="41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Ликино-Дулевская ООШ 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80988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жова Э.В.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4"/>
          <p:cNvPicPr/>
          <p:nvPr/>
        </p:nvPicPr>
        <p:blipFill>
          <a:blip r:embed="rId1"/>
          <a:stretch/>
        </p:blipFill>
        <p:spPr>
          <a:xfrm>
            <a:off x="533520" y="3999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5"/>
          <p:cNvPicPr/>
          <p:nvPr/>
        </p:nvPicPr>
        <p:blipFill>
          <a:blip r:embed="rId1"/>
          <a:stretch/>
        </p:blipFill>
        <p:spPr>
          <a:xfrm>
            <a:off x="106668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9"/>
          <p:cNvPicPr/>
          <p:nvPr/>
        </p:nvPicPr>
        <p:blipFill>
          <a:blip r:embed="rId1"/>
          <a:stretch/>
        </p:blipFill>
        <p:spPr>
          <a:xfrm rot="21372000">
            <a:off x="761760" y="837720"/>
            <a:ext cx="3668760" cy="517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12"/>
          <p:cNvPicPr/>
          <p:nvPr/>
        </p:nvPicPr>
        <p:blipFill>
          <a:blip r:embed="rId2"/>
          <a:stretch/>
        </p:blipFill>
        <p:spPr>
          <a:xfrm rot="256200">
            <a:off x="4876920" y="914040"/>
            <a:ext cx="3620880" cy="5105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5"/>
          <p:cNvPicPr/>
          <p:nvPr/>
        </p:nvPicPr>
        <p:blipFill>
          <a:blip r:embed="rId1"/>
          <a:stretch/>
        </p:blipFill>
        <p:spPr>
          <a:xfrm>
            <a:off x="3733920" y="990720"/>
            <a:ext cx="441936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00_0480"/>
          <p:cNvPicPr/>
          <p:nvPr/>
        </p:nvPicPr>
        <p:blipFill>
          <a:blip r:embed="rId2"/>
          <a:stretch/>
        </p:blipFill>
        <p:spPr>
          <a:xfrm>
            <a:off x="228600" y="519120"/>
            <a:ext cx="3429000" cy="582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838080" y="533520"/>
            <a:ext cx="7543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Знайте правила движенья,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Как таблицу умноженья.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Надо их не только знать,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А непременно соблюдать.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533520" y="1142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dthreaddesign.ru/citizen/page/2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533520" y="16758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vtoport.com.ua/useful_inforamtion/6424/6474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533520" y="21330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dd.sch975.edusite.ru/p19aa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33520" y="2590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ignal.biz.ua/read/2/dor_znaki_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743200"/>
          <a:ext cx="6346800" cy="639720"/>
        </p:xfrm>
        <a:graphic>
          <a:graphicData uri="http://schemas.openxmlformats.org/drawingml/2006/table">
            <a:tbl>
              <a:tblPr/>
              <a:tblGrid>
                <a:gridCol w="6130800"/>
                <a:gridCol w="21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79e37"/>
                          </a:solidFill>
                          <a:latin typeface="Arial"/>
                          <a:ea typeface="Arial"/>
                        </a:rPr>
                        <a:t>http://io.nios.ru/index.php?rel=27&amp;point=10&amp;art=61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24"/>
          <p:cNvSpPr/>
          <p:nvPr/>
        </p:nvSpPr>
        <p:spPr>
          <a:xfrm>
            <a:off x="457200" y="3428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ustltd.com/32/?dir=DESC&amp;order=_1&amp;p=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438280" y="578160"/>
            <a:ext cx="63518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 на проезжей части дороги называются белые широкие полосы разме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бозначающие перех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1. «кор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2. «зеб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3. «лошад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00_0472"/>
          <p:cNvPicPr/>
          <p:nvPr/>
        </p:nvPicPr>
        <p:blipFill>
          <a:blip r:embed="rId1"/>
          <a:stretch/>
        </p:blipFill>
        <p:spPr>
          <a:xfrm>
            <a:off x="609480" y="1371600"/>
            <a:ext cx="243864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8520"/>
            <a:ext cx="84582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езжая часть дороги предназначена для дви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1. пеше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2. пассажи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3. автомоби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_0471"/>
          <p:cNvPicPr/>
          <p:nvPr/>
        </p:nvPicPr>
        <p:blipFill>
          <a:blip r:embed="rId1"/>
          <a:stretch/>
        </p:blipFill>
        <p:spPr>
          <a:xfrm>
            <a:off x="1523880" y="2895480"/>
            <a:ext cx="5821560" cy="345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62000" y="868680"/>
            <a:ext cx="8712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 какого возраста разрешается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 велосипеде по улицам и дорог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1. с 16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2. с 14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3. с 12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24480"/>
            <a:ext cx="83059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ой сигнал светофора разрешает дви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. 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жёл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3. зелё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00_0466"/>
          <p:cNvPicPr/>
          <p:nvPr/>
        </p:nvPicPr>
        <p:blipFill>
          <a:blip r:embed="rId1"/>
          <a:stretch/>
        </p:blipFill>
        <p:spPr>
          <a:xfrm>
            <a:off x="152280" y="1981080"/>
            <a:ext cx="3048120" cy="434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"/>
          <p:cNvPicPr/>
          <p:nvPr/>
        </p:nvPicPr>
        <p:blipFill>
          <a:blip r:embed="rId1"/>
          <a:stretch/>
        </p:blipFill>
        <p:spPr>
          <a:xfrm>
            <a:off x="762120" y="671400"/>
            <a:ext cx="7619760" cy="551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7"/>
          <p:cNvPicPr/>
          <p:nvPr/>
        </p:nvPicPr>
        <p:blipFill>
          <a:blip r:embed="rId1"/>
          <a:stretch/>
        </p:blipFill>
        <p:spPr>
          <a:xfrm>
            <a:off x="1752480" y="6094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0"/>
          <p:cNvPicPr/>
          <p:nvPr/>
        </p:nvPicPr>
        <p:blipFill>
          <a:blip r:embed="rId1"/>
          <a:stretch/>
        </p:blipFill>
        <p:spPr>
          <a:xfrm>
            <a:off x="1752480" y="6094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6"/>
          <p:cNvPicPr/>
          <p:nvPr/>
        </p:nvPicPr>
        <p:blipFill>
          <a:blip r:embed="rId1"/>
          <a:stretch/>
        </p:blipFill>
        <p:spPr>
          <a:xfrm>
            <a:off x="1752480" y="533520"/>
            <a:ext cx="5715000" cy="572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8:38:44Z</dcterms:created>
  <dc:creator>007</dc:creator>
  <dc:description/>
  <dc:language>en-US</dc:language>
  <cp:lastModifiedBy>Inf9</cp:lastModifiedBy>
  <dcterms:modified xsi:type="dcterms:W3CDTF">2008-01-01T01:11:4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