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0309-7147-44E9-82B2-76460955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583C-8745-42DF-8F75-3A399F7C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BA2A-F0DF-48CD-8870-D3D4AB6DE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C57C-160D-4E6C-A16B-2CB89FE2C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F2F-87C8-4FD5-9470-4F527117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B4C-7E05-4DFB-9EE6-5DC70E97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64B-F8DB-47E9-826B-94FB1FE5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D619-CB48-4A0B-9976-A099C404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E26B-8B95-4A9E-BE12-33AD1545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DF16-F1AE-4B46-8ACD-9CA82A33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37C6-427E-4DD9-83B1-82C98125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1A07-741C-4129-9F81-6CBA2755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0344-AC67-471F-A1D2-C65F094687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edthreaddesign.ru/citizen/page/2/" TargetMode="External"/><Relationship Id="rId2" Type="http://schemas.openxmlformats.org/officeDocument/2006/relationships/hyperlink" Target="http://avtoport.com.ua/useful_inforamtion/6424/6474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838080" y="304920"/>
            <a:ext cx="762012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0066"/>
                  </a:solidFill>
                  <a:miter/>
                </a:ln>
                <a:gradFill rotWithShape="0">
                  <a:gsLst>
                    <a:gs pos="0">
                      <a:srgbClr val="cc0066"/>
                    </a:gs>
                    <a:gs pos="100000">
                      <a:srgbClr val="cc0066"/>
                    </a:gs>
                  </a:gsLst>
                  <a:lin ang="5400000"/>
                </a:gradFill>
                <a:latin typeface="Arial"/>
              </a:rPr>
              <a:t>В стране </a:t>
            </a:r>
            <a:endParaRPr b="1" i="1" lang="en-US" sz="1800" spc="1" strike="noStrike">
              <a:ln w="9360">
                <a:solidFill>
                  <a:srgbClr val="cc0066"/>
                </a:solidFill>
                <a:miter/>
              </a:ln>
              <a:gradFill rotWithShape="0">
                <a:gsLst>
                  <a:gs pos="0">
                    <a:srgbClr val="cc0066"/>
                  </a:gs>
                  <a:gs pos="100000">
                    <a:srgbClr val="cc0066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0066"/>
                  </a:solidFill>
                  <a:miter/>
                </a:ln>
                <a:gradFill rotWithShape="0">
                  <a:gsLst>
                    <a:gs pos="0">
                      <a:srgbClr val="cc0066"/>
                    </a:gs>
                    <a:gs pos="100000">
                      <a:srgbClr val="cc0066"/>
                    </a:gs>
                  </a:gsLst>
                  <a:lin ang="5400000"/>
                </a:gradFill>
                <a:latin typeface="Arial"/>
              </a:rPr>
              <a:t>дорожных знаков</a:t>
            </a:r>
            <a:endParaRPr b="1" i="1" lang="en-US" sz="1800" spc="1" strike="noStrike">
              <a:ln w="9360">
                <a:solidFill>
                  <a:srgbClr val="cc0066"/>
                </a:solidFill>
                <a:miter/>
              </a:ln>
              <a:gradFill rotWithShape="0">
                <a:gsLst>
                  <a:gs pos="0">
                    <a:srgbClr val="cc0066"/>
                  </a:gs>
                  <a:gs pos="100000">
                    <a:srgbClr val="cc00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2" name="01_snova_v_shkolu.mp3" descr=""/>
          <p:cNvPicPr/>
          <p:nvPr/>
        </p:nvPicPr>
        <p:blipFill>
          <a:blip r:embed="rId1"/>
          <a:stretch/>
        </p:blipFill>
        <p:spPr>
          <a:xfrm>
            <a:off x="4876920" y="2590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100_0468"/>
          <p:cNvPicPr/>
          <p:nvPr/>
        </p:nvPicPr>
        <p:blipFill>
          <a:blip r:embed="rId2"/>
          <a:stretch/>
        </p:blipFill>
        <p:spPr>
          <a:xfrm>
            <a:off x="2438280" y="2514600"/>
            <a:ext cx="4876920" cy="320040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2457360" y="152280"/>
            <a:ext cx="41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Ликино-Дулевская ООШ №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3809880" y="63244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жова Э.В., 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4"/>
          <p:cNvPicPr/>
          <p:nvPr/>
        </p:nvPicPr>
        <p:blipFill>
          <a:blip r:embed="rId1"/>
          <a:stretch/>
        </p:blipFill>
        <p:spPr>
          <a:xfrm>
            <a:off x="533520" y="39996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5"/>
          <p:cNvPicPr/>
          <p:nvPr/>
        </p:nvPicPr>
        <p:blipFill>
          <a:blip r:embed="rId1"/>
          <a:stretch/>
        </p:blipFill>
        <p:spPr>
          <a:xfrm>
            <a:off x="1066680" y="60948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9"/>
          <p:cNvPicPr/>
          <p:nvPr/>
        </p:nvPicPr>
        <p:blipFill>
          <a:blip r:embed="rId1"/>
          <a:stretch/>
        </p:blipFill>
        <p:spPr>
          <a:xfrm rot="21372000">
            <a:off x="761760" y="837720"/>
            <a:ext cx="3668760" cy="517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12"/>
          <p:cNvPicPr/>
          <p:nvPr/>
        </p:nvPicPr>
        <p:blipFill>
          <a:blip r:embed="rId2"/>
          <a:stretch/>
        </p:blipFill>
        <p:spPr>
          <a:xfrm rot="256200">
            <a:off x="4876920" y="914040"/>
            <a:ext cx="3620880" cy="51055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5"/>
          <p:cNvPicPr/>
          <p:nvPr/>
        </p:nvPicPr>
        <p:blipFill>
          <a:blip r:embed="rId1"/>
          <a:stretch/>
        </p:blipFill>
        <p:spPr>
          <a:xfrm>
            <a:off x="3733920" y="990720"/>
            <a:ext cx="4419360" cy="4343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100_0480"/>
          <p:cNvPicPr/>
          <p:nvPr/>
        </p:nvPicPr>
        <p:blipFill>
          <a:blip r:embed="rId2"/>
          <a:stretch/>
        </p:blipFill>
        <p:spPr>
          <a:xfrm>
            <a:off x="228600" y="519120"/>
            <a:ext cx="3429000" cy="5821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5"/>
          <p:cNvSpPr txBox="1"/>
          <p:nvPr/>
        </p:nvSpPr>
        <p:spPr>
          <a:xfrm>
            <a:off x="838080" y="533520"/>
            <a:ext cx="7543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Знайте правила движенья,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Как таблицу умноженья.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Надо их не только знать,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А непременно соблюдать.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533520" y="11426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edthreaddesign.ru/citizen/page/2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533520" y="16758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avtoport.com.ua/useful_inforamtion/6424/6474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533520" y="213300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dd.sch975.edusite.ru/p19aa1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533520" y="25902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ignal.biz.ua/read/2/dor_znaki_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2743200"/>
          <a:ext cx="6346800" cy="639720"/>
        </p:xfrm>
        <a:graphic>
          <a:graphicData uri="http://schemas.openxmlformats.org/drawingml/2006/table">
            <a:tbl>
              <a:tblPr/>
              <a:tblGrid>
                <a:gridCol w="6130800"/>
                <a:gridCol w="216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79e37"/>
                          </a:solidFill>
                          <a:latin typeface="Arial"/>
                          <a:ea typeface="Arial"/>
                        </a:rPr>
                        <a:t>http://io.nios.ru/index.php?rel=27&amp;point=10&amp;art=61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24"/>
          <p:cNvSpPr/>
          <p:nvPr/>
        </p:nvSpPr>
        <p:spPr>
          <a:xfrm>
            <a:off x="457200" y="34286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ustltd.com/32/?dir=DESC&amp;order=_1&amp;p=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2438280" y="578160"/>
            <a:ext cx="63518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ак на проезжей части дороги называются белые широкие полосы размет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бозначающие перехо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1. «коров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2. «зебр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3. «лошад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100_0472"/>
          <p:cNvPicPr/>
          <p:nvPr/>
        </p:nvPicPr>
        <p:blipFill>
          <a:blip r:embed="rId1"/>
          <a:stretch/>
        </p:blipFill>
        <p:spPr>
          <a:xfrm>
            <a:off x="609480" y="1371600"/>
            <a:ext cx="2438640" cy="4876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52280" y="128520"/>
            <a:ext cx="84582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оезжая часть дороги предназначена для дви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1. пешехо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2. пассажи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3. автомоби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00_0471"/>
          <p:cNvPicPr/>
          <p:nvPr/>
        </p:nvPicPr>
        <p:blipFill>
          <a:blip r:embed="rId1"/>
          <a:stretch/>
        </p:blipFill>
        <p:spPr>
          <a:xfrm>
            <a:off x="1523880" y="2895480"/>
            <a:ext cx="5821560" cy="3451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62000" y="868680"/>
            <a:ext cx="871200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 какого возраста разрешается 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на велосипеде по улицам и дорог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1. с 16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2. с 14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3. с 12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685800" y="24480"/>
            <a:ext cx="830592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акой сигнал светофора разрешает движ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1. кр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жёлт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3. зелё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100_0466"/>
          <p:cNvPicPr/>
          <p:nvPr/>
        </p:nvPicPr>
        <p:blipFill>
          <a:blip r:embed="rId1"/>
          <a:stretch/>
        </p:blipFill>
        <p:spPr>
          <a:xfrm>
            <a:off x="152280" y="1981080"/>
            <a:ext cx="3048120" cy="4343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1"/>
          <p:cNvPicPr/>
          <p:nvPr/>
        </p:nvPicPr>
        <p:blipFill>
          <a:blip r:embed="rId1"/>
          <a:stretch/>
        </p:blipFill>
        <p:spPr>
          <a:xfrm>
            <a:off x="762120" y="671400"/>
            <a:ext cx="7619760" cy="5515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7"/>
          <p:cNvPicPr/>
          <p:nvPr/>
        </p:nvPicPr>
        <p:blipFill>
          <a:blip r:embed="rId1"/>
          <a:stretch/>
        </p:blipFill>
        <p:spPr>
          <a:xfrm>
            <a:off x="1752480" y="6094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0"/>
          <p:cNvPicPr/>
          <p:nvPr/>
        </p:nvPicPr>
        <p:blipFill>
          <a:blip r:embed="rId1"/>
          <a:stretch/>
        </p:blipFill>
        <p:spPr>
          <a:xfrm>
            <a:off x="1752480" y="6094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6"/>
          <p:cNvPicPr/>
          <p:nvPr/>
        </p:nvPicPr>
        <p:blipFill>
          <a:blip r:embed="rId1"/>
          <a:stretch/>
        </p:blipFill>
        <p:spPr>
          <a:xfrm>
            <a:off x="1752480" y="533520"/>
            <a:ext cx="5715000" cy="5724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08:38:44Z</dcterms:created>
  <dc:creator>007</dc:creator>
  <dc:description/>
  <dc:language>en-US</dc:language>
  <cp:lastModifiedBy>Inf9</cp:lastModifiedBy>
  <dcterms:modified xsi:type="dcterms:W3CDTF">2008-01-01T01:11:44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