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33.png" ContentType="image/png"/>
  <Override PartName="/ppt/media/image6.png" ContentType="image/png"/>
  <Override PartName="/ppt/media/image36.png" ContentType="image/png"/>
  <Override PartName="/ppt/media/image32.gif" ContentType="image/gif"/>
  <Override PartName="/ppt/media/image34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png" ContentType="image/png"/>
  <Override PartName="/ppt/media/image25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62CA-AECB-4F8B-897C-6FDF8A1FD9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BD76-F1E0-467F-80FA-8DB1C73F9386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F3F6-AFF5-4374-BB66-77F90620BA25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41C-0484-4B18-A281-D02E0ABC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549-2660-4B21-AFD2-964059E9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2C6-DE73-459A-B95A-09917FFE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672-145B-4474-A48B-3FE91270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1143-2B63-4BB5-A1F7-90080660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562D-E23C-4844-9F6F-E978A934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4EA1-D560-447C-B6B1-9417491B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A21E-D6E2-4769-B870-657772BE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EE58-D888-41D4-868B-27F9EB9D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40D4-6DAC-45A9-AC37-A9AD39EB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F1CF-122C-46E5-B48F-FA68C3F6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248-038F-40EB-A967-4DBD290A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13E4-F1C1-47CC-AC9A-8EDCED29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D169-D0A4-403D-B7FB-2244DD75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F81F-5DA2-4E3C-8AED-8BD6841A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EFB2-30EB-44FD-A9AC-6CB1CB54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866F-9701-4475-9973-72033345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EEA2-50BE-4FE4-81F2-6F6A304F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3852F-F70E-4F3E-ACD4-F9A0FB54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FD22F-5DB3-4BEE-B68D-06412B3C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BCC20-FE30-4A43-9B32-8DC16249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2AD98-B09F-4F84-B115-F4AE573D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4CE-5CFA-417D-B3EF-738ABA60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FE6F2-54DA-4EAF-9F8F-28EA5F1E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3725F-598D-4952-80EE-96D5A167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67F1E-69F9-42E5-AC93-BB31DD6A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D248-4F24-443A-B100-44D9963E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2A08E-098C-44D6-8A93-48C8EFE1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D05CA-F448-471D-B815-8B17888C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9E85-D345-4570-8694-66DEF372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2FCA-7E3A-4BDF-8F77-21116568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A7A-0D27-4D77-8726-310BB4F2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25F-0F16-492D-ABC0-1E29EC4D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41D1-92F6-47FA-8A81-29C0C388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711-A843-4BF9-B721-8C7F05A3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6C4-1CAA-4135-BF3B-91E01146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5600" cy="6950160"/>
            <a:chOff x="-86760" y="-93600"/>
            <a:chExt cx="277560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9920" cy="3119040"/>
              <a:chOff x="-1080" y="2601000"/>
              <a:chExt cx="268992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920" y="4049280"/>
                <a:ext cx="1834920" cy="1670760"/>
                <a:chOff x="853920" y="4049280"/>
                <a:chExt cx="1834920" cy="16707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80880" y="3929400"/>
                  <a:ext cx="477360" cy="1256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80320" y="4978800"/>
                  <a:ext cx="110520" cy="51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7680" y="5564880"/>
                  <a:ext cx="200880" cy="90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8C37-72CE-4B31-A606-6435DE7C360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5312-1E11-4E71-97EB-672C8C40BF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86760" y="-93600"/>
            <a:ext cx="2775600" cy="6950160"/>
            <a:chOff x="-86760" y="-93600"/>
            <a:chExt cx="2775600" cy="6950160"/>
          </a:xfrm>
        </p:grpSpPr>
        <p:sp>
          <p:nvSpPr>
            <p:cNvPr id="126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12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2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31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132" name="Group 9"/>
            <p:cNvGrpSpPr/>
            <p:nvPr/>
          </p:nvGrpSpPr>
          <p:grpSpPr>
            <a:xfrm>
              <a:off x="-1080" y="2601000"/>
              <a:ext cx="2689920" cy="3119040"/>
              <a:chOff x="-1080" y="2601000"/>
              <a:chExt cx="2689920" cy="3119040"/>
            </a:xfrm>
          </p:grpSpPr>
          <p:sp>
            <p:nvSpPr>
              <p:cNvPr id="13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7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8" name="Group 15"/>
              <p:cNvGrpSpPr/>
              <p:nvPr/>
            </p:nvGrpSpPr>
            <p:grpSpPr>
              <a:xfrm>
                <a:off x="853920" y="4049280"/>
                <a:ext cx="1834920" cy="1670760"/>
                <a:chOff x="853920" y="4049280"/>
                <a:chExt cx="1834920" cy="1670760"/>
              </a:xfrm>
            </p:grpSpPr>
            <p:sp>
              <p:nvSpPr>
                <p:cNvPr id="139" name="Freeform 16"/>
                <p:cNvSpPr/>
                <p:nvPr/>
              </p:nvSpPr>
              <p:spPr>
                <a:xfrm flipH="1" rot="7102800">
                  <a:off x="1280880" y="3929400"/>
                  <a:ext cx="477360" cy="1256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17"/>
                <p:cNvSpPr/>
                <p:nvPr/>
              </p:nvSpPr>
              <p:spPr>
                <a:xfrm flipH="1" rot="7102800">
                  <a:off x="2380320" y="4978800"/>
                  <a:ext cx="110520" cy="51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18"/>
                <p:cNvSpPr/>
                <p:nvPr/>
              </p:nvSpPr>
              <p:spPr>
                <a:xfrm flipH="1" rot="7102800">
                  <a:off x="2497680" y="5564880"/>
                  <a:ext cx="200880" cy="90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43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4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5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4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1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grpSp>
        <p:nvGrpSpPr>
          <p:cNvPr id="168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169" name="Group 3"/>
            <p:cNvGrpSpPr/>
            <p:nvPr/>
          </p:nvGrpSpPr>
          <p:grpSpPr>
            <a:xfrm>
              <a:off x="5380560" y="61200"/>
              <a:ext cx="3649320" cy="6143760"/>
              <a:chOff x="5380560" y="61200"/>
              <a:chExt cx="3649320" cy="6143760"/>
            </a:xfrm>
          </p:grpSpPr>
          <p:sp>
            <p:nvSpPr>
              <p:cNvPr id="170" name="Freeform 4"/>
              <p:cNvSpPr/>
              <p:nvPr/>
            </p:nvSpPr>
            <p:spPr>
              <a:xfrm flipV="1" rot="11970000">
                <a:off x="6575400" y="347400"/>
                <a:ext cx="212148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1" name="Freeform 5"/>
              <p:cNvSpPr/>
              <p:nvPr/>
            </p:nvSpPr>
            <p:spPr>
              <a:xfrm flipV="1" rot="11970000">
                <a:off x="7406640" y="1967400"/>
                <a:ext cx="90864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2" name="Freeform 6"/>
              <p:cNvSpPr/>
              <p:nvPr/>
            </p:nvSpPr>
            <p:spPr>
              <a:xfrm flipV="1" rot="11970000">
                <a:off x="6817320" y="2589840"/>
                <a:ext cx="44064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3" name="Freeform 7"/>
              <p:cNvSpPr/>
              <p:nvPr/>
            </p:nvSpPr>
            <p:spPr>
              <a:xfrm flipV="1" rot="11970000">
                <a:off x="7245720" y="676440"/>
                <a:ext cx="38988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4" name="Freeform 8"/>
              <p:cNvSpPr/>
              <p:nvPr/>
            </p:nvSpPr>
            <p:spPr>
              <a:xfrm flipV="1" rot="11970000">
                <a:off x="7128000" y="2651760"/>
                <a:ext cx="16380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5" name="Freeform 9"/>
              <p:cNvSpPr/>
              <p:nvPr/>
            </p:nvSpPr>
            <p:spPr>
              <a:xfrm flipV="1" rot="11970000">
                <a:off x="7122960" y="1239480"/>
                <a:ext cx="19080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6" name="Freeform 10"/>
              <p:cNvSpPr/>
              <p:nvPr/>
            </p:nvSpPr>
            <p:spPr>
              <a:xfrm flipV="1" rot="11970000">
                <a:off x="5910840" y="2941920"/>
                <a:ext cx="52488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77" name="Freeform 11"/>
            <p:cNvSpPr/>
            <p:nvPr/>
          </p:nvSpPr>
          <p:spPr>
            <a:xfrm flipH="1" rot="373800">
              <a:off x="34200" y="3106800"/>
              <a:ext cx="51372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>
              <a:off x="267480" y="2000160"/>
              <a:ext cx="200412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79" name="Freeform 13"/>
            <p:cNvSpPr/>
            <p:nvPr/>
          </p:nvSpPr>
          <p:spPr>
            <a:xfrm>
              <a:off x="0" y="4143240"/>
              <a:ext cx="12747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80" name="Freeform 14"/>
            <p:cNvSpPr/>
            <p:nvPr/>
          </p:nvSpPr>
          <p:spPr>
            <a:xfrm flipH="1" rot="373800">
              <a:off x="1429200" y="4532040"/>
              <a:ext cx="5634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81" name="Freeform 15"/>
            <p:cNvSpPr/>
            <p:nvPr/>
          </p:nvSpPr>
          <p:spPr>
            <a:xfrm flipH="1" rot="373800">
              <a:off x="1270800" y="4728960"/>
              <a:ext cx="13860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82" name="Freeform 16"/>
            <p:cNvSpPr/>
            <p:nvPr/>
          </p:nvSpPr>
          <p:spPr>
            <a:xfrm>
              <a:off x="1894320" y="5195880"/>
              <a:ext cx="176364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183" name="Group 17"/>
            <p:cNvGrpSpPr/>
            <p:nvPr/>
          </p:nvGrpSpPr>
          <p:grpSpPr>
            <a:xfrm>
              <a:off x="4161600" y="1032480"/>
              <a:ext cx="1017360" cy="1263960"/>
              <a:chOff x="4161600" y="1032480"/>
              <a:chExt cx="1017360" cy="1263960"/>
            </a:xfrm>
          </p:grpSpPr>
          <p:sp>
            <p:nvSpPr>
              <p:cNvPr id="184" name="Freeform 18"/>
              <p:cNvSpPr/>
              <p:nvPr/>
            </p:nvSpPr>
            <p:spPr>
              <a:xfrm rot="3220200">
                <a:off x="4578120" y="1069920"/>
                <a:ext cx="285840" cy="379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85" name="Freeform 19"/>
              <p:cNvSpPr/>
              <p:nvPr/>
            </p:nvSpPr>
            <p:spPr>
              <a:xfrm rot="3220200">
                <a:off x="4662360" y="1603800"/>
                <a:ext cx="488880" cy="315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86" name="Freeform 20"/>
              <p:cNvSpPr/>
              <p:nvPr/>
            </p:nvSpPr>
            <p:spPr>
              <a:xfrm rot="3220200">
                <a:off x="4122000" y="1962720"/>
                <a:ext cx="511200" cy="16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21"/>
            <p:cNvGrpSpPr/>
            <p:nvPr/>
          </p:nvGrpSpPr>
          <p:grpSpPr>
            <a:xfrm>
              <a:off x="5645880" y="245160"/>
              <a:ext cx="895680" cy="825480"/>
              <a:chOff x="5645880" y="245160"/>
              <a:chExt cx="895680" cy="825480"/>
            </a:xfrm>
          </p:grpSpPr>
          <p:sp>
            <p:nvSpPr>
              <p:cNvPr id="188" name="Freeform 22"/>
              <p:cNvSpPr/>
              <p:nvPr/>
            </p:nvSpPr>
            <p:spPr>
              <a:xfrm rot="14908200">
                <a:off x="5757840" y="739080"/>
                <a:ext cx="179280" cy="362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89" name="Freeform 23"/>
              <p:cNvSpPr/>
              <p:nvPr/>
            </p:nvSpPr>
            <p:spPr>
              <a:xfrm rot="14908200">
                <a:off x="5707800" y="419040"/>
                <a:ext cx="306360" cy="3016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0" name="Freeform 24"/>
              <p:cNvSpPr/>
              <p:nvPr/>
            </p:nvSpPr>
            <p:spPr>
              <a:xfrm rot="14908200">
                <a:off x="6251760" y="344880"/>
                <a:ext cx="319320" cy="153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25"/>
            <p:cNvGrpSpPr/>
            <p:nvPr/>
          </p:nvGrpSpPr>
          <p:grpSpPr>
            <a:xfrm>
              <a:off x="972360" y="5239440"/>
              <a:ext cx="1060560" cy="831600"/>
              <a:chOff x="972360" y="5239440"/>
              <a:chExt cx="1060560" cy="831600"/>
            </a:xfrm>
          </p:grpSpPr>
          <p:sp>
            <p:nvSpPr>
              <p:cNvPr id="192" name="Freeform 26"/>
              <p:cNvSpPr/>
              <p:nvPr/>
            </p:nvSpPr>
            <p:spPr>
              <a:xfrm rot="8524800">
                <a:off x="1715760" y="5503680"/>
                <a:ext cx="25164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3" name="Freeform 27"/>
              <p:cNvSpPr/>
              <p:nvPr/>
            </p:nvSpPr>
            <p:spPr>
              <a:xfrm rot="8524800">
                <a:off x="1197360" y="5715000"/>
                <a:ext cx="430560" cy="249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4" name="Freeform 28"/>
              <p:cNvSpPr/>
              <p:nvPr/>
            </p:nvSpPr>
            <p:spPr>
              <a:xfrm rot="8524800">
                <a:off x="963360" y="5364360"/>
                <a:ext cx="45036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29"/>
            <p:cNvGrpSpPr/>
            <p:nvPr/>
          </p:nvGrpSpPr>
          <p:grpSpPr>
            <a:xfrm>
              <a:off x="376920" y="403200"/>
              <a:ext cx="1694160" cy="1146960"/>
              <a:chOff x="376920" y="403200"/>
              <a:chExt cx="1694160" cy="1146960"/>
            </a:xfrm>
          </p:grpSpPr>
          <p:sp>
            <p:nvSpPr>
              <p:cNvPr id="196" name="Freeform 30"/>
              <p:cNvSpPr/>
              <p:nvPr/>
            </p:nvSpPr>
            <p:spPr>
              <a:xfrm flipH="1" rot="4107000">
                <a:off x="1580760" y="1021320"/>
                <a:ext cx="355320" cy="53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7" name="Freeform 31"/>
              <p:cNvSpPr/>
              <p:nvPr/>
            </p:nvSpPr>
            <p:spPr>
              <a:xfrm flipH="1" rot="4107000">
                <a:off x="1026000" y="546120"/>
                <a:ext cx="608400" cy="442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8" name="Freeform 32"/>
              <p:cNvSpPr/>
              <p:nvPr/>
            </p:nvSpPr>
            <p:spPr>
              <a:xfrm flipH="1" rot="4107000">
                <a:off x="280080" y="1061280"/>
                <a:ext cx="636120" cy="225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33"/>
            <p:cNvGrpSpPr/>
            <p:nvPr/>
          </p:nvGrpSpPr>
          <p:grpSpPr>
            <a:xfrm>
              <a:off x="7446600" y="3711960"/>
              <a:ext cx="1158840" cy="1608480"/>
              <a:chOff x="7446600" y="3711960"/>
              <a:chExt cx="1158840" cy="1608480"/>
            </a:xfrm>
          </p:grpSpPr>
          <p:sp>
            <p:nvSpPr>
              <p:cNvPr id="200" name="Freeform 34"/>
              <p:cNvSpPr/>
              <p:nvPr/>
            </p:nvSpPr>
            <p:spPr>
              <a:xfrm flipH="1" rot="10015800">
                <a:off x="7501680" y="4756320"/>
                <a:ext cx="35640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1" name="Freeform 35"/>
              <p:cNvSpPr/>
              <p:nvPr/>
            </p:nvSpPr>
            <p:spPr>
              <a:xfrm flipH="1" rot="10015800">
                <a:off x="7953120" y="4455720"/>
                <a:ext cx="6098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2" name="Freeform 36"/>
              <p:cNvSpPr/>
              <p:nvPr/>
            </p:nvSpPr>
            <p:spPr>
              <a:xfrm flipH="1" rot="10015800">
                <a:off x="7646040" y="3780720"/>
                <a:ext cx="6375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03" name="Freeform 37"/>
            <p:cNvSpPr/>
            <p:nvPr/>
          </p:nvSpPr>
          <p:spPr>
            <a:xfrm>
              <a:off x="1937160" y="3240"/>
              <a:ext cx="137196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 flipV="1" rot="9832800">
              <a:off x="3434400" y="161280"/>
              <a:ext cx="108396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 flipV="1" rot="9832800">
              <a:off x="3178080" y="1361520"/>
              <a:ext cx="52488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 flipV="1" rot="9832800">
              <a:off x="3539880" y="1281960"/>
              <a:ext cx="19584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2551680" y="0"/>
              <a:ext cx="19728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8" name="Freeform 42"/>
            <p:cNvSpPr/>
            <p:nvPr/>
          </p:nvSpPr>
          <p:spPr>
            <a:xfrm flipV="1" rot="9832800">
              <a:off x="3457800" y="1964880"/>
              <a:ext cx="6253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9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8CB0-AA35-47FE-84D4-3D3FB5207DB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740800" cy="2322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AMERI006"/>
          <p:cNvPicPr/>
          <p:nvPr/>
        </p:nvPicPr>
        <p:blipFill>
          <a:blip r:embed="rId2"/>
          <a:stretch/>
        </p:blipFill>
        <p:spPr>
          <a:xfrm>
            <a:off x="428760" y="1571760"/>
            <a:ext cx="2820960" cy="2786040"/>
          </a:xfrm>
          <a:prstGeom prst="rect">
            <a:avLst/>
          </a:prstGeom>
          <a:ln w="0">
            <a:noFill/>
          </a:ln>
        </p:spPr>
      </p:pic>
      <p:sp>
        <p:nvSpPr>
          <p:cNvPr id="260" name="Выноска-облако 4"/>
          <p:cNvSpPr/>
          <p:nvPr/>
        </p:nvSpPr>
        <p:spPr>
          <a:xfrm>
            <a:off x="285840" y="142920"/>
            <a:ext cx="8429400" cy="1785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61" name="Прямоугольник 6" descr=""/>
          <p:cNvPicPr/>
          <p:nvPr/>
        </p:nvPicPr>
        <p:blipFill>
          <a:blip r:embed="rId3"/>
          <a:stretch/>
        </p:blipFill>
        <p:spPr>
          <a:xfrm>
            <a:off x="1066680" y="311040"/>
            <a:ext cx="7371000" cy="706680"/>
          </a:xfrm>
          <a:prstGeom prst="rect">
            <a:avLst/>
          </a:prstGeom>
          <a:ln w="0">
            <a:noFill/>
          </a:ln>
        </p:spPr>
      </p:pic>
      <p:pic>
        <p:nvPicPr>
          <p:cNvPr id="262" name="Прямоугольник 7" descr=""/>
          <p:cNvPicPr/>
          <p:nvPr/>
        </p:nvPicPr>
        <p:blipFill>
          <a:blip r:embed="rId4"/>
          <a:stretch/>
        </p:blipFill>
        <p:spPr>
          <a:xfrm>
            <a:off x="3127320" y="2103480"/>
            <a:ext cx="5662800" cy="14382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6"/>
          <p:cNvSpPr txBox="1"/>
          <p:nvPr/>
        </p:nvSpPr>
        <p:spPr>
          <a:xfrm>
            <a:off x="4429080" y="2928960"/>
            <a:ext cx="26431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9cb084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  класс</a:t>
            </a:r>
            <a:endParaRPr b="0" lang="en-US" sz="4800" spc="1" strike="noStrike">
              <a:ln w="9360">
                <a:solidFill>
                  <a:srgbClr val="9cb084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4" name="Прямоугольник 9" descr=""/>
          <p:cNvPicPr/>
          <p:nvPr/>
        </p:nvPicPr>
        <p:blipFill>
          <a:blip r:embed="rId5"/>
          <a:stretch/>
        </p:blipFill>
        <p:spPr>
          <a:xfrm>
            <a:off x="133200" y="3591000"/>
            <a:ext cx="83775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Прямоугольник 1" descr=""/>
          <p:cNvPicPr/>
          <p:nvPr/>
        </p:nvPicPr>
        <p:blipFill>
          <a:blip r:embed="rId1"/>
          <a:stretch/>
        </p:blipFill>
        <p:spPr>
          <a:xfrm>
            <a:off x="3638520" y="133200"/>
            <a:ext cx="6943680" cy="5029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просмотр сведений"/>
          <p:cNvPicPr/>
          <p:nvPr/>
        </p:nvPicPr>
        <p:blipFill>
          <a:blip r:embed="rId2"/>
          <a:stretch/>
        </p:blipFill>
        <p:spPr>
          <a:xfrm>
            <a:off x="285840" y="1357200"/>
            <a:ext cx="3286080" cy="3429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Дерево с корнями"/>
          <p:cNvPicPr/>
          <p:nvPr/>
        </p:nvPicPr>
        <p:blipFill>
          <a:blip r:embed="rId1"/>
          <a:stretch/>
        </p:blipFill>
        <p:spPr>
          <a:xfrm>
            <a:off x="785880" y="285840"/>
            <a:ext cx="7786800" cy="614340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2" descr=""/>
          <p:cNvPicPr/>
          <p:nvPr/>
        </p:nvPicPr>
        <p:blipFill>
          <a:blip r:embed="rId2"/>
          <a:stretch/>
        </p:blipFill>
        <p:spPr>
          <a:xfrm>
            <a:off x="2200320" y="4352760"/>
            <a:ext cx="5376960" cy="120024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3" descr=""/>
          <p:cNvPicPr/>
          <p:nvPr/>
        </p:nvPicPr>
        <p:blipFill>
          <a:blip r:embed="rId3"/>
          <a:stretch/>
        </p:blipFill>
        <p:spPr>
          <a:xfrm>
            <a:off x="1805040" y="1566720"/>
            <a:ext cx="2065320" cy="120024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4" descr=""/>
          <p:cNvPicPr/>
          <p:nvPr/>
        </p:nvPicPr>
        <p:blipFill>
          <a:blip r:embed="rId4"/>
          <a:stretch/>
        </p:blipFill>
        <p:spPr>
          <a:xfrm>
            <a:off x="1639800" y="212760"/>
            <a:ext cx="2799000" cy="120168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5" descr=""/>
          <p:cNvPicPr/>
          <p:nvPr/>
        </p:nvPicPr>
        <p:blipFill>
          <a:blip r:embed="rId5"/>
          <a:stretch/>
        </p:blipFill>
        <p:spPr>
          <a:xfrm>
            <a:off x="4157640" y="-219240"/>
            <a:ext cx="1901880" cy="120024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6" descr=""/>
          <p:cNvPicPr/>
          <p:nvPr/>
        </p:nvPicPr>
        <p:blipFill>
          <a:blip r:embed="rId6"/>
          <a:stretch/>
        </p:blipFill>
        <p:spPr>
          <a:xfrm>
            <a:off x="5437080" y="281160"/>
            <a:ext cx="1616040" cy="119988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7" descr=""/>
          <p:cNvPicPr/>
          <p:nvPr/>
        </p:nvPicPr>
        <p:blipFill>
          <a:blip r:embed="rId7"/>
          <a:stretch/>
        </p:blipFill>
        <p:spPr>
          <a:xfrm>
            <a:off x="6199200" y="1352520"/>
            <a:ext cx="17384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12m6"/>
          <p:cNvPicPr/>
          <p:nvPr/>
        </p:nvPicPr>
        <p:blipFill>
          <a:blip r:embed="rId1"/>
          <a:stretch/>
        </p:blipFill>
        <p:spPr>
          <a:xfrm>
            <a:off x="-900000" y="2133720"/>
            <a:ext cx="5788080" cy="4900320"/>
          </a:xfrm>
          <a:prstGeom prst="rect">
            <a:avLst/>
          </a:prstGeom>
          <a:ln w="0">
            <a:noFill/>
          </a:ln>
        </p:spPr>
      </p:pic>
      <p:sp>
        <p:nvSpPr>
          <p:cNvPr id="300" name="WordArt 5"/>
          <p:cNvSpPr txBox="1"/>
          <p:nvPr/>
        </p:nvSpPr>
        <p:spPr>
          <a:xfrm rot="5400000">
            <a:off x="5652000" y="2996280"/>
            <a:ext cx="5867640" cy="11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тдохнём!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564000" y="692280"/>
            <a:ext cx="48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ы, наверное, устали?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у, тогда все дружно встали,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ожками потопали,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учками похлопали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кружились, повертелись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 за парты все уселись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Глазки крепко закрываем,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ружно до пяти считаем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ткрываем, поморгаем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 работать продолжаем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Прямоугольник 1" descr=""/>
          <p:cNvPicPr/>
          <p:nvPr/>
        </p:nvPicPr>
        <p:blipFill>
          <a:blip r:embed="rId1"/>
          <a:stretch/>
        </p:blipFill>
        <p:spPr>
          <a:xfrm>
            <a:off x="2273400" y="208080"/>
            <a:ext cx="6851520" cy="5479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просмотр сведений"/>
          <p:cNvPicPr/>
          <p:nvPr/>
        </p:nvPicPr>
        <p:blipFill>
          <a:blip r:embed="rId2"/>
          <a:stretch/>
        </p:blipFill>
        <p:spPr>
          <a:xfrm>
            <a:off x="214200" y="428760"/>
            <a:ext cx="17146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571680" y="1357200"/>
            <a:ext cx="7858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</a:t>
            </a: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Какие существуют ещё части слова? 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* Как их обозначают?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*Где они находятся в слове?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* Для чего они служат?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2071800" y="727920"/>
            <a:ext cx="7072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Шарада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ень мой находится в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цене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чер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йти приставку м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уффикс мой в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тетрад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все встречае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 и в дневнике стою, я и в журнале 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06" name="Picture 3" descr="Ученик сидит за партой и делает контрольную работу"/>
          <p:cNvPicPr/>
          <p:nvPr/>
        </p:nvPicPr>
        <p:blipFill>
          <a:blip r:embed="rId1"/>
          <a:stretch/>
        </p:blipFill>
        <p:spPr>
          <a:xfrm>
            <a:off x="168120" y="500040"/>
            <a:ext cx="182880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1" descr=""/>
          <p:cNvPicPr/>
          <p:nvPr/>
        </p:nvPicPr>
        <p:blipFill>
          <a:blip r:embed="rId1"/>
          <a:stretch/>
        </p:blipFill>
        <p:spPr>
          <a:xfrm>
            <a:off x="1127160" y="1773360"/>
            <a:ext cx="7284960" cy="325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28760" y="1628640"/>
            <a:ext cx="8143920" cy="4872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Я желаю тебе сегодня до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ы желаешь мне сегодня до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ы желаем друг другу до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Если тебе трудно, я тебе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могу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6" name="Picture 3" descr="AMERI007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2276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AMERI006"/>
          <p:cNvPicPr/>
          <p:nvPr/>
        </p:nvPicPr>
        <p:blipFill>
          <a:blip r:embed="rId2"/>
          <a:stretch/>
        </p:blipFill>
        <p:spPr>
          <a:xfrm>
            <a:off x="0" y="4581360"/>
            <a:ext cx="2268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Дерево с корнями"/>
          <p:cNvPicPr/>
          <p:nvPr/>
        </p:nvPicPr>
        <p:blipFill>
          <a:blip r:embed="rId1"/>
          <a:stretch/>
        </p:blipFill>
        <p:spPr>
          <a:xfrm>
            <a:off x="785880" y="285840"/>
            <a:ext cx="7786800" cy="614340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2" descr=""/>
          <p:cNvPicPr/>
          <p:nvPr/>
        </p:nvPicPr>
        <p:blipFill>
          <a:blip r:embed="rId2"/>
          <a:stretch/>
        </p:blipFill>
        <p:spPr>
          <a:xfrm>
            <a:off x="3780000" y="4743360"/>
            <a:ext cx="1725480" cy="11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MCj04398240000[1]"/>
          <p:cNvPicPr/>
          <p:nvPr/>
        </p:nvPicPr>
        <p:blipFill>
          <a:blip r:embed="rId1"/>
          <a:stretch/>
        </p:blipFill>
        <p:spPr>
          <a:xfrm>
            <a:off x="5286240" y="22147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2" descr=""/>
          <p:cNvPicPr/>
          <p:nvPr/>
        </p:nvPicPr>
        <p:blipFill>
          <a:blip r:embed="rId2"/>
          <a:stretch/>
        </p:blipFill>
        <p:spPr>
          <a:xfrm>
            <a:off x="566640" y="493560"/>
            <a:ext cx="7510680" cy="115920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3" descr=""/>
          <p:cNvPicPr/>
          <p:nvPr/>
        </p:nvPicPr>
        <p:blipFill>
          <a:blip r:embed="rId3"/>
          <a:stretch/>
        </p:blipFill>
        <p:spPr>
          <a:xfrm>
            <a:off x="493560" y="1951200"/>
            <a:ext cx="4707000" cy="267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Дерево с корнями"/>
          <p:cNvPicPr/>
          <p:nvPr/>
        </p:nvPicPr>
        <p:blipFill>
          <a:blip r:embed="rId1"/>
          <a:stretch/>
        </p:blipFill>
        <p:spPr>
          <a:xfrm>
            <a:off x="428760" y="428760"/>
            <a:ext cx="8001000" cy="600048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4565520"/>
            <a:ext cx="6731280" cy="115884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6" descr=""/>
          <p:cNvPicPr/>
          <p:nvPr/>
        </p:nvPicPr>
        <p:blipFill>
          <a:blip r:embed="rId3"/>
          <a:stretch/>
        </p:blipFill>
        <p:spPr>
          <a:xfrm>
            <a:off x="3035160" y="579600"/>
            <a:ext cx="951120" cy="39258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7" descr=""/>
          <p:cNvPicPr/>
          <p:nvPr/>
        </p:nvPicPr>
        <p:blipFill>
          <a:blip r:embed="rId4"/>
          <a:stretch/>
        </p:blipFill>
        <p:spPr>
          <a:xfrm>
            <a:off x="4048200" y="360360"/>
            <a:ext cx="907920" cy="466884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8" descr=""/>
          <p:cNvPicPr/>
          <p:nvPr/>
        </p:nvPicPr>
        <p:blipFill>
          <a:blip r:embed="rId5"/>
          <a:stretch/>
        </p:blipFill>
        <p:spPr>
          <a:xfrm>
            <a:off x="5041800" y="781200"/>
            <a:ext cx="9986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nabor"/>
          <p:cNvPicPr/>
          <p:nvPr/>
        </p:nvPicPr>
        <p:blipFill>
          <a:blip r:embed="rId2"/>
          <a:stretch/>
        </p:blipFill>
        <p:spPr>
          <a:xfrm>
            <a:off x="826920" y="404640"/>
            <a:ext cx="3173760" cy="2595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3143160" y="857160"/>
            <a:ext cx="45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9676d"/>
                </a:solidFill>
                <a:uFillTx/>
                <a:latin typeface="Times New Roman"/>
              </a:rPr>
              <a:t>Проблема: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179280" y="292428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*Какие существуют ещё части слова? * Как их обозначают?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*Где они находятся в слове?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* Для чего они служат?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84" name="Прямоугольник 7" descr=""/>
          <p:cNvPicPr/>
          <p:nvPr/>
        </p:nvPicPr>
        <p:blipFill>
          <a:blip r:embed="rId3"/>
          <a:stretch/>
        </p:blipFill>
        <p:spPr>
          <a:xfrm>
            <a:off x="3139920" y="993600"/>
            <a:ext cx="5583240" cy="115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73080"/>
            <a:ext cx="6553080" cy="4657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AMERI007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Подснежники"/>
          <p:cNvPicPr/>
          <p:nvPr/>
        </p:nvPicPr>
        <p:blipFill>
          <a:blip r:embed="rId1"/>
          <a:stretch/>
        </p:blipFill>
        <p:spPr>
          <a:xfrm>
            <a:off x="642960" y="285840"/>
            <a:ext cx="7715160" cy="628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Прямоугольник 1" descr=""/>
          <p:cNvPicPr/>
          <p:nvPr/>
        </p:nvPicPr>
        <p:blipFill>
          <a:blip r:embed="rId1"/>
          <a:stretch/>
        </p:blipFill>
        <p:spPr>
          <a:xfrm>
            <a:off x="2882880" y="365040"/>
            <a:ext cx="6205680" cy="4876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Учитель показывает на классную доску"/>
          <p:cNvPicPr/>
          <p:nvPr/>
        </p:nvPicPr>
        <p:blipFill>
          <a:blip r:embed="rId2"/>
          <a:stretch/>
        </p:blipFill>
        <p:spPr>
          <a:xfrm>
            <a:off x="0" y="-642960"/>
            <a:ext cx="378612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2:10:19Z</dcterms:created>
  <dc:creator>User</dc:creator>
  <dc:description/>
  <dc:language>en-US</dc:language>
  <cp:lastModifiedBy>Admin</cp:lastModifiedBy>
  <dcterms:modified xsi:type="dcterms:W3CDTF">2012-04-01T08:24:40Z</dcterms:modified>
  <cp:revision>78</cp:revision>
  <dc:subject/>
  <dc:title>PowerPoint Presentation</dc:title>
</cp:coreProperties>
</file>