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0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79C-FB05-43EE-ABA5-D9B41841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458-3C7B-428C-9115-8957EDAF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389-17D2-4B19-87CC-355BDE2D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9ED-B77A-4298-AEE4-A0325A5E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EE17-0C73-458E-92C5-99753928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1CF6-FD61-4294-8112-2DD26A96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A006-F8BF-4207-A281-5F5EE77D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C9C9-831A-4BD1-84EA-0E4EB6B0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B416-0095-410F-B5C1-EB910F25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06EF-8505-408C-A511-A27EB861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B6D3-CCEE-4D45-AFDE-E4634636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EFF-9B2B-4594-80BF-855C1D6A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56A0-96A8-4F3F-B653-FC9B5A8A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FE21-48B0-4B12-A360-C6126A1B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DF3F-2733-4B89-A699-88F77AC2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05D8-9322-4217-A64A-C6376A73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60EB-AE75-4273-A4BD-B5F6F379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EBC0-4C45-40E4-B2BD-E96F34F4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C7AD-4359-49F8-B5E9-F5D3F43A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F78B-84EA-4E84-9EDC-E07504F3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F46E-3CE6-476A-ABAA-740E78EF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183B-6F53-445E-9B4C-3858FE17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00D-290A-486B-B16D-8F5C1B02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55B6-0AFC-4BA4-A1AE-B0956FBB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1DCC-9423-49A6-944B-DA5178C3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BEA0-E4A7-4123-9D8C-9366693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80A2-1D94-4750-B873-99B66D34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422E-6040-41A7-95F8-7B66AA39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D1A4-A82D-4CB8-AB3E-96B060B1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797D-5800-41A5-8CAB-094960A2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DC79-85C6-4229-8C83-E1E29C1A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08E4-89E6-4491-94DC-7815601B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7EE30-D8CF-42A6-8EB4-4369CB21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1BE-A79F-4B1F-957E-FFF90E45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5EC5-7C7F-46CD-A164-B7DAF44E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810D6-FDCF-4B84-B626-AADC977D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85A1-B859-4C74-A218-5039C086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693F-2293-4414-ACED-E1310447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16A8-FBF2-4D43-BF9F-D6DE226B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5972A-EA97-4296-BCAD-E606B1C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1FCB-51E4-449D-858E-7AE5BA2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19E7-D34A-44FF-8201-CF2AF355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CB24D-5B08-4470-B7EB-BBC47DF4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BC5E8-C988-4D43-A866-C3A6C4AE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270-394C-4E02-8AEA-44079C13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240C-9A03-4B84-AB3D-9F5ABE99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8BBB-247B-4799-BC36-BDBA2B8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2E54-E9B9-4E3C-90DC-FA135B92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35F18-D377-4C3E-9C5C-A5A63966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37D00-DA1A-421E-852F-7608F561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8B06A-B5E6-4101-A20B-2432B447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898E9-73BF-43A4-8DCE-D35DC9C9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105CB-C46D-440C-A607-A4EE08A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392FA-0C4C-4CAE-A65B-087A591E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CF90-435B-4870-91D1-E4E2E30E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152-0CC8-4EE7-BA5A-95354D8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5C4BE-7024-4574-A194-876F702E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AFC-D2FC-4DF6-86DC-E02B7909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E39-525C-4397-88FA-6244429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248-673E-4785-AED5-C37374C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9E60-388F-4C4F-9BB6-6373F0649B1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5187-4B23-41C6-83D4-D98013A48B9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0B7B-6BDE-45A0-8792-BE7FB835E41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C3B2-EAB7-401B-B689-06EABD97B26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5AA-B616-4C4A-AB1C-FA383007F9A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Содержимое 3" descr=""/>
          <p:cNvPicPr/>
          <p:nvPr/>
        </p:nvPicPr>
        <p:blipFill>
          <a:blip r:embed="rId1"/>
          <a:stretch/>
        </p:blipFill>
        <p:spPr>
          <a:xfrm>
            <a:off x="2895480" y="426960"/>
            <a:ext cx="65469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63680" y="378000"/>
            <a:ext cx="7248240" cy="1176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142920" y="1857240"/>
            <a:ext cx="5437080" cy="2571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5580000" y="1700280"/>
            <a:ext cx="2521080" cy="27842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1042920" y="4869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по пласти;                   б – по кром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5219640" y="458136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жим шипового соеди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скле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684360" y="1916280"/>
            <a:ext cx="7489800" cy="32860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1928880" y="542916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б – стамеской; в - напиль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539640" y="333360"/>
          <a:ext cx="7561440" cy="588636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следовательность технологических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Инструменты, оборудование,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Подобрать заготовки и отпилить в 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олярный верстак, карандаш, линейка, ножовка, за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11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Подписать цифры на заготов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ранда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 Разметить проушины на длинных заготов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рандаш, угольник, лине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13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Разметить шипы на коротких заготов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рандаш, угольник, лине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2" descr=""/>
          <p:cNvPicPr/>
          <p:nvPr/>
        </p:nvPicPr>
        <p:blipFill>
          <a:blip r:embed="rId1"/>
          <a:srcRect l="40839" t="55211" r="29845" b="25054"/>
          <a:stretch/>
        </p:blipFill>
        <p:spPr>
          <a:xfrm>
            <a:off x="3867120" y="1428840"/>
            <a:ext cx="1419120" cy="1143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rcRect l="43599" t="77975" r="33127" b="1710"/>
          <a:stretch/>
        </p:blipFill>
        <p:spPr>
          <a:xfrm>
            <a:off x="4071960" y="2786040"/>
            <a:ext cx="900000" cy="941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3"/>
          <a:srcRect l="40863" t="8105" r="32879" b="76214"/>
          <a:stretch/>
        </p:blipFill>
        <p:spPr>
          <a:xfrm>
            <a:off x="3851280" y="3860640"/>
            <a:ext cx="1209600" cy="928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4"/>
          <a:srcRect l="41398" t="28665" r="31824" b="55659"/>
          <a:stretch/>
        </p:blipFill>
        <p:spPr>
          <a:xfrm>
            <a:off x="3851280" y="4797360"/>
            <a:ext cx="132732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468360" y="357120"/>
          <a:ext cx="7632720" cy="6237360"/>
        </p:xfrm>
        <a:graphic>
          <a:graphicData uri="http://schemas.openxmlformats.org/drawingml/2006/table">
            <a:tbl>
              <a:tblPr/>
              <a:tblGrid>
                <a:gridCol w="2544840"/>
                <a:gridCol w="2543040"/>
                <a:gridCol w="254484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. Запилить проу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толярный верстак, нож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 Запилить шипы и отпилить «щеч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олярный верстак, нож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 Выдолбить проу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олярный верстак, струбцины, долото, киянка, подкладная до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 Подогнать и зачистить шиповое соеди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олярный верстак, стамеска, напи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19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. Предварительно собрать каркас в «сухую» без кл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иянка, бруски, 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</a:tbl>
          </a:graphicData>
        </a:graphic>
      </p:graphicFrame>
      <p:pic>
        <p:nvPicPr>
          <p:cNvPr id="274" name="Picture 2" descr=""/>
          <p:cNvPicPr/>
          <p:nvPr/>
        </p:nvPicPr>
        <p:blipFill>
          <a:blip r:embed="rId1"/>
          <a:srcRect l="42784" t="48675" r="35139" b="36729"/>
          <a:stretch/>
        </p:blipFill>
        <p:spPr>
          <a:xfrm>
            <a:off x="3857760" y="500040"/>
            <a:ext cx="1092240" cy="928800"/>
          </a:xfrm>
          <a:prstGeom prst="rect">
            <a:avLst/>
          </a:prstGeom>
          <a:ln w="0">
            <a:noFill/>
          </a:ln>
        </p:spPr>
      </p:pic>
      <p:sp>
        <p:nvSpPr>
          <p:cNvPr id="275" name="Дуга 6"/>
          <p:cNvSpPr/>
          <p:nvPr/>
        </p:nvSpPr>
        <p:spPr>
          <a:xfrm>
            <a:off x="3429000" y="1714680"/>
            <a:ext cx="1428840" cy="214200"/>
          </a:xfrm>
          <a:custGeom>
            <a:avLst/>
            <a:gdLst>
              <a:gd name="textAreaLeft" fmla="*/ 714600 w 1428840"/>
              <a:gd name="textAreaRight" fmla="*/ 1429200 w 1428840"/>
              <a:gd name="textAreaTop" fmla="*/ 0 h 214200"/>
              <a:gd name="textAreaBottom" fmla="*/ 107280 h 214200"/>
            </a:gdLst>
            <a:ahLst/>
            <a:rect l="textAreaLeft" t="textAreaTop" r="textAreaRight" b="textAreaBottom"/>
            <a:pathLst>
              <a:path stroke="0" w="1428750" h="214313">
                <a:moveTo>
                  <a:pt x="714375" y="0"/>
                </a:moveTo>
                <a:lnTo>
                  <a:pt x="714375" y="0"/>
                </a:lnTo>
                <a:arcTo wR="714375" hR="107157" stAng="-5400000" swAng="5400010"/>
                <a:lnTo>
                  <a:pt x="714375" y="107157"/>
                </a:lnTo>
                <a:close/>
              </a:path>
              <a:path fill="none" w="1428750" h="214313">
                <a:moveTo>
                  <a:pt x="714375" y="0"/>
                </a:moveTo>
                <a:lnTo>
                  <a:pt x="714375" y="0"/>
                </a:lnTo>
                <a:arcTo wR="714375" hR="107157" stAng="-5400000" swAng="5400010"/>
              </a:path>
            </a:pathLst>
          </a:custGeom>
          <a:noFill/>
          <a:ln w="11520">
            <a:solidFill>
              <a:srgbClr val="b83d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2"/>
          <a:srcRect l="66121" t="37572" r="1560" b="43823"/>
          <a:stretch/>
        </p:blipFill>
        <p:spPr>
          <a:xfrm>
            <a:off x="3429000" y="1643040"/>
            <a:ext cx="1754280" cy="785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rcRect l="8023" t="36443" r="59711" b="46212"/>
          <a:stretch/>
        </p:blipFill>
        <p:spPr>
          <a:xfrm>
            <a:off x="3429000" y="2571840"/>
            <a:ext cx="2116080" cy="877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4"/>
          <a:srcRect l="45347" t="52610" r="34879" b="35744"/>
          <a:stretch/>
        </p:blipFill>
        <p:spPr>
          <a:xfrm>
            <a:off x="3929040" y="3500280"/>
            <a:ext cx="1214640" cy="927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5"/>
          <a:srcRect l="40838" t="76712" r="31934" b="1877"/>
          <a:stretch/>
        </p:blipFill>
        <p:spPr>
          <a:xfrm>
            <a:off x="3857760" y="4643280"/>
            <a:ext cx="1571400" cy="160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428760" y="357120"/>
          <a:ext cx="7672320" cy="6073920"/>
        </p:xfrm>
        <a:graphic>
          <a:graphicData uri="http://schemas.openxmlformats.org/drawingml/2006/table">
            <a:tbl>
              <a:tblPr/>
              <a:tblGrid>
                <a:gridCol w="2557440"/>
                <a:gridCol w="2557440"/>
                <a:gridCol w="2557440"/>
              </a:tblGrid>
              <a:tr h="12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.Выполнить оборку  каркаса с помощью кл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иянка, бруски, угольник, клей ПВА, тряпочка, струбц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 Начисто обработать боковые стороны склеенного карк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олярный верстак, руба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. Начисто обработать кромки склеенного карк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олярный верстак, руба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 Начисто обработать готовое издел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. Отпилить по размеру дно ящ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 Прибить 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пильник, шлифовальная шку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ВП, нож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возди, моло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2" descr=""/>
          <p:cNvPicPr/>
          <p:nvPr/>
        </p:nvPicPr>
        <p:blipFill>
          <a:blip r:embed="rId1"/>
          <a:srcRect l="40529" t="9936" r="30760" b="73765"/>
          <a:stretch/>
        </p:blipFill>
        <p:spPr>
          <a:xfrm>
            <a:off x="3857760" y="428760"/>
            <a:ext cx="1463400" cy="1071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rcRect l="40529" t="33529" r="31100" b="53881"/>
          <a:stretch/>
        </p:blipFill>
        <p:spPr>
          <a:xfrm>
            <a:off x="3786120" y="1785960"/>
            <a:ext cx="1668600" cy="955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3"/>
          <a:srcRect l="43267" t="63091" r="34178" b="26979"/>
          <a:stretch/>
        </p:blipFill>
        <p:spPr>
          <a:xfrm>
            <a:off x="3759120" y="2928960"/>
            <a:ext cx="1762200" cy="1000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4"/>
          <a:srcRect l="45323" t="76741" r="37595" b="3246"/>
          <a:stretch/>
        </p:blipFill>
        <p:spPr>
          <a:xfrm>
            <a:off x="4000680" y="4214880"/>
            <a:ext cx="107136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468440" y="-103320"/>
            <a:ext cx="8474040" cy="130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76720" y="1341360"/>
            <a:ext cx="3816360" cy="2158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rcRect l="0" t="0" r="0" b="9135"/>
          <a:stretch/>
        </p:blipFill>
        <p:spPr>
          <a:xfrm>
            <a:off x="7236000" y="1628640"/>
            <a:ext cx="1595160" cy="2952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4"/>
          <a:stretch/>
        </p:blipFill>
        <p:spPr>
          <a:xfrm>
            <a:off x="3276720" y="3645000"/>
            <a:ext cx="3816360" cy="22669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250920" y="1197000"/>
            <a:ext cx="273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шип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единен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х 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угловое концев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 – уг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един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– угловое ящично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–  проуши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– ши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– гнез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6"/>
          <p:cNvSpPr/>
          <p:nvPr/>
        </p:nvSpPr>
        <p:spPr>
          <a:xfrm rot="2028600">
            <a:off x="2039400" y="3182760"/>
            <a:ext cx="451080" cy="1584360"/>
          </a:xfrm>
          <a:prstGeom prst="upArrow">
            <a:avLst>
              <a:gd name="adj1" fmla="val 50000"/>
              <a:gd name="adj2" fmla="val 8780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826920" y="4941720"/>
            <a:ext cx="36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Шип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 выступ на торце заготовки, соответствует размерам и профилю проушины или гнезда соединяемой за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 rot="19306800">
            <a:off x="5931000" y="3042720"/>
            <a:ext cx="412560" cy="1741680"/>
          </a:xfrm>
          <a:prstGeom prst="upArrow">
            <a:avLst>
              <a:gd name="adj1" fmla="val 50000"/>
              <a:gd name="adj2" fmla="val 99424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148360" y="4941720"/>
            <a:ext cx="2879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ушин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 гнездо на торце заготовки, открытое с двух или трех сто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" descr="tenoning-1"/>
          <p:cNvPicPr/>
          <p:nvPr/>
        </p:nvPicPr>
        <p:blipFill>
          <a:blip r:embed="rId1"/>
          <a:stretch/>
        </p:blipFill>
        <p:spPr>
          <a:xfrm>
            <a:off x="2268360" y="1336680"/>
            <a:ext cx="3746520" cy="1901880"/>
          </a:xfrm>
          <a:prstGeom prst="rect">
            <a:avLst/>
          </a:prstGeom>
          <a:ln w="0">
            <a:noFill/>
          </a:ln>
        </p:spPr>
      </p:pic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536400" y="311040"/>
            <a:ext cx="7248600" cy="12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Одинарный шип"/>
          <p:cNvPicPr/>
          <p:nvPr/>
        </p:nvPicPr>
        <p:blipFill>
          <a:blip r:embed="rId1"/>
          <a:stretch/>
        </p:blipFill>
        <p:spPr>
          <a:xfrm>
            <a:off x="1835280" y="126828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4211640" y="1557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уски толщиной до 40 мм чаще всего соединяют одинарным ши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tenoning-1"/>
          <p:cNvPicPr/>
          <p:nvPr/>
        </p:nvPicPr>
        <p:blipFill>
          <a:blip r:embed="rId2"/>
          <a:stretch/>
        </p:blipFill>
        <p:spPr>
          <a:xfrm>
            <a:off x="1763640" y="3357720"/>
            <a:ext cx="2305080" cy="1295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3"/>
          <p:cNvSpPr/>
          <p:nvPr/>
        </p:nvSpPr>
        <p:spPr>
          <a:xfrm>
            <a:off x="4356000" y="342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уски толщиной 40…80 мм -двойным или тройным ши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5" descr="тройной"/>
          <p:cNvPicPr/>
          <p:nvPr/>
        </p:nvPicPr>
        <p:blipFill>
          <a:blip r:embed="rId3"/>
          <a:stretch/>
        </p:blipFill>
        <p:spPr>
          <a:xfrm>
            <a:off x="1619280" y="4724280"/>
            <a:ext cx="2665440" cy="18464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6"/>
          <p:cNvSpPr/>
          <p:nvPr/>
        </p:nvSpPr>
        <p:spPr>
          <a:xfrm>
            <a:off x="4500720" y="5013360"/>
            <a:ext cx="39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ыше 80 мм- тройным многократным ши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Заголовок 1" descr=""/>
          <p:cNvPicPr/>
          <p:nvPr/>
        </p:nvPicPr>
        <p:blipFill>
          <a:blip r:embed="rId4"/>
          <a:stretch/>
        </p:blipFill>
        <p:spPr>
          <a:xfrm>
            <a:off x="536400" y="122400"/>
            <a:ext cx="7248600" cy="1285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63680" y="-66600"/>
            <a:ext cx="7248240" cy="1693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>
            <a:lum bright="12000"/>
          </a:blip>
          <a:srcRect l="1102" t="1894" r="0" b="0"/>
          <a:stretch/>
        </p:blipFill>
        <p:spPr>
          <a:xfrm>
            <a:off x="1285920" y="1714680"/>
            <a:ext cx="6424560" cy="37144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1071720" y="542916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поперечная разметка; б – продольная разметка; в – пометка удаляемых частей заготовки; г – продольное выпиливание шипа и проушины; д – поперечное выпиливание ши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42920" y="1500120"/>
            <a:ext cx="7958160" cy="38433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57168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лучковая; б – ножовка широкая; в – ножовка узкая; г – обушковая; д – наградка; 1 – полотно; 2 – стойка; 3 – поперечина; 4 – тетива; 5 – закрутка; 6 – ручка; 7 - зуб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63680" y="6480"/>
            <a:ext cx="7248240" cy="1693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>
            <a:lum bright="20000"/>
          </a:blip>
          <a:srcRect l="3687" t="1748" r="0" b="0"/>
          <a:stretch/>
        </p:blipFill>
        <p:spPr>
          <a:xfrm>
            <a:off x="395280" y="1916280"/>
            <a:ext cx="7705800" cy="4190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1258920" y="60930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запиливание; б – окончательное запи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57160" y="1643040"/>
            <a:ext cx="6946920" cy="39844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1143000" y="592920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долото;                                            б - стам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928800" y="1500120"/>
            <a:ext cx="7062840" cy="4000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928800" y="57862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поперечное надрубание дна; б- наклонное вырубание; в – углубление дна; г – долбление с противоположной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6:04:40Z</dcterms:created>
  <dc:creator>Bill Gates</dc:creator>
  <dc:description/>
  <dc:language>en-US</dc:language>
  <cp:lastModifiedBy>30</cp:lastModifiedBy>
  <dcterms:modified xsi:type="dcterms:W3CDTF">2013-11-18T20:48:57Z</dcterms:modified>
  <cp:revision>30</cp:revision>
  <dc:subject/>
  <dc:title>Шиповые столярные соединения</dc:title>
</cp:coreProperties>
</file>