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B57C-3982-48A9-9269-F2489021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EA7C-FDFE-46CD-86A5-7139CB17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0880-1F05-41BA-B0A9-6697E960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EFB-F68E-4CB3-9F80-CD1F6711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DA30-C6E2-4F74-A6F4-5DC45AAE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217A-D277-4713-B194-155F840A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509A-1869-4BFB-8D7A-0A7706C0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D3A-D31B-4196-843D-FB6A4E82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893-FF40-48CC-B7E2-3B9E1918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C849-3C9C-49CD-94F4-2A3EC95D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C4688-15C5-4CC9-A7FC-46283191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0CA-428E-431E-B3DE-1B2E245A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73D-C953-4023-9884-C75AC421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AC1E-1D2B-41D2-837B-1204099F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D16D-1DD5-4E6E-BD2D-29C4899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E390-CF44-4DB8-B127-AB1B1EA3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231A-4EFE-48F5-92BC-4B66B846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3BF-C8D1-476E-ABAC-1289610E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A51-3D41-435E-AD83-1A0BFC2EC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C01B-927C-4AC0-BD50-30D54C75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F46-9841-456C-A324-D9B0A6F7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243-ECA3-4C7C-971C-1979264F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DE7-E502-463A-82EB-74A31AE7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968D-C32C-45E7-9E77-08A9AACB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81DF-9C14-4444-B0C6-07635A2B919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CFBE-2FED-4866-85E7-3365B193B45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Р Е Ж И М   Д Н Я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 Ш К О Л Ь Н И К 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81024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howcard Gothic"/>
              </a:rPr>
              <a:t>Приготовление уро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важно умн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уроки все учи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деле не ленит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на славу потрудите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05720" y="4910040"/>
            <a:ext cx="220968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3162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lackadder ITC"/>
              </a:rPr>
              <a:t>Ужин и свободные занятия (творческая деятельность, помощь по дому, чтение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жин не переедай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ебе разгрузку дай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учше книгу по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ли маме помог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81908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20559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Script MT Bold"/>
              </a:rPr>
              <a:t>Приготовление ко сну (уход за одеждой, обувью, вечерний туалет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жно с вечера на зав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Приготовить все, друж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, а перед сном умыть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Чтобы сон пришел в свой сро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869840" cy="188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0163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Н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чью надо крепко 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ром рано вновь встав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2149560"/>
            <a:ext cx="28908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КОМЕНД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учи себя просыпаться и вставать каждый ден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яй каждое утро за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еди за чистотой тела, волос, ногтей и полостью р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айся ест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едуй умственную и физическую дея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47824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tencil"/>
              </a:rPr>
              <a:t>Подъе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 школу не про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ужно вам пораньше вс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ш будильник зазвен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 подъеме сообщ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20797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Утренняя гимнастика,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водные процеду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зарядку станови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утрам вы не лени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и мышцы размина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здоровье поправля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ывайтесь, закаляй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отенцем обтирай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809720" cy="165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180324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Rockwell Extra Bold"/>
              </a:rPr>
              <a:t>Завтра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трак должен быть полез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работали моз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еди вас ждут урок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стро в школу ты бег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2316240"/>
            <a:ext cx="36576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Дорога в школу (прогулк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колу весело спеши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ежим воздухом дыши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мыслями вы собирайте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ть активными старайте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64080" y="1981080"/>
            <a:ext cx="259560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18586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Script MT Bold"/>
              </a:rPr>
              <a:t>Занятия в шко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звенел звонок весел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ались уроки в шк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ожешь много ты узн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успешным в жизни ст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"/>
              </a:rPr>
              <a:t>Дорога из школы (прогулка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Вот закончились ур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начит, можно отдохн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Если в школе не ленил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аслужили этот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920960" cy="171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333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nap ITC"/>
              </a:rPr>
              <a:t>Обе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чень важен вам об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н избавит вас от 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рганизм ваш подкреп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И не страшен вам гастр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2122560"/>
            <a:ext cx="2903400" cy="197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54720" y="4200480"/>
            <a:ext cx="212400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Rage Italic"/>
              </a:rPr>
              <a:t>Отдых, пребывание на воздухе (прогулка, игры), физические упражн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дохните, только с польз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 так много для ду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кции, кружки и клу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одростков хоро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71784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27636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eb</cp:lastModifiedBy>
  <dcterms:modified xsi:type="dcterms:W3CDTF">2012-09-15T11:28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