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3.jpeg" ContentType="image/jpeg"/>
  <Override PartName="/ppt/media/image25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6D2E-0770-43BA-9E64-3B283E64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F6DD-97D3-4B4D-9D6B-B1346D7B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F636-FCB8-46AF-900B-A30612350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5E4B-C3CD-4DBF-BF13-3DBD0D35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5503-54C8-4BAA-BC1C-3B9C72301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E193-D933-4DC1-BD5C-E11FEB63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F371-757D-4605-9C84-12730A74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B749-E753-4427-8CBF-3C266CD2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8C3A-3ACC-48E2-886F-04DEBF30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6E95-0AFD-4CB5-938A-1336BA4F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C03B-4D4E-4315-98D4-8E50E12F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4007-11E7-4AC0-847E-2760421A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6A85-6AE8-4B0F-8372-6BAE541D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E6B6-766D-4FF7-961F-3315ECBC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5B58-BDAF-4928-905E-EFE96E23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B9E2-D018-4A91-BBA9-E498AF78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36F6-219D-476F-BBC1-972A4E060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B15D-1AB6-47A7-99A9-356FCA80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1DCA-481B-4AF0-B22D-950D2BFE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C617-2A23-45F5-8F47-CA8EAFF3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7EC1-FFAD-45FF-A168-25A5328F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614A-35F8-4BC5-A176-1FB5DE6B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08C5-865E-4DA8-BCEA-81B5BEAF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3557-DF4C-471A-A7BF-BCF03387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E068-0CFE-46ED-B7D6-59567176D09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506C-BB3C-46D1-B741-57331165E40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Tahoma"/>
              </a:rPr>
              <a:t>Р Е Ж И М   Д Н Я</a:t>
            </a:r>
            <a:br>
              <a:rPr sz="4400"/>
            </a:br>
            <a:r>
              <a:rPr b="1" i="1" lang="en-US" sz="4400" spc="-1" strike="noStrike">
                <a:solidFill>
                  <a:srgbClr val="ff3300"/>
                </a:solidFill>
                <a:latin typeface="Tahoma"/>
              </a:rPr>
              <a:t> Ш К О Л Ь Н И К 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666880" y="3657600"/>
            <a:ext cx="3810240" cy="2835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Showcard Gothic"/>
              </a:rPr>
              <a:t>Приготовление уроков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чень важно умным бы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уроки все учит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этом деле не ленитес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на славу потрудитес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705720" y="4910040"/>
            <a:ext cx="2209680" cy="1455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231624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Blackadder ITC"/>
              </a:rPr>
              <a:t>Ужин и свободные занятия (творческая деятельность, помощь по дому, чтение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ужин не переедайт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себе разгрузку дайт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учше книгу почит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ли маме помогат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934320" y="2438280"/>
            <a:ext cx="1819080" cy="1874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952880" y="4114800"/>
            <a:ext cx="2055960" cy="2421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Script MT Bold"/>
              </a:rPr>
              <a:t>Приготовление ко сну (уход за одеждой, обувью, вечерний туалет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Garde Bk BT"/>
              </a:rPr>
              <a:t>Нужно с вечера на завт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Garde Bk BT"/>
              </a:rPr>
              <a:t>Приготовить все, дружок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Garde Bk BT"/>
              </a:rPr>
              <a:t>Ну, а перед сном умытьс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Garde Bk BT"/>
              </a:rPr>
              <a:t>Чтобы сон пришел в свой срок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705720" y="2057400"/>
            <a:ext cx="1869840" cy="1889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01636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СОН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очью надо крепко спа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тром рано вновь встават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066680" y="2149560"/>
            <a:ext cx="2890800" cy="2955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РЕКОМЕНДАЦИ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учи себя просыпаться и вставать каждый день в одно и то же врем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ыполняй каждое утро зарядк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леди за чистотой тела, волос, ногтей и полостью рт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арайся есть в одно и то же врем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ередуй умственную и физическую деятель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СПАСИБО ЗА ВНИМА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1827360" cy="1827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324480" y="3733920"/>
            <a:ext cx="2478240" cy="2530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Stencil"/>
              </a:rPr>
              <a:t>Подъем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705720" y="205740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487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бы в школу не проспа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ужно вам пораньше вст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аш будильник зазвени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 подъеме сообщит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657600" y="4572000"/>
            <a:ext cx="207972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Shruti"/>
              </a:rPr>
              <a:t>Утренняя гимнастика,</a:t>
            </a:r>
            <a:br>
              <a:rPr sz="3200"/>
            </a:br>
            <a:r>
              <a:rPr b="1" lang="en-US" sz="3200" spc="-1" strike="noStrike">
                <a:solidFill>
                  <a:srgbClr val="99cc00"/>
                </a:solidFill>
                <a:latin typeface="Shruti"/>
              </a:rPr>
              <a:t>водные процедуры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зарядку становитес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 утрам вы не ленитес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вои мышцы разминай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здоровье поправляйт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мывайтесь, закаляйтес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лотенцем обтирайтес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705720" y="1981080"/>
            <a:ext cx="1809720" cy="1654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705720" y="4724280"/>
            <a:ext cx="1803240" cy="1803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Rockwell Extra Bold"/>
              </a:rPr>
              <a:t>Завтрак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втрак должен быть полезен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б работали мозг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переди вас ждут уроки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ыстро в школу ты беги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876920" y="2316240"/>
            <a:ext cx="3657600" cy="3340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ahoma"/>
              </a:rPr>
              <a:t>Дорога в школу (прогулка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школу весело спешит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вежим воздухом дышит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 мыслями вы собирайтес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ыть активными старайтес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464080" y="1981080"/>
            <a:ext cx="2595600" cy="1981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019920" y="4267080"/>
            <a:ext cx="185868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Script MT Bold"/>
              </a:rPr>
              <a:t>Занятия в школ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звенел звонок веселы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чались уроки в шко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можешь много ты узна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б успешным в жизни стат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58000" y="19810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952880" y="3581280"/>
            <a:ext cx="20574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comic"/>
              </a:rPr>
              <a:t>Дорога из школы (прогулка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lfaen"/>
              </a:rPr>
              <a:t>Вот закончились урок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lfaen"/>
              </a:rPr>
              <a:t>Значит, можно отдохну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lfaen"/>
              </a:rPr>
              <a:t>Если в школе не ленилис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lfaen"/>
              </a:rPr>
              <a:t>Заслужили этот пут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58000" y="1523880"/>
            <a:ext cx="1920960" cy="1710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629400" y="4038480"/>
            <a:ext cx="233352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Snap ITC"/>
              </a:rPr>
              <a:t>Обед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Snap ITC"/>
              </a:rPr>
              <a:t>Очень важен вам обед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Snap ITC"/>
              </a:rPr>
              <a:t>Он избавит вас от бед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Snap ITC"/>
              </a:rPr>
              <a:t>Организм ваш подкрепи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Snap ITC"/>
              </a:rPr>
              <a:t>И не страшен вам гастрит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105520" y="2122560"/>
            <a:ext cx="2903400" cy="1976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454720" y="4200480"/>
            <a:ext cx="2124000" cy="2352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Rage Italic"/>
              </a:rPr>
              <a:t>Отдых, пребывание на воздухе (прогулка, игры), физические упражнения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тдохните, только с пользо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ел так много для души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екции, кружки и клуб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ля подростков хороши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696080" y="3886200"/>
            <a:ext cx="717840" cy="2362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2286000"/>
            <a:ext cx="3276360" cy="207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leb</cp:lastModifiedBy>
  <dcterms:modified xsi:type="dcterms:W3CDTF">2012-09-15T11:28:2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