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149-0133-4BBB-8E70-3422E9A3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52C-6945-4D96-9E37-AFE05ED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5A7-6554-433D-8245-D4013AE7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977-2422-4519-ABA7-56B6DE0D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8D3-7FA6-4DE6-B2F9-EE6D686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3B9D-C625-40E8-B1B0-42D03A7D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4DB3-03C8-403F-A16D-964542BB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8F8-30A0-48A9-B9B0-84488722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8BED-C80E-410A-9EA6-5F0FC7C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B0F7-7F3A-4E59-9080-3DC9D818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C222-C5A8-4940-BFF3-E5EB99B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27C-98BD-4DDC-9959-ACF2D3D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01A-C6D9-4BD1-86EE-E48CE6E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21C-B5B5-41AD-92AA-FC6AC91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0A65-0A3F-4927-A424-87AD8A8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3FA7-00C4-45D1-96C0-3534AAF1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752-F478-47B9-91F5-D4EE7202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EE3-0ABD-4F0A-A73C-6A63834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726-1D05-422B-8737-4B8A7934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582-6C79-494F-8522-2A9D4517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EDA-2C21-46D3-A37D-052D521A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C11-8F67-464C-809A-718F3D9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01A-BFBB-4ACA-BF69-40A4132C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24F-D691-4C02-A24C-C60D99FB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7CEE-42EB-4E71-B181-F6529B20D79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F45C-4214-474C-BC49-2DEE3ACC82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Р Е Ж И М   Д Н Я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 Ш К О Л Ь Н И К 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81024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howcard Gothic"/>
              </a:rPr>
              <a:t>Приготовление уро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важно умн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уроки все учи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деле не ленит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на славу потрудите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05720" y="4910040"/>
            <a:ext cx="220968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3162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lackadder ITC"/>
              </a:rPr>
              <a:t>Ужин и свободные занятия (творческая деятельность, помощь по дому, чтение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жин не переедай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ебе разгрузку дай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учше книгу по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ли маме помог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81908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20559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Script MT Bold"/>
              </a:rPr>
              <a:t>Приготовление ко сну (уход за одеждой, обувью, вечерний туалет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жно с вечера на зав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Приготовить все, друж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, а перед сном умыть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Чтобы сон пришел в свой сро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869840" cy="188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0163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Н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чью надо крепко 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ром рано вновь встав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2149560"/>
            <a:ext cx="28908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КОМЕНД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учи себя просыпаться и вставать каждый ден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яй каждое утро за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еди за чистотой тела, волос, ногтей и полостью р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айся ест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едуй умственную и физическую дея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47824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tencil"/>
              </a:rPr>
              <a:t>Подъе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 школу не про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ужно вам пораньше вс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ш будильник зазвен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 подъеме сообщ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20797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Утренняя гимнастика,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водные процеду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зарядку станови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утрам вы не лени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и мышцы размина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здоровье поправля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ывайтесь, закаляй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отенцем обтирай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809720" cy="165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180324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Rockwell Extra Bold"/>
              </a:rPr>
              <a:t>Завтра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трак должен быть полез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работали моз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еди вас ждут урок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стро в школу ты бег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2316240"/>
            <a:ext cx="36576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Дорога в школу (прогулк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колу весело спеши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ежим воздухом дыши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мыслями вы собирайте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ть активными старайте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64080" y="1981080"/>
            <a:ext cx="259560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18586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Script MT Bold"/>
              </a:rPr>
              <a:t>Занятия в шко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звенел звонок весел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ались уроки в шк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ожешь много ты узн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успешным в жизни ст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"/>
              </a:rPr>
              <a:t>Дорога из школы (прогулка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Вот закончились ур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начит, можно отдохн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Если в школе не ленил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аслужили этот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920960" cy="171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333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nap ITC"/>
              </a:rPr>
              <a:t>Обе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чень важен вам об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н избавит вас от 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рганизм ваш подкреп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И не страшен вам гастр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2122560"/>
            <a:ext cx="2903400" cy="197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54720" y="4200480"/>
            <a:ext cx="212400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Rage Italic"/>
              </a:rPr>
              <a:t>Отдых, пребывание на воздухе (прогулка, игры), физические упражн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дохните, только с польз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 так много для ду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кции, кружки и клу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одростков хоро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71784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27636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eb</cp:lastModifiedBy>
  <dcterms:modified xsi:type="dcterms:W3CDTF">2012-09-15T11:28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