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3.jpeg" ContentType="image/jpeg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04E-7D97-45DF-8A82-9B0BC7E3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089-7949-498D-B0C2-EC1ED38F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D3A-D586-4820-B159-FEBD9279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8D6-2E31-4B14-A070-5AF0ABCE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9D3AC-194E-49DA-AC76-B7C43F18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7E0A-C292-4ED2-86DD-9AD4C0E3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7428-F212-455D-8591-F68FAC90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C3C66-119A-4691-9EF3-0DEB45E8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C716-F571-4ECE-BAF6-78E6B80ED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1C0E-DF3C-43BA-92A2-095C1862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8432-1231-4968-9834-77C2FE8C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944-3B26-4685-AD44-D7695F9C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BA85A-9032-4D0C-B3C1-9E1B2096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BFDC-116E-480E-9243-8F1F6A0D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B13C-FE86-4343-AB1E-5FEDCB52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7760-2BDC-48E3-8BE0-D963233BB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6ACE-7A3C-4606-8384-830F46365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309-7729-4FAD-9BD2-01FEDDC8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9B1-0EC4-4F04-B9EE-1B02BFD4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B88A-B4F0-44DC-B225-FEC486B12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2893-8F91-4887-A4C1-A88669A0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5613-5056-4891-81EB-97FC16CF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5522-ACE2-4FE8-BEA1-C306AF51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7A47-0B2F-42F0-B274-BBB2F562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5DBD-0EEC-4585-8BAC-50D68178067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3979-6501-4D7F-9467-808A7BD1DB4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Р Е Ж И М   Д Н Я</a:t>
            </a:r>
            <a:br>
              <a:rPr sz="4400"/>
            </a:b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 Ш К О Л Ь Н И К 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66880" y="3657600"/>
            <a:ext cx="3810240" cy="2835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Showcard Gothic"/>
              </a:rPr>
              <a:t>Приготовление уроков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чень важно умным бы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уроки все учи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этом деле не лените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на славу потрудите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705720" y="4910040"/>
            <a:ext cx="2209680" cy="1455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2316240" cy="2895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Blackadder ITC"/>
              </a:rPr>
              <a:t>Ужин и свободные занятия (творческая деятельность, помощь по дому, чтение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ужин не переедайт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себе разгрузку дай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Лучше книгу почитат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ли маме помога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34320" y="2438280"/>
            <a:ext cx="1819080" cy="1874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952880" y="4114800"/>
            <a:ext cx="2055960" cy="2421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Script MT Bold"/>
              </a:rPr>
              <a:t>Приготовление ко сну (уход за одеждой, обувью, вечерний туалет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Нужно с вечера на завтр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Приготовить все, дружок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Ну, а перед сном умытьс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Garde Bk BT"/>
              </a:rPr>
              <a:t>Чтобы сон пришел в свой срок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1869840" cy="188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01636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ОН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очью надо крепко сп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тром рано вновь встава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66680" y="2149560"/>
            <a:ext cx="2890800" cy="2955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РЕКОМЕНДАЦИ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учи себя просыпаться и вставать каждый день в одно и то же врем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ыполняй каждое утро заряд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леди за чистотой тела, волос, ногтей и полостью р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райся есть в одно и то же врем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редуй умственную и физическую деятель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ПАСИБО ЗА ВНИМАНИ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1827360" cy="1827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24480" y="3733920"/>
            <a:ext cx="2478240" cy="2530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cc00"/>
                </a:solidFill>
                <a:latin typeface="Stencil"/>
              </a:rPr>
              <a:t>Подъем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705720" y="2057400"/>
            <a:ext cx="198108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487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ы в школу не просп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ужно вам пораньше вст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аш будильник зазвени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 подъеме сообщи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657600" y="4572000"/>
            <a:ext cx="207972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Shruti"/>
              </a:rPr>
              <a:t>Утренняя гимнастика,</a:t>
            </a:r>
            <a:br>
              <a:rPr sz="3200"/>
            </a:br>
            <a:r>
              <a:rPr b="1" lang="en-US" sz="3200" spc="-1" strike="noStrike">
                <a:solidFill>
                  <a:srgbClr val="99cc00"/>
                </a:solidFill>
                <a:latin typeface="Shruti"/>
              </a:rPr>
              <a:t>водные процедуры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998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зарядку становитес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 утрам вы не лените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вои мышцы разминай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здоровье поправляйт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мывайтесь, закаляйтес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лотенцем обтирайте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809720" cy="16542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705720" y="4724280"/>
            <a:ext cx="1803240" cy="1803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Rockwell Extra Bold"/>
              </a:rPr>
              <a:t>Завтрак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втрак должен быть полезе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работали мозг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переди вас ждут уроки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ыстро в школу ты бег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876920" y="2316240"/>
            <a:ext cx="3657600" cy="3340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ahoma"/>
              </a:rPr>
              <a:t>Дорога в школу (прогулка)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школу весело спешит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вежим воздухом дыши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мыслями вы собирайте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Быть активными старайтес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64080" y="1981080"/>
            <a:ext cx="2595600" cy="1981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019920" y="4267080"/>
            <a:ext cx="185868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Script MT Bold"/>
              </a:rPr>
              <a:t>Занятия в школе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звенел звонок веселы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чались уроки в шк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можешь много ты узн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успешным в жизни ста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858000" y="19810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52880" y="3581280"/>
            <a:ext cx="205740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comic"/>
              </a:rPr>
              <a:t>Дорога из школы (прогулка)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Вот закончились уро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Значит, можно отдохну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Если в школе не ленилис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Sylfaen"/>
              </a:rPr>
              <a:t>Заслужили этот пу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58000" y="1523880"/>
            <a:ext cx="1920960" cy="171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629400" y="4038480"/>
            <a:ext cx="2333520" cy="2438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Snap ITC"/>
              </a:rPr>
              <a:t>Обед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nap ITC"/>
              </a:rPr>
              <a:t>Очень важен вам обе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nap ITC"/>
              </a:rPr>
              <a:t>Он избавит вас от бе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nap ITC"/>
              </a:rPr>
              <a:t>Организм ваш подкрепи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Snap ITC"/>
              </a:rPr>
              <a:t>И не страшен вам гастри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05520" y="2122560"/>
            <a:ext cx="2903400" cy="1976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54720" y="4200480"/>
            <a:ext cx="2124000" cy="2352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Rage Italic"/>
              </a:rPr>
              <a:t>Отдых, пребывание на воздухе (прогулка, игры), физические упражнения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дохните, только с польз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ел так много для душ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екции, кружки и клуб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ля подростков хороши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96080" y="3886200"/>
            <a:ext cx="717840" cy="2362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2286000"/>
            <a:ext cx="3276360" cy="207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leb</cp:lastModifiedBy>
  <dcterms:modified xsi:type="dcterms:W3CDTF">2012-09-15T11:28:2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