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C28D-334D-43B1-8F5A-3F2BEFEE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D49A-BCFA-4FAF-AF33-81DD625F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C51-C9E7-4D26-A4A0-0399DE62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E6A-D057-4CAA-B4DE-C0EC64B0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ED1-1F22-4D38-B706-9D2A4B8C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39F-5550-413D-A4DA-11C44C2D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768-7857-4001-955E-0F35153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811-D77E-4737-A2F3-250DE1B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EB65-EB47-49BE-980E-5983023B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DD19-F166-4CD7-8642-5DA5E8F9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F52-0040-4B58-8AC7-C5CBABE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DF3-5FF5-4DBD-9B1D-5268F017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30080" y="588600"/>
            <a:ext cx="859824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30080" y="4582080"/>
            <a:ext cx="8598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6120" y="210024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3008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36120" y="4582080"/>
            <a:ext cx="41958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37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544440" y="210024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3008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37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544440" y="4582080"/>
            <a:ext cx="276840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334DE-65CA-4F1B-BA31-B98F77F0908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91440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39960"/>
            <a:ext cx="10077480" cy="14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1252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5922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19288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22669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60496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940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796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6194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95460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42926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46324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49705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530712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4516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59832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631980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6657840"/>
            <a:ext cx="10077480" cy="180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699768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7332840"/>
            <a:ext cx="10077480" cy="1440"/>
          </a:xfrm>
          <a:prstGeom prst="line">
            <a:avLst/>
          </a:prstGeom>
          <a:ln w="32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03280" y="1717560"/>
            <a:ext cx="293760" cy="271440"/>
            <a:chOff x="503280" y="1717560"/>
            <a:chExt cx="293760" cy="271440"/>
          </a:xfrm>
        </p:grpSpPr>
        <p:sp>
          <p:nvSpPr>
            <p:cNvPr id="428" name=""/>
            <p:cNvSpPr/>
            <p:nvPr/>
          </p:nvSpPr>
          <p:spPr>
            <a:xfrm>
              <a:off x="503280" y="1735200"/>
              <a:ext cx="276120" cy="253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0560" y="1717560"/>
              <a:ext cx="276480" cy="252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503280" y="5580000"/>
            <a:ext cx="293760" cy="271440"/>
            <a:chOff x="503280" y="5580000"/>
            <a:chExt cx="293760" cy="271440"/>
          </a:xfrm>
        </p:grpSpPr>
        <p:sp>
          <p:nvSpPr>
            <p:cNvPr id="431" name=""/>
            <p:cNvSpPr/>
            <p:nvPr/>
          </p:nvSpPr>
          <p:spPr>
            <a:xfrm>
              <a:off x="503280" y="5595840"/>
              <a:ext cx="276120" cy="255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0560" y="5580000"/>
              <a:ext cx="276480" cy="2541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179280"/>
            <a:ext cx="10069560" cy="709920"/>
            <a:chOff x="0" y="179280"/>
            <a:chExt cx="10069560" cy="709920"/>
          </a:xfrm>
        </p:grpSpPr>
        <p:sp>
          <p:nvSpPr>
            <p:cNvPr id="538" name=""/>
            <p:cNvSpPr/>
            <p:nvPr/>
          </p:nvSpPr>
          <p:spPr>
            <a:xfrm>
              <a:off x="0" y="17928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5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0" y="532440"/>
              <a:ext cx="10067760" cy="360"/>
              <a:chOff x="0" y="532440"/>
              <a:chExt cx="10067760" cy="360"/>
            </a:xfrm>
          </p:grpSpPr>
          <p:sp>
            <p:nvSpPr>
              <p:cNvPr id="541" name=""/>
              <p:cNvSpPr/>
              <p:nvPr/>
            </p:nvSpPr>
            <p:spPr>
              <a:xfrm>
                <a:off x="5433840" y="5324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5324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709920"/>
              <a:ext cx="10067760" cy="360"/>
              <a:chOff x="0" y="709920"/>
              <a:chExt cx="10067760" cy="360"/>
            </a:xfrm>
          </p:grpSpPr>
          <p:sp>
            <p:nvSpPr>
              <p:cNvPr id="544" name=""/>
              <p:cNvSpPr/>
              <p:nvPr/>
            </p:nvSpPr>
            <p:spPr>
              <a:xfrm>
                <a:off x="5433840" y="70992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70992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888840"/>
              <a:ext cx="10067760" cy="360"/>
              <a:chOff x="0" y="888840"/>
              <a:chExt cx="10067760" cy="360"/>
            </a:xfrm>
          </p:grpSpPr>
          <p:sp>
            <p:nvSpPr>
              <p:cNvPr id="547" name=""/>
              <p:cNvSpPr/>
              <p:nvPr/>
            </p:nvSpPr>
            <p:spPr>
              <a:xfrm>
                <a:off x="5433840" y="88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88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0" y="1079640"/>
            <a:ext cx="10069560" cy="709920"/>
            <a:chOff x="0" y="1079640"/>
            <a:chExt cx="10069560" cy="709920"/>
          </a:xfrm>
        </p:grpSpPr>
        <p:sp>
          <p:nvSpPr>
            <p:cNvPr id="550" name=""/>
            <p:cNvSpPr/>
            <p:nvPr/>
          </p:nvSpPr>
          <p:spPr>
            <a:xfrm>
              <a:off x="0" y="107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12582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0" y="1431360"/>
              <a:ext cx="10067760" cy="360"/>
              <a:chOff x="0" y="1431360"/>
              <a:chExt cx="10067760" cy="360"/>
            </a:xfrm>
          </p:grpSpPr>
          <p:sp>
            <p:nvSpPr>
              <p:cNvPr id="553" name=""/>
              <p:cNvSpPr/>
              <p:nvPr/>
            </p:nvSpPr>
            <p:spPr>
              <a:xfrm>
                <a:off x="5433840" y="14313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14313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1608480"/>
              <a:ext cx="10067760" cy="360"/>
              <a:chOff x="0" y="1608480"/>
              <a:chExt cx="10067760" cy="360"/>
            </a:xfrm>
          </p:grpSpPr>
          <p:sp>
            <p:nvSpPr>
              <p:cNvPr id="556" name=""/>
              <p:cNvSpPr/>
              <p:nvPr/>
            </p:nvSpPr>
            <p:spPr>
              <a:xfrm>
                <a:off x="5433840" y="160848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160848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1789200"/>
              <a:ext cx="10067760" cy="360"/>
              <a:chOff x="0" y="1789200"/>
              <a:chExt cx="10067760" cy="360"/>
            </a:xfrm>
          </p:grpSpPr>
          <p:sp>
            <p:nvSpPr>
              <p:cNvPr id="559" name=""/>
              <p:cNvSpPr/>
              <p:nvPr/>
            </p:nvSpPr>
            <p:spPr>
              <a:xfrm>
                <a:off x="5433840" y="178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178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0" y="1979640"/>
            <a:ext cx="10069560" cy="709920"/>
            <a:chOff x="0" y="1979640"/>
            <a:chExt cx="10069560" cy="709920"/>
          </a:xfrm>
        </p:grpSpPr>
        <p:sp>
          <p:nvSpPr>
            <p:cNvPr id="562" name=""/>
            <p:cNvSpPr/>
            <p:nvPr/>
          </p:nvSpPr>
          <p:spPr>
            <a:xfrm>
              <a:off x="0" y="197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216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0" y="2334600"/>
              <a:ext cx="10067760" cy="360"/>
              <a:chOff x="0" y="2334600"/>
              <a:chExt cx="10067760" cy="360"/>
            </a:xfrm>
          </p:grpSpPr>
          <p:sp>
            <p:nvSpPr>
              <p:cNvPr id="565" name=""/>
              <p:cNvSpPr/>
              <p:nvPr/>
            </p:nvSpPr>
            <p:spPr>
              <a:xfrm>
                <a:off x="5433840" y="23346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23346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0" y="2508840"/>
              <a:ext cx="10067760" cy="360"/>
              <a:chOff x="0" y="2508840"/>
              <a:chExt cx="10067760" cy="360"/>
            </a:xfrm>
          </p:grpSpPr>
          <p:sp>
            <p:nvSpPr>
              <p:cNvPr id="568" name=""/>
              <p:cNvSpPr/>
              <p:nvPr/>
            </p:nvSpPr>
            <p:spPr>
              <a:xfrm>
                <a:off x="5433840" y="250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0" y="250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0" y="2689200"/>
              <a:ext cx="10067760" cy="360"/>
              <a:chOff x="0" y="2689200"/>
              <a:chExt cx="10067760" cy="360"/>
            </a:xfrm>
          </p:grpSpPr>
          <p:sp>
            <p:nvSpPr>
              <p:cNvPr id="571" name=""/>
              <p:cNvSpPr/>
              <p:nvPr/>
            </p:nvSpPr>
            <p:spPr>
              <a:xfrm>
                <a:off x="5433840" y="268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268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0" y="2879640"/>
            <a:ext cx="10069560" cy="709920"/>
            <a:chOff x="0" y="2879640"/>
            <a:chExt cx="10069560" cy="709920"/>
          </a:xfrm>
        </p:grpSpPr>
        <p:sp>
          <p:nvSpPr>
            <p:cNvPr id="574" name=""/>
            <p:cNvSpPr/>
            <p:nvPr/>
          </p:nvSpPr>
          <p:spPr>
            <a:xfrm>
              <a:off x="0" y="287964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306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0" y="3232800"/>
              <a:ext cx="10067760" cy="360"/>
              <a:chOff x="0" y="3232800"/>
              <a:chExt cx="10067760" cy="360"/>
            </a:xfrm>
          </p:grpSpPr>
          <p:sp>
            <p:nvSpPr>
              <p:cNvPr id="577" name=""/>
              <p:cNvSpPr/>
              <p:nvPr/>
            </p:nvSpPr>
            <p:spPr>
              <a:xfrm>
                <a:off x="5433840" y="32328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32328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3408480"/>
              <a:ext cx="10067760" cy="360"/>
              <a:chOff x="0" y="3408480"/>
              <a:chExt cx="10067760" cy="360"/>
            </a:xfrm>
          </p:grpSpPr>
          <p:sp>
            <p:nvSpPr>
              <p:cNvPr id="580" name=""/>
              <p:cNvSpPr/>
              <p:nvPr/>
            </p:nvSpPr>
            <p:spPr>
              <a:xfrm>
                <a:off x="5433840" y="340848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340848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3589200"/>
              <a:ext cx="10067760" cy="360"/>
              <a:chOff x="0" y="3589200"/>
              <a:chExt cx="10067760" cy="360"/>
            </a:xfrm>
          </p:grpSpPr>
          <p:sp>
            <p:nvSpPr>
              <p:cNvPr id="583" name=""/>
              <p:cNvSpPr/>
              <p:nvPr/>
            </p:nvSpPr>
            <p:spPr>
              <a:xfrm>
                <a:off x="5433840" y="358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358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0" y="3780000"/>
            <a:ext cx="10069560" cy="709920"/>
            <a:chOff x="0" y="3780000"/>
            <a:chExt cx="10069560" cy="709920"/>
          </a:xfrm>
        </p:grpSpPr>
        <p:sp>
          <p:nvSpPr>
            <p:cNvPr id="586" name=""/>
            <p:cNvSpPr/>
            <p:nvPr/>
          </p:nvSpPr>
          <p:spPr>
            <a:xfrm>
              <a:off x="0" y="37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0" y="395856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0" y="4134600"/>
              <a:ext cx="10067760" cy="360"/>
              <a:chOff x="0" y="4134600"/>
              <a:chExt cx="10067760" cy="360"/>
            </a:xfrm>
          </p:grpSpPr>
          <p:sp>
            <p:nvSpPr>
              <p:cNvPr id="589" name=""/>
              <p:cNvSpPr/>
              <p:nvPr/>
            </p:nvSpPr>
            <p:spPr>
              <a:xfrm>
                <a:off x="5433840" y="41346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41346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4308840"/>
              <a:ext cx="10067760" cy="360"/>
              <a:chOff x="0" y="4308840"/>
              <a:chExt cx="10067760" cy="360"/>
            </a:xfrm>
          </p:grpSpPr>
          <p:sp>
            <p:nvSpPr>
              <p:cNvPr id="592" name=""/>
              <p:cNvSpPr/>
              <p:nvPr/>
            </p:nvSpPr>
            <p:spPr>
              <a:xfrm>
                <a:off x="5433840" y="430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430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4489560"/>
              <a:ext cx="10067760" cy="360"/>
              <a:chOff x="0" y="4489560"/>
              <a:chExt cx="10067760" cy="360"/>
            </a:xfrm>
          </p:grpSpPr>
          <p:sp>
            <p:nvSpPr>
              <p:cNvPr id="595" name=""/>
              <p:cNvSpPr/>
              <p:nvPr/>
            </p:nvSpPr>
            <p:spPr>
              <a:xfrm>
                <a:off x="5433840" y="44895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44895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"/>
          <p:cNvGrpSpPr/>
          <p:nvPr/>
        </p:nvGrpSpPr>
        <p:grpSpPr>
          <a:xfrm>
            <a:off x="0" y="4680000"/>
            <a:ext cx="10069560" cy="709920"/>
            <a:chOff x="0" y="4680000"/>
            <a:chExt cx="10069560" cy="709920"/>
          </a:xfrm>
        </p:grpSpPr>
        <p:sp>
          <p:nvSpPr>
            <p:cNvPr id="598" name=""/>
            <p:cNvSpPr/>
            <p:nvPr/>
          </p:nvSpPr>
          <p:spPr>
            <a:xfrm>
              <a:off x="0" y="46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85856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0" y="5033160"/>
              <a:ext cx="10067760" cy="360"/>
              <a:chOff x="0" y="5033160"/>
              <a:chExt cx="10067760" cy="360"/>
            </a:xfrm>
          </p:grpSpPr>
          <p:sp>
            <p:nvSpPr>
              <p:cNvPr id="601" name=""/>
              <p:cNvSpPr/>
              <p:nvPr/>
            </p:nvSpPr>
            <p:spPr>
              <a:xfrm>
                <a:off x="5433840" y="50331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50331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5209200"/>
              <a:ext cx="10067760" cy="360"/>
              <a:chOff x="0" y="5209200"/>
              <a:chExt cx="10067760" cy="360"/>
            </a:xfrm>
          </p:grpSpPr>
          <p:sp>
            <p:nvSpPr>
              <p:cNvPr id="604" name=""/>
              <p:cNvSpPr/>
              <p:nvPr/>
            </p:nvSpPr>
            <p:spPr>
              <a:xfrm>
                <a:off x="5433840" y="52092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52092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5389560"/>
              <a:ext cx="10067760" cy="360"/>
              <a:chOff x="0" y="5389560"/>
              <a:chExt cx="10067760" cy="360"/>
            </a:xfrm>
          </p:grpSpPr>
          <p:sp>
            <p:nvSpPr>
              <p:cNvPr id="607" name=""/>
              <p:cNvSpPr/>
              <p:nvPr/>
            </p:nvSpPr>
            <p:spPr>
              <a:xfrm>
                <a:off x="5433840" y="53895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3895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0" y="5580000"/>
            <a:ext cx="10069560" cy="709920"/>
            <a:chOff x="0" y="5580000"/>
            <a:chExt cx="10069560" cy="709920"/>
          </a:xfrm>
        </p:grpSpPr>
        <p:sp>
          <p:nvSpPr>
            <p:cNvPr id="610" name=""/>
            <p:cNvSpPr/>
            <p:nvPr/>
          </p:nvSpPr>
          <p:spPr>
            <a:xfrm>
              <a:off x="0" y="55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75712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0" y="5934600"/>
              <a:ext cx="10067760" cy="360"/>
              <a:chOff x="0" y="5934600"/>
              <a:chExt cx="10067760" cy="360"/>
            </a:xfrm>
          </p:grpSpPr>
          <p:sp>
            <p:nvSpPr>
              <p:cNvPr id="613" name=""/>
              <p:cNvSpPr/>
              <p:nvPr/>
            </p:nvSpPr>
            <p:spPr>
              <a:xfrm>
                <a:off x="5433840" y="59346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59346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6108840"/>
              <a:ext cx="10067760" cy="360"/>
              <a:chOff x="0" y="6108840"/>
              <a:chExt cx="10067760" cy="360"/>
            </a:xfrm>
          </p:grpSpPr>
          <p:sp>
            <p:nvSpPr>
              <p:cNvPr id="616" name=""/>
              <p:cNvSpPr/>
              <p:nvPr/>
            </p:nvSpPr>
            <p:spPr>
              <a:xfrm>
                <a:off x="5433840" y="610884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610884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6289560"/>
              <a:ext cx="10067760" cy="360"/>
              <a:chOff x="0" y="6289560"/>
              <a:chExt cx="10067760" cy="360"/>
            </a:xfrm>
          </p:grpSpPr>
          <p:sp>
            <p:nvSpPr>
              <p:cNvPr id="619" name=""/>
              <p:cNvSpPr/>
              <p:nvPr/>
            </p:nvSpPr>
            <p:spPr>
              <a:xfrm>
                <a:off x="5433840" y="628956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628956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0" y="6480000"/>
            <a:ext cx="10069560" cy="710280"/>
            <a:chOff x="0" y="6480000"/>
            <a:chExt cx="10069560" cy="710280"/>
          </a:xfrm>
        </p:grpSpPr>
        <p:sp>
          <p:nvSpPr>
            <p:cNvPr id="622" name=""/>
            <p:cNvSpPr/>
            <p:nvPr/>
          </p:nvSpPr>
          <p:spPr>
            <a:xfrm>
              <a:off x="0" y="648000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0" y="6658920"/>
              <a:ext cx="10069560" cy="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0" y="6833520"/>
              <a:ext cx="10067760" cy="360"/>
              <a:chOff x="0" y="6833520"/>
              <a:chExt cx="10067760" cy="360"/>
            </a:xfrm>
          </p:grpSpPr>
          <p:sp>
            <p:nvSpPr>
              <p:cNvPr id="625" name=""/>
              <p:cNvSpPr/>
              <p:nvPr/>
            </p:nvSpPr>
            <p:spPr>
              <a:xfrm>
                <a:off x="5433840" y="683352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683352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0" y="7011000"/>
              <a:ext cx="10067760" cy="360"/>
              <a:chOff x="0" y="7011000"/>
              <a:chExt cx="10067760" cy="360"/>
            </a:xfrm>
          </p:grpSpPr>
          <p:sp>
            <p:nvSpPr>
              <p:cNvPr id="628" name=""/>
              <p:cNvSpPr/>
              <p:nvPr/>
            </p:nvSpPr>
            <p:spPr>
              <a:xfrm>
                <a:off x="5433840" y="701100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0" y="701100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0" y="7189920"/>
              <a:ext cx="10067760" cy="360"/>
              <a:chOff x="0" y="7189920"/>
              <a:chExt cx="10067760" cy="360"/>
            </a:xfrm>
          </p:grpSpPr>
          <p:sp>
            <p:nvSpPr>
              <p:cNvPr id="631" name=""/>
              <p:cNvSpPr/>
              <p:nvPr/>
            </p:nvSpPr>
            <p:spPr>
              <a:xfrm>
                <a:off x="5433840" y="7189920"/>
                <a:ext cx="46339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0" y="7189920"/>
                <a:ext cx="5425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360" bIns="-1476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503280" y="5580000"/>
            <a:ext cx="291960" cy="271440"/>
            <a:chOff x="503280" y="5580000"/>
            <a:chExt cx="291960" cy="271440"/>
          </a:xfrm>
        </p:grpSpPr>
        <p:sp>
          <p:nvSpPr>
            <p:cNvPr id="694" name=""/>
            <p:cNvSpPr/>
            <p:nvPr/>
          </p:nvSpPr>
          <p:spPr>
            <a:xfrm>
              <a:off x="503280" y="5595840"/>
              <a:ext cx="274680" cy="255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0560" y="5580000"/>
              <a:ext cx="274680" cy="2556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03280" y="1717560"/>
            <a:ext cx="291960" cy="271440"/>
            <a:chOff x="503280" y="1717560"/>
            <a:chExt cx="291960" cy="271440"/>
          </a:xfrm>
        </p:grpSpPr>
        <p:sp>
          <p:nvSpPr>
            <p:cNvPr id="697" name=""/>
            <p:cNvSpPr/>
            <p:nvPr/>
          </p:nvSpPr>
          <p:spPr>
            <a:xfrm>
              <a:off x="503280" y="1735200"/>
              <a:ext cx="274680" cy="2538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0560" y="1717560"/>
              <a:ext cx="274680" cy="2541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3deb3d"/>
              </a:gs>
              <a:gs pos="100000">
                <a:srgbClr val="0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588600"/>
            <a:ext cx="85982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100240"/>
            <a:ext cx="8598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91840"/>
            <a:ext cx="85964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596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-360"/>
            <a:ext cx="898848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37840" cy="63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rot="21000000">
            <a:off x="9231120" y="708624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09401-0D76-4B79-805D-90BBF3E7028B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0" y="1080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645240"/>
            <a:ext cx="10080720" cy="91440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08160" y="6788160"/>
            <a:ext cx="2260800" cy="23328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678720"/>
            <a:ext cx="5894280" cy="71748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14256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5964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0880" y="534600"/>
            <a:ext cx="859644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59644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6b0094"/>
                </a:solidFill>
                <a:latin typeface="Georgia"/>
              </a:rPr>
              <a:t>Click to edit the title text format</a:t>
            </a:r>
            <a:endParaRPr b="0" lang="en-US" sz="4700" spc="-1" strike="noStrike">
              <a:solidFill>
                <a:srgbClr val="6b0094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59644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c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577440"/>
            <a:ext cx="85978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-360" y="2100240"/>
            <a:ext cx="85978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rcRect l="20045" t="19948" r="0" b="0"/>
          <a:stretch/>
        </p:blipFill>
        <p:spPr>
          <a:xfrm>
            <a:off x="0" y="0"/>
            <a:ext cx="4886280" cy="606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8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8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8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8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8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810800" y="409680"/>
            <a:ext cx="752652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Мастер-класс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по созданию к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позиции</a:t>
            </a: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7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Летний день»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технике айрис фолдинг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059000" y="4867200"/>
            <a:ext cx="5808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вторский коллектив: Бочарова Женя, Чумагин Лёня, Паршева Милена, Коновалов Андрей, Танинец Альбина, Найденова 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уководитель проекта: Е.В.Платоно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577880" y="5761080"/>
            <a:ext cx="78264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готовить полоски бумаги. Полоску согнуть на третью час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9" name="" descr=""/>
          <p:cNvPicPr/>
          <p:nvPr/>
        </p:nvPicPr>
        <p:blipFill>
          <a:blip r:embed="rId1"/>
          <a:stretch/>
        </p:blipFill>
        <p:spPr>
          <a:xfrm>
            <a:off x="1957320" y="647640"/>
            <a:ext cx="3440160" cy="489420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6199200" y="620640"/>
            <a:ext cx="3151080" cy="495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1596960" y="282240"/>
            <a:ext cx="4200480" cy="7427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оску положить сгибом на линию шаблона, начиная с №1, оставив от начальной и конечной точки по 0.5 см. Затем отрезать по отмеченной линии лишнюю часть полосы. Полосы укладываем меньшей шириной вверх. Готовую полоску закрепить скотчем с обеих сторон. </a:t>
            </a: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5945040" y="712800"/>
            <a:ext cx="3376800" cy="5234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30360" y="5501880"/>
            <a:ext cx="8175600" cy="17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следовательно по линиям шаблона (по нумерации) прикрепить скотчем полоски бумаги.</a:t>
            </a: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1957320" y="525600"/>
            <a:ext cx="3238560" cy="478476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5702400" y="1041480"/>
            <a:ext cx="3765600" cy="3549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779120" y="5568840"/>
            <a:ext cx="790092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ткрепить айрис-шаблон от картинки. Так выглядит изображение рисунка с лицевой сторон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3978360" y="849240"/>
            <a:ext cx="3122640" cy="43750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29720" y="6332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полнить все части трафарета последовательно (по шаблонам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3803760" y="2090880"/>
            <a:ext cx="3065400" cy="4663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763640" y="633240"/>
            <a:ext cx="7569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полнить картинку элементами в технике квиллинг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1" name="" descr=""/>
          <p:cNvPicPr/>
          <p:nvPr/>
        </p:nvPicPr>
        <p:blipFill>
          <a:blip r:embed="rId1"/>
          <a:stretch/>
        </p:blipFill>
        <p:spPr>
          <a:xfrm>
            <a:off x="1962000" y="2712960"/>
            <a:ext cx="3203640" cy="268452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2"/>
          <a:stretch/>
        </p:blipFill>
        <p:spPr>
          <a:xfrm>
            <a:off x="5859360" y="2739960"/>
            <a:ext cx="3130560" cy="2600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29720" y="633240"/>
            <a:ext cx="86043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Наша работа готова!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3398760" y="1816200"/>
            <a:ext cx="3470400" cy="5283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98400" y="131760"/>
            <a:ext cx="86076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«Летний день»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4005360" y="1787400"/>
            <a:ext cx="3152520" cy="4764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592280" y="5443560"/>
            <a:ext cx="8259840" cy="20239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готовить необходимые инструменты, материалы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2279520" y="885960"/>
            <a:ext cx="6840720" cy="47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044800" y="993600"/>
            <a:ext cx="7557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еобходимые материалы, инструмент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49600" y="2388960"/>
            <a:ext cx="757368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Цветная бумаг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Цветной карто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Айрис-шаблон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4. Простой карандаш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5. Линейк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6. Канцелярский нож и ножниц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7. Скотч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8. Копировальная бумаг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68440" y="5778000"/>
            <a:ext cx="8150400" cy="54468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резать ленты из цветной бумаг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951360" y="689040"/>
            <a:ext cx="3524040" cy="4910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607760" y="5636880"/>
            <a:ext cx="796284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Ширина полоски от 1.5 до 2,5 с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1"/>
          <a:stretch/>
        </p:blipFill>
        <p:spPr>
          <a:xfrm>
            <a:off x="2643120" y="1004760"/>
            <a:ext cx="5553000" cy="41036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30000" y="5429160"/>
            <a:ext cx="7886520" cy="1586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вести  контур рисунка. Полученный рисунок по контуру вырезать ножом (попросить взрослых!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1987560" y="511200"/>
            <a:ext cx="3033720" cy="442440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6346800" y="574560"/>
            <a:ext cx="2948040" cy="4361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3832200" y="633240"/>
            <a:ext cx="3584520" cy="5716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811160" y="5417640"/>
            <a:ext cx="8182080" cy="1954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йрис-шаблон положить на лицевую сторону картона на уровне вырезанного рисунка. Все листы скрепить скрепками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3862440" y="474840"/>
            <a:ext cx="3382920" cy="4692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1T14:11:20Z</dcterms:created>
  <dc:creator/>
  <dc:description/>
  <dc:language>en-US</dc:language>
  <cp:lastModifiedBy/>
  <cp:revision>1</cp:revision>
  <dc:subject/>
  <dc:title/>
</cp:coreProperties>
</file>