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8.wmf" ContentType="image/x-wmf"/>
  <Override PartName="/ppt/media/image12.jpeg" ContentType="image/jpeg"/>
  <Override PartName="/ppt/media/image7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4B7-FA00-4B28-B35C-05484378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2A65-1E2F-4787-B54D-1CBB6699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1BB-3709-462C-B411-4C7C155B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5663-22D7-4F8D-A1E1-41D23D86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775-E84E-4399-9362-F467F994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E9D-380B-45B8-AFA7-F4DDC38B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C21-1C74-4B85-8C5F-1634AF19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604-BAB5-4A6D-9194-6A24FA92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9E6-0EC6-4E75-9F71-C3857BCC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9CB-DAB2-45FD-A44C-0549D05F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E18-DF48-4BFB-8BFB-0C578759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A43-82E9-4720-9FEF-4E065244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7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F9DF3-C610-4E34-BB7D-81BC159C442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5964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644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914400"/>
            <a:ext cx="10077480" cy="14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39960"/>
            <a:ext cx="10077480" cy="14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125244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159228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192888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226692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260496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294012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27960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61944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95460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429264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463248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497052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530712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564516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598320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631980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665784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699768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733284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03280" y="1717560"/>
            <a:ext cx="293760" cy="271440"/>
            <a:chOff x="503280" y="1717560"/>
            <a:chExt cx="293760" cy="271440"/>
          </a:xfrm>
        </p:grpSpPr>
        <p:sp>
          <p:nvSpPr>
            <p:cNvPr id="428" name=""/>
            <p:cNvSpPr/>
            <p:nvPr/>
          </p:nvSpPr>
          <p:spPr>
            <a:xfrm>
              <a:off x="503280" y="1735200"/>
              <a:ext cx="276120" cy="2538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1717560"/>
              <a:ext cx="276480" cy="2523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503280" y="5580000"/>
            <a:ext cx="293760" cy="271440"/>
            <a:chOff x="503280" y="5580000"/>
            <a:chExt cx="293760" cy="271440"/>
          </a:xfrm>
        </p:grpSpPr>
        <p:sp>
          <p:nvSpPr>
            <p:cNvPr id="431" name=""/>
            <p:cNvSpPr/>
            <p:nvPr/>
          </p:nvSpPr>
          <p:spPr>
            <a:xfrm>
              <a:off x="503280" y="5595840"/>
              <a:ext cx="276120" cy="255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0560" y="5580000"/>
              <a:ext cx="276480" cy="2541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5964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644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2960" y="128520"/>
            <a:ext cx="1800" cy="204156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47600" y="363600"/>
            <a:ext cx="2043000" cy="14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0280" y="157320"/>
            <a:ext cx="1440" cy="6076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8240" y="500040"/>
            <a:ext cx="608040" cy="14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1397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3844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25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92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7908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28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561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51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097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9292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540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597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78832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948528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5983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12859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208116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28861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6226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432108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49687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564660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62452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692316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0" y="179280"/>
            <a:ext cx="10069560" cy="709920"/>
            <a:chOff x="0" y="179280"/>
            <a:chExt cx="10069560" cy="709920"/>
          </a:xfrm>
        </p:grpSpPr>
        <p:sp>
          <p:nvSpPr>
            <p:cNvPr id="538" name=""/>
            <p:cNvSpPr/>
            <p:nvPr/>
          </p:nvSpPr>
          <p:spPr>
            <a:xfrm>
              <a:off x="0" y="17928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0" y="35964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0" y="532440"/>
              <a:ext cx="10067760" cy="360"/>
              <a:chOff x="0" y="532440"/>
              <a:chExt cx="10067760" cy="360"/>
            </a:xfrm>
          </p:grpSpPr>
          <p:sp>
            <p:nvSpPr>
              <p:cNvPr id="541" name=""/>
              <p:cNvSpPr/>
              <p:nvPr/>
            </p:nvSpPr>
            <p:spPr>
              <a:xfrm>
                <a:off x="5433840" y="53244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53244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709920"/>
              <a:ext cx="10067760" cy="360"/>
              <a:chOff x="0" y="709920"/>
              <a:chExt cx="10067760" cy="360"/>
            </a:xfrm>
          </p:grpSpPr>
          <p:sp>
            <p:nvSpPr>
              <p:cNvPr id="544" name=""/>
              <p:cNvSpPr/>
              <p:nvPr/>
            </p:nvSpPr>
            <p:spPr>
              <a:xfrm>
                <a:off x="5433840" y="70992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70992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888840"/>
              <a:ext cx="10067760" cy="360"/>
              <a:chOff x="0" y="888840"/>
              <a:chExt cx="10067760" cy="360"/>
            </a:xfrm>
          </p:grpSpPr>
          <p:sp>
            <p:nvSpPr>
              <p:cNvPr id="547" name=""/>
              <p:cNvSpPr/>
              <p:nvPr/>
            </p:nvSpPr>
            <p:spPr>
              <a:xfrm>
                <a:off x="5433840" y="88884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88884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9" name=""/>
          <p:cNvGrpSpPr/>
          <p:nvPr/>
        </p:nvGrpSpPr>
        <p:grpSpPr>
          <a:xfrm>
            <a:off x="0" y="1079640"/>
            <a:ext cx="10069560" cy="709920"/>
            <a:chOff x="0" y="1079640"/>
            <a:chExt cx="10069560" cy="709920"/>
          </a:xfrm>
        </p:grpSpPr>
        <p:sp>
          <p:nvSpPr>
            <p:cNvPr id="550" name=""/>
            <p:cNvSpPr/>
            <p:nvPr/>
          </p:nvSpPr>
          <p:spPr>
            <a:xfrm>
              <a:off x="0" y="107964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125820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0" y="1431360"/>
              <a:ext cx="10067760" cy="360"/>
              <a:chOff x="0" y="1431360"/>
              <a:chExt cx="10067760" cy="360"/>
            </a:xfrm>
          </p:grpSpPr>
          <p:sp>
            <p:nvSpPr>
              <p:cNvPr id="553" name=""/>
              <p:cNvSpPr/>
              <p:nvPr/>
            </p:nvSpPr>
            <p:spPr>
              <a:xfrm>
                <a:off x="5433840" y="143136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143136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0" y="1608480"/>
              <a:ext cx="10067760" cy="360"/>
              <a:chOff x="0" y="1608480"/>
              <a:chExt cx="10067760" cy="360"/>
            </a:xfrm>
          </p:grpSpPr>
          <p:sp>
            <p:nvSpPr>
              <p:cNvPr id="556" name=""/>
              <p:cNvSpPr/>
              <p:nvPr/>
            </p:nvSpPr>
            <p:spPr>
              <a:xfrm>
                <a:off x="5433840" y="160848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160848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1789200"/>
              <a:ext cx="10067760" cy="360"/>
              <a:chOff x="0" y="1789200"/>
              <a:chExt cx="10067760" cy="360"/>
            </a:xfrm>
          </p:grpSpPr>
          <p:sp>
            <p:nvSpPr>
              <p:cNvPr id="559" name=""/>
              <p:cNvSpPr/>
              <p:nvPr/>
            </p:nvSpPr>
            <p:spPr>
              <a:xfrm>
                <a:off x="5433840" y="178920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178920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0" y="1979640"/>
            <a:ext cx="10069560" cy="709920"/>
            <a:chOff x="0" y="1979640"/>
            <a:chExt cx="10069560" cy="709920"/>
          </a:xfrm>
        </p:grpSpPr>
        <p:sp>
          <p:nvSpPr>
            <p:cNvPr id="562" name=""/>
            <p:cNvSpPr/>
            <p:nvPr/>
          </p:nvSpPr>
          <p:spPr>
            <a:xfrm>
              <a:off x="0" y="197964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0" y="216000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0" y="2334600"/>
              <a:ext cx="10067760" cy="360"/>
              <a:chOff x="0" y="2334600"/>
              <a:chExt cx="10067760" cy="360"/>
            </a:xfrm>
          </p:grpSpPr>
          <p:sp>
            <p:nvSpPr>
              <p:cNvPr id="565" name=""/>
              <p:cNvSpPr/>
              <p:nvPr/>
            </p:nvSpPr>
            <p:spPr>
              <a:xfrm>
                <a:off x="5433840" y="233460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233460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0" y="2508840"/>
              <a:ext cx="10067760" cy="360"/>
              <a:chOff x="0" y="2508840"/>
              <a:chExt cx="10067760" cy="360"/>
            </a:xfrm>
          </p:grpSpPr>
          <p:sp>
            <p:nvSpPr>
              <p:cNvPr id="568" name=""/>
              <p:cNvSpPr/>
              <p:nvPr/>
            </p:nvSpPr>
            <p:spPr>
              <a:xfrm>
                <a:off x="5433840" y="250884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250884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0" y="2689200"/>
              <a:ext cx="10067760" cy="360"/>
              <a:chOff x="0" y="2689200"/>
              <a:chExt cx="10067760" cy="360"/>
            </a:xfrm>
          </p:grpSpPr>
          <p:sp>
            <p:nvSpPr>
              <p:cNvPr id="571" name=""/>
              <p:cNvSpPr/>
              <p:nvPr/>
            </p:nvSpPr>
            <p:spPr>
              <a:xfrm>
                <a:off x="5433840" y="268920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268920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3" name=""/>
          <p:cNvGrpSpPr/>
          <p:nvPr/>
        </p:nvGrpSpPr>
        <p:grpSpPr>
          <a:xfrm>
            <a:off x="0" y="2879640"/>
            <a:ext cx="10069560" cy="709920"/>
            <a:chOff x="0" y="2879640"/>
            <a:chExt cx="10069560" cy="709920"/>
          </a:xfrm>
        </p:grpSpPr>
        <p:sp>
          <p:nvSpPr>
            <p:cNvPr id="574" name=""/>
            <p:cNvSpPr/>
            <p:nvPr/>
          </p:nvSpPr>
          <p:spPr>
            <a:xfrm>
              <a:off x="0" y="287964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306000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0" y="3232800"/>
              <a:ext cx="10067760" cy="360"/>
              <a:chOff x="0" y="3232800"/>
              <a:chExt cx="10067760" cy="360"/>
            </a:xfrm>
          </p:grpSpPr>
          <p:sp>
            <p:nvSpPr>
              <p:cNvPr id="577" name=""/>
              <p:cNvSpPr/>
              <p:nvPr/>
            </p:nvSpPr>
            <p:spPr>
              <a:xfrm>
                <a:off x="5433840" y="323280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323280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0" y="3408480"/>
              <a:ext cx="10067760" cy="360"/>
              <a:chOff x="0" y="3408480"/>
              <a:chExt cx="10067760" cy="360"/>
            </a:xfrm>
          </p:grpSpPr>
          <p:sp>
            <p:nvSpPr>
              <p:cNvPr id="580" name=""/>
              <p:cNvSpPr/>
              <p:nvPr/>
            </p:nvSpPr>
            <p:spPr>
              <a:xfrm>
                <a:off x="5433840" y="340848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340848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0" y="3589200"/>
              <a:ext cx="10067760" cy="360"/>
              <a:chOff x="0" y="3589200"/>
              <a:chExt cx="10067760" cy="360"/>
            </a:xfrm>
          </p:grpSpPr>
          <p:sp>
            <p:nvSpPr>
              <p:cNvPr id="583" name=""/>
              <p:cNvSpPr/>
              <p:nvPr/>
            </p:nvSpPr>
            <p:spPr>
              <a:xfrm>
                <a:off x="5433840" y="358920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358920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0" y="3780000"/>
            <a:ext cx="10069560" cy="709920"/>
            <a:chOff x="0" y="3780000"/>
            <a:chExt cx="10069560" cy="709920"/>
          </a:xfrm>
        </p:grpSpPr>
        <p:sp>
          <p:nvSpPr>
            <p:cNvPr id="586" name=""/>
            <p:cNvSpPr/>
            <p:nvPr/>
          </p:nvSpPr>
          <p:spPr>
            <a:xfrm>
              <a:off x="0" y="378000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0" y="395856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0" y="4134600"/>
              <a:ext cx="10067760" cy="360"/>
              <a:chOff x="0" y="4134600"/>
              <a:chExt cx="10067760" cy="360"/>
            </a:xfrm>
          </p:grpSpPr>
          <p:sp>
            <p:nvSpPr>
              <p:cNvPr id="589" name=""/>
              <p:cNvSpPr/>
              <p:nvPr/>
            </p:nvSpPr>
            <p:spPr>
              <a:xfrm>
                <a:off x="5433840" y="413460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413460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0" y="4308840"/>
              <a:ext cx="10067760" cy="360"/>
              <a:chOff x="0" y="4308840"/>
              <a:chExt cx="10067760" cy="360"/>
            </a:xfrm>
          </p:grpSpPr>
          <p:sp>
            <p:nvSpPr>
              <p:cNvPr id="592" name=""/>
              <p:cNvSpPr/>
              <p:nvPr/>
            </p:nvSpPr>
            <p:spPr>
              <a:xfrm>
                <a:off x="5433840" y="430884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430884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0" y="4489560"/>
              <a:ext cx="10067760" cy="360"/>
              <a:chOff x="0" y="4489560"/>
              <a:chExt cx="10067760" cy="360"/>
            </a:xfrm>
          </p:grpSpPr>
          <p:sp>
            <p:nvSpPr>
              <p:cNvPr id="595" name=""/>
              <p:cNvSpPr/>
              <p:nvPr/>
            </p:nvSpPr>
            <p:spPr>
              <a:xfrm>
                <a:off x="5433840" y="448956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448956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"/>
          <p:cNvGrpSpPr/>
          <p:nvPr/>
        </p:nvGrpSpPr>
        <p:grpSpPr>
          <a:xfrm>
            <a:off x="0" y="4680000"/>
            <a:ext cx="10069560" cy="709920"/>
            <a:chOff x="0" y="4680000"/>
            <a:chExt cx="10069560" cy="709920"/>
          </a:xfrm>
        </p:grpSpPr>
        <p:sp>
          <p:nvSpPr>
            <p:cNvPr id="598" name=""/>
            <p:cNvSpPr/>
            <p:nvPr/>
          </p:nvSpPr>
          <p:spPr>
            <a:xfrm>
              <a:off x="0" y="468000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485856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0" y="5033160"/>
              <a:ext cx="10067760" cy="360"/>
              <a:chOff x="0" y="5033160"/>
              <a:chExt cx="10067760" cy="360"/>
            </a:xfrm>
          </p:grpSpPr>
          <p:sp>
            <p:nvSpPr>
              <p:cNvPr id="601" name=""/>
              <p:cNvSpPr/>
              <p:nvPr/>
            </p:nvSpPr>
            <p:spPr>
              <a:xfrm>
                <a:off x="5433840" y="503316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503316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0" y="5209200"/>
              <a:ext cx="10067760" cy="360"/>
              <a:chOff x="0" y="5209200"/>
              <a:chExt cx="10067760" cy="360"/>
            </a:xfrm>
          </p:grpSpPr>
          <p:sp>
            <p:nvSpPr>
              <p:cNvPr id="604" name=""/>
              <p:cNvSpPr/>
              <p:nvPr/>
            </p:nvSpPr>
            <p:spPr>
              <a:xfrm>
                <a:off x="5433840" y="520920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520920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0" y="5389560"/>
              <a:ext cx="10067760" cy="360"/>
              <a:chOff x="0" y="5389560"/>
              <a:chExt cx="10067760" cy="360"/>
            </a:xfrm>
          </p:grpSpPr>
          <p:sp>
            <p:nvSpPr>
              <p:cNvPr id="607" name=""/>
              <p:cNvSpPr/>
              <p:nvPr/>
            </p:nvSpPr>
            <p:spPr>
              <a:xfrm>
                <a:off x="5433840" y="538956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38956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9" name=""/>
          <p:cNvGrpSpPr/>
          <p:nvPr/>
        </p:nvGrpSpPr>
        <p:grpSpPr>
          <a:xfrm>
            <a:off x="0" y="5580000"/>
            <a:ext cx="10069560" cy="709920"/>
            <a:chOff x="0" y="5580000"/>
            <a:chExt cx="10069560" cy="709920"/>
          </a:xfrm>
        </p:grpSpPr>
        <p:sp>
          <p:nvSpPr>
            <p:cNvPr id="610" name=""/>
            <p:cNvSpPr/>
            <p:nvPr/>
          </p:nvSpPr>
          <p:spPr>
            <a:xfrm>
              <a:off x="0" y="558000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575712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0" y="5934600"/>
              <a:ext cx="10067760" cy="360"/>
              <a:chOff x="0" y="5934600"/>
              <a:chExt cx="10067760" cy="360"/>
            </a:xfrm>
          </p:grpSpPr>
          <p:sp>
            <p:nvSpPr>
              <p:cNvPr id="613" name=""/>
              <p:cNvSpPr/>
              <p:nvPr/>
            </p:nvSpPr>
            <p:spPr>
              <a:xfrm>
                <a:off x="5433840" y="593460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593460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0" y="6108840"/>
              <a:ext cx="10067760" cy="360"/>
              <a:chOff x="0" y="6108840"/>
              <a:chExt cx="10067760" cy="360"/>
            </a:xfrm>
          </p:grpSpPr>
          <p:sp>
            <p:nvSpPr>
              <p:cNvPr id="616" name=""/>
              <p:cNvSpPr/>
              <p:nvPr/>
            </p:nvSpPr>
            <p:spPr>
              <a:xfrm>
                <a:off x="5433840" y="610884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610884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0" y="6289560"/>
              <a:ext cx="10067760" cy="360"/>
              <a:chOff x="0" y="6289560"/>
              <a:chExt cx="10067760" cy="360"/>
            </a:xfrm>
          </p:grpSpPr>
          <p:sp>
            <p:nvSpPr>
              <p:cNvPr id="619" name=""/>
              <p:cNvSpPr/>
              <p:nvPr/>
            </p:nvSpPr>
            <p:spPr>
              <a:xfrm>
                <a:off x="5433840" y="628956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628956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1" name=""/>
          <p:cNvGrpSpPr/>
          <p:nvPr/>
        </p:nvGrpSpPr>
        <p:grpSpPr>
          <a:xfrm>
            <a:off x="0" y="6480000"/>
            <a:ext cx="10069560" cy="710280"/>
            <a:chOff x="0" y="6480000"/>
            <a:chExt cx="10069560" cy="710280"/>
          </a:xfrm>
        </p:grpSpPr>
        <p:sp>
          <p:nvSpPr>
            <p:cNvPr id="622" name=""/>
            <p:cNvSpPr/>
            <p:nvPr/>
          </p:nvSpPr>
          <p:spPr>
            <a:xfrm>
              <a:off x="0" y="648000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0" y="665892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0" y="6833520"/>
              <a:ext cx="10067760" cy="360"/>
              <a:chOff x="0" y="6833520"/>
              <a:chExt cx="10067760" cy="360"/>
            </a:xfrm>
          </p:grpSpPr>
          <p:sp>
            <p:nvSpPr>
              <p:cNvPr id="625" name=""/>
              <p:cNvSpPr/>
              <p:nvPr/>
            </p:nvSpPr>
            <p:spPr>
              <a:xfrm>
                <a:off x="5433840" y="683352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683352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7011000"/>
              <a:ext cx="10067760" cy="360"/>
              <a:chOff x="0" y="7011000"/>
              <a:chExt cx="10067760" cy="360"/>
            </a:xfrm>
          </p:grpSpPr>
          <p:sp>
            <p:nvSpPr>
              <p:cNvPr id="628" name=""/>
              <p:cNvSpPr/>
              <p:nvPr/>
            </p:nvSpPr>
            <p:spPr>
              <a:xfrm>
                <a:off x="5433840" y="701100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701100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7189920"/>
              <a:ext cx="10067760" cy="360"/>
              <a:chOff x="0" y="7189920"/>
              <a:chExt cx="10067760" cy="360"/>
            </a:xfrm>
          </p:grpSpPr>
          <p:sp>
            <p:nvSpPr>
              <p:cNvPr id="631" name=""/>
              <p:cNvSpPr/>
              <p:nvPr/>
            </p:nvSpPr>
            <p:spPr>
              <a:xfrm>
                <a:off x="5433840" y="718992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718992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"/>
          <p:cNvSpPr/>
          <p:nvPr/>
        </p:nvSpPr>
        <p:spPr>
          <a:xfrm>
            <a:off x="0" y="7380360"/>
            <a:ext cx="10080720" cy="14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187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357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5271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33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9020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108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278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48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8823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503280" y="5580000"/>
            <a:ext cx="291960" cy="271440"/>
            <a:chOff x="503280" y="5580000"/>
            <a:chExt cx="291960" cy="271440"/>
          </a:xfrm>
        </p:grpSpPr>
        <p:sp>
          <p:nvSpPr>
            <p:cNvPr id="694" name=""/>
            <p:cNvSpPr/>
            <p:nvPr/>
          </p:nvSpPr>
          <p:spPr>
            <a:xfrm>
              <a:off x="503280" y="5595840"/>
              <a:ext cx="274680" cy="255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0560" y="5580000"/>
              <a:ext cx="274680" cy="2556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03280" y="1717560"/>
            <a:ext cx="291960" cy="271440"/>
            <a:chOff x="503280" y="1717560"/>
            <a:chExt cx="291960" cy="271440"/>
          </a:xfrm>
        </p:grpSpPr>
        <p:sp>
          <p:nvSpPr>
            <p:cNvPr id="697" name=""/>
            <p:cNvSpPr/>
            <p:nvPr/>
          </p:nvSpPr>
          <p:spPr>
            <a:xfrm>
              <a:off x="503280" y="1735200"/>
              <a:ext cx="274680" cy="2538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20560" y="1717560"/>
              <a:ext cx="274680" cy="2541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644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740880" y="577440"/>
            <a:ext cx="85964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5964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644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3deb3d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591840"/>
            <a:ext cx="85964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596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8848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37840" cy="63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21000000">
            <a:off x="9231120" y="7086240"/>
            <a:ext cx="86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F941B-F769-49E6-B270-42D884499675}" type="slidenum">
              <a:rPr b="0" lang="ru-RU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0800000">
            <a:off x="0" y="1080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645240"/>
            <a:ext cx="1008072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08160" y="6788160"/>
            <a:ext cx="2260800" cy="23328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678720"/>
            <a:ext cx="5894280" cy="71748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0880" y="142560"/>
            <a:ext cx="85964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59644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5964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644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0880" y="534600"/>
            <a:ext cx="8596440" cy="14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644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5964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6b0094"/>
                </a:solidFill>
                <a:latin typeface="Georgia"/>
              </a:rPr>
              <a:t>Click to edit the title text format</a:t>
            </a:r>
            <a:endParaRPr b="0" lang="en-US" sz="4700" spc="-1" strike="noStrike">
              <a:solidFill>
                <a:srgbClr val="6b0094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644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Tahom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ccff"/>
              </a:solidFill>
              <a:latin typeface="Tahom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ccff"/>
              </a:solidFill>
              <a:latin typeface="Tahom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ccff"/>
              </a:solidFill>
              <a:latin typeface="Tahom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ccff"/>
              </a:solidFill>
              <a:latin typeface="Tahom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ccff"/>
              </a:solidFill>
              <a:latin typeface="Tahom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c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-360" y="2100240"/>
            <a:ext cx="85978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rcRect l="20045" t="19948" r="0" b="0"/>
          <a:stretch/>
        </p:blipFill>
        <p:spPr>
          <a:xfrm>
            <a:off x="0" y="0"/>
            <a:ext cx="4886280" cy="606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8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8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8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8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8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8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8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8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8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8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8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8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810800" y="409680"/>
            <a:ext cx="7526520" cy="37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Мастер-класс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о созданию к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позиции</a:t>
            </a:r>
            <a:r>
              <a:rPr b="0" lang="ru-RU" sz="47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7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Летний день»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технике айрис фолдинг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059000" y="4867200"/>
            <a:ext cx="5808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вторский коллектив: Бочарова Женя, Чумагин Лёня, Паршева Милена, Коновалов Андрей, Танинец Альбина, Найденова 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уководитель проекта: Е.В.Платоно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577880" y="5761080"/>
            <a:ext cx="78264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дготовить полоски бумаги. Полоску согнуть на третью часть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1"/>
          <a:stretch/>
        </p:blipFill>
        <p:spPr>
          <a:xfrm>
            <a:off x="1957320" y="647640"/>
            <a:ext cx="3440160" cy="489420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6199200" y="620640"/>
            <a:ext cx="3151080" cy="4950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1596960" y="282240"/>
            <a:ext cx="4200480" cy="7427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оску положить сгибом на линию шаблона, начиная с №1, оставив от начальной и конечной точки по 0.5 см. Затем отрезать по отмеченной линии лишнюю часть полосы. Полосы укладываем меньшей шириной вверх. Готовую полоску закрепить скотчем с обеих сторон. </a:t>
            </a:r>
            <a:br>
              <a:rPr sz="36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5945040" y="712800"/>
            <a:ext cx="3376800" cy="5234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30360" y="5501880"/>
            <a:ext cx="8175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следовательно по линиям шаблона (по нумерации) прикрепить скотчем полоски бумаги.</a:t>
            </a:r>
            <a:r>
              <a:rPr b="0" lang="ru-RU" sz="4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1"/>
          <a:stretch/>
        </p:blipFill>
        <p:spPr>
          <a:xfrm>
            <a:off x="1957320" y="525600"/>
            <a:ext cx="3238560" cy="478476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/>
          <p:cNvPicPr/>
          <p:nvPr/>
        </p:nvPicPr>
        <p:blipFill>
          <a:blip r:embed="rId2"/>
          <a:stretch/>
        </p:blipFill>
        <p:spPr>
          <a:xfrm>
            <a:off x="5702400" y="1041480"/>
            <a:ext cx="3765600" cy="3549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779120" y="5568840"/>
            <a:ext cx="7900920" cy="15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крепить айрис-шаблон от картинки. Так выглядит изображение рисунка с лицевой сторон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3978360" y="849240"/>
            <a:ext cx="3122640" cy="4375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29720" y="63324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аполнить все части трафарета последовательно (по шаблонам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3803760" y="2090880"/>
            <a:ext cx="3065400" cy="4663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763640" y="633240"/>
            <a:ext cx="7569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ополнить картинку элементами в технике квиллинг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1962000" y="2712960"/>
            <a:ext cx="3203640" cy="268452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2"/>
          <a:stretch/>
        </p:blipFill>
        <p:spPr>
          <a:xfrm>
            <a:off x="5859360" y="2739960"/>
            <a:ext cx="3130560" cy="2600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29720" y="63324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Times New Roman"/>
              </a:rPr>
              <a:t>Наша работа готова!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3398760" y="1816200"/>
            <a:ext cx="3470400" cy="5283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98400" y="131760"/>
            <a:ext cx="86076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4700" spc="-1" strike="noStrike">
                <a:solidFill>
                  <a:srgbClr val="ffffff"/>
                </a:solidFill>
                <a:latin typeface="Times New Roman"/>
              </a:rPr>
              <a:t>«Летний день»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4005360" y="1787400"/>
            <a:ext cx="3152520" cy="4764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592280" y="5443560"/>
            <a:ext cx="8259840" cy="20239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дготовить необходимые инструменты, материал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2279520" y="885960"/>
            <a:ext cx="6840720" cy="4771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044800" y="993600"/>
            <a:ext cx="7557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еобходимые материалы, инструменты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749600" y="2388960"/>
            <a:ext cx="757368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. Цветная бумаг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. Цветной картон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. Айрис-шаблон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4. Простой карандаш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5. Линей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6. Канцелярский нож и ножниц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7. Скотч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8. Копировальная бумаг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468440" y="5778000"/>
            <a:ext cx="81504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резать ленты из цветной бумаг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3951360" y="689040"/>
            <a:ext cx="3524040" cy="4910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607760" y="5636880"/>
            <a:ext cx="796284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Ширина полоски от 1.5 до 2,5 с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2643120" y="1004760"/>
            <a:ext cx="5553000" cy="4103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30000" y="5429160"/>
            <a:ext cx="7886520" cy="15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бвести  контур рисунка. Полученный рисунок по контуру вырезать ножом (попросить взрослых!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1987560" y="511200"/>
            <a:ext cx="3033720" cy="442440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6346800" y="574560"/>
            <a:ext cx="2948040" cy="4361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3832200" y="633240"/>
            <a:ext cx="3584520" cy="5716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811160" y="5417640"/>
            <a:ext cx="818208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йрис-шаблон положить на лицевую сторону картона на уровне вырезанного рисунка. Все листы скрепить скрепкам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3862440" y="474840"/>
            <a:ext cx="3382920" cy="4692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1T14:11:20Z</dcterms:created>
  <dc:creator/>
  <dc:description/>
  <dc:language>en-US</dc:language>
  <cp:lastModifiedBy/>
  <cp:revision>1</cp:revision>
  <dc:subject/>
  <dc:title/>
</cp:coreProperties>
</file>