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C554-E3BE-420D-9862-BCFB8022B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F5F7-5F01-4ADD-90DD-20BC0EF93D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367-9E6D-487F-BC6D-9BF3A488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05D-7EA1-4BA0-B5E3-AD50E366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306-BA33-4E8C-A3ED-43927B29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ABF-4CBF-4AFD-82BD-F9DB9956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0CC-92A6-455E-8443-279FCFB2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7C64-FABC-4418-A85B-88BC17A9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E13C-AA5B-4353-B496-294AA8E8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4C6-3326-4B73-A3FD-719FFD3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60A8-8338-41CE-B395-D4A1089E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B7D6-C569-4EDF-B8EB-B8D04AAE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6C9-09F0-47A3-925F-62C5354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132-13BB-43E3-B955-FBE38DEE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D00-1A81-41B2-9638-D2AC187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45B-E96C-48F3-BF46-865BEF5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A8C-165E-4468-94EC-C8C8E790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2D4-F171-4A6C-80A6-F8F1868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1EE2-DA6B-42DE-B8EB-00BA1DD2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140-BB33-40D8-9E87-228BC922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41E-C5C9-42FB-8F6F-D3843AA1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C70-D087-4E36-AEE2-DF4E49A9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604-55E3-4387-8627-CE26CFDE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46B-49E2-46AC-9522-B30A576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144-2A4A-406F-BF99-476B5B69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751-AECD-4317-97B5-481AA267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db"/>
            </a:gs>
            <a:gs pos="100000">
              <a:srgbClr val="dded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CD5-DE1F-46E6-BFA7-FF7F1AAA3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db"/>
            </a:gs>
            <a:gs pos="100000">
              <a:srgbClr val="dded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DEAE-7A54-4A88-8E4D-958D2A0135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358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ff"/>
                </a:solidFill>
                <a:latin typeface="Arial"/>
                <a:ea typeface="Kartika"/>
              </a:rPr>
              <a:t>ЗНАКОМЬТЕСЬ: ГОРОД БЕЛЕБЕЙ!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571500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еводитель по «малой родин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и ученики 2а класса МАОУ СОШ№41 с. Аксаково Белебеевского района Республики Башкорто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Афанасьева Е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C:\Documents and Settings\Евгения\Рабочий стол\belebey0.jpg"/>
          <p:cNvPicPr/>
          <p:nvPr/>
        </p:nvPicPr>
        <p:blipFill>
          <a:blip r:embed="rId1"/>
          <a:stretch/>
        </p:blipFill>
        <p:spPr>
          <a:xfrm>
            <a:off x="1000080" y="928800"/>
            <a:ext cx="7072200" cy="428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В зале Воинской Славы краеведческого музе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2" descr="D:\Информация\Фото\последние фото 4 класс\05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05920" cy="555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Мемориал «Защитникам Отечеств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4" descr="C:\Documents and Settings\Евгения\Рабочий стол\мемориал.jpg"/>
          <p:cNvPicPr/>
          <p:nvPr/>
        </p:nvPicPr>
        <p:blipFill>
          <a:blip r:embed="rId1"/>
          <a:stretch/>
        </p:blipFill>
        <p:spPr>
          <a:xfrm>
            <a:off x="214200" y="1000080"/>
            <a:ext cx="4500720" cy="300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Евгения\Рабочий стол\мемориал 2.jpg"/>
          <p:cNvPicPr/>
          <p:nvPr/>
        </p:nvPicPr>
        <p:blipFill>
          <a:blip r:embed="rId2"/>
          <a:stretch/>
        </p:blipFill>
        <p:spPr>
          <a:xfrm>
            <a:off x="4071960" y="3309840"/>
            <a:ext cx="4856040" cy="3233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У памятника землякам, погибшим на полях Великой отечественной войн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2" descr="D:\Информация\Фото\новые фото\новые фото 010.jpg"/>
          <p:cNvPicPr/>
          <p:nvPr/>
        </p:nvPicPr>
        <p:blipFill>
          <a:blip r:embed="rId1"/>
          <a:stretch/>
        </p:blipFill>
        <p:spPr>
          <a:xfrm>
            <a:off x="857160" y="1071720"/>
            <a:ext cx="7405920" cy="555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8" descr="3кл 1в"/>
          <p:cNvPicPr/>
          <p:nvPr/>
        </p:nvPicPr>
        <p:blipFill>
          <a:blip r:embed="rId1"/>
          <a:stretch/>
        </p:blipFill>
        <p:spPr>
          <a:xfrm>
            <a:off x="1403280" y="163440"/>
            <a:ext cx="6597720" cy="628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381360"/>
            <a:ext cx="828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7e7ff"/>
                </a:solidFill>
                <a:latin typeface="Kartika"/>
              </a:rPr>
              <a:t>Михаило- Архангельский хра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 rot="10800000"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кл 1в"/>
          <p:cNvPicPr/>
          <p:nvPr/>
        </p:nvPicPr>
        <p:blipFill>
          <a:blip r:embed="rId1"/>
          <a:stretch/>
        </p:blipFill>
        <p:spPr>
          <a:xfrm>
            <a:off x="642960" y="357120"/>
            <a:ext cx="770904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6760" y="6237000"/>
            <a:ext cx="85107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Мечеть Хадиджи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Центр национальных культур «Урал-Батыр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4" descr="3кл 1в"/>
          <p:cNvPicPr/>
          <p:nvPr/>
        </p:nvPicPr>
        <p:blipFill>
          <a:blip r:embed="rId1"/>
          <a:stretch/>
        </p:blipFill>
        <p:spPr>
          <a:xfrm>
            <a:off x="1000080" y="214200"/>
            <a:ext cx="6851520" cy="5808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3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Центральный Дворец культур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4" descr="3кл 1в"/>
          <p:cNvPicPr/>
          <p:nvPr/>
        </p:nvPicPr>
        <p:blipFill>
          <a:blip r:embed="rId1"/>
          <a:stretch/>
        </p:blipFill>
        <p:spPr>
          <a:xfrm>
            <a:off x="571680" y="285840"/>
            <a:ext cx="7929360" cy="588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21000"/>
            <a:ext cx="8510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  <a:ea typeface="Kartika"/>
              </a:rPr>
              <a:t>Кинотеатр «Мир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5" descr="3кл 1в"/>
          <p:cNvPicPr/>
          <p:nvPr/>
        </p:nvPicPr>
        <p:blipFill>
          <a:blip r:embed="rId1"/>
          <a:stretch/>
        </p:blipFill>
        <p:spPr>
          <a:xfrm>
            <a:off x="1000080" y="571680"/>
            <a:ext cx="7389720" cy="52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64336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Филиал Самарского государственного архитектурно – строительного университета (здание бывшей земской управы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Picture 4" descr="3кл 1в"/>
          <p:cNvPicPr/>
          <p:nvPr/>
        </p:nvPicPr>
        <p:blipFill>
          <a:blip r:embed="rId1"/>
          <a:stretch/>
        </p:blipFill>
        <p:spPr>
          <a:xfrm>
            <a:off x="611280" y="119160"/>
            <a:ext cx="7818480" cy="531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7120" y="5715000"/>
            <a:ext cx="8501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Kartika"/>
              </a:rPr>
              <a:t>Вот такая Бурёнка встречает гостей у проходной Белебеевского молочного комби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28240"/>
            <a:ext cx="8572680" cy="627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Здравствуйте, уважаемые гости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 города Белебея и Белебеевского района! Мы рады приветствовать вас на гостеприимной земле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Белебеевский район расположен в западной части Башкортостана, в том самом месте, где матушка-природа предупреждает землян – скоро будет Урал! А чтобы переход от степей к горам не показался резким, она украсила лик земли Бугульмино-Белебеевской возвышенностью, украсила настолько талантливо, вдохновенно, что порою, кажется – это был миг расцвета художественных дарований Творца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рирода щедро наградила наш край неброской, но гармоничной красотой. «Цветущий край, благословенный…» - так образно называют белебеевцы этот живописный уголок юго-западной части Башкортостана.  Судите сами:  на небольшой территории текут 296 рек и речушек, протяженностью 760 км. Мало того, чуть ли не из-под каждого камня, валуна бьет более 100 разноголосых жизнерадостных родников и ключей со студеной вкуснейшей водой. На севере района простираются массивы  хвойных и широколиственных лесов, по долинам рек – обширные пойменные луга. На юге участки березняков и дубрав сливаются с башкирскими степями</a:t>
            </a:r>
            <a:r>
              <a:rPr b="0" lang="ru-RU" sz="1800" spc="-1" strike="noStrike">
                <a:solidFill>
                  <a:srgbClr val="2f2fff"/>
                </a:solidFill>
                <a:latin typeface="Arial"/>
                <a:ea typeface="Kartika"/>
              </a:rPr>
              <a:t>.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Белебеевский педагогический колледж 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(здание бывшего реального училища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Picture 4" descr="3кл 1в"/>
          <p:cNvPicPr/>
          <p:nvPr/>
        </p:nvPicPr>
        <p:blipFill>
          <a:blip r:embed="rId1"/>
          <a:stretch/>
        </p:blipFill>
        <p:spPr>
          <a:xfrm>
            <a:off x="611280" y="128520"/>
            <a:ext cx="7818480" cy="574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День Пионерии на Центральной площади горо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Picture 2" descr="D:\Информация\Фото\последние фото 4 класс\день здоровья 026.jpg"/>
          <p:cNvPicPr/>
          <p:nvPr/>
        </p:nvPicPr>
        <p:blipFill>
          <a:blip r:embed="rId1"/>
          <a:stretch/>
        </p:blipFill>
        <p:spPr>
          <a:xfrm>
            <a:off x="1000080" y="1071720"/>
            <a:ext cx="7215120" cy="560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Храм Дмитрия Солунского в с.Надеждино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Picture 7" descr="3кл 1в"/>
          <p:cNvPicPr/>
          <p:nvPr/>
        </p:nvPicPr>
        <p:blipFill>
          <a:blip r:embed="rId1"/>
          <a:stretch/>
        </p:blipFill>
        <p:spPr>
          <a:xfrm>
            <a:off x="1476360" y="171360"/>
            <a:ext cx="5953320" cy="613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Аксаковский историко-культурный центр «Надеждино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Picture 5" descr="3кл 1в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На Пионерской площади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8" descr="C:\Documents and Settings\Евгения\Рабочий стол\P1020742.JPG"/>
          <p:cNvPicPr/>
          <p:nvPr/>
        </p:nvPicPr>
        <p:blipFill>
          <a:blip r:embed="rId1"/>
          <a:stretch/>
        </p:blipFill>
        <p:spPr>
          <a:xfrm>
            <a:off x="428760" y="1285920"/>
            <a:ext cx="369720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Евгения\Рабочий стол\P1020743.JPG"/>
          <p:cNvPicPr/>
          <p:nvPr/>
        </p:nvPicPr>
        <p:blipFill>
          <a:blip r:embed="rId2"/>
          <a:stretch/>
        </p:blipFill>
        <p:spPr>
          <a:xfrm>
            <a:off x="4357800" y="1857240"/>
            <a:ext cx="4479840" cy="3359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770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И всё это – наш город!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Picture 2" descr="C:\Documents and Settings\Евгения\Рабочий стол\наш город 2.jpg"/>
          <p:cNvPicPr/>
          <p:nvPr/>
        </p:nvPicPr>
        <p:blipFill>
          <a:blip r:embed="rId1"/>
          <a:stretch/>
        </p:blipFill>
        <p:spPr>
          <a:xfrm>
            <a:off x="285840" y="3714840"/>
            <a:ext cx="4071960" cy="2795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Евгения\Рабочий стол\наш город.jpg"/>
          <p:cNvPicPr/>
          <p:nvPr/>
        </p:nvPicPr>
        <p:blipFill>
          <a:blip r:embed="rId2"/>
          <a:stretch/>
        </p:blipFill>
        <p:spPr>
          <a:xfrm>
            <a:off x="4857840" y="857160"/>
            <a:ext cx="4052880" cy="262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Евгения\Рабочий стол\571463769.jpg"/>
          <p:cNvPicPr/>
          <p:nvPr/>
        </p:nvPicPr>
        <p:blipFill>
          <a:blip r:embed="rId3"/>
          <a:stretch/>
        </p:blipFill>
        <p:spPr>
          <a:xfrm>
            <a:off x="4857840" y="3714840"/>
            <a:ext cx="4048200" cy="2857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Евгения\Рабочий стол\688037736.jpg"/>
          <p:cNvPicPr/>
          <p:nvPr/>
        </p:nvPicPr>
        <p:blipFill>
          <a:blip r:embed="rId4"/>
          <a:stretch/>
        </p:blipFill>
        <p:spPr>
          <a:xfrm>
            <a:off x="214200" y="78588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10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642960" y="78588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Развитая инфраструктура, сотни километров газовых сетей и новых дорог, современные школы и детские сады, учреждения культуры и здравоохранения – это сегодняшнее лицо района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реди городов Республики, Белебей - один из самых древних. Прожитые им годы стали уникальным богатством, которым нельзя не гордиться. В его биографии отмечено столько значительных событий, переплелось столько великих судеб, что среди самых древних городов не только Башкортостана, но и России, Белебей может занять почетное место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Белебей – старинный город, сохранивший в своей архитектуре некоторые дореволюционные черты, органически сливающиеся с новыми пятиэтажными жилыми домами, административным центром, учебными заведениями, учреждениями культуры, здравоохранения, бытового обслуживания насе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57168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 глубь веков уходит история города. Первое упоминание относится к 1757 году. В административной книге Оренбургской губернии новокрещенное село Белебеево определено как город Белебей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огласно народным преданиям, архивным документам и научным исследованиям основателями Белебея были чуваши, взявшие в XVII веке на договорных началах у демских башкир лесные и пахотные угодья. Благодаря строительству в селе Усень-Ивановское медеплавильного завода купца Осокина, поставлявшего медь на Екатеринбургский царский монетный двор, в 1781 году по Указу Екатерины Великой Белебей стал уездным городом Уфимской губернии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Как и другие города Башкирии, он был опорным пунктом царизма в нашем крае. Пересыльная тюрьма, православная церковь, магометанская мечеть – вот главные приметы старого Белебея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Развитию города способствовало его выгодное расположение на перекрестке дорог, ведущих в Уфу, Оренбург, Казань, Белорецк. Но рос город медленно. Кроме земледелия и скотоводства, население занималось лесным промыслом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642960" y="1071720"/>
            <a:ext cx="792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Свое новое дыхание город получил в 1955 году при открытии Шкаповского нефтяного месторождения, превратившего Белебей в индустриальный благоустроенный город нефтяников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В 1967 году в связи со строительством завода «Автонормаль» по производству комплектующих деталей для автомобилей «Жигули», Белебей начали называть городом машиностроителей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К началу 80-х в качестве главной отрасли его экономики выступает машиностроение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За успехи, достигнутые трудящимися города в хозяйственном и культурном строительстве, в 1981 году город Белебей был награжден орденом «Знак Почет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42960" y="612720"/>
            <a:ext cx="7786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Город и район бережно хранят память о людях, чья жизнь была связана с этой землей - о великом русском писателе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ергее Тимофеевиче Аксакове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авторе бессмертного словаря русского языка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ладимире Дале;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о пребывании здесь в годы гражданской войны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Ярослава Гашека и Дмитрия Фурманов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легендарного комдива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асилия Чапаев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оэтессы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Марины Цветаевой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 годы Великой Отечественной войны в Белебей была эвакуирована из Москвы военно-политическая академия им. Ленина, здесь оркестр впервые исполнил знаменитую седьмую симфонию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Дмитрия Шостакович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риехавшего в наш город на свою премье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Что же, приглашаем на экскурсию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10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Вид на город с высоты птичьего полёт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2" descr="C:\Documents and Settings\Евгения\Рабочий стол\вид сверху 3.jpg"/>
          <p:cNvPicPr/>
          <p:nvPr/>
        </p:nvPicPr>
        <p:blipFill>
          <a:blip r:embed="rId1"/>
          <a:stretch/>
        </p:blipFill>
        <p:spPr>
          <a:xfrm>
            <a:off x="428760" y="1000080"/>
            <a:ext cx="364320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Евгения\Рабочий стол\вид сверху 2.jpg"/>
          <p:cNvPicPr/>
          <p:nvPr/>
        </p:nvPicPr>
        <p:blipFill>
          <a:blip r:embed="rId2"/>
          <a:stretch/>
        </p:blipFill>
        <p:spPr>
          <a:xfrm>
            <a:off x="4929120" y="1000080"/>
            <a:ext cx="376560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вгения\Рабочий стол\вид сверху.jpg"/>
          <p:cNvPicPr/>
          <p:nvPr/>
        </p:nvPicPr>
        <p:blipFill>
          <a:blip r:embed="rId3"/>
          <a:stretch/>
        </p:blipFill>
        <p:spPr>
          <a:xfrm>
            <a:off x="500040" y="384012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Documents and Settings\Евгения\Рабочий стол\вид сверху 1.jpg"/>
          <p:cNvPicPr/>
          <p:nvPr/>
        </p:nvPicPr>
        <p:blipFill>
          <a:blip r:embed="rId4"/>
          <a:stretch/>
        </p:blipFill>
        <p:spPr>
          <a:xfrm>
            <a:off x="5000760" y="3840120"/>
            <a:ext cx="3690720" cy="2732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10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Мы у входа в краеведческий музей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2" descr="D:\Информация\Фото\музей\DSCN0385.JPG"/>
          <p:cNvPicPr/>
          <p:nvPr/>
        </p:nvPicPr>
        <p:blipFill>
          <a:blip r:embed="rId1"/>
          <a:stretch/>
        </p:blipFill>
        <p:spPr>
          <a:xfrm>
            <a:off x="785880" y="1012680"/>
            <a:ext cx="7286400" cy="546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308640"/>
            <a:ext cx="8510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В одном из залов краеведческого музе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6" descr="DSCN0178"/>
          <p:cNvPicPr/>
          <p:nvPr/>
        </p:nvPicPr>
        <p:blipFill>
          <a:blip r:embed="rId1"/>
          <a:stretch/>
        </p:blipFill>
        <p:spPr>
          <a:xfrm>
            <a:off x="1979640" y="214200"/>
            <a:ext cx="5021280" cy="6167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48:20Z</dcterms:created>
  <dc:creator>Customer</dc:creator>
  <dc:description/>
  <dc:language>en-US</dc:language>
  <cp:lastModifiedBy>nachalka</cp:lastModifiedBy>
  <dcterms:modified xsi:type="dcterms:W3CDTF">2013-11-20T06:08:11Z</dcterms:modified>
  <cp:revision>23</cp:revision>
  <dc:subject/>
  <dc:title>МихайлоАрхангельский храм</dc:title>
</cp:coreProperties>
</file>