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91C-7057-433B-A431-B8EF303686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4F4-7EBB-4011-B660-C2170D4CB7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DAA-058C-410C-AA80-B5739766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8A4-F1DF-47F5-8964-A372F076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89B-70C8-4BF6-9D6A-BA47BEBE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D133-4353-4CD1-9C9C-446BDC0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B9BF-4480-4B54-A03C-81ED5720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32E-BE35-4FC2-BC60-5C197461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D03E-7A71-415D-9E9C-DA7A3D07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9EE1-6603-43F5-88E4-A80367F4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D02F-A2C9-4306-BE35-15336A8F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5A8B-5C36-47E4-A5C4-1955209A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D347-FD8F-4460-B86A-5103CB0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19D-D39A-48B4-BA1D-86F8C9FA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F79A-0CED-4061-B00B-6FE7FAFE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E5D8-E690-4F36-BD3A-D72BB937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AAD-8D83-4444-95CD-D4C18230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5678-2ECC-4C3A-A1F9-8D8FDCAD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F42A-E193-42CE-8743-A5D6CA24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107A-B0B8-49C4-BB55-A107B917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BB5-68ED-40F3-8E44-9268B8BC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766-59A2-4A86-B55B-3663B8A1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FAE-826C-453C-8B89-A61DFB95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65A-4552-4189-A885-AB828411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CFB-BEB1-4A51-8DD9-1A3E157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B70-8E5F-424A-ABDD-E4550EE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FD3-7CBC-46B8-AF16-3E43FD5C64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4330-8D61-41E1-9A91-E58D152740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358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ff"/>
                </a:solidFill>
                <a:latin typeface="Arial"/>
                <a:ea typeface="Kartika"/>
              </a:rPr>
              <a:t>ЗНАКОМЬТЕСЬ: ГОРОД БЕЛЕБЕЙ!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571500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еводитель по «малой родин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и ученики 2а класса МАОУ СОШ№41 с. Аксаково Белебеевского района Республики Башкорто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Афанасьева Е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C:\Documents and Settings\Евгения\Рабочий стол\belebey0.jpg"/>
          <p:cNvPicPr/>
          <p:nvPr/>
        </p:nvPicPr>
        <p:blipFill>
          <a:blip r:embed="rId1"/>
          <a:stretch/>
        </p:blipFill>
        <p:spPr>
          <a:xfrm>
            <a:off x="1000080" y="928800"/>
            <a:ext cx="7072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 зале Воинской Славы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2" descr="D:\Информация\Фото\последние фото 4 класс\05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емориал «Защитникам Отечеств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4" descr="C:\Documents and Settings\Евгения\Рабочий стол\мемориал.jpg"/>
          <p:cNvPicPr/>
          <p:nvPr/>
        </p:nvPicPr>
        <p:blipFill>
          <a:blip r:embed="rId1"/>
          <a:stretch/>
        </p:blipFill>
        <p:spPr>
          <a:xfrm>
            <a:off x="214200" y="1000080"/>
            <a:ext cx="4500720" cy="300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Евгения\Рабочий стол\мемориал 2.jpg"/>
          <p:cNvPicPr/>
          <p:nvPr/>
        </p:nvPicPr>
        <p:blipFill>
          <a:blip r:embed="rId2"/>
          <a:stretch/>
        </p:blipFill>
        <p:spPr>
          <a:xfrm>
            <a:off x="4071960" y="3309840"/>
            <a:ext cx="4856040" cy="323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У памятника землякам, погибшим на полях Великой отечественной войн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2" descr="D:\Информация\Фото\новые фото\новые фото 010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8" descr="3кл 1в"/>
          <p:cNvPicPr/>
          <p:nvPr/>
        </p:nvPicPr>
        <p:blipFill>
          <a:blip r:embed="rId1"/>
          <a:stretch/>
        </p:blipFill>
        <p:spPr>
          <a:xfrm>
            <a:off x="1403280" y="163440"/>
            <a:ext cx="6597720" cy="628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381360"/>
            <a:ext cx="828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7e7ff"/>
                </a:solidFill>
                <a:latin typeface="Kartika"/>
              </a:rPr>
              <a:t>Михаило- Архангельский хра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 rot="10800000"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кл 1в"/>
          <p:cNvPicPr/>
          <p:nvPr/>
        </p:nvPicPr>
        <p:blipFill>
          <a:blip r:embed="rId1"/>
          <a:stretch/>
        </p:blipFill>
        <p:spPr>
          <a:xfrm>
            <a:off x="642960" y="357120"/>
            <a:ext cx="770904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6760" y="6237000"/>
            <a:ext cx="85107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Мечеть Хадиджи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 национальных культур «Урал-Баты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4" descr="3кл 1в"/>
          <p:cNvPicPr/>
          <p:nvPr/>
        </p:nvPicPr>
        <p:blipFill>
          <a:blip r:embed="rId1"/>
          <a:stretch/>
        </p:blipFill>
        <p:spPr>
          <a:xfrm>
            <a:off x="1000080" y="214200"/>
            <a:ext cx="6851520" cy="5808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3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альный Дворец культур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4" descr="3кл 1в"/>
          <p:cNvPicPr/>
          <p:nvPr/>
        </p:nvPicPr>
        <p:blipFill>
          <a:blip r:embed="rId1"/>
          <a:stretch/>
        </p:blipFill>
        <p:spPr>
          <a:xfrm>
            <a:off x="571680" y="285840"/>
            <a:ext cx="7929360" cy="588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21000"/>
            <a:ext cx="8510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  <a:ea typeface="Kartika"/>
              </a:rPr>
              <a:t>Кинотеатр «Ми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5" descr="3кл 1в"/>
          <p:cNvPicPr/>
          <p:nvPr/>
        </p:nvPicPr>
        <p:blipFill>
          <a:blip r:embed="rId1"/>
          <a:stretch/>
        </p:blipFill>
        <p:spPr>
          <a:xfrm>
            <a:off x="1000080" y="571680"/>
            <a:ext cx="7389720" cy="52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64336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Филиал Самарского государственного архитектурно – строительного университета (здание бывшей земской управы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Picture 4" descr="3кл 1в"/>
          <p:cNvPicPr/>
          <p:nvPr/>
        </p:nvPicPr>
        <p:blipFill>
          <a:blip r:embed="rId1"/>
          <a:stretch/>
        </p:blipFill>
        <p:spPr>
          <a:xfrm>
            <a:off x="611280" y="119160"/>
            <a:ext cx="7818480" cy="531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7120" y="5715000"/>
            <a:ext cx="8501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Kartika"/>
              </a:rPr>
              <a:t>Вот такая Бурёнка встречает гостей у проходной Белебеевского молочного комби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572680" cy="62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Здравствуйте, уважаемые гости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 города Белебея и Белебеевского района! Мы рады приветствовать вас на гостеприимной земл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евский район расположен в западной части Башкортостана, в том самом месте, где матушка-природа предупреждает землян – скоро будет Урал! А чтобы переход от степей к горам не показался резким, она украсила лик земли Бугульмино-Белебеевской возвышенностью, украсила настолько талантливо, вдохновенно, что порою, кажется – это был миг расцвета художественных дарований Творц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рода щедро наградила наш край неброской, но гармоничной красотой. «Цветущий край, благословенный…» - так образно называют белебеевцы этот живописный уголок юго-западной части Башкортостана.  Судите сами:  на небольшой территории текут 296 рек и речушек, протяженностью 760 км. Мало того, чуть ли не из-под каждого камня, валуна бьет более 100 разноголосых жизнерадостных родников и ключей со студеной вкуснейшей водой. На севере района простираются массивы  хвойных и широколиственных лесов, по долинам рек – обширные пойменные луга. На юге участки березняков и дубрав сливаются с башкирскими степями</a:t>
            </a:r>
            <a:r>
              <a:rPr b="0" lang="ru-RU" sz="1800" spc="-1" strike="noStrike">
                <a:solidFill>
                  <a:srgbClr val="2f2fff"/>
                </a:solidFill>
                <a:latin typeface="Arial"/>
                <a:ea typeface="Kartika"/>
              </a:rPr>
              <a:t>.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Белебеевский педагогический колледж 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(здание бывшего реального училища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Picture 4" descr="3кл 1в"/>
          <p:cNvPicPr/>
          <p:nvPr/>
        </p:nvPicPr>
        <p:blipFill>
          <a:blip r:embed="rId1"/>
          <a:stretch/>
        </p:blipFill>
        <p:spPr>
          <a:xfrm>
            <a:off x="611280" y="128520"/>
            <a:ext cx="7818480" cy="574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День Пионерии на Центральной площади горо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Picture 2" descr="D:\Информация\Фото\последние фото 4 класс\день здоровья 026.jpg"/>
          <p:cNvPicPr/>
          <p:nvPr/>
        </p:nvPicPr>
        <p:blipFill>
          <a:blip r:embed="rId1"/>
          <a:stretch/>
        </p:blipFill>
        <p:spPr>
          <a:xfrm>
            <a:off x="1000080" y="1071720"/>
            <a:ext cx="7215120" cy="560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Храм Дмитрия Солунского в с.Надеждино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7" descr="3кл 1в"/>
          <p:cNvPicPr/>
          <p:nvPr/>
        </p:nvPicPr>
        <p:blipFill>
          <a:blip r:embed="rId1"/>
          <a:stretch/>
        </p:blipFill>
        <p:spPr>
          <a:xfrm>
            <a:off x="1476360" y="171360"/>
            <a:ext cx="595332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Аксаковский историко-культурный центр «Надеждино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Picture 5" descr="3кл 1в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На Пионерской площади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8" descr="C:\Documents and Settings\Евгения\Рабочий стол\P1020742.JPG"/>
          <p:cNvPicPr/>
          <p:nvPr/>
        </p:nvPicPr>
        <p:blipFill>
          <a:blip r:embed="rId1"/>
          <a:stretch/>
        </p:blipFill>
        <p:spPr>
          <a:xfrm>
            <a:off x="428760" y="1285920"/>
            <a:ext cx="369720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Евгения\Рабочий стол\P1020743.JPG"/>
          <p:cNvPicPr/>
          <p:nvPr/>
        </p:nvPicPr>
        <p:blipFill>
          <a:blip r:embed="rId2"/>
          <a:stretch/>
        </p:blipFill>
        <p:spPr>
          <a:xfrm>
            <a:off x="4357800" y="1857240"/>
            <a:ext cx="4479840" cy="3359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770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И всё это – наш город!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Picture 2" descr="C:\Documents and Settings\Евгения\Рабочий стол\наш город 2.jpg"/>
          <p:cNvPicPr/>
          <p:nvPr/>
        </p:nvPicPr>
        <p:blipFill>
          <a:blip r:embed="rId1"/>
          <a:stretch/>
        </p:blipFill>
        <p:spPr>
          <a:xfrm>
            <a:off x="285840" y="3714840"/>
            <a:ext cx="4071960" cy="2795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Евгения\Рабочий стол\наш город.jpg"/>
          <p:cNvPicPr/>
          <p:nvPr/>
        </p:nvPicPr>
        <p:blipFill>
          <a:blip r:embed="rId2"/>
          <a:stretch/>
        </p:blipFill>
        <p:spPr>
          <a:xfrm>
            <a:off x="4857840" y="857160"/>
            <a:ext cx="4052880" cy="262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Евгения\Рабочий стол\571463769.jpg"/>
          <p:cNvPicPr/>
          <p:nvPr/>
        </p:nvPicPr>
        <p:blipFill>
          <a:blip r:embed="rId3"/>
          <a:stretch/>
        </p:blipFill>
        <p:spPr>
          <a:xfrm>
            <a:off x="4857840" y="3714840"/>
            <a:ext cx="4048200" cy="2857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Евгения\Рабочий стол\688037736.jpg"/>
          <p:cNvPicPr/>
          <p:nvPr/>
        </p:nvPicPr>
        <p:blipFill>
          <a:blip r:embed="rId4"/>
          <a:stretch/>
        </p:blipFill>
        <p:spPr>
          <a:xfrm>
            <a:off x="214200" y="78588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10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642960" y="78588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ая инфраструктура, сотни километров газовых сетей и новых дорог, современные школы и детские сады, учреждения культуры и здравоохранения – это сегодняшнее лицо район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реди городов Республики, Белебей - один из самых древних. Прожитые им годы стали уникальным богатством, которым нельзя не гордиться. В его биографии отмечено столько значительных событий, переплелось столько великих судеб, что среди самых древних городов не только Башкортостана, но и России, Белебей может занять почетное место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й – старинный город, сохранивший в своей архитектуре некоторые дореволюционные черты, органически сливающиеся с новыми пятиэтажными жилыми домами, административным центром, учебными заведениями, учреждениями культуры, здравоохранения, бытового обслуживания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57168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лубь веков уходит история города. Первое упоминание относится к 1757 году. В административной книге Оренбургской губернии новокрещенное село Белебеево определено как город Белеб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огласно народным преданиям, архивным документам и научным исследованиям основателями Белебея были чуваши, взявшие в XVII веке на договорных началах у демских башкир лесные и пахотные угодья. Благодаря строительству в селе Усень-Ивановское медеплавильного завода купца Осокина, поставлявшего медь на Екатеринбургский царский монетный двор, в 1781 году по Указу Екатерины Великой Белебей стал уездным городом Уфимской губернии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Как и другие города Башкирии, он был опорным пунктом царизма в нашем крае. Пересыльная тюрьма, православная церковь, магометанская мечеть – вот главные приметы старого Белебея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ию города способствовало его выгодное расположение на перекрестке дорог, ведущих в Уфу, Оренбург, Казань, Белорецк. Но рос город медленно. Кроме земледелия и скотоводства, население занималось лесным промыслом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642960" y="1071720"/>
            <a:ext cx="792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Свое новое дыхание город получил в 1955 году при открытии Шкаповского нефтяного месторождения, превратившего Белебей в индустриальный благоустроенный город нефтяников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В 1967 году в связи со строительством завода «Автонормаль» по производству комплектующих деталей для автомобилей «Жигули», Белебей начали называть городом машиностроител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К началу 80-х в качестве главной отрасли его экономики выступает машиностроени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За успехи, достигнутые трудящимися города в хозяйственном и культурном строительстве, в 1981 году город Белебей был награжден орденом «Знак Почет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42960" y="612720"/>
            <a:ext cx="7786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Город и район бережно хранят память о людях, чья жизнь была связана с этой землей - о великом русском писателе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ергее Тимофеевиче Аксакове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авторе бессмертного словаря русского язык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ладимире Дале;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о пребывании здесь в годы гражданской войн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Ярослава Гашека и Дмитрия Фурмано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легендарного комдив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асилия Чапае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оэтесс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Марины Цветаевой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оды Великой Отечественной войны в Белебей была эвакуирована из Москвы военно-политическая академия им. Ленина, здесь оркестр впервые исполнил знаменитую седьмую симфонию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Дмитрия Шостакович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ехавшего в наш город на свою премье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Что же, приглашаем на экскурсию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10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ид на город с высоты птичьего полёт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2" descr="C:\Documents and Settings\Евгения\Рабочий стол\вид сверху 3.jpg"/>
          <p:cNvPicPr/>
          <p:nvPr/>
        </p:nvPicPr>
        <p:blipFill>
          <a:blip r:embed="rId1"/>
          <a:stretch/>
        </p:blipFill>
        <p:spPr>
          <a:xfrm>
            <a:off x="428760" y="1000080"/>
            <a:ext cx="364320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вгения\Рабочий стол\вид сверху 2.jpg"/>
          <p:cNvPicPr/>
          <p:nvPr/>
        </p:nvPicPr>
        <p:blipFill>
          <a:blip r:embed="rId2"/>
          <a:stretch/>
        </p:blipFill>
        <p:spPr>
          <a:xfrm>
            <a:off x="4929120" y="1000080"/>
            <a:ext cx="376560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вгения\Рабочий стол\вид сверху.jpg"/>
          <p:cNvPicPr/>
          <p:nvPr/>
        </p:nvPicPr>
        <p:blipFill>
          <a:blip r:embed="rId3"/>
          <a:stretch/>
        </p:blipFill>
        <p:spPr>
          <a:xfrm>
            <a:off x="500040" y="384012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Евгения\Рабочий стол\вид сверху 1.jpg"/>
          <p:cNvPicPr/>
          <p:nvPr/>
        </p:nvPicPr>
        <p:blipFill>
          <a:blip r:embed="rId4"/>
          <a:stretch/>
        </p:blipFill>
        <p:spPr>
          <a:xfrm>
            <a:off x="5000760" y="3840120"/>
            <a:ext cx="3690720" cy="2732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10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ы у входа в краеведческий музе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2" descr="D:\Информация\Фото\музей\DSCN0385.JPG"/>
          <p:cNvPicPr/>
          <p:nvPr/>
        </p:nvPicPr>
        <p:blipFill>
          <a:blip r:embed="rId1"/>
          <a:stretch/>
        </p:blipFill>
        <p:spPr>
          <a:xfrm>
            <a:off x="785880" y="1012680"/>
            <a:ext cx="7286400" cy="546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308640"/>
            <a:ext cx="8510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В одном из залов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6" descr="DSCN0178"/>
          <p:cNvPicPr/>
          <p:nvPr/>
        </p:nvPicPr>
        <p:blipFill>
          <a:blip r:embed="rId1"/>
          <a:stretch/>
        </p:blipFill>
        <p:spPr>
          <a:xfrm>
            <a:off x="1979640" y="214200"/>
            <a:ext cx="5021280" cy="6167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48:20Z</dcterms:created>
  <dc:creator>Customer</dc:creator>
  <dc:description/>
  <dc:language>en-US</dc:language>
  <cp:lastModifiedBy>nachalka</cp:lastModifiedBy>
  <dcterms:modified xsi:type="dcterms:W3CDTF">2013-11-20T06:08:11Z</dcterms:modified>
  <cp:revision>23</cp:revision>
  <dc:subject/>
  <dc:title>МихайлоАрхангельский храм</dc:title>
</cp:coreProperties>
</file>