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6662-0E18-4EE1-AF44-714AE9B2D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4A36-BC4D-4FC6-B2A6-6FE5D537737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6E4-2B7B-45F5-A946-816C7036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37F-47D1-423B-868C-5DE5282B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2A92-2CE5-4D5A-9341-B00B1990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B3BC-2C9D-4800-87D4-7495F142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8955-4BB9-420C-A359-A7ADA622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51C4-4E6C-4B3D-92FD-9B3290A8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BD95-885C-4713-9086-6B14780D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B8A8-D5B0-4EB7-994F-848D255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1D2F-59BA-430E-8620-92B2FE4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0DA5-9542-4051-B3A2-68384C10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B114-8E44-4283-9A2E-555B4958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6A07-E279-4F88-BB1A-63C35594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83CB-A159-42A2-AEDA-12677F0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A412-A4A6-47A2-9010-FB647FEE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86F-3292-4AD7-9F4F-2DD757F1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3A73-CCD1-47E1-8A89-0032047D1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729C-202B-4E67-BDB2-0806A65C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BC9-8DEF-47CA-B4D0-5A7F5E39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6CA-1B85-4794-97F2-AE07AB20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3AD6-4B80-4C97-87CA-57F4C62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C7D-0AF8-426A-AE79-7021A295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DD2B-8909-40F8-984A-3CDA51F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726-7B0E-4036-A8B8-D7952FCF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7EB-C312-46E6-8B27-51770F1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ECF-049E-43EA-BD8A-75617540C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2db"/>
            </a:gs>
            <a:gs pos="100000">
              <a:srgbClr val="dded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A384-28B6-4FE7-A97A-AAB4603FE4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358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fff"/>
                </a:solidFill>
                <a:latin typeface="Arial"/>
                <a:ea typeface="Kartika"/>
              </a:rPr>
              <a:t>ЗНАКОМЬТЕСЬ: ГОРОД БЕЛЕБЕЙ!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5715000"/>
            <a:ext cx="85723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еводитель по «малой родине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и ученики 2а класса МАОУ СОШ№41 с. Аксаково Белебеевского района Республики Башкортос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Афанасьева Е.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C:\Documents and Settings\Евгения\Рабочий стол\belebey0.jpg"/>
          <p:cNvPicPr/>
          <p:nvPr/>
        </p:nvPicPr>
        <p:blipFill>
          <a:blip r:embed="rId1"/>
          <a:stretch/>
        </p:blipFill>
        <p:spPr>
          <a:xfrm>
            <a:off x="1000080" y="928800"/>
            <a:ext cx="7072200" cy="4286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 зале Воинской Славы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2" descr="D:\Информация\Фото\последние фото 4 класс\05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5104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емориал «Защитникам Отечества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9" name="Picture 4" descr="C:\Documents and Settings\Евгения\Рабочий стол\мемориал.jpg"/>
          <p:cNvPicPr/>
          <p:nvPr/>
        </p:nvPicPr>
        <p:blipFill>
          <a:blip r:embed="rId1"/>
          <a:stretch/>
        </p:blipFill>
        <p:spPr>
          <a:xfrm>
            <a:off x="214200" y="1000080"/>
            <a:ext cx="4500720" cy="300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Евгения\Рабочий стол\мемориал 2.jpg"/>
          <p:cNvPicPr/>
          <p:nvPr/>
        </p:nvPicPr>
        <p:blipFill>
          <a:blip r:embed="rId2"/>
          <a:stretch/>
        </p:blipFill>
        <p:spPr>
          <a:xfrm>
            <a:off x="4071960" y="3309840"/>
            <a:ext cx="4856040" cy="3233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У памятника землякам, погибшим на полях Великой отечественной войн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2" name="Picture 2" descr="D:\Информация\Фото\новые фото\новые фото 010.jpg"/>
          <p:cNvPicPr/>
          <p:nvPr/>
        </p:nvPicPr>
        <p:blipFill>
          <a:blip r:embed="rId1"/>
          <a:stretch/>
        </p:blipFill>
        <p:spPr>
          <a:xfrm>
            <a:off x="857160" y="1071720"/>
            <a:ext cx="7405920" cy="555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8" descr="3кл 1в"/>
          <p:cNvPicPr/>
          <p:nvPr/>
        </p:nvPicPr>
        <p:blipFill>
          <a:blip r:embed="rId1"/>
          <a:stretch/>
        </p:blipFill>
        <p:spPr>
          <a:xfrm>
            <a:off x="1403280" y="163440"/>
            <a:ext cx="6597720" cy="628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6381360"/>
            <a:ext cx="82803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b7e7ff"/>
                </a:solidFill>
                <a:latin typeface="Kartika"/>
              </a:rPr>
              <a:t>Михаило- Архангельский хра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 rot="10800000"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3кл 1в"/>
          <p:cNvPicPr/>
          <p:nvPr/>
        </p:nvPicPr>
        <p:blipFill>
          <a:blip r:embed="rId1"/>
          <a:stretch/>
        </p:blipFill>
        <p:spPr>
          <a:xfrm>
            <a:off x="642960" y="357120"/>
            <a:ext cx="7709040" cy="58579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6760" y="6237000"/>
            <a:ext cx="851076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Мечеть Хадиджи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 национальных культур «Урал-Баты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9" name="Picture 4" descr="3кл 1в"/>
          <p:cNvPicPr/>
          <p:nvPr/>
        </p:nvPicPr>
        <p:blipFill>
          <a:blip r:embed="rId1"/>
          <a:stretch/>
        </p:blipFill>
        <p:spPr>
          <a:xfrm>
            <a:off x="1000080" y="214200"/>
            <a:ext cx="6851520" cy="5808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3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Центральный Дворец культуры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Picture 4" descr="3кл 1в"/>
          <p:cNvPicPr/>
          <p:nvPr/>
        </p:nvPicPr>
        <p:blipFill>
          <a:blip r:embed="rId1"/>
          <a:stretch/>
        </p:blipFill>
        <p:spPr>
          <a:xfrm>
            <a:off x="571680" y="285840"/>
            <a:ext cx="7929360" cy="58831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21000"/>
            <a:ext cx="8510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Arial"/>
                <a:ea typeface="Kartika"/>
              </a:rPr>
              <a:t>Кинотеатр «Мир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5" descr="3кл 1в"/>
          <p:cNvPicPr/>
          <p:nvPr/>
        </p:nvPicPr>
        <p:blipFill>
          <a:blip r:embed="rId1"/>
          <a:stretch/>
        </p:blipFill>
        <p:spPr>
          <a:xfrm>
            <a:off x="1000080" y="571680"/>
            <a:ext cx="7389720" cy="5290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64336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Филиал Самарского государственного архитектурно – строительного университета (здание бывшей земской управы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Picture 4" descr="3кл 1в"/>
          <p:cNvPicPr/>
          <p:nvPr/>
        </p:nvPicPr>
        <p:blipFill>
          <a:blip r:embed="rId1"/>
          <a:stretch/>
        </p:blipFill>
        <p:spPr>
          <a:xfrm>
            <a:off x="611280" y="119160"/>
            <a:ext cx="7818480" cy="5310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7120" y="5715000"/>
            <a:ext cx="8501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Kartika"/>
              </a:rPr>
              <a:t>Вот такая Бурёнка встречает гостей у проходной Белебеевского молочного комбин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143840" cy="5357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28240"/>
            <a:ext cx="8572680" cy="627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Здравствуйте, уважаемые гости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 города Белебея и Белебеевского района! Мы рады приветствовать вас на гостеприимной земл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евский район расположен в западной части Башкортостана, в том самом месте, где матушка-природа предупреждает землян – скоро будет Урал! А чтобы переход от степей к горам не показался резким, она украсила лик земли Бугульмино-Белебеевской возвышенностью, украсила настолько талантливо, вдохновенно, что порою, кажется – это был миг расцвета художественных дарований Творц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рода щедро наградила наш край неброской, но гармоничной красотой. «Цветущий край, благословенный…» - так образно называют белебеевцы этот живописный уголок юго-западной части Башкортостана.  Судите сами:  на небольшой территории текут 296 рек и речушек, протяженностью 760 км. Мало того, чуть ли не из-под каждого камня, валуна бьет более 100 разноголосых жизнерадостных родников и ключей со студеной вкуснейшей водой. На севере района простираются массивы  хвойных и широколиственных лесов, по долинам рек – обширные пойменные луга. На юге участки березняков и дубрав сливаются с башкирскими степями</a:t>
            </a:r>
            <a:r>
              <a:rPr b="0" lang="ru-RU" sz="1800" spc="-1" strike="noStrike">
                <a:solidFill>
                  <a:srgbClr val="2f2fff"/>
                </a:solidFill>
                <a:latin typeface="Arial"/>
                <a:ea typeface="Kartika"/>
              </a:rPr>
              <a:t>.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Белебеевский педагогический колледж </a:t>
            </a:r>
            <a:br>
              <a:rPr sz="2800"/>
            </a:b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(здание бывшего реального училища)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0" name="Picture 4" descr="3кл 1в"/>
          <p:cNvPicPr/>
          <p:nvPr/>
        </p:nvPicPr>
        <p:blipFill>
          <a:blip r:embed="rId1"/>
          <a:stretch/>
        </p:blipFill>
        <p:spPr>
          <a:xfrm>
            <a:off x="611280" y="128520"/>
            <a:ext cx="7818480" cy="574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День Пионерии на Центральной площади город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2" name="Picture 2" descr="D:\Информация\Фото\последние фото 4 класс\день здоровья 026.jpg"/>
          <p:cNvPicPr/>
          <p:nvPr/>
        </p:nvPicPr>
        <p:blipFill>
          <a:blip r:embed="rId1"/>
          <a:stretch/>
        </p:blipFill>
        <p:spPr>
          <a:xfrm>
            <a:off x="1000080" y="1071720"/>
            <a:ext cx="7215120" cy="56019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237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Храм Дмитрия Солунского в с.Надеждино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4" name="Picture 7" descr="3кл 1в"/>
          <p:cNvPicPr/>
          <p:nvPr/>
        </p:nvPicPr>
        <p:blipFill>
          <a:blip r:embed="rId1"/>
          <a:stretch/>
        </p:blipFill>
        <p:spPr>
          <a:xfrm>
            <a:off x="1476360" y="171360"/>
            <a:ext cx="5953320" cy="6137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Аксаковский историко-культурный центр «Надеждино»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6" name="Picture 5" descr="3кл 1в"/>
          <p:cNvPicPr/>
          <p:nvPr/>
        </p:nvPicPr>
        <p:blipFill>
          <a:blip r:embed="rId1"/>
          <a:stretch/>
        </p:blipFill>
        <p:spPr>
          <a:xfrm>
            <a:off x="250920" y="981000"/>
            <a:ext cx="8713800" cy="446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На Пионерской площади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8" name="Picture 8" descr="C:\Documents and Settings\Евгения\Рабочий стол\P1020742.JPG"/>
          <p:cNvPicPr/>
          <p:nvPr/>
        </p:nvPicPr>
        <p:blipFill>
          <a:blip r:embed="rId1"/>
          <a:stretch/>
        </p:blipFill>
        <p:spPr>
          <a:xfrm>
            <a:off x="428760" y="1285920"/>
            <a:ext cx="369720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C:\Documents and Settings\Евгения\Рабочий стол\P1020743.JPG"/>
          <p:cNvPicPr/>
          <p:nvPr/>
        </p:nvPicPr>
        <p:blipFill>
          <a:blip r:embed="rId2"/>
          <a:stretch/>
        </p:blipFill>
        <p:spPr>
          <a:xfrm>
            <a:off x="4357800" y="1857240"/>
            <a:ext cx="4479840" cy="3359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7770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И всё это – наш город!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1" name="Picture 2" descr="C:\Documents and Settings\Евгения\Рабочий стол\наш город 2.jpg"/>
          <p:cNvPicPr/>
          <p:nvPr/>
        </p:nvPicPr>
        <p:blipFill>
          <a:blip r:embed="rId1"/>
          <a:stretch/>
        </p:blipFill>
        <p:spPr>
          <a:xfrm>
            <a:off x="285840" y="3714840"/>
            <a:ext cx="4071960" cy="2795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Documents and Settings\Евгения\Рабочий стол\наш город.jpg"/>
          <p:cNvPicPr/>
          <p:nvPr/>
        </p:nvPicPr>
        <p:blipFill>
          <a:blip r:embed="rId2"/>
          <a:stretch/>
        </p:blipFill>
        <p:spPr>
          <a:xfrm>
            <a:off x="4857840" y="857160"/>
            <a:ext cx="4052880" cy="262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Documents and Settings\Евгения\Рабочий стол\571463769.jpg"/>
          <p:cNvPicPr/>
          <p:nvPr/>
        </p:nvPicPr>
        <p:blipFill>
          <a:blip r:embed="rId3"/>
          <a:stretch/>
        </p:blipFill>
        <p:spPr>
          <a:xfrm>
            <a:off x="4857840" y="3714840"/>
            <a:ext cx="4048200" cy="2857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:\Documents and Settings\Евгения\Рабочий стол\688037736.jpg"/>
          <p:cNvPicPr/>
          <p:nvPr/>
        </p:nvPicPr>
        <p:blipFill>
          <a:blip r:embed="rId4"/>
          <a:stretch/>
        </p:blipFill>
        <p:spPr>
          <a:xfrm>
            <a:off x="214200" y="785880"/>
            <a:ext cx="4143600" cy="2762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571320"/>
            <a:ext cx="85104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2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642960" y="78588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ая инфраструктура, сотни километров газовых сетей и новых дорог, современные школы и детские сады, учреждения культуры и здравоохранения – это сегодняшнее лицо района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реди городов Республики, Белебей - один из самых древних. Прожитые им годы стали уникальным богатством, которым нельзя не гордиться. В его биографии отмечено столько значительных событий, переплелось столько великих судеб, что среди самых древних городов не только Башкортостана, но и России, Белебей может занять почетное место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Белебей – старинный город, сохранивший в своей архитектуре некоторые дореволюционные черты, органически сливающиеся с новыми пятиэтажными жилыми домами, административным центром, учебными заведениями, учреждениями культуры, здравоохранения, бытового обслуживания насе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571680"/>
            <a:ext cx="86439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лубь веков уходит история города. Первое упоминание относится к 1757 году. В административной книге Оренбургской губернии новокрещенное село Белебеево определено как город Белеб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огласно народным преданиям, архивным документам и научным исследованиям основателями Белебея были чуваши, взявшие в XVII веке на договорных началах у демских башкир лесные и пахотные угодья. Благодаря строительству в селе Усень-Ивановское медеплавильного завода купца Осокина, поставлявшего медь на Екатеринбургский царский монетный двор, в 1781 году по Указу Екатерины Великой Белебей стал уездным городом Уфимской губернии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Как и другие города Башкирии, он был опорным пунктом царизма в нашем крае. Пересыльная тюрьма, православная церковь, магометанская мечеть – вот главные приметы старого Белебея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Развитию города способствовало его выгодное расположение на перекрестке дорог, ведущих в Уфу, Оренбург, Казань, Белорецк. Но рос город медленно. Кроме земледелия и скотоводства, население занималось лесным промыслом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642960" y="1071720"/>
            <a:ext cx="7929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Свое новое дыхание город получил в 1955 году при открытии Шкаповского нефтяного месторождения, превратившего Белебей в индустриальный благоустроенный город нефтяников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В 1967 году в связи со строительством завода «Автонормаль» по производству комплектующих деталей для автомобилей «Жигули», Белебей начали называть городом машиностроителей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К началу 80-х в качестве главной отрасли его экономики выступает машиностроение. </a:t>
            </a:r>
            <a:br>
              <a:rPr sz="2000"/>
            </a:br>
            <a:r>
              <a:rPr b="0" lang="ru-RU" sz="2000" spc="-1" strike="noStrike">
                <a:solidFill>
                  <a:srgbClr val="2f2fff"/>
                </a:solidFill>
                <a:latin typeface="Arial"/>
              </a:rPr>
              <a:t>За успехи, достигнутые трудящимися города в хозяйственном и культурном строительстве, в 1981 году город Белебей был награжден орденом «Знак Почет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642960" y="612720"/>
            <a:ext cx="7786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Город и район бережно хранят память о людях, чья жизнь была связана с этой землей - о великом русском писателе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Сергее Тимофеевиче Аксакове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авторе бессмертного словаря русского язык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ладимире Дале;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о пребывании здесь в годы гражданской войн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Ярослава Гашека и Дмитрия Фурмано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легендарного комдива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асилия Чапаев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оэтессы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Марины Цветаевой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В годы Великой Отечественной войны в Белебей была эвакуирована из Москвы военно-политическая академия им. Ленина, здесь оркестр впервые исполнил знаменитую седьмую симфонию </a:t>
            </a:r>
            <a:r>
              <a:rPr b="1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Дмитрия Шостаковича, </a:t>
            </a: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приехавшего в наш город на свою премье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fff"/>
                </a:solidFill>
                <a:latin typeface="Arial"/>
                <a:ea typeface="Kartika"/>
              </a:rPr>
              <a:t>Что же, приглашаем на экскурсию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107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Вид на город с высоты птичьего полёта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8" name="Picture 2" descr="C:\Documents and Settings\Евгения\Рабочий стол\вид сверху 3.jpg"/>
          <p:cNvPicPr/>
          <p:nvPr/>
        </p:nvPicPr>
        <p:blipFill>
          <a:blip r:embed="rId1"/>
          <a:stretch/>
        </p:blipFill>
        <p:spPr>
          <a:xfrm>
            <a:off x="428760" y="1000080"/>
            <a:ext cx="364320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Евгения\Рабочий стол\вид сверху 2.jpg"/>
          <p:cNvPicPr/>
          <p:nvPr/>
        </p:nvPicPr>
        <p:blipFill>
          <a:blip r:embed="rId2"/>
          <a:stretch/>
        </p:blipFill>
        <p:spPr>
          <a:xfrm>
            <a:off x="4929120" y="1000080"/>
            <a:ext cx="3765600" cy="2610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Евгения\Рабочий стол\вид сверху.jpg"/>
          <p:cNvPicPr/>
          <p:nvPr/>
        </p:nvPicPr>
        <p:blipFill>
          <a:blip r:embed="rId3"/>
          <a:stretch/>
        </p:blipFill>
        <p:spPr>
          <a:xfrm>
            <a:off x="500040" y="3840120"/>
            <a:ext cx="3643200" cy="2732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C:\Documents and Settings\Евгения\Рабочий стол\вид сверху 1.jpg"/>
          <p:cNvPicPr/>
          <p:nvPr/>
        </p:nvPicPr>
        <p:blipFill>
          <a:blip r:embed="rId4"/>
          <a:stretch/>
        </p:blipFill>
        <p:spPr>
          <a:xfrm>
            <a:off x="5000760" y="3840120"/>
            <a:ext cx="3690720" cy="2732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5107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  <a:ea typeface="Kartika"/>
              </a:rPr>
              <a:t>Мы у входа в краеведческий музей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3" name="Picture 2" descr="D:\Информация\Фото\музей\DSCN0385.JPG"/>
          <p:cNvPicPr/>
          <p:nvPr/>
        </p:nvPicPr>
        <p:blipFill>
          <a:blip r:embed="rId1"/>
          <a:stretch/>
        </p:blipFill>
        <p:spPr>
          <a:xfrm>
            <a:off x="785880" y="1012680"/>
            <a:ext cx="7286400" cy="54644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308640"/>
            <a:ext cx="85104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Kartika"/>
              </a:rPr>
              <a:t>В одном из залов краеведческого музея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Picture 6" descr="DSCN0178"/>
          <p:cNvPicPr/>
          <p:nvPr/>
        </p:nvPicPr>
        <p:blipFill>
          <a:blip r:embed="rId1"/>
          <a:stretch/>
        </p:blipFill>
        <p:spPr>
          <a:xfrm>
            <a:off x="1979640" y="214200"/>
            <a:ext cx="5021280" cy="6167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48:20Z</dcterms:created>
  <dc:creator>Customer</dc:creator>
  <dc:description/>
  <dc:language>en-US</dc:language>
  <cp:lastModifiedBy>nachalka</cp:lastModifiedBy>
  <dcterms:modified xsi:type="dcterms:W3CDTF">2013-11-20T06:08:11Z</dcterms:modified>
  <cp:revision>23</cp:revision>
  <dc:subject/>
  <dc:title>МихайлоАрхангельский храм</dc:title>
</cp:coreProperties>
</file>