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BB35-5396-4407-9ABA-F4D96185B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944892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EE9D-B547-48AE-B22B-04A9B9C4E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A51-CA10-4497-AFBC-F432893A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B85-D0F2-4B7A-B829-3C7D95B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344-C483-443D-882B-FB96C579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AB0-5E7F-41EA-9C55-85941ABD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099-47C9-4E7E-9417-111497C8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F56-7613-4D62-AF9E-6DE28804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AC0-30C9-41E9-91DF-7035482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A53-1F49-4858-8427-4095D13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9CE-1C68-4F46-8CE4-78122300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E7F-1699-416A-A242-7B34CC3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2A8-9DD8-4FB9-AFE1-069D355E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DA7-107F-4132-851D-CA812EF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839-672B-4F5A-A4AA-C087BC673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16.wmf"/><Relationship Id="rId6" Type="http://schemas.openxmlformats.org/officeDocument/2006/relationships/image" Target="../media/image20.png"/><Relationship Id="rId7" Type="http://schemas.openxmlformats.org/officeDocument/2006/relationships/image" Target="../media/image18.wmf"/><Relationship Id="rId8" Type="http://schemas.openxmlformats.org/officeDocument/2006/relationships/image" Target="../media/image21.png"/><Relationship Id="rId9" Type="http://schemas.openxmlformats.org/officeDocument/2006/relationships/image" Target="../media/image16.wmf"/><Relationship Id="rId10" Type="http://schemas.openxmlformats.org/officeDocument/2006/relationships/image" Target="../media/image22.png"/><Relationship Id="rId11" Type="http://schemas.openxmlformats.org/officeDocument/2006/relationships/image" Target="../media/image18.wmf"/><Relationship Id="rId12" Type="http://schemas.openxmlformats.org/officeDocument/2006/relationships/image" Target="../media/image23.png"/><Relationship Id="rId13" Type="http://schemas.openxmlformats.org/officeDocument/2006/relationships/image" Target="../media/image16.wmf"/><Relationship Id="rId14" Type="http://schemas.openxmlformats.org/officeDocument/2006/relationships/image" Target="../media/image24.png"/><Relationship Id="rId15" Type="http://schemas.openxmlformats.org/officeDocument/2006/relationships/image" Target="../media/image18.wmf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39.png"/><Relationship Id="rId5" Type="http://schemas.openxmlformats.org/officeDocument/2006/relationships/image" Target="../media/image16.wmf"/><Relationship Id="rId6" Type="http://schemas.openxmlformats.org/officeDocument/2006/relationships/image" Target="../media/image20.png"/><Relationship Id="rId7" Type="http://schemas.openxmlformats.org/officeDocument/2006/relationships/image" Target="../media/image18.wmf"/><Relationship Id="rId8" Type="http://schemas.openxmlformats.org/officeDocument/2006/relationships/image" Target="../media/image40.png"/><Relationship Id="rId9" Type="http://schemas.openxmlformats.org/officeDocument/2006/relationships/image" Target="../media/image16.wmf"/><Relationship Id="rId10" Type="http://schemas.openxmlformats.org/officeDocument/2006/relationships/image" Target="../media/image22.png"/><Relationship Id="rId11" Type="http://schemas.openxmlformats.org/officeDocument/2006/relationships/image" Target="../media/image18.wmf"/><Relationship Id="rId12" Type="http://schemas.openxmlformats.org/officeDocument/2006/relationships/image" Target="../media/image41.png"/><Relationship Id="rId13" Type="http://schemas.openxmlformats.org/officeDocument/2006/relationships/image" Target="../media/image16.wmf"/><Relationship Id="rId14" Type="http://schemas.openxmlformats.org/officeDocument/2006/relationships/image" Target="../media/image24.png"/><Relationship Id="rId15" Type="http://schemas.openxmlformats.org/officeDocument/2006/relationships/image" Target="../media/image18.wmf"/><Relationship Id="rId16" Type="http://schemas.openxmlformats.org/officeDocument/2006/relationships/image" Target="../media/image42.pn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573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 информационных технологий  обучения в процессе формирования  и  развития универсальных учебных действий учащихся на уроках информатики и И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5516640"/>
            <a:ext cx="831672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сеева Еле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1547640" y="2349360"/>
            <a:ext cx="5759640" cy="16560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692360" y="1125360"/>
            <a:ext cx="5790960" cy="100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138"/>
              </a:gs>
              <a:gs pos="5000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иды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250920" y="3213000"/>
            <a:ext cx="2376000" cy="1590480"/>
            <a:chOff x="250920" y="3213000"/>
            <a:chExt cx="2376000" cy="1590480"/>
          </a:xfrm>
        </p:grpSpPr>
        <p:pic>
          <p:nvPicPr>
            <p:cNvPr id="136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448920" y="4549680"/>
              <a:ext cx="1999440" cy="2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7"/>
            <p:cNvSpPr/>
            <p:nvPr/>
          </p:nvSpPr>
          <p:spPr>
            <a:xfrm>
              <a:off x="250920" y="3213000"/>
              <a:ext cx="2376000" cy="1453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02400" y="3247200"/>
              <a:ext cx="2265840" cy="1387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390240" y="3297960"/>
              <a:ext cx="2048760" cy="1253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302400" y="3297960"/>
              <a:ext cx="1503720" cy="91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Text Box 11" descr=""/>
          <p:cNvPicPr/>
          <p:nvPr/>
        </p:nvPicPr>
        <p:blipFill>
          <a:blip r:embed="rId4"/>
          <a:stretch/>
        </p:blipFill>
        <p:spPr>
          <a:xfrm>
            <a:off x="390600" y="3786120"/>
            <a:ext cx="2028600" cy="51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2"/>
          <p:cNvGrpSpPr/>
          <p:nvPr/>
        </p:nvGrpSpPr>
        <p:grpSpPr>
          <a:xfrm>
            <a:off x="1403280" y="4508640"/>
            <a:ext cx="2663640" cy="1872360"/>
            <a:chOff x="1403280" y="4508640"/>
            <a:chExt cx="2663640" cy="1872360"/>
          </a:xfrm>
        </p:grpSpPr>
        <p:pic>
          <p:nvPicPr>
            <p:cNvPr id="143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1625400" y="6082200"/>
              <a:ext cx="22413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Oval 14"/>
            <p:cNvSpPr/>
            <p:nvPr/>
          </p:nvSpPr>
          <p:spPr>
            <a:xfrm>
              <a:off x="1403280" y="4508640"/>
              <a:ext cx="2663640" cy="1711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1460880" y="4548600"/>
              <a:ext cx="2540160" cy="163404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1559520" y="4608720"/>
              <a:ext cx="2296800" cy="14756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7" descr="Picture1"/>
            <p:cNvPicPr/>
            <p:nvPr/>
          </p:nvPicPr>
          <p:blipFill>
            <a:blip r:embed="rId7"/>
            <a:stretch/>
          </p:blipFill>
          <p:spPr>
            <a:xfrm>
              <a:off x="1460880" y="4608720"/>
              <a:ext cx="1685880" cy="108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Text Box 18" descr=""/>
          <p:cNvPicPr/>
          <p:nvPr/>
        </p:nvPicPr>
        <p:blipFill>
          <a:blip r:embed="rId8"/>
          <a:stretch/>
        </p:blipFill>
        <p:spPr>
          <a:xfrm>
            <a:off x="1616040" y="5151600"/>
            <a:ext cx="2316240" cy="6588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9"/>
          <p:cNvGrpSpPr/>
          <p:nvPr/>
        </p:nvGrpSpPr>
        <p:grpSpPr>
          <a:xfrm>
            <a:off x="4211640" y="4508640"/>
            <a:ext cx="2808000" cy="1950480"/>
            <a:chOff x="4211640" y="4508640"/>
            <a:chExt cx="2808000" cy="1950480"/>
          </a:xfrm>
        </p:grpSpPr>
        <p:pic>
          <p:nvPicPr>
            <p:cNvPr id="150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4445640" y="6147720"/>
              <a:ext cx="236304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21"/>
            <p:cNvSpPr/>
            <p:nvPr/>
          </p:nvSpPr>
          <p:spPr>
            <a:xfrm>
              <a:off x="4211640" y="4508640"/>
              <a:ext cx="2808000" cy="17820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2"/>
            <p:cNvSpPr/>
            <p:nvPr/>
          </p:nvSpPr>
          <p:spPr>
            <a:xfrm>
              <a:off x="4272480" y="4550400"/>
              <a:ext cx="2677680" cy="170172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376520" y="4612680"/>
              <a:ext cx="2421000" cy="153684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4" descr="Picture1"/>
            <p:cNvPicPr/>
            <p:nvPr/>
          </p:nvPicPr>
          <p:blipFill>
            <a:blip r:embed="rId11"/>
            <a:stretch/>
          </p:blipFill>
          <p:spPr>
            <a:xfrm>
              <a:off x="4272480" y="4612680"/>
              <a:ext cx="1777320" cy="11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Text Box 25" descr=""/>
          <p:cNvPicPr/>
          <p:nvPr/>
        </p:nvPicPr>
        <p:blipFill>
          <a:blip r:embed="rId12"/>
          <a:stretch/>
        </p:blipFill>
        <p:spPr>
          <a:xfrm>
            <a:off x="4352760" y="5151600"/>
            <a:ext cx="2535480" cy="8046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6"/>
          <p:cNvGrpSpPr/>
          <p:nvPr/>
        </p:nvGrpSpPr>
        <p:grpSpPr>
          <a:xfrm>
            <a:off x="6156360" y="3213000"/>
            <a:ext cx="2663280" cy="1834920"/>
            <a:chOff x="6156360" y="3213000"/>
            <a:chExt cx="2663280" cy="1834920"/>
          </a:xfrm>
        </p:grpSpPr>
        <p:pic>
          <p:nvPicPr>
            <p:cNvPr id="157" name="Picture 27" descr="Picture2"/>
            <p:cNvPicPr/>
            <p:nvPr/>
          </p:nvPicPr>
          <p:blipFill>
            <a:blip r:embed="rId13"/>
            <a:stretch/>
          </p:blipFill>
          <p:spPr>
            <a:xfrm>
              <a:off x="6378480" y="4754880"/>
              <a:ext cx="224100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val 28"/>
            <p:cNvSpPr/>
            <p:nvPr/>
          </p:nvSpPr>
          <p:spPr>
            <a:xfrm>
              <a:off x="6156360" y="3213000"/>
              <a:ext cx="2663280" cy="16765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>
              <a:off x="6213960" y="3252240"/>
              <a:ext cx="2539800" cy="160092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0"/>
            <p:cNvSpPr/>
            <p:nvPr/>
          </p:nvSpPr>
          <p:spPr>
            <a:xfrm>
              <a:off x="6312600" y="3310920"/>
              <a:ext cx="2296440" cy="144576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31" descr="Picture1"/>
            <p:cNvPicPr/>
            <p:nvPr/>
          </p:nvPicPr>
          <p:blipFill>
            <a:blip r:embed="rId15"/>
            <a:stretch/>
          </p:blipFill>
          <p:spPr>
            <a:xfrm>
              <a:off x="6213960" y="3310920"/>
              <a:ext cx="1685520" cy="106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Text Box 32" descr=""/>
          <p:cNvPicPr/>
          <p:nvPr/>
        </p:nvPicPr>
        <p:blipFill>
          <a:blip r:embed="rId16"/>
          <a:stretch/>
        </p:blipFill>
        <p:spPr>
          <a:xfrm>
            <a:off x="6224760" y="3786120"/>
            <a:ext cx="2528640" cy="730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1440" y="1268280"/>
            <a:ext cx="2987640" cy="4681080"/>
            <a:chOff x="1440" y="1268280"/>
            <a:chExt cx="2987640" cy="4681080"/>
          </a:xfrm>
        </p:grpSpPr>
        <p:sp>
          <p:nvSpPr>
            <p:cNvPr id="165" name="AutoShape 4"/>
            <p:cNvSpPr/>
            <p:nvPr/>
          </p:nvSpPr>
          <p:spPr>
            <a:xfrm>
              <a:off x="179640" y="1625040"/>
              <a:ext cx="2764440" cy="3314880"/>
            </a:xfrm>
            <a:custGeom>
              <a:avLst/>
              <a:gdLst>
                <a:gd name="textAreaLeft" fmla="*/ 141480 w 2764440"/>
                <a:gd name="textAreaRight" fmla="*/ 2622960 w 2764440"/>
                <a:gd name="textAreaTop" fmla="*/ 141480 h 3314880"/>
                <a:gd name="textAreaBottom" fmla="*/ 3173400 h 3314880"/>
              </a:gdLst>
              <a:ahLst/>
              <a:rect l="textAreaLeft" t="textAreaTop" r="textAreaRight" b="textAreaBottom"/>
              <a:pathLst>
                <a:path w="21600" h="25900">
                  <a:moveTo>
                    <a:pt x="3782" y="0"/>
                  </a:moveTo>
                  <a:arcTo wR="3782" hR="3782" stAng="16200000" swAng="-5400000"/>
                  <a:lnTo>
                    <a:pt x="0" y="22118"/>
                  </a:lnTo>
                  <a:arcTo wR="3782" hR="3782" stAng="10800000" swAng="-5400000"/>
                  <a:lnTo>
                    <a:pt x="17818" y="2590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5"/>
            <p:cNvSpPr/>
            <p:nvPr/>
          </p:nvSpPr>
          <p:spPr>
            <a:xfrm>
              <a:off x="222480" y="1634760"/>
              <a:ext cx="2681280" cy="3251880"/>
            </a:xfrm>
            <a:custGeom>
              <a:avLst/>
              <a:gdLst>
                <a:gd name="textAreaLeft" fmla="*/ 130680 w 2681280"/>
                <a:gd name="textAreaRight" fmla="*/ 2550600 w 2681280"/>
                <a:gd name="textAreaTop" fmla="*/ 130680 h 3251880"/>
                <a:gd name="textAreaBottom" fmla="*/ 3121200 h 325188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"/>
            <p:cNvSpPr/>
            <p:nvPr/>
          </p:nvSpPr>
          <p:spPr>
            <a:xfrm>
              <a:off x="244440" y="4028760"/>
              <a:ext cx="2644920" cy="82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244440" y="1660320"/>
              <a:ext cx="2644920" cy="82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"/>
            <p:cNvSpPr/>
            <p:nvPr/>
          </p:nvSpPr>
          <p:spPr>
            <a:xfrm>
              <a:off x="187920" y="4940280"/>
              <a:ext cx="2764440" cy="10090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"/>
            <p:cNvSpPr/>
            <p:nvPr/>
          </p:nvSpPr>
          <p:spPr>
            <a:xfrm>
              <a:off x="244440" y="4968000"/>
              <a:ext cx="2644920" cy="82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0"/>
            <p:cNvGrpSpPr/>
            <p:nvPr/>
          </p:nvGrpSpPr>
          <p:grpSpPr>
            <a:xfrm>
              <a:off x="1131120" y="1268280"/>
              <a:ext cx="821520" cy="745560"/>
              <a:chOff x="1131120" y="1268280"/>
              <a:chExt cx="821520" cy="745560"/>
            </a:xfrm>
          </p:grpSpPr>
          <p:sp>
            <p:nvSpPr>
              <p:cNvPr id="172" name="Oval 11"/>
              <p:cNvSpPr/>
              <p:nvPr/>
            </p:nvSpPr>
            <p:spPr>
              <a:xfrm>
                <a:off x="1131120" y="1268280"/>
                <a:ext cx="821520" cy="74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2"/>
              <p:cNvSpPr/>
              <p:nvPr/>
            </p:nvSpPr>
            <p:spPr>
              <a:xfrm>
                <a:off x="1139760" y="1274760"/>
                <a:ext cx="794520" cy="721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3"/>
              <p:cNvSpPr/>
              <p:nvPr/>
            </p:nvSpPr>
            <p:spPr>
              <a:xfrm>
                <a:off x="1149480" y="1279080"/>
                <a:ext cx="775800" cy="704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4"/>
              <p:cNvSpPr/>
              <p:nvPr/>
            </p:nvSpPr>
            <p:spPr>
              <a:xfrm>
                <a:off x="1158120" y="1284840"/>
                <a:ext cx="737640" cy="65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5"/>
              <p:cNvSpPr/>
              <p:nvPr/>
            </p:nvSpPr>
            <p:spPr>
              <a:xfrm>
                <a:off x="1200960" y="1302840"/>
                <a:ext cx="655560" cy="53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6"/>
            <p:cNvSpPr/>
            <p:nvPr/>
          </p:nvSpPr>
          <p:spPr>
            <a:xfrm>
              <a:off x="1341720" y="1374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1440" y="2152080"/>
              <a:ext cx="29876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2916360" y="1700280"/>
            <a:ext cx="3167640" cy="4825440"/>
            <a:chOff x="2916360" y="1700280"/>
            <a:chExt cx="3167640" cy="4825440"/>
          </a:xfrm>
        </p:grpSpPr>
        <p:sp>
          <p:nvSpPr>
            <p:cNvPr id="180" name="AutoShape 19"/>
            <p:cNvSpPr/>
            <p:nvPr/>
          </p:nvSpPr>
          <p:spPr>
            <a:xfrm>
              <a:off x="2988720" y="2068200"/>
              <a:ext cx="3090960" cy="3417120"/>
            </a:xfrm>
            <a:custGeom>
              <a:avLst/>
              <a:gdLst>
                <a:gd name="textAreaLeft" fmla="*/ 158400 w 3090960"/>
                <a:gd name="textAreaRight" fmla="*/ 2932560 w 3090960"/>
                <a:gd name="textAreaTop" fmla="*/ 158400 h 3417120"/>
                <a:gd name="textAreaBottom" fmla="*/ 3258720 h 3417120"/>
              </a:gdLst>
              <a:ahLst/>
              <a:rect l="textAreaLeft" t="textAreaTop" r="textAreaRight" b="textAreaBottom"/>
              <a:pathLst>
                <a:path w="21600" h="23879">
                  <a:moveTo>
                    <a:pt x="3782" y="0"/>
                  </a:moveTo>
                  <a:arcTo wR="3782" hR="3782" stAng="16200000" swAng="-5400000"/>
                  <a:lnTo>
                    <a:pt x="0" y="20097"/>
                  </a:lnTo>
                  <a:arcTo wR="3782" hR="3782" stAng="10800000" swAng="-5400000"/>
                  <a:lnTo>
                    <a:pt x="17818" y="2387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66af35"/>
                </a:gs>
                <a:gs pos="100000">
                  <a:srgbClr val="588d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0"/>
            <p:cNvSpPr/>
            <p:nvPr/>
          </p:nvSpPr>
          <p:spPr>
            <a:xfrm>
              <a:off x="3035880" y="2077920"/>
              <a:ext cx="2998440" cy="3351960"/>
            </a:xfrm>
            <a:custGeom>
              <a:avLst/>
              <a:gdLst>
                <a:gd name="textAreaLeft" fmla="*/ 146160 w 2998440"/>
                <a:gd name="textAreaRight" fmla="*/ 2852280 w 2998440"/>
                <a:gd name="textAreaTop" fmla="*/ 146160 h 3351960"/>
                <a:gd name="textAreaBottom" fmla="*/ 3205800 h 3351960"/>
              </a:gdLst>
              <a:ahLst/>
              <a:rect l="textAreaLeft" t="textAreaTop" r="textAreaRight" b="textAreaBottom"/>
              <a:pathLst>
                <a:path w="21600" h="24146">
                  <a:moveTo>
                    <a:pt x="3600" y="0"/>
                  </a:moveTo>
                  <a:arcTo wR="3600" hR="3600" stAng="16200000" swAng="-5400000"/>
                  <a:lnTo>
                    <a:pt x="0" y="20546"/>
                  </a:lnTo>
                  <a:arcTo wR="3600" hR="3600" stAng="10800000" swAng="-5400000"/>
                  <a:lnTo>
                    <a:pt x="18000" y="24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1"/>
            <p:cNvSpPr/>
            <p:nvPr/>
          </p:nvSpPr>
          <p:spPr>
            <a:xfrm>
              <a:off x="3061080" y="4545720"/>
              <a:ext cx="2957040" cy="848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7e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2"/>
            <p:cNvSpPr/>
            <p:nvPr/>
          </p:nvSpPr>
          <p:spPr>
            <a:xfrm>
              <a:off x="3061080" y="2104200"/>
              <a:ext cx="295704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2c1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4052160" y="1700280"/>
              <a:ext cx="918360" cy="768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4061160" y="1705680"/>
              <a:ext cx="889200" cy="744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073040" y="1709640"/>
              <a:ext cx="867960" cy="726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4081680" y="1717200"/>
              <a:ext cx="825480" cy="67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4131360" y="1736280"/>
              <a:ext cx="732600" cy="55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4254120" y="1810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9"/>
            <p:cNvSpPr/>
            <p:nvPr/>
          </p:nvSpPr>
          <p:spPr>
            <a:xfrm>
              <a:off x="2916360" y="2611440"/>
              <a:ext cx="31201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30"/>
            <p:cNvSpPr/>
            <p:nvPr/>
          </p:nvSpPr>
          <p:spPr>
            <a:xfrm>
              <a:off x="2992680" y="5485320"/>
              <a:ext cx="3091320" cy="1040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31"/>
            <p:cNvSpPr/>
            <p:nvPr/>
          </p:nvSpPr>
          <p:spPr>
            <a:xfrm>
              <a:off x="3056760" y="5513760"/>
              <a:ext cx="295704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6084720" y="1341360"/>
            <a:ext cx="2879640" cy="4606560"/>
            <a:chOff x="6084720" y="1341360"/>
            <a:chExt cx="2879640" cy="4606560"/>
          </a:xfrm>
        </p:grpSpPr>
        <p:sp>
          <p:nvSpPr>
            <p:cNvPr id="194" name="AutoShape 33"/>
            <p:cNvSpPr/>
            <p:nvPr/>
          </p:nvSpPr>
          <p:spPr>
            <a:xfrm>
              <a:off x="6092640" y="1692720"/>
              <a:ext cx="2871720" cy="3261960"/>
            </a:xfrm>
            <a:custGeom>
              <a:avLst/>
              <a:gdLst>
                <a:gd name="textAreaLeft" fmla="*/ 147240 w 2871720"/>
                <a:gd name="textAreaRight" fmla="*/ 2724480 w 2871720"/>
                <a:gd name="textAreaTop" fmla="*/ 147240 h 3261960"/>
                <a:gd name="textAreaBottom" fmla="*/ 3114720 h 3261960"/>
              </a:gdLst>
              <a:ahLst/>
              <a:rect l="textAreaLeft" t="textAreaTop" r="textAreaRight" b="textAreaBottom"/>
              <a:pathLst>
                <a:path w="21600" h="24535">
                  <a:moveTo>
                    <a:pt x="3782" y="0"/>
                  </a:moveTo>
                  <a:arcTo wR="3782" hR="3782" stAng="16200000" swAng="-5400000"/>
                  <a:lnTo>
                    <a:pt x="0" y="20753"/>
                  </a:lnTo>
                  <a:arcTo wR="3782" hR="3782" stAng="10800000" swAng="-5400000"/>
                  <a:lnTo>
                    <a:pt x="17818" y="2453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c16237"/>
                </a:gs>
                <a:gs pos="100000">
                  <a:srgbClr val="ab4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4"/>
            <p:cNvSpPr/>
            <p:nvPr/>
          </p:nvSpPr>
          <p:spPr>
            <a:xfrm>
              <a:off x="6136920" y="1702080"/>
              <a:ext cx="2784960" cy="3200040"/>
            </a:xfrm>
            <a:custGeom>
              <a:avLst/>
              <a:gdLst>
                <a:gd name="textAreaLeft" fmla="*/ 135720 w 2784960"/>
                <a:gd name="textAreaRight" fmla="*/ 2649240 w 2784960"/>
                <a:gd name="textAreaTop" fmla="*/ 135720 h 3200040"/>
                <a:gd name="textAreaBottom" fmla="*/ 3064320 h 3200040"/>
              </a:gdLst>
              <a:ahLst/>
              <a:rect l="textAreaLeft" t="textAreaTop" r="textAreaRight" b="textAreaBottom"/>
              <a:pathLst>
                <a:path w="21600" h="24819">
                  <a:moveTo>
                    <a:pt x="3600" y="0"/>
                  </a:moveTo>
                  <a:arcTo wR="3600" hR="3600" stAng="16200000" swAng="-5400000"/>
                  <a:lnTo>
                    <a:pt x="0" y="21219"/>
                  </a:lnTo>
                  <a:arcTo wR="3600" hR="3600" stAng="10800000" swAng="-5400000"/>
                  <a:lnTo>
                    <a:pt x="18000" y="248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5"/>
            <p:cNvSpPr/>
            <p:nvPr/>
          </p:nvSpPr>
          <p:spPr>
            <a:xfrm>
              <a:off x="6159960" y="4057560"/>
              <a:ext cx="2747520" cy="81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2bc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6"/>
            <p:cNvSpPr/>
            <p:nvPr/>
          </p:nvSpPr>
          <p:spPr>
            <a:xfrm>
              <a:off x="6159960" y="1726920"/>
              <a:ext cx="2747520" cy="80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8cc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7080480" y="1341360"/>
              <a:ext cx="853200" cy="733680"/>
              <a:chOff x="7080480" y="1341360"/>
              <a:chExt cx="853200" cy="73368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7080480" y="1341360"/>
                <a:ext cx="853200" cy="7336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7089120" y="1346760"/>
                <a:ext cx="825120" cy="710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7099560" y="1351080"/>
                <a:ext cx="806040" cy="6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41"/>
              <p:cNvSpPr/>
              <p:nvPr/>
            </p:nvSpPr>
            <p:spPr>
              <a:xfrm>
                <a:off x="7108560" y="1357920"/>
                <a:ext cx="766080" cy="646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42"/>
              <p:cNvSpPr/>
              <p:nvPr/>
            </p:nvSpPr>
            <p:spPr>
              <a:xfrm>
                <a:off x="7152840" y="1375200"/>
                <a:ext cx="680760" cy="52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 Box 43"/>
            <p:cNvSpPr/>
            <p:nvPr/>
          </p:nvSpPr>
          <p:spPr>
            <a:xfrm>
              <a:off x="7307280" y="1446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99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4"/>
            <p:cNvSpPr/>
            <p:nvPr/>
          </p:nvSpPr>
          <p:spPr>
            <a:xfrm>
              <a:off x="6193800" y="2211120"/>
              <a:ext cx="273024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5"/>
            <p:cNvSpPr/>
            <p:nvPr/>
          </p:nvSpPr>
          <p:spPr>
            <a:xfrm>
              <a:off x="6084720" y="4954680"/>
              <a:ext cx="2871000" cy="993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>
              <a:off x="6143400" y="4982040"/>
              <a:ext cx="2746800" cy="80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619280" y="274680"/>
            <a:ext cx="7067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Личностные  УУ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7"/>
          <p:cNvSpPr/>
          <p:nvPr/>
        </p:nvSpPr>
        <p:spPr>
          <a:xfrm>
            <a:off x="179280" y="1773360"/>
            <a:ext cx="273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критического отношения к информации и избирательности её 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8"/>
          <p:cNvSpPr/>
          <p:nvPr/>
        </p:nvSpPr>
        <p:spPr>
          <a:xfrm>
            <a:off x="3348000" y="2349360"/>
            <a:ext cx="273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важения к информации о частной жизни и информационным результатам деятельности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9"/>
          <p:cNvSpPr/>
          <p:nvPr/>
        </p:nvSpPr>
        <p:spPr>
          <a:xfrm>
            <a:off x="6300720" y="227664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основ правовой культуры в област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Прямоугольник 28"/>
          <p:cNvGrpSpPr/>
          <p:nvPr/>
        </p:nvGrpSpPr>
        <p:grpSpPr>
          <a:xfrm>
            <a:off x="225360" y="1676520"/>
            <a:ext cx="2189160" cy="609480"/>
            <a:chOff x="225360" y="1676520"/>
            <a:chExt cx="2189160" cy="609480"/>
          </a:xfrm>
        </p:grpSpPr>
        <p:pic>
          <p:nvPicPr>
            <p:cNvPr id="213" name="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225360" y="1676520"/>
              <a:ext cx="21891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85840" y="1714680"/>
              <a:ext cx="20714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еполаг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оугольник 29"/>
          <p:cNvGrpSpPr/>
          <p:nvPr/>
        </p:nvGrpSpPr>
        <p:grpSpPr>
          <a:xfrm>
            <a:off x="1225440" y="2610000"/>
            <a:ext cx="2187720" cy="749160"/>
            <a:chOff x="1225440" y="2610000"/>
            <a:chExt cx="2187720" cy="749160"/>
          </a:xfrm>
        </p:grpSpPr>
        <p:pic>
          <p:nvPicPr>
            <p:cNvPr id="216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1225440" y="2610000"/>
              <a:ext cx="218772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285920" y="2643120"/>
              <a:ext cx="2071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Прямоугольник 30"/>
          <p:cNvGrpSpPr/>
          <p:nvPr/>
        </p:nvGrpSpPr>
        <p:grpSpPr>
          <a:xfrm>
            <a:off x="1974960" y="3608280"/>
            <a:ext cx="2388960" cy="750960"/>
            <a:chOff x="1974960" y="3608280"/>
            <a:chExt cx="2388960" cy="750960"/>
          </a:xfrm>
        </p:grpSpPr>
        <p:pic>
          <p:nvPicPr>
            <p:cNvPr id="219" name="Прямоугольник 30" descr=""/>
            <p:cNvPicPr/>
            <p:nvPr/>
          </p:nvPicPr>
          <p:blipFill>
            <a:blip r:embed="rId3"/>
            <a:stretch/>
          </p:blipFill>
          <p:spPr>
            <a:xfrm>
              <a:off x="1974960" y="3608280"/>
              <a:ext cx="23889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071800" y="3643200"/>
              <a:ext cx="2214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гноз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Прямоугольник 31"/>
          <p:cNvGrpSpPr/>
          <p:nvPr/>
        </p:nvGrpSpPr>
        <p:grpSpPr>
          <a:xfrm>
            <a:off x="3505320" y="4834080"/>
            <a:ext cx="2182680" cy="712800"/>
            <a:chOff x="3505320" y="4834080"/>
            <a:chExt cx="2182680" cy="712800"/>
          </a:xfrm>
        </p:grpSpPr>
        <p:pic>
          <p:nvPicPr>
            <p:cNvPr id="222" name="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3505320" y="4834080"/>
              <a:ext cx="2182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564000" y="4869000"/>
              <a:ext cx="20718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Прямоугольник 32"/>
          <p:cNvGrpSpPr/>
          <p:nvPr/>
        </p:nvGrpSpPr>
        <p:grpSpPr>
          <a:xfrm>
            <a:off x="4724280" y="3608280"/>
            <a:ext cx="2189160" cy="750960"/>
            <a:chOff x="4724280" y="3608280"/>
            <a:chExt cx="2189160" cy="750960"/>
          </a:xfrm>
        </p:grpSpPr>
        <p:pic>
          <p:nvPicPr>
            <p:cNvPr id="225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4724280" y="3608280"/>
              <a:ext cx="21891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786200" y="3643200"/>
              <a:ext cx="2071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оррек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Прямоугольник 33"/>
          <p:cNvGrpSpPr/>
          <p:nvPr/>
        </p:nvGrpSpPr>
        <p:grpSpPr>
          <a:xfrm>
            <a:off x="6156360" y="2610000"/>
            <a:ext cx="2182680" cy="712800"/>
            <a:chOff x="6156360" y="2610000"/>
            <a:chExt cx="2182680" cy="712800"/>
          </a:xfrm>
        </p:grpSpPr>
        <p:pic>
          <p:nvPicPr>
            <p:cNvPr id="228" name="Прямоугольник 33" descr=""/>
            <p:cNvPicPr/>
            <p:nvPr/>
          </p:nvPicPr>
          <p:blipFill>
            <a:blip r:embed="rId6"/>
            <a:stretch/>
          </p:blipFill>
          <p:spPr>
            <a:xfrm>
              <a:off x="6156360" y="2610000"/>
              <a:ext cx="2182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215040" y="2643120"/>
              <a:ext cx="20718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Прямоугольник 34"/>
          <p:cNvGrpSpPr/>
          <p:nvPr/>
        </p:nvGrpSpPr>
        <p:grpSpPr>
          <a:xfrm>
            <a:off x="6656400" y="1609560"/>
            <a:ext cx="2182680" cy="640080"/>
            <a:chOff x="6656400" y="1609560"/>
            <a:chExt cx="2182680" cy="640080"/>
          </a:xfrm>
        </p:grpSpPr>
        <p:pic>
          <p:nvPicPr>
            <p:cNvPr id="231" name="Прямоугольник 34" descr=""/>
            <p:cNvPicPr/>
            <p:nvPr/>
          </p:nvPicPr>
          <p:blipFill>
            <a:blip r:embed="rId7"/>
            <a:stretch/>
          </p:blipFill>
          <p:spPr>
            <a:xfrm>
              <a:off x="6656400" y="1609560"/>
              <a:ext cx="218268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715080" y="1643040"/>
              <a:ext cx="207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орегуля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3" name="Прямая со стрелкой 43"/>
          <p:cNvCxnSpPr/>
          <p:nvPr/>
        </p:nvCxnSpPr>
        <p:spPr>
          <a:xfrm flipH="1">
            <a:off x="2555640" y="1125360"/>
            <a:ext cx="1008720" cy="8042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4" name="Прямая со стрелкой 45"/>
          <p:cNvCxnSpPr/>
          <p:nvPr/>
        </p:nvCxnSpPr>
        <p:spPr>
          <a:xfrm flipH="1">
            <a:off x="3285360" y="1197000"/>
            <a:ext cx="639000" cy="12322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5" name="Прямая со стрелкой 49"/>
          <p:cNvCxnSpPr/>
          <p:nvPr/>
        </p:nvCxnSpPr>
        <p:spPr>
          <a:xfrm flipH="1">
            <a:off x="3928680" y="1197000"/>
            <a:ext cx="356400" cy="2304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6" name="Прямая со стрелкой 51"/>
          <p:cNvCxnSpPr/>
          <p:nvPr/>
        </p:nvCxnSpPr>
        <p:spPr>
          <a:xfrm flipH="1">
            <a:off x="4571280" y="1197000"/>
            <a:ext cx="1080" cy="3528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7" name="Прямая со стрелкой 55"/>
          <p:cNvCxnSpPr/>
          <p:nvPr/>
        </p:nvCxnSpPr>
        <p:spPr>
          <a:xfrm>
            <a:off x="4859280" y="1197000"/>
            <a:ext cx="356400" cy="22327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8" name="Прямая со стрелкой 61"/>
          <p:cNvCxnSpPr/>
          <p:nvPr/>
        </p:nvCxnSpPr>
        <p:spPr>
          <a:xfrm>
            <a:off x="5219640" y="1125360"/>
            <a:ext cx="853200" cy="17330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239" name="Прямая со стрелкой 63"/>
          <p:cNvCxnSpPr/>
          <p:nvPr/>
        </p:nvCxnSpPr>
        <p:spPr>
          <a:xfrm>
            <a:off x="5580000" y="1125360"/>
            <a:ext cx="1008720" cy="720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40" name="Rectangle 2"/>
          <p:cNvSpPr/>
          <p:nvPr/>
        </p:nvSpPr>
        <p:spPr>
          <a:xfrm>
            <a:off x="1332000" y="333360"/>
            <a:ext cx="7067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Регулятивные 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2590920" y="2133720"/>
            <a:ext cx="4038480" cy="3962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3581280" y="3124080"/>
            <a:ext cx="2057400" cy="2133720"/>
            <a:chOff x="3581280" y="3124080"/>
            <a:chExt cx="2057400" cy="2133720"/>
          </a:xfrm>
        </p:grpSpPr>
        <p:sp>
          <p:nvSpPr>
            <p:cNvPr id="243" name="Oval 5"/>
            <p:cNvSpPr/>
            <p:nvPr/>
          </p:nvSpPr>
          <p:spPr>
            <a:xfrm>
              <a:off x="3581280" y="3124080"/>
              <a:ext cx="2057400" cy="2133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d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3816360" y="3159360"/>
              <a:ext cx="1587240" cy="8053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7"/>
          <p:cNvSpPr/>
          <p:nvPr/>
        </p:nvSpPr>
        <p:spPr>
          <a:xfrm>
            <a:off x="3894480" y="386064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КУ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4191120" y="1727280"/>
            <a:ext cx="685800" cy="658800"/>
            <a:chOff x="4191120" y="1727280"/>
            <a:chExt cx="685800" cy="658800"/>
          </a:xfrm>
        </p:grpSpPr>
        <p:grpSp>
          <p:nvGrpSpPr>
            <p:cNvPr id="247" name="Group 9"/>
            <p:cNvGrpSpPr/>
            <p:nvPr/>
          </p:nvGrpSpPr>
          <p:grpSpPr>
            <a:xfrm>
              <a:off x="4191120" y="1727280"/>
              <a:ext cx="685800" cy="658800"/>
              <a:chOff x="4191120" y="1727280"/>
              <a:chExt cx="685800" cy="658800"/>
            </a:xfrm>
          </p:grpSpPr>
          <p:sp>
            <p:nvSpPr>
              <p:cNvPr id="248" name="Oval 10"/>
              <p:cNvSpPr/>
              <p:nvPr/>
            </p:nvSpPr>
            <p:spPr>
              <a:xfrm>
                <a:off x="4191120" y="1727280"/>
                <a:ext cx="685800" cy="65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c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1"/>
              <p:cNvSpPr/>
              <p:nvPr/>
            </p:nvSpPr>
            <p:spPr>
              <a:xfrm>
                <a:off x="4269240" y="1738080"/>
                <a:ext cx="529200" cy="24840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437004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3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252" name="Oval 14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6"/>
          <p:cNvGrpSpPr/>
          <p:nvPr/>
        </p:nvGrpSpPr>
        <p:grpSpPr>
          <a:xfrm>
            <a:off x="2895480" y="5329080"/>
            <a:ext cx="685800" cy="685800"/>
            <a:chOff x="2895480" y="5329080"/>
            <a:chExt cx="685800" cy="685800"/>
          </a:xfrm>
        </p:grpSpPr>
        <p:grpSp>
          <p:nvGrpSpPr>
            <p:cNvPr id="255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256" name="Oval 18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Text Box 20"/>
            <p:cNvSpPr/>
            <p:nvPr/>
          </p:nvSpPr>
          <p:spPr>
            <a:xfrm>
              <a:off x="3052440" y="54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1"/>
          <p:cNvGrpSpPr/>
          <p:nvPr/>
        </p:nvGrpSpPr>
        <p:grpSpPr>
          <a:xfrm>
            <a:off x="6253200" y="3124080"/>
            <a:ext cx="681120" cy="693720"/>
            <a:chOff x="6253200" y="3124080"/>
            <a:chExt cx="681120" cy="693720"/>
          </a:xfrm>
        </p:grpSpPr>
        <p:grpSp>
          <p:nvGrpSpPr>
            <p:cNvPr id="260" name="Group 22"/>
            <p:cNvGrpSpPr/>
            <p:nvPr/>
          </p:nvGrpSpPr>
          <p:grpSpPr>
            <a:xfrm>
              <a:off x="6253200" y="3124080"/>
              <a:ext cx="681120" cy="693720"/>
              <a:chOff x="6253200" y="3124080"/>
              <a:chExt cx="681120" cy="693720"/>
            </a:xfrm>
          </p:grpSpPr>
          <p:sp>
            <p:nvSpPr>
              <p:cNvPr id="261" name="Oval 23"/>
              <p:cNvSpPr/>
              <p:nvPr/>
            </p:nvSpPr>
            <p:spPr>
              <a:xfrm>
                <a:off x="6253200" y="312408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4"/>
              <p:cNvSpPr/>
              <p:nvPr/>
            </p:nvSpPr>
            <p:spPr>
              <a:xfrm>
                <a:off x="6330960" y="313560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25"/>
            <p:cNvSpPr/>
            <p:nvPr/>
          </p:nvSpPr>
          <p:spPr>
            <a:xfrm>
              <a:off x="6407640" y="3219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6"/>
          <p:cNvGrpSpPr/>
          <p:nvPr/>
        </p:nvGrpSpPr>
        <p:grpSpPr>
          <a:xfrm>
            <a:off x="5638680" y="5300640"/>
            <a:ext cx="654120" cy="622440"/>
            <a:chOff x="5638680" y="5300640"/>
            <a:chExt cx="654120" cy="622440"/>
          </a:xfrm>
        </p:grpSpPr>
        <p:grpSp>
          <p:nvGrpSpPr>
            <p:cNvPr id="265" name="Group 27"/>
            <p:cNvGrpSpPr/>
            <p:nvPr/>
          </p:nvGrpSpPr>
          <p:grpSpPr>
            <a:xfrm>
              <a:off x="5638680" y="5300640"/>
              <a:ext cx="654120" cy="622440"/>
              <a:chOff x="5638680" y="5300640"/>
              <a:chExt cx="654120" cy="622440"/>
            </a:xfrm>
          </p:grpSpPr>
          <p:sp>
            <p:nvSpPr>
              <p:cNvPr id="266" name="Oval 28"/>
              <p:cNvSpPr/>
              <p:nvPr/>
            </p:nvSpPr>
            <p:spPr>
              <a:xfrm>
                <a:off x="5638680" y="5300640"/>
                <a:ext cx="654120" cy="6224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9"/>
              <p:cNvSpPr/>
              <p:nvPr/>
            </p:nvSpPr>
            <p:spPr>
              <a:xfrm>
                <a:off x="5713200" y="5310720"/>
                <a:ext cx="504720" cy="23472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30"/>
            <p:cNvSpPr/>
            <p:nvPr/>
          </p:nvSpPr>
          <p:spPr>
            <a:xfrm>
              <a:off x="5820840" y="5334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1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270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271" name="Oval 33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44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4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35"/>
            <p:cNvSpPr/>
            <p:nvPr/>
          </p:nvSpPr>
          <p:spPr>
            <a:xfrm>
              <a:off x="2541240" y="32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36"/>
          <p:cNvSpPr/>
          <p:nvPr/>
        </p:nvSpPr>
        <p:spPr>
          <a:xfrm rot="18226800">
            <a:off x="5566320" y="517752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7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8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277" name="Oval 39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40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41"/>
          <p:cNvGrpSpPr/>
          <p:nvPr/>
        </p:nvGrpSpPr>
        <p:grpSpPr>
          <a:xfrm>
            <a:off x="4471200" y="2531520"/>
            <a:ext cx="187200" cy="468000"/>
            <a:chOff x="4471200" y="2531520"/>
            <a:chExt cx="187200" cy="468000"/>
          </a:xfrm>
        </p:grpSpPr>
        <p:sp>
          <p:nvSpPr>
            <p:cNvPr id="280" name="Oval 42"/>
            <p:cNvSpPr/>
            <p:nvPr/>
          </p:nvSpPr>
          <p:spPr>
            <a:xfrm rot="18226800">
              <a:off x="4499640" y="25549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3"/>
            <p:cNvSpPr/>
            <p:nvPr/>
          </p:nvSpPr>
          <p:spPr>
            <a:xfrm rot="18226800">
              <a:off x="4499640" y="283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44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5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6"/>
          <p:cNvSpPr/>
          <p:nvPr/>
        </p:nvSpPr>
        <p:spPr>
          <a:xfrm>
            <a:off x="2484360" y="105264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умение с достаточной полнотой и точностью выражать свои мы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7"/>
          <p:cNvSpPr/>
          <p:nvPr/>
        </p:nvSpPr>
        <p:spPr>
          <a:xfrm>
            <a:off x="250920" y="2781360"/>
            <a:ext cx="201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гипермеди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общ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6804000" y="306864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щение в цифров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9"/>
          <p:cNvSpPr/>
          <p:nvPr/>
        </p:nvSpPr>
        <p:spPr>
          <a:xfrm>
            <a:off x="468360" y="5157720"/>
            <a:ext cx="241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ыступление с аудиовизуальной поддерж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0"/>
          <p:cNvSpPr/>
          <p:nvPr/>
        </p:nvSpPr>
        <p:spPr>
          <a:xfrm>
            <a:off x="6372360" y="5084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фиксация хода коллективной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1200" y="333360"/>
            <a:ext cx="8002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Коммуникативные 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Прямоугольник 47"/>
          <p:cNvGrpSpPr/>
          <p:nvPr/>
        </p:nvGrpSpPr>
        <p:grpSpPr>
          <a:xfrm>
            <a:off x="523800" y="1322280"/>
            <a:ext cx="4067280" cy="536760"/>
            <a:chOff x="523800" y="1322280"/>
            <a:chExt cx="4067280" cy="536760"/>
          </a:xfrm>
        </p:grpSpPr>
        <p:pic>
          <p:nvPicPr>
            <p:cNvPr id="291" name="Прямоугольник 47" descr=""/>
            <p:cNvPicPr/>
            <p:nvPr/>
          </p:nvPicPr>
          <p:blipFill>
            <a:blip r:embed="rId1"/>
            <a:stretch/>
          </p:blipFill>
          <p:spPr>
            <a:xfrm>
              <a:off x="523800" y="1322280"/>
              <a:ext cx="40672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39640" y="1341360"/>
              <a:ext cx="4032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Поиск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Прямоугольник 49"/>
          <p:cNvGrpSpPr/>
          <p:nvPr/>
        </p:nvGrpSpPr>
        <p:grpSpPr>
          <a:xfrm>
            <a:off x="523800" y="2114640"/>
            <a:ext cx="3992760" cy="536400"/>
            <a:chOff x="523800" y="2114640"/>
            <a:chExt cx="3992760" cy="536400"/>
          </a:xfrm>
        </p:grpSpPr>
        <p:pic>
          <p:nvPicPr>
            <p:cNvPr id="294" name="Прямоугольник 49" descr=""/>
            <p:cNvPicPr/>
            <p:nvPr/>
          </p:nvPicPr>
          <p:blipFill>
            <a:blip r:embed="rId2"/>
            <a:stretch/>
          </p:blipFill>
          <p:spPr>
            <a:xfrm>
              <a:off x="523800" y="2114640"/>
              <a:ext cx="3992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39640" y="2133720"/>
              <a:ext cx="3961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Фиксация (запись)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Прямоугольник 50"/>
          <p:cNvGrpSpPr/>
          <p:nvPr/>
        </p:nvGrpSpPr>
        <p:grpSpPr>
          <a:xfrm>
            <a:off x="5632560" y="1322280"/>
            <a:ext cx="2987640" cy="2987640"/>
            <a:chOff x="5632560" y="1322280"/>
            <a:chExt cx="2987640" cy="2987640"/>
          </a:xfrm>
        </p:grpSpPr>
        <p:pic>
          <p:nvPicPr>
            <p:cNvPr id="297" name="Прямоугольник 50" descr=""/>
            <p:cNvPicPr/>
            <p:nvPr/>
          </p:nvPicPr>
          <p:blipFill>
            <a:blip r:embed="rId3"/>
            <a:stretch/>
          </p:blipFill>
          <p:spPr>
            <a:xfrm>
              <a:off x="5632560" y="132228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651640" y="1341360"/>
              <a:ext cx="295272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Создание  гипермедиасообщ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Прямоугольник 51"/>
          <p:cNvGrpSpPr/>
          <p:nvPr/>
        </p:nvGrpSpPr>
        <p:grpSpPr>
          <a:xfrm>
            <a:off x="523800" y="2981160"/>
            <a:ext cx="3992760" cy="536760"/>
            <a:chOff x="523800" y="2981160"/>
            <a:chExt cx="3992760" cy="536760"/>
          </a:xfrm>
        </p:grpSpPr>
        <p:pic>
          <p:nvPicPr>
            <p:cNvPr id="300" name="Прямоугольник 51" descr=""/>
            <p:cNvPicPr/>
            <p:nvPr/>
          </p:nvPicPr>
          <p:blipFill>
            <a:blip r:embed="rId4"/>
            <a:stretch/>
          </p:blipFill>
          <p:spPr>
            <a:xfrm>
              <a:off x="523800" y="2981160"/>
              <a:ext cx="39927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39640" y="2997360"/>
              <a:ext cx="3961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Структурирование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Прямоугольник 53"/>
          <p:cNvGrpSpPr/>
          <p:nvPr/>
        </p:nvGrpSpPr>
        <p:grpSpPr>
          <a:xfrm>
            <a:off x="523800" y="3840120"/>
            <a:ext cx="3992760" cy="536760"/>
            <a:chOff x="523800" y="3840120"/>
            <a:chExt cx="3992760" cy="536760"/>
          </a:xfrm>
        </p:grpSpPr>
        <p:pic>
          <p:nvPicPr>
            <p:cNvPr id="303" name="Прямоугольник 53" descr=""/>
            <p:cNvPicPr/>
            <p:nvPr/>
          </p:nvPicPr>
          <p:blipFill>
            <a:blip r:embed="rId5"/>
            <a:stretch/>
          </p:blipFill>
          <p:spPr>
            <a:xfrm>
              <a:off x="523800" y="3840120"/>
              <a:ext cx="39927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39640" y="3860640"/>
              <a:ext cx="396108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  <a:ea typeface="Times New Roman"/>
                </a:rPr>
                <a:t>Представление 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Прямоугольник 61"/>
          <p:cNvGrpSpPr/>
          <p:nvPr/>
        </p:nvGrpSpPr>
        <p:grpSpPr>
          <a:xfrm>
            <a:off x="811080" y="4705200"/>
            <a:ext cx="7521840" cy="536760"/>
            <a:chOff x="811080" y="4705200"/>
            <a:chExt cx="7521840" cy="536760"/>
          </a:xfrm>
        </p:grpSpPr>
        <p:pic>
          <p:nvPicPr>
            <p:cNvPr id="306" name="Прямоугольник 61" descr=""/>
            <p:cNvPicPr/>
            <p:nvPr/>
          </p:nvPicPr>
          <p:blipFill>
            <a:blip r:embed="rId6"/>
            <a:stretch/>
          </p:blipFill>
          <p:spPr>
            <a:xfrm>
              <a:off x="811080" y="4705200"/>
              <a:ext cx="75218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26920" y="4724280"/>
              <a:ext cx="749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Проектная деятель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2"/>
          <p:cNvSpPr/>
          <p:nvPr/>
        </p:nvSpPr>
        <p:spPr>
          <a:xfrm>
            <a:off x="611280" y="404640"/>
            <a:ext cx="82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Познавательные 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Прямоугольник 31"/>
          <p:cNvGrpSpPr/>
          <p:nvPr/>
        </p:nvGrpSpPr>
        <p:grpSpPr>
          <a:xfrm>
            <a:off x="1023840" y="5645160"/>
            <a:ext cx="3279960" cy="536400"/>
            <a:chOff x="1023840" y="5645160"/>
            <a:chExt cx="3279960" cy="536400"/>
          </a:xfrm>
        </p:grpSpPr>
        <p:pic>
          <p:nvPicPr>
            <p:cNvPr id="310" name="Прямоугольник 31" descr=""/>
            <p:cNvPicPr/>
            <p:nvPr/>
          </p:nvPicPr>
          <p:blipFill>
            <a:blip r:embed="rId7"/>
            <a:stretch/>
          </p:blipFill>
          <p:spPr>
            <a:xfrm>
              <a:off x="1023840" y="5645160"/>
              <a:ext cx="3279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042920" y="5661000"/>
              <a:ext cx="3241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Прямоугольник 32"/>
          <p:cNvGrpSpPr/>
          <p:nvPr/>
        </p:nvGrpSpPr>
        <p:grpSpPr>
          <a:xfrm>
            <a:off x="4767120" y="5645160"/>
            <a:ext cx="3407040" cy="536400"/>
            <a:chOff x="4767120" y="5645160"/>
            <a:chExt cx="3407040" cy="536400"/>
          </a:xfrm>
        </p:grpSpPr>
        <p:pic>
          <p:nvPicPr>
            <p:cNvPr id="313" name="Прямоугольник 32" descr=""/>
            <p:cNvPicPr/>
            <p:nvPr/>
          </p:nvPicPr>
          <p:blipFill>
            <a:blip r:embed="rId8"/>
            <a:stretch/>
          </p:blipFill>
          <p:spPr>
            <a:xfrm>
              <a:off x="4767120" y="5645160"/>
              <a:ext cx="3407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788000" y="5661000"/>
              <a:ext cx="3368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Arial"/>
                </a:rPr>
                <a:t>Преобразование мод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395280" y="1874880"/>
            <a:ext cx="3827520" cy="7189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3668760" y="1600200"/>
            <a:ext cx="1098000" cy="1001520"/>
            <a:chOff x="3668760" y="1600200"/>
            <a:chExt cx="1098000" cy="1001520"/>
          </a:xfrm>
        </p:grpSpPr>
        <p:grpSp>
          <p:nvGrpSpPr>
            <p:cNvPr id="317" name="Group 5"/>
            <p:cNvGrpSpPr/>
            <p:nvPr/>
          </p:nvGrpSpPr>
          <p:grpSpPr>
            <a:xfrm>
              <a:off x="3668760" y="1600200"/>
              <a:ext cx="1098000" cy="1001520"/>
              <a:chOff x="3668760" y="1600200"/>
              <a:chExt cx="1098000" cy="1001520"/>
            </a:xfrm>
          </p:grpSpPr>
          <p:sp>
            <p:nvSpPr>
              <p:cNvPr id="318" name="Oval 6"/>
              <p:cNvSpPr/>
              <p:nvPr/>
            </p:nvSpPr>
            <p:spPr>
              <a:xfrm>
                <a:off x="3668760" y="1600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3794040" y="161676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8"/>
            <p:cNvSpPr/>
            <p:nvPr/>
          </p:nvSpPr>
          <p:spPr>
            <a:xfrm>
              <a:off x="4081320" y="17114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9"/>
          <p:cNvSpPr/>
          <p:nvPr/>
        </p:nvSpPr>
        <p:spPr>
          <a:xfrm>
            <a:off x="324000" y="191628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авыки и умения работы с информацией, вы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68360" y="2979720"/>
            <a:ext cx="4197240" cy="719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284720" y="2708280"/>
            <a:ext cx="1087200" cy="1006200"/>
            <a:chOff x="4284720" y="2708280"/>
            <a:chExt cx="1087200" cy="1006200"/>
          </a:xfrm>
        </p:grpSpPr>
        <p:grpSp>
          <p:nvGrpSpPr>
            <p:cNvPr id="324" name="Group 12"/>
            <p:cNvGrpSpPr/>
            <p:nvPr/>
          </p:nvGrpSpPr>
          <p:grpSpPr>
            <a:xfrm>
              <a:off x="4284720" y="2708280"/>
              <a:ext cx="1087200" cy="1006200"/>
              <a:chOff x="4284720" y="2708280"/>
              <a:chExt cx="1087200" cy="1006200"/>
            </a:xfrm>
          </p:grpSpPr>
          <p:sp>
            <p:nvSpPr>
              <p:cNvPr id="325" name="Oval 13"/>
              <p:cNvSpPr/>
              <p:nvPr/>
            </p:nvSpPr>
            <p:spPr>
              <a:xfrm>
                <a:off x="4284720" y="270828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93b1fd"/>
                  </a:gs>
                  <a:gs pos="100000">
                    <a:srgbClr val="2c35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4408920" y="2724840"/>
                <a:ext cx="838800" cy="37980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3b1f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15"/>
            <p:cNvSpPr/>
            <p:nvPr/>
          </p:nvSpPr>
          <p:spPr>
            <a:xfrm>
              <a:off x="4659120" y="2846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"/>
          <p:cNvSpPr/>
          <p:nvPr/>
        </p:nvSpPr>
        <p:spPr>
          <a:xfrm>
            <a:off x="250920" y="299736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ост  уровня информацион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468360" y="4091040"/>
            <a:ext cx="52182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8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331" name="Group 19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332" name="Oval 20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1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Text Box 22"/>
            <p:cNvSpPr/>
            <p:nvPr/>
          </p:nvSpPr>
          <p:spPr>
            <a:xfrm>
              <a:off x="5404680" y="3933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23"/>
          <p:cNvSpPr/>
          <p:nvPr/>
        </p:nvSpPr>
        <p:spPr>
          <a:xfrm>
            <a:off x="539640" y="4076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Более основательное изучение компьютерных 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395280" y="5229360"/>
            <a:ext cx="6068880" cy="7189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25"/>
          <p:cNvGrpSpPr/>
          <p:nvPr/>
        </p:nvGrpSpPr>
        <p:grpSpPr>
          <a:xfrm>
            <a:off x="6012000" y="4952880"/>
            <a:ext cx="1152360" cy="1019160"/>
            <a:chOff x="6012000" y="4952880"/>
            <a:chExt cx="1152360" cy="1019160"/>
          </a:xfrm>
        </p:grpSpPr>
        <p:sp>
          <p:nvSpPr>
            <p:cNvPr id="338" name="Oval 26"/>
            <p:cNvSpPr/>
            <p:nvPr/>
          </p:nvSpPr>
          <p:spPr>
            <a:xfrm>
              <a:off x="6012000" y="4952880"/>
              <a:ext cx="115236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"/>
            <p:cNvSpPr/>
            <p:nvPr/>
          </p:nvSpPr>
          <p:spPr>
            <a:xfrm>
              <a:off x="6143760" y="4969800"/>
              <a:ext cx="888840" cy="3844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28"/>
          <p:cNvSpPr/>
          <p:nvPr/>
        </p:nvSpPr>
        <p:spPr>
          <a:xfrm>
            <a:off x="6300720" y="5013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971640" y="522936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оплощение своих творческих замы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0"/>
          <p:cNvSpPr/>
          <p:nvPr/>
        </p:nvSpPr>
        <p:spPr>
          <a:xfrm>
            <a:off x="5940360" y="1052640"/>
            <a:ext cx="2879640" cy="3168360"/>
          </a:xfrm>
          <a:prstGeom prst="wedgeRoundRectCallout">
            <a:avLst>
              <a:gd name="adj1" fmla="val -60578"/>
              <a:gd name="adj2" fmla="val 23384"/>
              <a:gd name="adj3" fmla="val 16667"/>
            </a:avLst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гибкая модель организации учебного процесса, ориентированная на самореализацию учащегося путем развития его интеллектуальных и физических возможностей, волевых качеств и творческих способностей в процессе создания под контролем учителя новых "продуктов"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0"/>
          <p:cNvSpPr/>
          <p:nvPr/>
        </p:nvSpPr>
        <p:spPr>
          <a:xfrm>
            <a:off x="104292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Метод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1692360" y="3429000"/>
            <a:ext cx="5832000" cy="936360"/>
            <a:chOff x="1692360" y="3429000"/>
            <a:chExt cx="5832000" cy="936360"/>
          </a:xfrm>
        </p:grpSpPr>
        <p:sp>
          <p:nvSpPr>
            <p:cNvPr id="345" name="Freeform 3"/>
            <p:cNvSpPr/>
            <p:nvPr/>
          </p:nvSpPr>
          <p:spPr>
            <a:xfrm>
              <a:off x="1883160" y="3968280"/>
              <a:ext cx="5454000" cy="397080"/>
            </a:xfrm>
            <a:custGeom>
              <a:avLst/>
              <a:gdLst>
                <a:gd name="textAreaLeft" fmla="*/ 0 w 5454000"/>
                <a:gd name="textAreaRight" fmla="*/ 5454360 w 5454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2d2d8a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"/>
            <p:cNvSpPr/>
            <p:nvPr/>
          </p:nvSpPr>
          <p:spPr>
            <a:xfrm>
              <a:off x="1692360" y="3429000"/>
              <a:ext cx="5832000" cy="821160"/>
            </a:xfrm>
            <a:prstGeom prst="rect">
              <a:avLst/>
            </a:prstGeom>
            <a:solidFill>
              <a:srgbClr val="2d2d8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"/>
          <p:cNvSpPr/>
          <p:nvPr/>
        </p:nvSpPr>
        <p:spPr>
          <a:xfrm>
            <a:off x="1763640" y="3573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ичностное ори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2050920" y="1773360"/>
            <a:ext cx="5040000" cy="1007640"/>
            <a:chOff x="2050920" y="1773360"/>
            <a:chExt cx="5040000" cy="1007640"/>
          </a:xfrm>
        </p:grpSpPr>
        <p:sp>
          <p:nvSpPr>
            <p:cNvPr id="349" name="Freeform 7"/>
            <p:cNvSpPr/>
            <p:nvPr/>
          </p:nvSpPr>
          <p:spPr>
            <a:xfrm>
              <a:off x="2215800" y="2353680"/>
              <a:ext cx="4709880" cy="427320"/>
            </a:xfrm>
            <a:custGeom>
              <a:avLst/>
              <a:gdLst>
                <a:gd name="textAreaLeft" fmla="*/ 0 w 4709880"/>
                <a:gd name="textAreaRight" fmla="*/ 4710240 w 47098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18187c"/>
                </a:gs>
                <a:gs pos="100000">
                  <a:srgbClr val="2020a6"/>
                </a:gs>
              </a:gsLst>
              <a:lin ang="16200000"/>
            </a:gradFill>
            <a:ln w="9360">
              <a:solidFill>
                <a:srgbClr val="2f2f98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2050920" y="1773360"/>
              <a:ext cx="5040000" cy="883800"/>
            </a:xfrm>
            <a:prstGeom prst="rect">
              <a:avLst/>
            </a:prstGeom>
            <a:gradFill rotWithShape="0">
              <a:gsLst>
                <a:gs pos="0">
                  <a:srgbClr val="18187c"/>
                </a:gs>
                <a:gs pos="100000">
                  <a:srgbClr val="2020a6"/>
                </a:gs>
              </a:gsLst>
              <a:lin ang="16200000"/>
            </a:gradFill>
            <a:ln w="9360">
              <a:solidFill>
                <a:srgbClr val="2f2f9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9"/>
          <p:cNvSpPr/>
          <p:nvPr/>
        </p:nvSpPr>
        <p:spPr>
          <a:xfrm>
            <a:off x="2268360" y="1773360"/>
            <a:ext cx="46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формирование ключевых компет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4"/>
          <p:cNvGrpSpPr/>
          <p:nvPr/>
        </p:nvGrpSpPr>
        <p:grpSpPr>
          <a:xfrm>
            <a:off x="1042920" y="5157720"/>
            <a:ext cx="6984720" cy="1007640"/>
            <a:chOff x="1042920" y="5157720"/>
            <a:chExt cx="6984720" cy="1007640"/>
          </a:xfrm>
        </p:grpSpPr>
        <p:sp>
          <p:nvSpPr>
            <p:cNvPr id="353" name="Freeform 15"/>
            <p:cNvSpPr/>
            <p:nvPr/>
          </p:nvSpPr>
          <p:spPr>
            <a:xfrm>
              <a:off x="1271520" y="5738040"/>
              <a:ext cx="6527160" cy="427320"/>
            </a:xfrm>
            <a:custGeom>
              <a:avLst/>
              <a:gdLst>
                <a:gd name="textAreaLeft" fmla="*/ 0 w 6527160"/>
                <a:gd name="textAreaRight" fmla="*/ 6527520 w 652716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2323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6"/>
            <p:cNvSpPr/>
            <p:nvPr/>
          </p:nvSpPr>
          <p:spPr>
            <a:xfrm>
              <a:off x="1042920" y="5157720"/>
              <a:ext cx="6984720" cy="88380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17"/>
          <p:cNvSpPr/>
          <p:nvPr/>
        </p:nvSpPr>
        <p:spPr>
          <a:xfrm>
            <a:off x="1042920" y="515772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ложительные результаты в учебно-воспитательном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468360" y="0"/>
            <a:ext cx="8675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006666"/>
                </a:solidFill>
                <a:latin typeface="Arial Black"/>
              </a:rPr>
              <a:t>Преимущества про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3"/>
          <p:cNvSpPr/>
          <p:nvPr/>
        </p:nvSpPr>
        <p:spPr>
          <a:xfrm>
            <a:off x="1547640" y="2349360"/>
            <a:ext cx="5759640" cy="16560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684360" y="1125360"/>
            <a:ext cx="7920000" cy="100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138"/>
              </a:gs>
              <a:gs pos="5000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иды наших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5"/>
          <p:cNvGrpSpPr/>
          <p:nvPr/>
        </p:nvGrpSpPr>
        <p:grpSpPr>
          <a:xfrm>
            <a:off x="250920" y="3213000"/>
            <a:ext cx="2376000" cy="1590480"/>
            <a:chOff x="250920" y="3213000"/>
            <a:chExt cx="2376000" cy="1590480"/>
          </a:xfrm>
        </p:grpSpPr>
        <p:pic>
          <p:nvPicPr>
            <p:cNvPr id="360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448920" y="4549680"/>
              <a:ext cx="1999440" cy="2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Oval 7"/>
            <p:cNvSpPr/>
            <p:nvPr/>
          </p:nvSpPr>
          <p:spPr>
            <a:xfrm>
              <a:off x="250920" y="3213000"/>
              <a:ext cx="2376000" cy="1453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302400" y="3247200"/>
              <a:ext cx="2265840" cy="1387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390240" y="3297960"/>
              <a:ext cx="2048760" cy="1253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302400" y="3297960"/>
              <a:ext cx="1503720" cy="91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5" name="Text Box 11" descr=""/>
          <p:cNvPicPr/>
          <p:nvPr/>
        </p:nvPicPr>
        <p:blipFill>
          <a:blip r:embed="rId4"/>
          <a:stretch/>
        </p:blipFill>
        <p:spPr>
          <a:xfrm>
            <a:off x="390600" y="3786120"/>
            <a:ext cx="2028600" cy="5112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12"/>
          <p:cNvGrpSpPr/>
          <p:nvPr/>
        </p:nvGrpSpPr>
        <p:grpSpPr>
          <a:xfrm>
            <a:off x="1403280" y="4508640"/>
            <a:ext cx="2663640" cy="1872360"/>
            <a:chOff x="1403280" y="4508640"/>
            <a:chExt cx="2663640" cy="1872360"/>
          </a:xfrm>
        </p:grpSpPr>
        <p:pic>
          <p:nvPicPr>
            <p:cNvPr id="367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1625400" y="6082200"/>
              <a:ext cx="2241360" cy="2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14"/>
            <p:cNvSpPr/>
            <p:nvPr/>
          </p:nvSpPr>
          <p:spPr>
            <a:xfrm>
              <a:off x="1403280" y="4508640"/>
              <a:ext cx="2663640" cy="1711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"/>
            <p:cNvSpPr/>
            <p:nvPr/>
          </p:nvSpPr>
          <p:spPr>
            <a:xfrm>
              <a:off x="1460880" y="4548600"/>
              <a:ext cx="2540160" cy="163404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1559520" y="4608720"/>
              <a:ext cx="2296800" cy="14756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Picture 17" descr="Picture1"/>
            <p:cNvPicPr/>
            <p:nvPr/>
          </p:nvPicPr>
          <p:blipFill>
            <a:blip r:embed="rId7"/>
            <a:stretch/>
          </p:blipFill>
          <p:spPr>
            <a:xfrm>
              <a:off x="1460880" y="4608720"/>
              <a:ext cx="1685880" cy="108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Text Box 18" descr=""/>
          <p:cNvPicPr/>
          <p:nvPr/>
        </p:nvPicPr>
        <p:blipFill>
          <a:blip r:embed="rId8"/>
          <a:stretch/>
        </p:blipFill>
        <p:spPr>
          <a:xfrm>
            <a:off x="1616040" y="5151600"/>
            <a:ext cx="2316240" cy="6588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19"/>
          <p:cNvGrpSpPr/>
          <p:nvPr/>
        </p:nvGrpSpPr>
        <p:grpSpPr>
          <a:xfrm>
            <a:off x="4211640" y="4508640"/>
            <a:ext cx="2808000" cy="1950480"/>
            <a:chOff x="4211640" y="4508640"/>
            <a:chExt cx="2808000" cy="1950480"/>
          </a:xfrm>
        </p:grpSpPr>
        <p:pic>
          <p:nvPicPr>
            <p:cNvPr id="374" name="Picture 20" descr="Picture2"/>
            <p:cNvPicPr/>
            <p:nvPr/>
          </p:nvPicPr>
          <p:blipFill>
            <a:blip r:embed="rId9"/>
            <a:stretch/>
          </p:blipFill>
          <p:spPr>
            <a:xfrm>
              <a:off x="4445640" y="6147720"/>
              <a:ext cx="236304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21"/>
            <p:cNvSpPr/>
            <p:nvPr/>
          </p:nvSpPr>
          <p:spPr>
            <a:xfrm>
              <a:off x="4211640" y="4508640"/>
              <a:ext cx="2808000" cy="17820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4272480" y="4550400"/>
              <a:ext cx="2677680" cy="170172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3"/>
            <p:cNvSpPr/>
            <p:nvPr/>
          </p:nvSpPr>
          <p:spPr>
            <a:xfrm>
              <a:off x="4376520" y="4612680"/>
              <a:ext cx="2421000" cy="153684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24" descr="Picture1"/>
            <p:cNvPicPr/>
            <p:nvPr/>
          </p:nvPicPr>
          <p:blipFill>
            <a:blip r:embed="rId11"/>
            <a:stretch/>
          </p:blipFill>
          <p:spPr>
            <a:xfrm>
              <a:off x="4272480" y="4612680"/>
              <a:ext cx="1777320" cy="11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Text Box 25" descr=""/>
          <p:cNvPicPr/>
          <p:nvPr/>
        </p:nvPicPr>
        <p:blipFill>
          <a:blip r:embed="rId12"/>
          <a:stretch/>
        </p:blipFill>
        <p:spPr>
          <a:xfrm>
            <a:off x="4352760" y="5151600"/>
            <a:ext cx="2535480" cy="8046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26"/>
          <p:cNvGrpSpPr/>
          <p:nvPr/>
        </p:nvGrpSpPr>
        <p:grpSpPr>
          <a:xfrm>
            <a:off x="6156360" y="3213000"/>
            <a:ext cx="2663280" cy="1834920"/>
            <a:chOff x="6156360" y="3213000"/>
            <a:chExt cx="2663280" cy="1834920"/>
          </a:xfrm>
        </p:grpSpPr>
        <p:pic>
          <p:nvPicPr>
            <p:cNvPr id="381" name="Picture 27" descr="Picture2"/>
            <p:cNvPicPr/>
            <p:nvPr/>
          </p:nvPicPr>
          <p:blipFill>
            <a:blip r:embed="rId13"/>
            <a:stretch/>
          </p:blipFill>
          <p:spPr>
            <a:xfrm>
              <a:off x="6378480" y="4754880"/>
              <a:ext cx="224100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Oval 28"/>
            <p:cNvSpPr/>
            <p:nvPr/>
          </p:nvSpPr>
          <p:spPr>
            <a:xfrm>
              <a:off x="6156360" y="3213000"/>
              <a:ext cx="2663280" cy="16765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6213960" y="3252240"/>
              <a:ext cx="2539800" cy="160092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0"/>
            <p:cNvSpPr/>
            <p:nvPr/>
          </p:nvSpPr>
          <p:spPr>
            <a:xfrm>
              <a:off x="6312600" y="3310920"/>
              <a:ext cx="2296440" cy="144576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31" descr="Picture1"/>
            <p:cNvPicPr/>
            <p:nvPr/>
          </p:nvPicPr>
          <p:blipFill>
            <a:blip r:embed="rId15"/>
            <a:stretch/>
          </p:blipFill>
          <p:spPr>
            <a:xfrm>
              <a:off x="6213960" y="3310920"/>
              <a:ext cx="1685520" cy="106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6" name="Text Box 32" descr=""/>
          <p:cNvPicPr/>
          <p:nvPr/>
        </p:nvPicPr>
        <p:blipFill>
          <a:blip r:embed="rId16"/>
          <a:stretch/>
        </p:blipFill>
        <p:spPr>
          <a:xfrm>
            <a:off x="6224760" y="3786120"/>
            <a:ext cx="2528640" cy="7304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3"/>
          <p:cNvGrpSpPr/>
          <p:nvPr/>
        </p:nvGrpSpPr>
        <p:grpSpPr>
          <a:xfrm>
            <a:off x="2355840" y="1662480"/>
            <a:ext cx="4009680" cy="4120920"/>
            <a:chOff x="2355840" y="1662480"/>
            <a:chExt cx="4009680" cy="4120920"/>
          </a:xfrm>
        </p:grpSpPr>
        <p:sp>
          <p:nvSpPr>
            <p:cNvPr id="389" name="Freeform 4"/>
            <p:cNvSpPr/>
            <p:nvPr/>
          </p:nvSpPr>
          <p:spPr>
            <a:xfrm rot="10800000">
              <a:off x="4909320" y="2610000"/>
              <a:ext cx="1448280" cy="1877760"/>
            </a:xfrm>
            <a:custGeom>
              <a:avLst/>
              <a:gdLst>
                <a:gd name="textAreaLeft" fmla="*/ 0 w 1448280"/>
                <a:gd name="textAreaRight" fmla="*/ 1448640 w 1448280"/>
                <a:gd name="textAreaTop" fmla="*/ 0 h 1877760"/>
                <a:gd name="textAreaBottom" fmla="*/ 1878120 h 187776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 rot="18000000">
              <a:off x="3326760" y="3494160"/>
              <a:ext cx="1312200" cy="207216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2072160"/>
                <a:gd name="textAreaBottom" fmla="*/ 2072520 h 207216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5e76"/>
                </a:gs>
                <a:gs pos="100000">
                  <a:srgbClr val="00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6"/>
            <p:cNvGrpSpPr/>
            <p:nvPr/>
          </p:nvGrpSpPr>
          <p:grpSpPr>
            <a:xfrm>
              <a:off x="3852000" y="3231360"/>
              <a:ext cx="2471760" cy="2552040"/>
              <a:chOff x="3852000" y="3231360"/>
              <a:chExt cx="2471760" cy="2552040"/>
            </a:xfrm>
          </p:grpSpPr>
          <p:sp>
            <p:nvSpPr>
              <p:cNvPr id="392" name="AutoShape 7"/>
              <p:cNvSpPr/>
              <p:nvPr/>
            </p:nvSpPr>
            <p:spPr>
              <a:xfrm rot="1800000">
                <a:off x="4833720" y="3552840"/>
                <a:ext cx="1441800" cy="57960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"/>
              <p:cNvSpPr/>
              <p:nvPr/>
            </p:nvSpPr>
            <p:spPr>
              <a:xfrm rot="18000000">
                <a:off x="4403880" y="4105800"/>
                <a:ext cx="1446120" cy="806400"/>
              </a:xfrm>
              <a:custGeom>
                <a:avLst/>
                <a:gdLst>
                  <a:gd name="textAreaLeft" fmla="*/ 0 w 1446120"/>
                  <a:gd name="textAreaRight" fmla="*/ 1446480 w 144612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9"/>
              <p:cNvSpPr/>
              <p:nvPr/>
            </p:nvSpPr>
            <p:spPr>
              <a:xfrm rot="18000000">
                <a:off x="4195800" y="4669560"/>
                <a:ext cx="597960" cy="1139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10"/>
            <p:cNvSpPr/>
            <p:nvPr/>
          </p:nvSpPr>
          <p:spPr>
            <a:xfrm rot="3600000">
              <a:off x="3212280" y="1712160"/>
              <a:ext cx="1311840" cy="2072520"/>
            </a:xfrm>
            <a:custGeom>
              <a:avLst/>
              <a:gdLst>
                <a:gd name="textAreaLeft" fmla="*/ 0 w 1311840"/>
                <a:gd name="textAreaRight" fmla="*/ 1312200 w 1311840"/>
                <a:gd name="textAreaTop" fmla="*/ 0 h 2072520"/>
                <a:gd name="textAreaBottom" fmla="*/ 2072880 h 207252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6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1"/>
            <p:cNvGrpSpPr/>
            <p:nvPr/>
          </p:nvGrpSpPr>
          <p:grpSpPr>
            <a:xfrm>
              <a:off x="2355840" y="2264760"/>
              <a:ext cx="2162160" cy="2676960"/>
              <a:chOff x="2355840" y="2264760"/>
              <a:chExt cx="2162160" cy="2676960"/>
            </a:xfrm>
          </p:grpSpPr>
          <p:sp>
            <p:nvSpPr>
              <p:cNvPr id="397" name="AutoShape 12"/>
              <p:cNvSpPr/>
              <p:nvPr/>
            </p:nvSpPr>
            <p:spPr>
              <a:xfrm rot="9000000">
                <a:off x="3030480" y="4041000"/>
                <a:ext cx="1438920" cy="5796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"/>
              <p:cNvSpPr/>
              <p:nvPr/>
            </p:nvSpPr>
            <p:spPr>
              <a:xfrm rot="3600000">
                <a:off x="2600640" y="3259080"/>
                <a:ext cx="1446120" cy="804960"/>
              </a:xfrm>
              <a:custGeom>
                <a:avLst/>
                <a:gdLst>
                  <a:gd name="textAreaLeft" fmla="*/ 0 w 1446120"/>
                  <a:gd name="textAreaRight" fmla="*/ 1446480 w 144612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"/>
              <p:cNvSpPr/>
              <p:nvPr/>
            </p:nvSpPr>
            <p:spPr>
              <a:xfrm rot="3600000">
                <a:off x="2717640" y="2208240"/>
                <a:ext cx="527760" cy="1140120"/>
              </a:xfrm>
              <a:custGeom>
                <a:avLst/>
                <a:gdLst>
                  <a:gd name="textAreaLeft" fmla="*/ 0 w 527760"/>
                  <a:gd name="textAreaRight" fmla="*/ 528120 w 52776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5"/>
            <p:cNvGrpSpPr/>
            <p:nvPr/>
          </p:nvGrpSpPr>
          <p:grpSpPr>
            <a:xfrm>
              <a:off x="3871080" y="1989360"/>
              <a:ext cx="2494440" cy="1340280"/>
              <a:chOff x="3871080" y="1989360"/>
              <a:chExt cx="2494440" cy="1340280"/>
            </a:xfrm>
          </p:grpSpPr>
          <p:sp>
            <p:nvSpPr>
              <p:cNvPr id="401" name="Freeform 16"/>
              <p:cNvSpPr/>
              <p:nvPr/>
            </p:nvSpPr>
            <p:spPr>
              <a:xfrm rot="10800000">
                <a:off x="5784480" y="2274480"/>
                <a:ext cx="581040" cy="10551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055160"/>
                  <a:gd name="textAreaBottom" fmla="*/ 1055520 h 10551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17"/>
              <p:cNvSpPr/>
              <p:nvPr/>
            </p:nvSpPr>
            <p:spPr>
              <a:xfrm rot="16200000">
                <a:off x="3525840" y="2334240"/>
                <a:ext cx="1329840" cy="639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8"/>
              <p:cNvSpPr/>
              <p:nvPr/>
            </p:nvSpPr>
            <p:spPr>
              <a:xfrm rot="10800000">
                <a:off x="4245840" y="2274840"/>
                <a:ext cx="1595880" cy="745200"/>
              </a:xfrm>
              <a:custGeom>
                <a:avLst/>
                <a:gdLst>
                  <a:gd name="textAreaLeft" fmla="*/ 0 w 1595880"/>
                  <a:gd name="textAreaRight" fmla="*/ 1596240 w 1595880"/>
                  <a:gd name="textAreaTop" fmla="*/ 0 h 745200"/>
                  <a:gd name="textAreaBottom" fmla="*/ 745560 h 7452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Text Box 19"/>
          <p:cNvSpPr/>
          <p:nvPr/>
        </p:nvSpPr>
        <p:spPr>
          <a:xfrm>
            <a:off x="179280" y="206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124000" y="537372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ОНСУЛЬ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6084720" y="198900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187280" y="404640"/>
            <a:ext cx="795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 Black"/>
              </a:rPr>
              <a:t>Базовые элемент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Завершение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авершающем этапе проектной деятельности всегда подвожу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т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учеников, даю качественную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ц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еланной работы по осуществлению проекта, всего узнанного и приобрет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 безусловно,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олож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же если проект осуществлен не на 100% или при выполнении задания не все получилось. Подвожу итоги и воспитатель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местное взаимодействие, творчество учеников, их самостоятельность,создание продукта - все это, несомненно, уже результаты!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3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3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3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35280" y="1125360"/>
            <a:ext cx="53294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й этап развития российского образования характеризуется широким внедрением в учебный процесс компьютерных технологий. Они позволяют выйти на новый уровень обучения, открывают ранее недоступные возможности, как для учителя, так и для учащихся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А. Медвед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text_photo_dm"/>
          <p:cNvPicPr/>
          <p:nvPr/>
        </p:nvPicPr>
        <p:blipFill>
          <a:blip r:embed="rId1"/>
          <a:stretch/>
        </p:blipFill>
        <p:spPr>
          <a:xfrm>
            <a:off x="324000" y="1628640"/>
            <a:ext cx="33732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6"/>
          <p:cNvSpPr/>
          <p:nvPr/>
        </p:nvSpPr>
        <p:spPr>
          <a:xfrm>
            <a:off x="199080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1042920" y="1341360"/>
            <a:ext cx="7488360" cy="44640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технологи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быстроразвивающие технолог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-технологии будущ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дём в ногу со времен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3059280" y="43657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920" y="372960"/>
            <a:ext cx="7850160" cy="4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Oval 2"/>
          <p:cNvSpPr/>
          <p:nvPr/>
        </p:nvSpPr>
        <p:spPr>
          <a:xfrm>
            <a:off x="2590920" y="2133720"/>
            <a:ext cx="4038480" cy="3962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3581280" y="3124080"/>
            <a:ext cx="2057400" cy="2133720"/>
            <a:chOff x="3581280" y="3124080"/>
            <a:chExt cx="2057400" cy="2133720"/>
          </a:xfrm>
        </p:grpSpPr>
        <p:sp>
          <p:nvSpPr>
            <p:cNvPr id="416" name="Oval 5"/>
            <p:cNvSpPr/>
            <p:nvPr/>
          </p:nvSpPr>
          <p:spPr>
            <a:xfrm>
              <a:off x="3581280" y="3124080"/>
              <a:ext cx="2057400" cy="2133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d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3816360" y="3159360"/>
              <a:ext cx="1587240" cy="8053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7"/>
          <p:cNvSpPr/>
          <p:nvPr/>
        </p:nvSpPr>
        <p:spPr>
          <a:xfrm>
            <a:off x="4356000" y="3860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4191120" y="1727280"/>
            <a:ext cx="685800" cy="658800"/>
            <a:chOff x="4191120" y="1727280"/>
            <a:chExt cx="685800" cy="658800"/>
          </a:xfrm>
        </p:grpSpPr>
        <p:grpSp>
          <p:nvGrpSpPr>
            <p:cNvPr id="420" name="Group 9"/>
            <p:cNvGrpSpPr/>
            <p:nvPr/>
          </p:nvGrpSpPr>
          <p:grpSpPr>
            <a:xfrm>
              <a:off x="4191120" y="1727280"/>
              <a:ext cx="685800" cy="658800"/>
              <a:chOff x="4191120" y="1727280"/>
              <a:chExt cx="685800" cy="658800"/>
            </a:xfrm>
          </p:grpSpPr>
          <p:sp>
            <p:nvSpPr>
              <p:cNvPr id="421" name="Oval 10"/>
              <p:cNvSpPr/>
              <p:nvPr/>
            </p:nvSpPr>
            <p:spPr>
              <a:xfrm>
                <a:off x="4191120" y="1727280"/>
                <a:ext cx="685800" cy="6588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c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"/>
              <p:cNvSpPr/>
              <p:nvPr/>
            </p:nvSpPr>
            <p:spPr>
              <a:xfrm>
                <a:off x="4269240" y="1738080"/>
                <a:ext cx="529200" cy="24840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12"/>
            <p:cNvSpPr/>
            <p:nvPr/>
          </p:nvSpPr>
          <p:spPr>
            <a:xfrm>
              <a:off x="437004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3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425" name="Oval 14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2895480" y="5329080"/>
            <a:ext cx="685800" cy="685800"/>
            <a:chOff x="2895480" y="5329080"/>
            <a:chExt cx="685800" cy="685800"/>
          </a:xfrm>
        </p:grpSpPr>
        <p:grpSp>
          <p:nvGrpSpPr>
            <p:cNvPr id="428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429" name="Oval 18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9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0"/>
            <p:cNvSpPr/>
            <p:nvPr/>
          </p:nvSpPr>
          <p:spPr>
            <a:xfrm>
              <a:off x="3052440" y="54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6253200" y="3124080"/>
            <a:ext cx="681120" cy="693720"/>
            <a:chOff x="6253200" y="3124080"/>
            <a:chExt cx="681120" cy="693720"/>
          </a:xfrm>
        </p:grpSpPr>
        <p:grpSp>
          <p:nvGrpSpPr>
            <p:cNvPr id="433" name="Group 22"/>
            <p:cNvGrpSpPr/>
            <p:nvPr/>
          </p:nvGrpSpPr>
          <p:grpSpPr>
            <a:xfrm>
              <a:off x="6253200" y="3124080"/>
              <a:ext cx="681120" cy="693720"/>
              <a:chOff x="6253200" y="3124080"/>
              <a:chExt cx="681120" cy="693720"/>
            </a:xfrm>
          </p:grpSpPr>
          <p:sp>
            <p:nvSpPr>
              <p:cNvPr id="434" name="Oval 23"/>
              <p:cNvSpPr/>
              <p:nvPr/>
            </p:nvSpPr>
            <p:spPr>
              <a:xfrm>
                <a:off x="6253200" y="312408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4"/>
              <p:cNvSpPr/>
              <p:nvPr/>
            </p:nvSpPr>
            <p:spPr>
              <a:xfrm>
                <a:off x="6330960" y="313560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Text Box 25"/>
            <p:cNvSpPr/>
            <p:nvPr/>
          </p:nvSpPr>
          <p:spPr>
            <a:xfrm>
              <a:off x="6407640" y="3219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26"/>
          <p:cNvGrpSpPr/>
          <p:nvPr/>
        </p:nvGrpSpPr>
        <p:grpSpPr>
          <a:xfrm>
            <a:off x="5638680" y="5300640"/>
            <a:ext cx="654120" cy="622440"/>
            <a:chOff x="5638680" y="5300640"/>
            <a:chExt cx="654120" cy="622440"/>
          </a:xfrm>
        </p:grpSpPr>
        <p:grpSp>
          <p:nvGrpSpPr>
            <p:cNvPr id="438" name="Group 27"/>
            <p:cNvGrpSpPr/>
            <p:nvPr/>
          </p:nvGrpSpPr>
          <p:grpSpPr>
            <a:xfrm>
              <a:off x="5638680" y="5300640"/>
              <a:ext cx="654120" cy="622440"/>
              <a:chOff x="5638680" y="5300640"/>
              <a:chExt cx="654120" cy="622440"/>
            </a:xfrm>
          </p:grpSpPr>
          <p:sp>
            <p:nvSpPr>
              <p:cNvPr id="439" name="Oval 28"/>
              <p:cNvSpPr/>
              <p:nvPr/>
            </p:nvSpPr>
            <p:spPr>
              <a:xfrm>
                <a:off x="5638680" y="5300640"/>
                <a:ext cx="654120" cy="6224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9"/>
              <p:cNvSpPr/>
              <p:nvPr/>
            </p:nvSpPr>
            <p:spPr>
              <a:xfrm>
                <a:off x="5713200" y="5310720"/>
                <a:ext cx="504720" cy="23472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30"/>
            <p:cNvSpPr/>
            <p:nvPr/>
          </p:nvSpPr>
          <p:spPr>
            <a:xfrm>
              <a:off x="5820840" y="5334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1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443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444" name="Oval 33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44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4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Text Box 35"/>
            <p:cNvSpPr/>
            <p:nvPr/>
          </p:nvSpPr>
          <p:spPr>
            <a:xfrm>
              <a:off x="2541240" y="32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Oval 36"/>
          <p:cNvSpPr/>
          <p:nvPr/>
        </p:nvSpPr>
        <p:spPr>
          <a:xfrm rot="18226800">
            <a:off x="5566320" y="517752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37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38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450" name="Oval 39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0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41"/>
          <p:cNvGrpSpPr/>
          <p:nvPr/>
        </p:nvGrpSpPr>
        <p:grpSpPr>
          <a:xfrm>
            <a:off x="4471200" y="2531520"/>
            <a:ext cx="187200" cy="468000"/>
            <a:chOff x="4471200" y="2531520"/>
            <a:chExt cx="187200" cy="468000"/>
          </a:xfrm>
        </p:grpSpPr>
        <p:sp>
          <p:nvSpPr>
            <p:cNvPr id="453" name="Oval 42"/>
            <p:cNvSpPr/>
            <p:nvPr/>
          </p:nvSpPr>
          <p:spPr>
            <a:xfrm rot="18226800">
              <a:off x="4499640" y="25549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3"/>
            <p:cNvSpPr/>
            <p:nvPr/>
          </p:nvSpPr>
          <p:spPr>
            <a:xfrm rot="18226800">
              <a:off x="4499640" y="283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Oval 44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5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250920" y="278136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1200" y="333360"/>
            <a:ext cx="8002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 Black"/>
              </a:rPr>
              <a:t>Что для вас - информа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живем в информационном обществе, каждый из нас и наши ученики, в том числе, ежедневно “перевариваем” гигантские поток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Users\Admin\Desktop\imgpreview (2).jpg"/>
          <p:cNvPicPr/>
          <p:nvPr/>
        </p:nvPicPr>
        <p:blipFill>
          <a:blip r:embed="rId1"/>
          <a:stretch/>
        </p:blipFill>
        <p:spPr>
          <a:xfrm rot="1804800">
            <a:off x="6486480" y="44784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Admin\Desktop\imgpreview.jpg"/>
          <p:cNvPicPr/>
          <p:nvPr/>
        </p:nvPicPr>
        <p:blipFill>
          <a:blip r:embed="rId2"/>
          <a:stretch/>
        </p:blipFill>
        <p:spPr>
          <a:xfrm rot="20659800">
            <a:off x="468360" y="4652640"/>
            <a:ext cx="2200320" cy="164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Admin\Desktop\mobilnyj-telefon.jpg"/>
          <p:cNvPicPr/>
          <p:nvPr/>
        </p:nvPicPr>
        <p:blipFill>
          <a:blip r:embed="rId3"/>
          <a:stretch/>
        </p:blipFill>
        <p:spPr>
          <a:xfrm>
            <a:off x="3348000" y="4437000"/>
            <a:ext cx="2376360" cy="165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Admin\Desktop\radio.gif"/>
          <p:cNvPicPr/>
          <p:nvPr/>
        </p:nvPicPr>
        <p:blipFill>
          <a:blip r:embed="rId4"/>
          <a:stretch/>
        </p:blipFill>
        <p:spPr>
          <a:xfrm>
            <a:off x="5435640" y="260280"/>
            <a:ext cx="2736720" cy="271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Admin\Desktop\imgpreview (1).jpg"/>
          <p:cNvPicPr/>
          <p:nvPr/>
        </p:nvPicPr>
        <p:blipFill>
          <a:blip r:embed="rId5"/>
          <a:stretch/>
        </p:blipFill>
        <p:spPr>
          <a:xfrm>
            <a:off x="324000" y="18900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AutoShape 7"/>
          <p:cNvGrpSpPr/>
          <p:nvPr/>
        </p:nvGrpSpPr>
        <p:grpSpPr>
          <a:xfrm>
            <a:off x="6424560" y="1249200"/>
            <a:ext cx="2567160" cy="2640240"/>
            <a:chOff x="6424560" y="1249200"/>
            <a:chExt cx="2567160" cy="2640240"/>
          </a:xfrm>
        </p:grpSpPr>
        <p:pic>
          <p:nvPicPr>
            <p:cNvPr id="63" name="AutoShape 7" descr=""/>
            <p:cNvPicPr/>
            <p:nvPr/>
          </p:nvPicPr>
          <p:blipFill>
            <a:blip r:embed="rId1"/>
            <a:stretch/>
          </p:blipFill>
          <p:spPr>
            <a:xfrm>
              <a:off x="6424560" y="1249200"/>
              <a:ext cx="256716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32640" y="1457280"/>
              <a:ext cx="214308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AutoShape 8"/>
          <p:cNvGrpSpPr/>
          <p:nvPr/>
        </p:nvGrpSpPr>
        <p:grpSpPr>
          <a:xfrm>
            <a:off x="158760" y="1249200"/>
            <a:ext cx="2565360" cy="2706840"/>
            <a:chOff x="158760" y="1249200"/>
            <a:chExt cx="2565360" cy="2706840"/>
          </a:xfrm>
        </p:grpSpPr>
        <p:pic>
          <p:nvPicPr>
            <p:cNvPr id="66" name="AutoShape 8" descr=""/>
            <p:cNvPicPr/>
            <p:nvPr/>
          </p:nvPicPr>
          <p:blipFill>
            <a:blip r:embed="rId2"/>
            <a:stretch/>
          </p:blipFill>
          <p:spPr>
            <a:xfrm>
              <a:off x="158760" y="1249200"/>
              <a:ext cx="256536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68280" y="1457280"/>
              <a:ext cx="214308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6"/>
          <p:cNvSpPr/>
          <p:nvPr/>
        </p:nvSpPr>
        <p:spPr>
          <a:xfrm>
            <a:off x="3419640" y="1917720"/>
            <a:ext cx="2376360" cy="1942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учи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 rot="9361800">
            <a:off x="2712600" y="362196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AutoShape 8"/>
          <p:cNvGrpSpPr/>
          <p:nvPr/>
        </p:nvGrpSpPr>
        <p:grpSpPr>
          <a:xfrm>
            <a:off x="3181320" y="4780080"/>
            <a:ext cx="2927520" cy="1839960"/>
            <a:chOff x="3181320" y="4780080"/>
            <a:chExt cx="2927520" cy="1839960"/>
          </a:xfrm>
        </p:grpSpPr>
        <p:pic>
          <p:nvPicPr>
            <p:cNvPr id="71" name="AutoShape 8" descr=""/>
            <p:cNvPicPr/>
            <p:nvPr/>
          </p:nvPicPr>
          <p:blipFill>
            <a:blip r:embed="rId3"/>
            <a:stretch/>
          </p:blipFill>
          <p:spPr>
            <a:xfrm>
              <a:off x="3181320" y="4780080"/>
              <a:ext cx="292752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355920" y="4950000"/>
              <a:ext cx="257508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AutoShape 8"/>
          <p:cNvGrpSpPr/>
          <p:nvPr/>
        </p:nvGrpSpPr>
        <p:grpSpPr>
          <a:xfrm>
            <a:off x="6278400" y="4059360"/>
            <a:ext cx="2640240" cy="1987560"/>
            <a:chOff x="6278400" y="4059360"/>
            <a:chExt cx="2640240" cy="1987560"/>
          </a:xfrm>
        </p:grpSpPr>
        <p:pic>
          <p:nvPicPr>
            <p:cNvPr id="74" name="AutoShape 8" descr=""/>
            <p:cNvPicPr/>
            <p:nvPr/>
          </p:nvPicPr>
          <p:blipFill>
            <a:blip r:embed="rId4"/>
            <a:stretch/>
          </p:blipFill>
          <p:spPr>
            <a:xfrm>
              <a:off x="6278400" y="4059360"/>
              <a:ext cx="26402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459480" y="4237200"/>
              <a:ext cx="227484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AutoShape 8"/>
          <p:cNvGrpSpPr/>
          <p:nvPr/>
        </p:nvGrpSpPr>
        <p:grpSpPr>
          <a:xfrm>
            <a:off x="231840" y="4059360"/>
            <a:ext cx="2639880" cy="1841400"/>
            <a:chOff x="231840" y="4059360"/>
            <a:chExt cx="2639880" cy="1841400"/>
          </a:xfrm>
        </p:grpSpPr>
        <p:pic>
          <p:nvPicPr>
            <p:cNvPr id="77" name="AutoShape 8" descr=""/>
            <p:cNvPicPr/>
            <p:nvPr/>
          </p:nvPicPr>
          <p:blipFill>
            <a:blip r:embed="rId5"/>
            <a:stretch/>
          </p:blipFill>
          <p:spPr>
            <a:xfrm>
              <a:off x="231840" y="4059360"/>
              <a:ext cx="26398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04640" y="4230720"/>
              <a:ext cx="228780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27"/>
          <p:cNvSpPr/>
          <p:nvPr/>
        </p:nvSpPr>
        <p:spPr>
          <a:xfrm rot="10800000">
            <a:off x="2771640" y="1700280"/>
            <a:ext cx="571680" cy="590400"/>
          </a:xfrm>
          <a:custGeom>
            <a:avLst/>
            <a:gdLst>
              <a:gd name="textAreaLeft" fmla="*/ 89280 w 571680"/>
              <a:gd name="textAreaRight" fmla="*/ 500400 w 571680"/>
              <a:gd name="textAreaTop" fmla="*/ 147600 h 590400"/>
              <a:gd name="textAreaBottom" fmla="*/ 442800 h 590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7"/>
          <p:cNvSpPr/>
          <p:nvPr/>
        </p:nvSpPr>
        <p:spPr>
          <a:xfrm rot="21380400">
            <a:off x="5811840" y="1790280"/>
            <a:ext cx="561960" cy="517680"/>
          </a:xfrm>
          <a:custGeom>
            <a:avLst/>
            <a:gdLst>
              <a:gd name="textAreaLeft" fmla="*/ 87840 w 561960"/>
              <a:gd name="textAreaRight" fmla="*/ 491760 w 561960"/>
              <a:gd name="textAreaTop" fmla="*/ 129240 h 517680"/>
              <a:gd name="textAreaBottom" fmla="*/ 388440 h 517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 rot="1323000">
            <a:off x="5805000" y="361440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7"/>
          <p:cNvSpPr/>
          <p:nvPr/>
        </p:nvSpPr>
        <p:spPr>
          <a:xfrm rot="5400000">
            <a:off x="4284000" y="414792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1835280" y="189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ученик сегодня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бладать неким объемом знаний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539640" y="1341360"/>
            <a:ext cx="194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пределять цели познавательной деятельн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ходить оптимальные способы их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6732720" y="1557360"/>
            <a:ext cx="266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скать и находить необходимую информа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спользу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азнооб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468360" y="4292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рганизов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659640" y="4365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отрудни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с друг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уча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2"/>
          <p:cNvSpPr/>
          <p:nvPr/>
        </p:nvSpPr>
        <p:spPr>
          <a:xfrm>
            <a:off x="3708360" y="508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цени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получ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3492360" y="1916280"/>
            <a:ext cx="2376720" cy="1942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л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 учи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2"/>
          <p:cNvSpPr/>
          <p:nvPr/>
        </p:nvSpPr>
        <p:spPr>
          <a:xfrm rot="20954400">
            <a:off x="2355480" y="2904840"/>
            <a:ext cx="3132000" cy="2781360"/>
          </a:xfrm>
          <a:custGeom>
            <a:avLst/>
            <a:gdLst>
              <a:gd name="textAreaLeft" fmla="*/ 0 w 3132000"/>
              <a:gd name="textAreaRight" fmla="*/ 3132360 w 313200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ead88a"/>
              </a:gs>
              <a:gs pos="100000">
                <a:srgbClr val="cc9900"/>
              </a:gs>
            </a:gsLst>
            <a:lin ang="3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 rot="10552800">
            <a:off x="3511440" y="1815840"/>
            <a:ext cx="3314880" cy="269244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2692440"/>
              <a:gd name="textAreaBottom" fmla="*/ 2692800 h 269244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996e3"/>
              </a:gs>
              <a:gs pos="50000">
                <a:srgbClr val="afcef7"/>
              </a:gs>
              <a:gs pos="100000">
                <a:srgbClr val="4996e3"/>
              </a:gs>
            </a:gsLst>
            <a:lin ang="1374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1280" y="1413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284720" y="53737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КТ-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0" y="404640"/>
            <a:ext cx="8002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орите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орите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 круг вопросов, в которых человек хорошо осведомлен, обладает познаниями и опы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КТ-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учащихся использовать информационные и коммуникационные технологии для доступа к информации, ее определения (идентификации), организации, обработки, оценки, а также ее создания-продуцирования и передачи-распространения, которая достаточна для того, чтобы успешно жить и трудиться в условиях информационного общества, в условиях экономики, которая основана на зн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11280" y="9079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199080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900000" y="1268280"/>
            <a:ext cx="7488360" cy="4464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116000" y="1989000"/>
            <a:ext cx="1219320" cy="1184400"/>
          </a:xfrm>
          <a:prstGeom prst="roundRect">
            <a:avLst>
              <a:gd name="adj" fmla="val 17685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Иностанный язы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Обществозна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1116000" y="1989000"/>
            <a:ext cx="609480" cy="592200"/>
          </a:xfrm>
          <a:custGeom>
            <a:avLst/>
            <a:gdLst>
              <a:gd name="textAreaLeft" fmla="*/ 0 w 609480"/>
              <a:gd name="textAreaRight" fmla="*/ 609840 w 6094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3d4d4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059280" y="43657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372960"/>
            <a:ext cx="7850160" cy="4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411280" y="1557360"/>
            <a:ext cx="760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как  учебны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ет важную  роль в проце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я ИК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компетент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мые на уроках информат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перенесены на из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создания целос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а знаний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250920" y="1341360"/>
            <a:ext cx="4196160" cy="3916080"/>
            <a:chOff x="250920" y="1341360"/>
            <a:chExt cx="4196160" cy="3916080"/>
          </a:xfrm>
        </p:grpSpPr>
        <p:sp>
          <p:nvSpPr>
            <p:cNvPr id="106" name="AutoShape 3"/>
            <p:cNvSpPr/>
            <p:nvPr/>
          </p:nvSpPr>
          <p:spPr>
            <a:xfrm>
              <a:off x="250920" y="2062080"/>
              <a:ext cx="4161600" cy="3195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3831120" y="1341360"/>
              <a:ext cx="615960" cy="1821600"/>
              <a:chOff x="3831120" y="1341360"/>
              <a:chExt cx="615960" cy="182160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994200" y="1341360"/>
                <a:ext cx="297360" cy="31680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>
                <a:off x="3831120" y="1763640"/>
                <a:ext cx="615960" cy="1399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399320"/>
                  <a:gd name="textAreaBottom" fmla="*/ 1399680 h 13993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 Black"/>
              </a:rPr>
              <a:t>Понятие УУ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4000" y="2421000"/>
            <a:ext cx="38163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учиться, т.·е. способность субъекта к саморазвитию и самосовершенствованию путём сознательного и активного присвоения нового социаль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4500720" y="1413000"/>
            <a:ext cx="4318920" cy="5154480"/>
            <a:chOff x="4500720" y="1413000"/>
            <a:chExt cx="4318920" cy="5154480"/>
          </a:xfrm>
        </p:grpSpPr>
        <p:sp>
          <p:nvSpPr>
            <p:cNvPr id="113" name="AutoShape 10"/>
            <p:cNvSpPr/>
            <p:nvPr/>
          </p:nvSpPr>
          <p:spPr>
            <a:xfrm>
              <a:off x="4604760" y="2060280"/>
              <a:ext cx="4214880" cy="31662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4572360" y="2205360"/>
              <a:ext cx="4171320" cy="43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вокупность действ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чащегося, обеспечивающих социальную компетентность, способность к самостоятельному усвоению новых знаний и умений, включая организацию этого процесса, культурную идентичность и толерантн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2"/>
            <p:cNvGrpSpPr/>
            <p:nvPr/>
          </p:nvGrpSpPr>
          <p:grpSpPr>
            <a:xfrm>
              <a:off x="4500720" y="1413000"/>
              <a:ext cx="682560" cy="1720440"/>
              <a:chOff x="4500720" y="1413000"/>
              <a:chExt cx="682560" cy="1720440"/>
            </a:xfrm>
          </p:grpSpPr>
          <p:sp>
            <p:nvSpPr>
              <p:cNvPr id="116" name="Freeform 13"/>
              <p:cNvSpPr/>
              <p:nvPr/>
            </p:nvSpPr>
            <p:spPr>
              <a:xfrm>
                <a:off x="4644360" y="1413000"/>
                <a:ext cx="305280" cy="30384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3840"/>
                  <a:gd name="textAreaBottom" fmla="*/ 304200 h 30384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>
                <a:off x="4500720" y="1791720"/>
                <a:ext cx="682560" cy="134172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1341720"/>
                  <a:gd name="textAreaBottom" fmla="*/ 1342080 h 13417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324000" y="1630440"/>
            <a:ext cx="3951720" cy="4606560"/>
            <a:chOff x="324000" y="1630440"/>
            <a:chExt cx="3951720" cy="4606560"/>
          </a:xfrm>
        </p:grpSpPr>
        <p:sp>
          <p:nvSpPr>
            <p:cNvPr id="119" name="AutoShape 3"/>
            <p:cNvSpPr/>
            <p:nvPr/>
          </p:nvSpPr>
          <p:spPr>
            <a:xfrm>
              <a:off x="324000" y="3213000"/>
              <a:ext cx="3939480" cy="3024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ebd3ad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3490920" y="1630440"/>
              <a:ext cx="784800" cy="2013840"/>
              <a:chOff x="3490920" y="1630440"/>
              <a:chExt cx="784800" cy="2013840"/>
            </a:xfrm>
          </p:grpSpPr>
          <p:sp>
            <p:nvSpPr>
              <p:cNvPr id="121" name="Freeform 5"/>
              <p:cNvSpPr/>
              <p:nvPr/>
            </p:nvSpPr>
            <p:spPr>
              <a:xfrm>
                <a:off x="3634560" y="1630440"/>
                <a:ext cx="430200" cy="50472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"/>
              <p:cNvSpPr/>
              <p:nvPr/>
            </p:nvSpPr>
            <p:spPr>
              <a:xfrm>
                <a:off x="3490920" y="2206080"/>
                <a:ext cx="784800" cy="1438200"/>
              </a:xfrm>
              <a:custGeom>
                <a:avLst/>
                <a:gdLst>
                  <a:gd name="textAreaLeft" fmla="*/ 0 w 784800"/>
                  <a:gd name="textAreaRight" fmla="*/ 785160 w 784800"/>
                  <a:gd name="textAreaTop" fmla="*/ 0 h 1438200"/>
                  <a:gd name="textAreaBottom" fmla="*/ 1438560 h 143820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Функции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5280" y="3500280"/>
            <a:ext cx="38163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возможностей 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4500720" y="1628640"/>
            <a:ext cx="4318920" cy="5825880"/>
            <a:chOff x="4500720" y="1628640"/>
            <a:chExt cx="4318920" cy="5825880"/>
          </a:xfrm>
        </p:grpSpPr>
        <p:sp>
          <p:nvSpPr>
            <p:cNvPr id="126" name="AutoShape 10"/>
            <p:cNvSpPr/>
            <p:nvPr/>
          </p:nvSpPr>
          <p:spPr>
            <a:xfrm>
              <a:off x="4671720" y="3213360"/>
              <a:ext cx="4147920" cy="305244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3bb"/>
                </a:gs>
              </a:gsLst>
              <a:lin ang="2700000"/>
            </a:gradFill>
            <a:ln w="50760">
              <a:solidFill>
                <a:srgbClr val="dba037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1"/>
            <p:cNvSpPr/>
            <p:nvPr/>
          </p:nvSpPr>
          <p:spPr>
            <a:xfrm>
              <a:off x="4787280" y="3428640"/>
              <a:ext cx="3959640" cy="40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здание условий для гармоничного развития личности и её самореализации на основе готовности к непрерывному образованию; обеспечение успешного усвоения знаний, формирования умений, навыков и компетентностей в любой предметной облас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2"/>
            <p:cNvGrpSpPr/>
            <p:nvPr/>
          </p:nvGrpSpPr>
          <p:grpSpPr>
            <a:xfrm>
              <a:off x="4500720" y="1628640"/>
              <a:ext cx="790920" cy="2016360"/>
              <a:chOff x="4500720" y="1628640"/>
              <a:chExt cx="790920" cy="2016360"/>
            </a:xfrm>
          </p:grpSpPr>
          <p:sp>
            <p:nvSpPr>
              <p:cNvPr id="129" name="Freeform 13"/>
              <p:cNvSpPr/>
              <p:nvPr/>
            </p:nvSpPr>
            <p:spPr>
              <a:xfrm>
                <a:off x="4644000" y="1628640"/>
                <a:ext cx="459360" cy="45864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4"/>
              <p:cNvSpPr/>
              <p:nvPr/>
            </p:nvSpPr>
            <p:spPr>
              <a:xfrm>
                <a:off x="4500720" y="2204640"/>
                <a:ext cx="790920" cy="1440360"/>
              </a:xfrm>
              <a:custGeom>
                <a:avLst/>
                <a:gdLst>
                  <a:gd name="textAreaLeft" fmla="*/ 0 w 790920"/>
                  <a:gd name="textAreaRight" fmla="*/ 791280 w 790920"/>
                  <a:gd name="textAreaTop" fmla="*/ 0 h 1440360"/>
                  <a:gd name="textAreaBottom" fmla="*/ 1440720 h 144036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  <a:effectLst>
                <a:outerShdw dist="91658" dir="338234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1" name="Прямоугольник 14" descr=""/>
          <p:cNvPicPr/>
          <p:nvPr/>
        </p:nvPicPr>
        <p:blipFill>
          <a:blip r:embed="rId1"/>
          <a:stretch/>
        </p:blipFill>
        <p:spPr>
          <a:xfrm>
            <a:off x="1347840" y="1925640"/>
            <a:ext cx="1187280" cy="8604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6" descr=""/>
          <p:cNvPicPr/>
          <p:nvPr/>
        </p:nvPicPr>
        <p:blipFill>
          <a:blip r:embed="rId2"/>
          <a:stretch/>
        </p:blipFill>
        <p:spPr>
          <a:xfrm>
            <a:off x="6461280" y="1859040"/>
            <a:ext cx="11887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7:40:59Z</dcterms:created>
  <dc:creator>Алёша</dc:creator>
  <dc:description/>
  <dc:language>en-US</dc:language>
  <cp:lastModifiedBy>Admin</cp:lastModifiedBy>
  <dcterms:modified xsi:type="dcterms:W3CDTF">2013-11-17T20:42:03Z</dcterms:modified>
  <cp:revision>173</cp:revision>
  <dc:subject/>
  <dc:title>Программа  формирования УУД  и ИКТ Программа формирования культуры ЗОЖ</dc:title>
</cp:coreProperties>
</file>