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F188-DECA-434A-808E-F52947BC0C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DD9D-4FC6-45C8-9C0D-7FA0BFDFDB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2911-EDDC-476A-9590-76540E8AB9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4ACC-8769-4FAD-821E-BE2406EFDF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4B34-FE17-4B85-8734-324EA8917D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E2B8-0BB5-4AE1-BE3C-CD3440A4A5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E1AC-EA09-4656-8EBF-6AC2DC3770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1071-60F0-4191-92FE-7AC5548408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2EAE-4A9B-4BBE-B35C-0EA4315B3D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955C-68DE-45E6-B325-161131BEAD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192E-A6F5-4DCE-886B-83A630BF93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B050-7DEB-4DBB-90DD-4DEC65BBF4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009E-D907-4BD0-B58A-250DB7CCE1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A88D-77F2-4BC3-BC1C-F8C269D513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1A12-9212-4565-B636-53597BC723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5CE7-47E7-4D26-87EC-D4A9581E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FC46-40A7-4FB5-ADB7-63303545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A9E8-37AC-492C-A15E-A646F046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6B28-433D-4DA5-A5C7-A63D8356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93BD-6D5A-4367-8D75-9E2B888C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B8B3-8086-4533-882A-9A5D2E4F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2280-F7E1-4EB5-8B17-648F4A0D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B098-F5C9-4191-9C7A-11FA854A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CF3E-A267-4A24-88BC-3953E46C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DEEC-1816-44BA-B359-0DF918B8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F247-A67E-4863-AFDE-B9969B81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11FA-9163-4FA0-8B75-8C8E663F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92EB-D262-4482-B2C9-D7E915CB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BEDF-6853-4B79-9E75-542467E1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1ED7-D07E-4F68-97E1-21606AF2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8BAE-9FD2-4420-8A1A-46288DC2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6B8B-2AAE-43CC-9921-B0559621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F5C1-A57C-4081-B32D-137F8DA1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4BE6-AB3C-431E-B04B-5A0B24CA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52B-3234-4002-979D-DB4294D8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CED3-BB09-4478-AD1C-A73C3FEE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4E1E-9A02-4C30-A7FE-25E12EFE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559-6FA3-4E18-8898-75606891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8E68-13FD-49FD-94E3-6083DBBC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D3A9-8EA5-4C12-896A-0502EE2084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B005-9F0C-4D0B-8A43-5D6DA8D89CC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80787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Гражданка и ее окрестности в годы Великой Отечественной Войны</a:t>
            </a:r>
            <a:r>
              <a:rPr b="0" lang="ru-RU" sz="5400" spc="-1" strike="noStrike">
                <a:solidFill>
                  <a:srgbClr val="ffffff"/>
                </a:solidFill>
                <a:latin typeface="Arial Black"/>
              </a:rPr>
              <a:t>  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тапова Людмила Анатольевна,                  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учитель географии 633школы Калининского района города Санкт –Петербург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9280" y="33300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итехнический университет. Многие преподав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ли  и студенты ушли на фронт. Остальные,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ом женщины и подростки, изготавливал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троны, дымовые шашки, детали для автомато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наты. Хорошим подспорьем им было сады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городы институ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7" descr="Кал"/>
          <p:cNvPicPr/>
          <p:nvPr/>
        </p:nvPicPr>
        <p:blipFill>
          <a:blip r:embed="rId1"/>
          <a:stretch/>
        </p:blipFill>
        <p:spPr>
          <a:xfrm>
            <a:off x="250920" y="3429000"/>
            <a:ext cx="4681440" cy="32400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3"/>
          <p:cNvSpPr/>
          <p:nvPr/>
        </p:nvSpPr>
        <p:spPr>
          <a:xfrm>
            <a:off x="5148360" y="3429000"/>
            <a:ext cx="35272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итехнический институт.    1899-1901 г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лектив архитекторов во главе с Э. Ф. Виррих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9280" y="33300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блиотека им. А. С. Серафимовича., до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аля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и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Эта библиотека служила для блокад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нинграда не только культурным центром, но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стом общения, и где можно было обогре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3" descr="C:\Users\Юрий\Desktop\1\Дом шаляпина на пл Мужества\Lesnoy_prospekt_Toreza_dom-Shaljapina_dekor_25-01-2005.jpg"/>
          <p:cNvPicPr/>
          <p:nvPr/>
        </p:nvPicPr>
        <p:blipFill>
          <a:blip r:embed="rId1"/>
          <a:stretch/>
        </p:blipFill>
        <p:spPr>
          <a:xfrm>
            <a:off x="324000" y="2637000"/>
            <a:ext cx="2879640" cy="3887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C:\Users\Юрий\Desktop\1\Дом шаляпина на пл Мужества\TN_Lesnoy_prospekt_Toreza_dom-Shaljapina1_25-01-2005.JPG"/>
          <p:cNvPicPr/>
          <p:nvPr/>
        </p:nvPicPr>
        <p:blipFill>
          <a:blip r:embed="rId2"/>
          <a:stretch/>
        </p:blipFill>
        <p:spPr>
          <a:xfrm>
            <a:off x="3492360" y="2637000"/>
            <a:ext cx="2664000" cy="3816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C:\Users\Юрий\Desktop\1\Дом шаляпина на пл Мужества\TN_Lesnoy_prospekt_Toreza_dom-Shaljapina_bashnja_25-01-2005.JPG"/>
          <p:cNvPicPr/>
          <p:nvPr/>
        </p:nvPicPr>
        <p:blipFill>
          <a:blip r:embed="rId3"/>
          <a:stretch/>
        </p:blipFill>
        <p:spPr>
          <a:xfrm>
            <a:off x="6516720" y="2637000"/>
            <a:ext cx="2303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79280" y="33300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углая Бан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л. Мужеств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Почти всю войн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ла. В ней подавалась только горячая в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допровод в г. Ленинграде не работал. Почти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оло каждого дома был вырыт колодец. И поэт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 в баню нужно было принести с собой холодну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ду из близлежайше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од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" descr="IMG_0004"/>
          <p:cNvPicPr/>
          <p:nvPr/>
        </p:nvPicPr>
        <p:blipFill>
          <a:blip r:embed="rId1"/>
          <a:stretch/>
        </p:blipFill>
        <p:spPr>
          <a:xfrm>
            <a:off x="5148360" y="2997360"/>
            <a:ext cx="3527280" cy="367164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395280" y="4724280"/>
            <a:ext cx="4608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мятный знак на месте блокадного источника питьевой воды. Ск. М.Л.Круп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АМЯТЬ О БЛОКАДЕ ЛЕНИНГРА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1904760"/>
            <a:ext cx="4082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скаревское мемориальное кладбище. В братских могилах покоится 470 тыс.человек, главным образом – гражданское насел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мориальный ансамбль на братских могилах открыт 9 мая 1960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хитекторы: А.В.Васильев, Е.А.Левинсон, В.В.Исаев, Р.К.Таурит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8" descr="КалинрайIMG_0011"/>
          <p:cNvPicPr/>
          <p:nvPr/>
        </p:nvPicPr>
        <p:blipFill>
          <a:blip r:embed="rId1"/>
          <a:stretch/>
        </p:blipFill>
        <p:spPr>
          <a:xfrm>
            <a:off x="4643280" y="1484280"/>
            <a:ext cx="1872000" cy="2952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Кал"/>
          <p:cNvPicPr/>
          <p:nvPr/>
        </p:nvPicPr>
        <p:blipFill>
          <a:blip r:embed="rId2"/>
          <a:stretch/>
        </p:blipFill>
        <p:spPr>
          <a:xfrm>
            <a:off x="5651640" y="4149720"/>
            <a:ext cx="31478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СПАСИБО ЗА ВНИМАНИ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68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68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6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6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меренный ритм жизни Граждан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рвала Великая Отечественная Вой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рез Гражданку шли войска с техникой 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йну и беспрерывный поток беженц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0 августа 1941 года вышел секрет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каз о переселении немцев и финнов из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 Ленинграда и ее области, а это состав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яло 132 000 человек. Сбор в течении 2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сов с вещевым мешком за плечами. Э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юди оставили жилье и имущество, но э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вакуация спасла им жизн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 время войны на Гражданке и ее окрестност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местились ее важнейшие для обороны г. Лен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да объект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хоз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чь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авиабаз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алтийской ударной авиац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которая защищала небо над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рогой жизн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C:\Users\Юрий\Desktop\1\Совхоз Ручьи\lavriki-4.jpg"/>
          <p:cNvPicPr/>
          <p:nvPr/>
        </p:nvPicPr>
        <p:blipFill>
          <a:blip r:embed="rId1"/>
          <a:stretch/>
        </p:blipFill>
        <p:spPr>
          <a:xfrm>
            <a:off x="900000" y="3213000"/>
            <a:ext cx="6336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Поля между поселками Мурино и Бугры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жны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аэрод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елок Мурино                 поселок Буг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3" descr="C:\Users\Юрий\Desktop\1\Поселок Мурино\800px-Lavriki_Village_of_Leningrad_Region-6.jpg"/>
          <p:cNvPicPr/>
          <p:nvPr/>
        </p:nvPicPr>
        <p:blipFill>
          <a:blip r:embed="rId1"/>
          <a:stretch/>
        </p:blipFill>
        <p:spPr>
          <a:xfrm>
            <a:off x="826920" y="2205000"/>
            <a:ext cx="3816360" cy="324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Users\Юрий\Desktop\1\Поселок Бугры\07_big.jpg"/>
          <p:cNvPicPr/>
          <p:nvPr/>
        </p:nvPicPr>
        <p:blipFill>
          <a:blip r:embed="rId2"/>
          <a:stretch/>
        </p:blipFill>
        <p:spPr>
          <a:xfrm>
            <a:off x="5148360" y="2205000"/>
            <a:ext cx="3671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569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эродромы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ждан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нов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В ближай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их домах располагались летчики. К ним прих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ли дети, которые жили там. Летчики корми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ей лакомством. Это были пайки летч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торые не вернулись с зад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794120" y="357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8" descr="Кал"/>
          <p:cNvPicPr/>
          <p:nvPr/>
        </p:nvPicPr>
        <p:blipFill>
          <a:blip r:embed="rId1"/>
          <a:stretch/>
        </p:blipFill>
        <p:spPr>
          <a:xfrm>
            <a:off x="395280" y="2924280"/>
            <a:ext cx="2952720" cy="37447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3635280" y="2997360"/>
            <a:ext cx="525780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мятный знак на месте военного аэродрома «Гражданка».1975 г. Архитектор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. Ф. Лы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арлам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 В. Кожевнико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8" descr="C:\Users\Юрий\Desktop\1\Аэродром сосновка и памят летчикам\12_big.jpg"/>
          <p:cNvPicPr/>
          <p:nvPr/>
        </p:nvPicPr>
        <p:blipFill>
          <a:blip r:embed="rId1"/>
          <a:stretch/>
        </p:blipFill>
        <p:spPr>
          <a:xfrm>
            <a:off x="324000" y="765000"/>
            <a:ext cx="2808000" cy="388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C:\Users\Юрий\Desktop\1\Аэродром сосновка и памят летчикам\398px-The_Sosnovka_Park-4.jpg"/>
          <p:cNvPicPr/>
          <p:nvPr/>
        </p:nvPicPr>
        <p:blipFill>
          <a:blip r:embed="rId2"/>
          <a:stretch/>
        </p:blipFill>
        <p:spPr>
          <a:xfrm>
            <a:off x="3419640" y="765000"/>
            <a:ext cx="2592360" cy="388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C:\Users\Юрий\Desktop\1\Аэродром сосновка и памят летчикам\398px-The_Sosnovka_Park-8.jpg"/>
          <p:cNvPicPr/>
          <p:nvPr/>
        </p:nvPicPr>
        <p:blipFill>
          <a:blip r:embed="rId3"/>
          <a:stretch/>
        </p:blipFill>
        <p:spPr>
          <a:xfrm>
            <a:off x="6300720" y="765000"/>
            <a:ext cx="2592360" cy="38880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1619280" y="49417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эродром – парк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новк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79280" y="33300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кола № 111 (вечерняя № 55), сейчас шко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импийского резерва по адрес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жданский пр.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м № 7, здесь находился 12й учебный танков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к. 1й и 2й этажи – учебные классы. 3й этаж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лые комнаты. 4й этаж – госпиталь для лег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неных. От школы до Пискаревского кладбища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нковый полиг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1" descr="C:\Users\Юрий\Desktop\1\Школа олимп резерва\photo_806_7535740.jpg"/>
          <p:cNvPicPr/>
          <p:nvPr/>
        </p:nvPicPr>
        <p:blipFill>
          <a:blip r:embed="rId1"/>
          <a:stretch/>
        </p:blipFill>
        <p:spPr>
          <a:xfrm>
            <a:off x="3564000" y="3573360"/>
            <a:ext cx="5256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79280" y="33300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изико-технический институт им. Иоффе проводи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ытания на прочность льда для соору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роги жизн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2" descr="C:\Users\Юрий\Desktop\1\Институт иоффе\Lesnoy_FizTech-institut_22-05-2004.jpg"/>
          <p:cNvPicPr/>
          <p:nvPr/>
        </p:nvPicPr>
        <p:blipFill>
          <a:blip r:embed="rId1"/>
          <a:stretch/>
        </p:blipFill>
        <p:spPr>
          <a:xfrm>
            <a:off x="395280" y="2060640"/>
            <a:ext cx="8353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79280" y="33300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сотехническая академия выращивала сельск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озяйственную продукцию для фло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C:\Users\Юрий\Desktop\1\Лесотех академия\photo_6-6810.jpg"/>
          <p:cNvPicPr/>
          <p:nvPr/>
        </p:nvPicPr>
        <p:blipFill>
          <a:blip r:embed="rId1"/>
          <a:stretch/>
        </p:blipFill>
        <p:spPr>
          <a:xfrm>
            <a:off x="468360" y="1484280"/>
            <a:ext cx="8207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8:38:48Z</dcterms:created>
  <dc:creator>User</dc:creator>
  <dc:description/>
  <dc:language>en-US</dc:language>
  <cp:lastModifiedBy>Юрий</cp:lastModifiedBy>
  <dcterms:modified xsi:type="dcterms:W3CDTF">2013-05-04T20:28:44Z</dcterms:modified>
  <cp:revision>50</cp:revision>
  <dc:subject/>
  <dc:title>МОЙ ЛЮБИМЫЙ КАЛИНИНСКИЙ РАЙОН</dc:title>
</cp:coreProperties>
</file>