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D4B-7638-4C94-BD28-E3B4C910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943-A57A-4F3A-BF71-B5A162E8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681-998F-4F74-8C67-59C14298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6F2-4D96-42AE-8E72-AD37785F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5330-DA6F-4B68-9237-2BB4768A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E5DF-5B2D-4EA4-A176-230A3F87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D048-069F-40B4-857B-392B2E31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C38A-2F9E-49BB-9E52-9FE6B435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730A-1AAA-40A8-87D3-481A2ED1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34EC-DF7B-4125-B99E-17465D86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F872-B67B-4694-8E5B-693DE7B2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484-C98E-4F80-BCAB-B45678E3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DDCC-DA90-4E2C-8E5C-81B11A41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7B88-206A-47BD-B116-F7CA4291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DE1D-394B-46C1-9D7A-6398851D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2BFC-E943-4F81-BF2E-312BA896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D13C-6C3B-4665-8F38-A76374A5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F5353-3A9E-4AE8-8E62-9F9162CC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E6C36-0B1D-4122-AB65-5DFCF8B2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30603-CEC9-4CA1-9391-AC76E9BC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341F3-A282-422D-9610-EAA569B4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FF5BF-EB9E-40A3-8B8F-636301BB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DFE-45A7-4D6C-A8AF-B3664AC8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7ED7E-8B71-42AC-A585-ECC51957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29930-21D2-4F65-92F7-32FE646B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DE54C-1DB5-4312-80A7-351F5EED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95351-26CF-4E0A-954D-25D904C6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8D475-DF02-4F65-907B-E4F3DAEC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D1C2C-9A0A-4241-B35E-33DACE1D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94C93-F21F-4F47-9872-9EE6D915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932A-73CC-40EE-A46B-22BA96C8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6B4F7-C14B-456A-8631-148C28E9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E0B98-2A0C-4BEE-AA8A-2807753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14A-1670-48C7-BC6D-5FA41A7B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C036A-A76D-457C-9BA1-D26E541C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5D5A9-E2BF-4748-8D85-CE3BF66D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BC92-6D84-4331-90F1-CB55FD7B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CB21B-F12C-492E-9C51-C3BB8E79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F3E70-7D82-40DB-85F6-973AFC0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F1DAB-7CB8-4159-9187-85C8599E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D44D-4BDD-4151-B82E-934D8088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E4134-0811-400C-AE44-8C8ADD72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1A813-C5D1-402C-BAB5-5BCB6A22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67781-21BB-4DBE-BA05-F34C0C9A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FA6-0F14-4ACD-A98A-77D8AB3D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A7600-CCB8-41AD-9DEE-6782C756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14FE4-AEFA-482D-805A-A9139BA3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21F17-C2A6-4A98-AD7B-4E488A51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6628C-247C-4AB0-845A-5C70DCBA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49BEB-7534-465C-93AD-206CC50E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46109-79AF-4395-993A-3D802FD2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DE663-D27C-4FBB-B445-30331FC7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48121-10BA-4B07-8076-C02BA7C4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5B1A9-8F5D-4D3B-8F99-811A159C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4E1B9-95C6-4D10-8E37-D98272CD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89B-98E2-48FE-B3F2-E6B79CAA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0D54E-03C2-4BDD-AD67-D6C8542C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1689-3ED1-4244-BACE-DF6BECE7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03A98-299C-42CE-93D8-5EEE52BC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0CF57-FF5E-4ADD-9E19-B27281D0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F76DF-79CC-4D64-8B81-8F7E737B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36AE6-F034-4025-AB59-19EBE384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7B798-BF01-46CF-86E8-AA78AFBD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F308A-2A21-4B9C-96D0-B554674D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26C28-E65A-4A4D-B0C2-20F5F83D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37162-6040-40D6-B3CD-9957EF35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C27-7AAF-4250-A946-A5D072AB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FE888-43A9-4F6A-BD10-A704FAC2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ED132-34C4-4BF4-B288-674F8F53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9B3F9-102D-4011-8A41-A1DAEE5E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C6F70-FDF7-447F-963D-ED4AF81A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04C40-0F50-468B-81A8-A67C8830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C03EC-7A19-48AC-9D12-2F343B43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3127-44AB-4B40-A35A-8808D207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3A628-7BDE-4881-9923-0B5A4BC2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35276-E90D-4335-870C-1D3FFA79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6D58B-4923-407F-9951-1ABB43E7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264-3DE5-4820-A5C8-B211F00F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EA59D-7729-4670-A915-2F46F639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3E964-48B8-4326-939B-8552AC5D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AC313-F5BF-4FE1-9624-48265EB4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A38E8-5279-4963-B475-A1FA64D2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FFBB2-B797-4981-8A20-3AD0D9A6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896AF-549D-48B7-AAA3-9E842D99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4708-6AD8-42D3-BE2A-FBCB7C1F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DA08C-DA74-4DCF-AF86-E4291B3D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2D685-E55D-4FA8-850F-8A6F55CA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D7F9E-FC03-4F66-B171-F7D69BA8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6CB-496D-4140-BDC2-D22F9043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A1F75-1BB5-40D8-8668-C0729C6C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D8F89-151C-403A-90BA-110B3EA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4205F-A0E0-4F5B-947B-26789D0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ADE9A-EB3D-43AF-BB4E-CCC27991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231C8-5E53-4ED5-A465-E7DFAF05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24FFA-DA70-4A62-8E4E-CB3935CE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95871-CC21-4EB0-B496-4B060753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5EE5-774A-43D3-8E71-5C0F025923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41F0-1B4C-4C9B-A4FF-231705B4E0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A6D6-98C7-4AB0-83CA-E41CDE6B4C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7E50-3CD9-4970-A441-1E62A552A9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6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E847-25E0-4300-BAAD-55B6E435E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0755-96EE-4C78-B747-0FAB0E9D6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2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3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5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1A4B-3642-4B94-A562-0E082F3959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0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0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008B-B7FB-4016-9EE0-1D7FBB1191A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cc"/>
                </a:solidFill>
                <a:latin typeface="Tahoma"/>
              </a:rPr>
              <a:t>Презентация урока по обществознанию на тему « Права челове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ена учителем истории и обществозн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БОУ Перхушковской основной общеобразовательной школы               </a:t>
            </a:r>
            <a:r>
              <a:rPr b="1" i="1" lang="ru-RU" sz="2000" spc="-1" strike="noStrike">
                <a:solidFill>
                  <a:srgbClr val="00ffcc"/>
                </a:solidFill>
                <a:latin typeface="Tahoma"/>
              </a:rPr>
              <a:t>Павловой Алевтиной Игорев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тья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4007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тья 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83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тья 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8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тья  2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16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755640" y="836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73200" y="1816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ahoma"/>
              </a:rPr>
              <a:t>Всеобщая Декларация прав человека – Важный международный документ, открывший целую эпоху по борьбе за права личности и её свободы и позволивший людям всего мира объединиться вместе в деле защиты и обеспечения прав человека на Земл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3996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416720" cy="488016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2268360" y="5300640"/>
            <a:ext cx="359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050920" y="5445000"/>
            <a:ext cx="4826160" cy="642600"/>
          </a:xfrm>
          <a:prstGeom prst="rect">
            <a:avLst/>
          </a:prstGeom>
          <a:solidFill>
            <a:srgbClr val="00ffc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декабря 1948 год .Момент подписания Всемирной Декларации прав челове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ffcc"/>
                </a:solidFill>
                <a:uFillTx/>
                <a:latin typeface="Arial"/>
              </a:rPr>
              <a:t>Декларация по </a:t>
            </a:r>
            <a:br>
              <a:rPr sz="4400"/>
            </a:br>
            <a:r>
              <a:rPr b="1" i="1" lang="en-US" sz="4400" spc="-1" strike="noStrike" u="sng">
                <a:solidFill>
                  <a:srgbClr val="00ffcc"/>
                </a:solidFill>
                <a:uFillTx/>
                <a:latin typeface="Arial"/>
              </a:rPr>
              <a:t>правам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ринята 10.12.1948 г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стоит из 30 стат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Фундаментальным принципом этого документа является то, что права человека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снованы на врожденном достоинстве каждого человека,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которые базируются на его неотъемлемых правах -  на жизнь, свободу, собствен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68360" y="836640"/>
            <a:ext cx="8229240" cy="4530240"/>
            <a:chOff x="468360" y="836640"/>
            <a:chExt cx="8229240" cy="4530240"/>
          </a:xfrm>
        </p:grpSpPr>
        <p:cxnSp>
          <p:nvCxnSpPr>
            <p:cNvPr id="690" name="_s90118"/>
            <p:cNvCxnSpPr>
              <a:stCxn id="691" idx="0"/>
              <a:endCxn id="692" idx="2"/>
            </p:cNvCxnSpPr>
            <p:nvPr/>
          </p:nvCxnSpPr>
          <p:spPr>
            <a:xfrm flipV="1" rot="16200000">
              <a:off x="5824440" y="1406880"/>
              <a:ext cx="906480" cy="3389040"/>
            </a:xfrm>
            <a:prstGeom prst="bentConnector3">
              <a:avLst>
                <a:gd name="adj1" fmla="val 172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3" name="_s90119"/>
            <p:cNvCxnSpPr>
              <a:stCxn id="694" idx="0"/>
              <a:endCxn id="692" idx="2"/>
            </p:cNvCxnSpPr>
            <p:nvPr/>
          </p:nvCxnSpPr>
          <p:spPr>
            <a:xfrm flipV="1" rot="16200000">
              <a:off x="4977360" y="2253960"/>
              <a:ext cx="906480" cy="1695240"/>
            </a:xfrm>
            <a:prstGeom prst="bentConnector3">
              <a:avLst>
                <a:gd name="adj1" fmla="val 172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5" name="_s90120"/>
            <p:cNvCxnSpPr>
              <a:stCxn id="696" idx="0"/>
              <a:endCxn id="692" idx="2"/>
            </p:cNvCxnSpPr>
            <p:nvPr/>
          </p:nvCxnSpPr>
          <p:spPr>
            <a:xfrm flipV="1" rot="16200000">
              <a:off x="4130640" y="3100680"/>
              <a:ext cx="906480" cy="1440"/>
            </a:xfrm>
            <a:prstGeom prst="bentConnector3">
              <a:avLst>
                <a:gd name="adj1" fmla="val 172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7" name="_s90121"/>
            <p:cNvCxnSpPr>
              <a:stCxn id="698" idx="0"/>
              <a:endCxn id="692" idx="2"/>
            </p:cNvCxnSpPr>
            <p:nvPr/>
          </p:nvCxnSpPr>
          <p:spPr>
            <a:xfrm flipH="1" flipV="1" rot="5400000">
              <a:off x="3282840" y="2254320"/>
              <a:ext cx="906480" cy="1694880"/>
            </a:xfrm>
            <a:prstGeom prst="bentConnector3">
              <a:avLst>
                <a:gd name="adj1" fmla="val 172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9" name="_s90122"/>
            <p:cNvCxnSpPr>
              <a:stCxn id="700" idx="0"/>
              <a:endCxn id="692" idx="2"/>
            </p:cNvCxnSpPr>
            <p:nvPr/>
          </p:nvCxnSpPr>
          <p:spPr>
            <a:xfrm flipH="1" flipV="1" rot="5400000">
              <a:off x="2435760" y="1407240"/>
              <a:ext cx="906480" cy="3388680"/>
            </a:xfrm>
            <a:prstGeom prst="bentConnector3">
              <a:avLst>
                <a:gd name="adj1" fmla="val 172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2" name="_s90123"/>
            <p:cNvSpPr/>
            <p:nvPr/>
          </p:nvSpPr>
          <p:spPr>
            <a:xfrm>
              <a:off x="3856320" y="836640"/>
              <a:ext cx="1452240" cy="181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1311"/>
                  </a:solidFill>
                  <a:latin typeface="Courier New"/>
                </a:rPr>
                <a:t>Права</a:t>
              </a:r>
              <a:r>
                <a:rPr b="1" lang="en-US" sz="1900" spc="-1" strike="noStrike">
                  <a:solidFill>
                    <a:srgbClr val="2f1311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2f1311"/>
                  </a:solidFill>
                  <a:latin typeface="Edwardian Script ITC"/>
                </a:rPr>
                <a:t>человека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0" name="_s90124"/>
            <p:cNvSpPr/>
            <p:nvPr/>
          </p:nvSpPr>
          <p:spPr>
            <a:xfrm>
              <a:off x="468360" y="3554640"/>
              <a:ext cx="1452240" cy="181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Tahoma"/>
                </a:rPr>
                <a:t>Гражданские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Tahoma"/>
                </a:rPr>
                <a:t>( личные )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Tahoma"/>
                </a:rPr>
                <a:t>      </a:t>
              </a:r>
              <a:r>
                <a:rPr b="0" lang="en-US" sz="1700" spc="-1" strike="noStrike">
                  <a:solidFill>
                    <a:srgbClr val="2f1311"/>
                  </a:solidFill>
                  <a:latin typeface="Tahoma"/>
                </a:rPr>
                <a:t>ст.1-18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8" name="_s90125"/>
            <p:cNvSpPr/>
            <p:nvPr/>
          </p:nvSpPr>
          <p:spPr>
            <a:xfrm>
              <a:off x="2162520" y="3554640"/>
              <a:ext cx="1452240" cy="181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Tahoma"/>
                </a:rPr>
                <a:t>Политические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Tahoma"/>
                </a:rPr>
                <a:t>     </a:t>
              </a:r>
              <a:r>
                <a:rPr b="0" lang="en-US" sz="1700" spc="-1" strike="noStrike">
                  <a:solidFill>
                    <a:srgbClr val="2f1311"/>
                  </a:solidFill>
                  <a:latin typeface="Tahoma"/>
                </a:rPr>
                <a:t>ст.19-21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6" name="_s90126"/>
            <p:cNvSpPr/>
            <p:nvPr/>
          </p:nvSpPr>
          <p:spPr>
            <a:xfrm>
              <a:off x="3857400" y="3554640"/>
              <a:ext cx="1452240" cy="181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f1311"/>
                  </a:solidFill>
                  <a:latin typeface="Tahoma"/>
                </a:rPr>
                <a:t>Экономические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f1311"/>
                  </a:solidFill>
                  <a:latin typeface="Tahoma"/>
                </a:rPr>
                <a:t>     </a:t>
              </a:r>
              <a:r>
                <a:rPr b="0" lang="en-US" sz="1600" spc="-1" strike="noStrike">
                  <a:solidFill>
                    <a:srgbClr val="2f1311"/>
                  </a:solidFill>
                  <a:latin typeface="Tahoma"/>
                </a:rPr>
                <a:t>ст.22-26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4" name="_s90127"/>
            <p:cNvSpPr/>
            <p:nvPr/>
          </p:nvSpPr>
          <p:spPr>
            <a:xfrm>
              <a:off x="5551560" y="3554640"/>
              <a:ext cx="1451520" cy="181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Tahoma"/>
                </a:rPr>
                <a:t>Культурные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Tahoma"/>
                </a:rPr>
                <a:t>ст.27-28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1" name="_s90128"/>
            <p:cNvSpPr/>
            <p:nvPr/>
          </p:nvSpPr>
          <p:spPr>
            <a:xfrm>
              <a:off x="7245360" y="3554640"/>
              <a:ext cx="1452240" cy="181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Tahoma"/>
                </a:rPr>
                <a:t>Социальные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Tahoma"/>
                </a:rPr>
                <a:t>ст.22-26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татья 1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822960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3748320" cy="496908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тья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688000" cy="52578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тья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2394000" y="1600200"/>
            <a:ext cx="39830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тья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0056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08:35:59Z</dcterms:created>
  <dc:creator>1</dc:creator>
  <dc:description/>
  <dc:language>en-US</dc:language>
  <cp:lastModifiedBy>аля</cp:lastModifiedBy>
  <dcterms:modified xsi:type="dcterms:W3CDTF">2012-08-25T08:15:32Z</dcterms:modified>
  <cp:revision>25</cp:revision>
  <dc:subject/>
  <dc:title>Всеобщая Декларация прав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