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819-266D-44A6-8764-6029F61A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536-089B-4AD6-84FE-1F4E6812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3BB-1D54-4452-A844-461BF4E5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767-B114-4B8B-928A-9F27A962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4594-3F1A-4280-B64A-76B44665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D67C-6EE7-40C1-AB87-F1D02F7A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6D99-58AF-413A-9642-ECD58747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0A12-FFD6-4E19-A427-E1379603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4664-1EF2-470E-9490-C920139D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F495-96D4-4F6A-B4C6-20043095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A357-B2C6-43E7-BAF8-165FE7FE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74A-6C5F-45B0-88DF-C4329E84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CBB-B421-4BE6-87CF-557CCCCE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C654-2541-4358-8915-14CCB18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C6B0-8798-4381-B21C-8CC2CA16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6DFE-FEC6-46A9-9A6C-2A4F8F55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E64F-41EB-49B8-830D-72B55186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8DB-60BC-440E-83AD-366723D3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EA7-CEE7-4488-B2F6-E3158DFC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179-4528-49A5-A502-FD6BB55A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498-A98F-4E64-89BA-EC8B6BC7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AA9-9553-4049-BC5A-F53067E9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D42-426F-4460-91E3-73C1919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0A1-D4CC-4B7E-9868-7BB56BFE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5DE7-4638-4326-AFE2-9FD89180B9B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1B97-B67C-4C6C-83F6-71E2139A3E1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201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ПРИРОДНЫЕ ЗОНЫ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64008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Comic Sans MS"/>
              </a:rPr>
              <a:t>Смешанные и широколиственные ле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Географическое полож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Клима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Растительный ми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Животный ми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Географическое полож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84720" y="875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900cc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490760" y="3751200"/>
            <a:ext cx="73080" cy="177840"/>
          </a:xfrm>
          <a:custGeom>
            <a:avLst/>
            <a:gdLst/>
            <a:ahLst/>
            <a:rect l="l" t="t" r="r" b="b"/>
            <a:pathLst>
              <a:path w="200" h="497">
                <a:moveTo>
                  <a:pt x="4167" y="10889"/>
                </a:moveTo>
                <a:lnTo>
                  <a:pt x="4167" y="10889"/>
                </a:lnTo>
              </a:path>
              <a:path w="200" h="497">
                <a:moveTo>
                  <a:pt x="4142" y="10418"/>
                </a:moveTo>
                <a:cubicBezTo>
                  <a:pt x="4142" y="10464"/>
                  <a:pt x="4162" y="10476"/>
                  <a:pt x="4167" y="10517"/>
                </a:cubicBezTo>
                <a:cubicBezTo>
                  <a:pt x="4172" y="10565"/>
                  <a:pt x="4167" y="10617"/>
                  <a:pt x="4167" y="10666"/>
                </a:cubicBezTo>
                <a:cubicBezTo>
                  <a:pt x="4189" y="10673"/>
                  <a:pt x="4206" y="10708"/>
                  <a:pt x="4217" y="10740"/>
                </a:cubicBezTo>
                <a:cubicBezTo>
                  <a:pt x="4223" y="10759"/>
                  <a:pt x="4217" y="10795"/>
                  <a:pt x="4217" y="10815"/>
                </a:cubicBezTo>
                <a:cubicBezTo>
                  <a:pt x="4252" y="10827"/>
                  <a:pt x="4242" y="10822"/>
                  <a:pt x="4242" y="10864"/>
                </a:cubicBezTo>
                <a:cubicBezTo>
                  <a:pt x="4276" y="10876"/>
                  <a:pt x="4266" y="10872"/>
                  <a:pt x="4266" y="10914"/>
                </a:cubicBezTo>
                <a:cubicBezTo>
                  <a:pt x="4291" y="10914"/>
                  <a:pt x="4316" y="10914"/>
                  <a:pt x="4341" y="10914"/>
                </a:cubicBezTo>
                <a:cubicBezTo>
                  <a:pt x="4341" y="10889"/>
                  <a:pt x="4341" y="10865"/>
                  <a:pt x="4341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255600" y="3068640"/>
            <a:ext cx="91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Verdana"/>
              </a:rPr>
              <a:t>областях и вновь появляется в южной части Дальнего Вос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606240" y="2565360"/>
            <a:ext cx="90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Verdana"/>
              </a:rPr>
              <a:t>тайги на Русской равнине, отсутствует во внутриконтинент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02400" y="1916280"/>
            <a:ext cx="93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Verdana"/>
              </a:rPr>
              <a:t>Смешанные и широколиственные</a:t>
            </a:r>
            <a:r>
              <a:rPr b="1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00cc"/>
                </a:solidFill>
                <a:latin typeface="Verdana"/>
              </a:rPr>
              <a:t>леса расположена юж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5694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оссии смешанные леса расположены на территории Восточно-Европейской равнины (Сарматский смешанный лес); Западно-Сибирской равнины и на Дальнем восток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роколиственные леса распространены в восточных частях Северной Америки и Китая, в центре Японии, а самая обширная зона занимает больше половины Западной Европы и, постепенно сужаясь, выклинивается близ Урала. Они также образуют высотные зоны в Карпатах, Крыму и на Кавказ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Клима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3776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смешанных и широколиственных лесов характерно более теплое продолжительное лето , чем в тайге . Средняя температура января изменяется от -4С на западе до -16С на востоке Русской равнины. На Дальнем  Востоке январская температура составляет  -20…-24С.Глубокого снежного покрова не бывает Годовая сумма осадков достигает 500-800мм.Это примерно равно испарению .Коэффициент увлажнения чуть больше единицы .Поэтому заболоченность здесь значительно ниже ,чем в тайге .Среди болот преобладают низинные и переходные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372744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Растительный мир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05480" y="1412640"/>
            <a:ext cx="3776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чень своеобразны дальневосточные смешанные и широколиственные леса. Растительность зоны очень сильно изменена в результате деятельности человека .Сейчас леса занимают менее 30% площади зоны .В их составе значительна доля вторичных, мелколиственных лесов. Зона смешанных и широколиственных лесов отличается большими запасами тепла и достаточным  увлажнени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новные древесные породы смешанных лесов — ель европейская, берёза и сосна обыкновенная, широколиственных — липа и дуб; произрастают также осина, ясень, вяз, клён и граб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4021200" cy="219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Животный мир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767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смешанных  и широколиственных лесах много укрытий, разнообразный  и достаточно обильный корм .Это позволяет животным круглый год оставаться в лесах. Перелетных птиц здесь значительно меньше ,    чем в тундре . Для лесов характерно ярусное распределение животных. Здесь распространены животные: белки, лесная куница ,хорь ,бурый медведь, лисы, лось, летучие мыши, дятлы, сов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4160" cy="2087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032360" cy="25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0" r="1977" b="19958"/>
          <a:stretch/>
        </p:blipFill>
        <p:spPr>
          <a:xfrm>
            <a:off x="0" y="0"/>
            <a:ext cx="10476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6:26:23Z</dcterms:created>
  <dc:creator>user</dc:creator>
  <dc:description/>
  <dc:language>en-US</dc:language>
  <cp:lastModifiedBy>Админ</cp:lastModifiedBy>
  <dcterms:modified xsi:type="dcterms:W3CDTF">2013-11-07T18:33:41Z</dcterms:modified>
  <cp:revision>8</cp:revision>
  <dc:subject/>
  <dc:title>ПРИРОДНЫЕ ЗОНЫ.</dc:title>
</cp:coreProperties>
</file>