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741-A0C9-48F1-B820-2B2B818D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C76-FA4D-4B23-9E7F-A013FDE3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68C-F75E-4A45-A63C-09F4E335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730-09EF-4A5B-A951-983ECCF4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BC9B-5389-44F8-9C15-5A10997E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BB25-C782-461F-995C-1EC994E8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CCDA-4666-4681-AF9A-5BD047AE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54A1-6464-469C-90EE-40F54CE9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2EC8-91C0-4661-9482-04B0AC8D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800E-C4DA-4A36-BE96-39FCFEF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5B6A-6CDA-4C3E-A8C5-AB2A66AD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A41-18DC-44BC-996E-4D419ECD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06DD-67E8-4704-B76A-19227E06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68A8-23C5-4DD1-A93C-CC2022A2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A8CC-0740-468A-8316-7C773BAB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F3B5-24C5-490C-BF52-78432128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4D4C-EE9C-47A8-99D9-C41111CE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BBE-BCB2-44CF-8386-3A0D2742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057-E09A-4DB8-844E-DE1E6EAB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F7C-7263-4662-B2AF-5A0EAA7A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711-DE30-4608-AD3B-1D3BB709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DC3-15FF-4448-A5F9-DDF4483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170-96A9-4ED8-AC53-C101F0BA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A6A-0407-47AB-BACB-0F972858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69C9-2249-4125-93CF-CAB907D281B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7323-9C03-49E1-B4B1-E10495C21B3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201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Comic Sans MS"/>
              </a:rPr>
              <a:t>ПРИРОДНЫЕ ЗОНЫ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64008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cc"/>
                </a:solidFill>
                <a:latin typeface="Comic Sans MS"/>
              </a:rPr>
              <a:t>Смешанные и широколиственные лес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Географическое полож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Клима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Растительный ми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Животный ми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Географическое положе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84720" y="87580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9900cc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490760" y="3751200"/>
            <a:ext cx="73080" cy="177840"/>
          </a:xfrm>
          <a:custGeom>
            <a:avLst/>
            <a:gdLst/>
            <a:ahLst/>
            <a:rect l="l" t="t" r="r" b="b"/>
            <a:pathLst>
              <a:path w="200" h="497">
                <a:moveTo>
                  <a:pt x="4167" y="10889"/>
                </a:moveTo>
                <a:lnTo>
                  <a:pt x="4167" y="10889"/>
                </a:lnTo>
              </a:path>
              <a:path w="200" h="497">
                <a:moveTo>
                  <a:pt x="4142" y="10418"/>
                </a:moveTo>
                <a:cubicBezTo>
                  <a:pt x="4142" y="10464"/>
                  <a:pt x="4162" y="10476"/>
                  <a:pt x="4167" y="10517"/>
                </a:cubicBezTo>
                <a:cubicBezTo>
                  <a:pt x="4172" y="10565"/>
                  <a:pt x="4167" y="10617"/>
                  <a:pt x="4167" y="10666"/>
                </a:cubicBezTo>
                <a:cubicBezTo>
                  <a:pt x="4189" y="10673"/>
                  <a:pt x="4206" y="10708"/>
                  <a:pt x="4217" y="10740"/>
                </a:cubicBezTo>
                <a:cubicBezTo>
                  <a:pt x="4223" y="10759"/>
                  <a:pt x="4217" y="10795"/>
                  <a:pt x="4217" y="10815"/>
                </a:cubicBezTo>
                <a:cubicBezTo>
                  <a:pt x="4252" y="10827"/>
                  <a:pt x="4242" y="10822"/>
                  <a:pt x="4242" y="10864"/>
                </a:cubicBezTo>
                <a:cubicBezTo>
                  <a:pt x="4276" y="10876"/>
                  <a:pt x="4266" y="10872"/>
                  <a:pt x="4266" y="10914"/>
                </a:cubicBezTo>
                <a:cubicBezTo>
                  <a:pt x="4291" y="10914"/>
                  <a:pt x="4316" y="10914"/>
                  <a:pt x="4341" y="10914"/>
                </a:cubicBezTo>
                <a:cubicBezTo>
                  <a:pt x="4341" y="10889"/>
                  <a:pt x="4341" y="10865"/>
                  <a:pt x="4341" y="1084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255600" y="3068640"/>
            <a:ext cx="91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Verdana"/>
              </a:rPr>
              <a:t>областях и вновь появляется в южной части Дальнего Вост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606240" y="2565360"/>
            <a:ext cx="90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Verdana"/>
              </a:rPr>
              <a:t>тайги на Русской равнине, отсутствует во внутриконтинент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02400" y="1916280"/>
            <a:ext cx="93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Verdana"/>
              </a:rPr>
              <a:t>Смешанные и широколиственные</a:t>
            </a:r>
            <a:r>
              <a:rPr b="1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00cc"/>
                </a:solidFill>
                <a:latin typeface="Verdana"/>
              </a:rPr>
              <a:t>леса расположена юж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5694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оссии смешанные леса расположены на территории Восточно-Европейской равнины (Сарматский смешанный лес); Западно-Сибирской равнины и на Дальнем восток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роколиственные леса распространены в восточных частях Северной Америки и Китая, в центре Японии, а самая обширная зона занимает больше половины Западной Европы и, постепенно сужаясь, выклинивается близ Урала. Они также образуют высотные зоны в Карпатах, Крыму и на Кавказ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Клима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341360"/>
            <a:ext cx="3776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смешанных и широколиственных лесов характерно более теплое продолжительное лето , чем в тайге . Средняя температура января изменяется от -4С на западе до -16С на востоке Русской равнины. На Дальнем  Востоке январская температура составляет  -20…-24С.Глубокого снежного покрова не бывает Годовая сумма осадков достигает 500-800мм.Это примерно равно испарению .Коэффициент увлажнения чуть больше единицы .Поэтому заболоченность здесь значительно ниже ,чем в тайге .Среди болот преобладают низинные и переходные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5480" y="1828800"/>
            <a:ext cx="3776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3727440" cy="43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Растительный мир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05480" y="1412640"/>
            <a:ext cx="3776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чень своеобразны дальневосточные смешанные и широколиственные леса. Растительность зоны очень сильно изменена в результате деятельности человека .Сейчас леса занимают менее 30% площади зоны .В их составе значительна доля вторичных, мелколиственных лесов. Зона смешанных и широколиственных лесов отличается большими запасами тепла и достаточным  увлажнение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новные древесные породы смешанных лесов — ель европейская, берёза и сосна обыкновенная, широколиственных — липа и дуб; произрастают также осина, ясень, вяз, клён и граб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4032360" cy="28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4021200" cy="219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Животный мир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767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смешанных  и широколиственных лесах много укрытий, разнообразный  и достаточно обильный корм .Это позволяет животным круглый год оставаться в лесах. Перелетных птиц здесь значительно меньше ,    чем в тундре . Для лесов характерно ярусное распределение животных. Здесь распространены животные: белки, лесная куница ,хорь ,бурый медведь, лисы, лось, летучие мыши, дятлы, сов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4160" cy="2087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032360" cy="2592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0" r="1977" b="19958"/>
          <a:stretch/>
        </p:blipFill>
        <p:spPr>
          <a:xfrm>
            <a:off x="0" y="0"/>
            <a:ext cx="10476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6:26:23Z</dcterms:created>
  <dc:creator>user</dc:creator>
  <dc:description/>
  <dc:language>en-US</dc:language>
  <cp:lastModifiedBy>Админ</cp:lastModifiedBy>
  <dcterms:modified xsi:type="dcterms:W3CDTF">2013-11-07T18:33:41Z</dcterms:modified>
  <cp:revision>8</cp:revision>
  <dc:subject/>
  <dc:title>ПРИРОДНЫЕ ЗОНЫ.</dc:title>
</cp:coreProperties>
</file>