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F52-E616-4D88-9E21-F0A2D17E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13F-AFBB-4A54-AB68-225EEF8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888-BE38-4FA1-8F48-FF0FA1BC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3AF-BC76-4326-924D-99B8BAE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CC88-5518-4A4D-A500-FAA01902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25D9-63B4-4830-8D38-3DF8863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D0F5-1A5D-4B17-87C9-DC6CAD4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8D3A-D3A3-4F22-A64A-02BA5DA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C1D0-12EC-4311-988C-5BBDF86A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624A-6869-486A-9266-77DB84E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B37A-AD4A-4C56-AB81-4B013E1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3B7-C48A-4CF3-8452-B704D7C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C423-E830-47BB-A1B4-80BB296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715-C26D-4B33-9A20-C0F5175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F784-6879-4A34-A81C-EFDAD4D9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C59-EDBC-46EA-AFBD-AF6B676C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962B-B8EE-4332-9F7D-CFCAEF10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C1D6-89C6-4CDE-90F8-07193151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C8D6-01A1-42DE-AD25-779DAE0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7F94-928D-4B6A-A5BD-FC40EF7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0A73-6C12-487D-AB1C-B9087C2E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A78B-B5FA-454A-9DFB-6F1A463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C68-2398-4B9A-A811-79233DF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8620-ACD0-4CBA-B888-9D412806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C8B7-6699-433F-875A-93ABD8A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A3D5-80EA-4990-89DA-6D5513C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F519-5111-48D5-9494-B083CEE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C214-77FF-406C-AA35-3207377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F0EF-0CA2-42F9-8DED-72E56035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E0EC-4660-46FF-8553-75B512B2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53DB-1D49-4FF0-8589-2339C04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793C-D41A-45F3-A2C4-F409691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207A-7A20-414B-9CC2-F8DC2B1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722-D1C0-43EA-AE4C-2932AF7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8392-19BC-407C-B5B4-C2919CFC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4387-85D1-4512-83B5-CA50972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E427-CB29-47D1-A6EB-3D95D03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EB9B-FB64-415E-BA08-16004ED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893C-C27B-4D57-8F7D-D6CCF07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F4DA-204C-4BA6-BA2D-CB03B97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F584-4F5A-4DD7-BDC1-93EEB75A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995C-6DC5-4AA6-BCF9-1BFE6D8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F239-2957-4326-8C91-25B9BD1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FAF-AFD0-4895-8165-173CD5A6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7BE-9400-4840-B009-D17D8C23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9BD-17FE-464F-A0A1-2F45647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3AE-1B24-4C55-977B-C04FDFF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486-70AB-4B17-AD8F-92A5D8A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6B0-ACEA-4142-80C6-73F176F80C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A5D-1255-4AE0-BA73-9EBA42F5F2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8B5-39ED-42D0-8E1E-0FA70F3F4A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095-5F71-4D58-B33A-9901543FBB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1743120"/>
            <a:ext cx="7851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101957.jpg"/>
          <p:cNvPicPr/>
          <p:nvPr/>
        </p:nvPicPr>
        <p:blipFill>
          <a:blip r:embed="rId1"/>
          <a:stretch/>
        </p:blipFill>
        <p:spPr>
          <a:xfrm>
            <a:off x="-71424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Лесоту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сотунд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чередующиеся участки тундры на междуречьях и участки леса в долинах р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Krasnoyarsk_kr_500000_310x195sm на сайт.jpg"/>
          <p:cNvPicPr/>
          <p:nvPr/>
        </p:nvPicPr>
        <p:blipFill>
          <a:blip r:embed="rId1"/>
          <a:stretch/>
        </p:blipFill>
        <p:spPr>
          <a:xfrm>
            <a:off x="-785880" y="-1285920"/>
            <a:ext cx="10787040" cy="87156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46422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она лесотундры протянулась узкой полосой (20—200 км) вдоль южной границы тундры от Кольского полуострова до Колымы. Находится в пределах субарктического климатического поя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p20011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800000"/>
                </a:solidFill>
                <a:latin typeface="Calibri"/>
              </a:rPr>
              <a:t>Раститель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тундры отличается, прежде всего, характером растительности — в лесотундре произрастают низкорослая берёза, лиственница и ель. Значительные площади занимают торфяные болота. На юге лесотундра постепенно переходит в таёжный л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dart_n10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adfff"/>
                </a:solidFill>
                <a:latin typeface="Calibri"/>
              </a:rPr>
              <a:t>Арк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́рк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— единый физико-географический район земли, примыкающий к Северному полюсу и включающий окраины материков Евразии и Северной Америки, почти весь Северный Ледовитый океан с островами, а также прилегающие части Атлантического и Тихого океан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загруженное"/>
          <p:cNvPicPr/>
          <p:nvPr/>
        </p:nvPicPr>
        <p:blipFill>
          <a:blip r:embed="rId1"/>
          <a:stretch/>
        </p:blipFill>
        <p:spPr>
          <a:xfrm>
            <a:off x="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ределах зоны арктических пустынь расположены Земля Франца-Иосифа, Новосибирские острова, остров Врангеля, большие части Новой Земли и Северной Земли, а также ряд мелких островов Арктики. Арктические пустыни представляют собой бесплодные земли, скованные вечной мерзлотой и покрытые крупными ледниками (общая площадь покровного оледенения — более 55 тыс. км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e5e2c"/>
                </a:solidFill>
                <a:latin typeface="Calibri"/>
              </a:rPr>
              <a:t>Климат. Растительный ми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мпературы выше нуля держатся не более 50 суток. В самый теплый месяц температура не более +5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`C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чвы очень бедны гумусом. Растительность почти отсутствует и представлена преимущественно лишайниками. Порой видны цветковые растения – кустики камнеломок, маков, подушки куропаточьей тра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ивот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й мир также крайне беден — там живут белые медведи, белухи, нарвалы, моржи, и тюлени. Летом на скалах — птичьи базары. Их создают чистики, кайры, гага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Yamal tundra.jpg"/>
          <p:cNvPicPr/>
          <p:nvPr/>
        </p:nvPicPr>
        <p:blipFill>
          <a:blip r:embed="rId1"/>
          <a:stretch/>
        </p:blipFill>
        <p:spPr>
          <a:xfrm>
            <a:off x="-285840" y="0"/>
            <a:ext cx="100015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Ту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она тунд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это безлесные, низкорослые травы, кустарники и кустарнички, корни и основания ветвей которых скрыты в мохово-лишайниковой дернин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kolvica_map.jpg"/>
          <p:cNvPicPr/>
          <p:nvPr/>
        </p:nvPicPr>
        <p:blipFill>
          <a:blip r:embed="rId1"/>
          <a:stretch/>
        </p:blipFill>
        <p:spPr>
          <a:xfrm>
            <a:off x="-214200" y="0"/>
            <a:ext cx="93376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b5395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она тундры охватывает около 10 % территории России и находится в пределах арктического и субарктического климатических поясов; простирается от границы с Финляндией на западе до Берингова пролива на востоке. Зона занимает неширокую прибрежную полосу на крайнем севере Европейской части России и достигает максимальной ширины 500 км в Сибири; значительную протяжённость имеет также на крайнем северо-востоке России, где на юг простирается до северной части полуострова Камчатка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1410_7885_640x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Климат. Растительный ми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ундра практически безлесна; вечная мерзлота залегает близко к поверхности и задерживает влагу, образующуюся при оттаивании верхнего слоя почвы. Годовая сумма осадков значительно превышает испаряемость. В результате сочетания низких температур с высокой влажностью растительность даёт мало органического материала, поэтому почвы крайне бедны и — из-за медленного разложения материала — сильно окислены. Типичная тундровая почва включает тонкий слой гумуса, под которым находится глеевый горизонт; ещё глубже — вечная мерзлота. Размещение растительности имеет дискретный характер; многочисленны лишайники, мхи, кустарнички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устарники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3" descr="caribou-in-tundra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50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ae5e2c"/>
                </a:solidFill>
                <a:latin typeface="Calibri"/>
              </a:rPr>
              <a:t>Животный мир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х в тундре много, но их видовой состав небогат. Самый ценный пушной зверь – песец. Встречается волк,, заяц-беляк, из птиц – белая куропатка, полярная сова. Но самое важное животное тундры – это, конечно, северный оле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6:28:26Z</dcterms:created>
  <dc:creator>Януська и Ируська</dc:creator>
  <dc:description/>
  <dc:language>en-US</dc:language>
  <cp:lastModifiedBy>Анна</cp:lastModifiedBy>
  <dcterms:modified xsi:type="dcterms:W3CDTF">2013-11-20T15:47:26Z</dcterms:modified>
  <cp:revision>7</cp:revision>
  <dc:subject/>
  <dc:title>Северные безлесные зоны России</dc:title>
</cp:coreProperties>
</file>