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AC0-C21F-414D-BE5B-03BD87FC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E64-EBA1-49A2-AE72-D288A666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631-5F91-42E6-A225-43E85EE8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E8D-7134-4B0A-A859-E648FA38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1AB2-F18B-4B4D-9A3B-A4262B3C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F77F-ED9A-4189-A65B-13BBA133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B9DB-E2FE-48F7-90B3-1FB3281E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E423-6074-459B-B8DE-DE0D1514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9625-2951-4921-B5B7-D738F629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F949-4CEA-444B-BC05-9D4C8B67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073F-F4F4-44F6-AD86-F3B94624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4A5-D1F2-4869-AFFB-9B8F61C5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A96E-CEBF-4943-A4CF-00D4270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DF42-0C1C-4E6A-BE95-FF4AB2D2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AE3A-ECD6-4C5C-8D39-0D4B8324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6B43-F4C8-425F-9BA5-47C46591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6009-6457-44F7-9FE1-60C668FF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01378-CE00-498E-81F2-08A1FCBF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1379-11FD-4839-A237-19D3D1C5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26ECA-B5AA-4023-AA2C-1690FBCB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F739-F799-4AED-858B-96E27D37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200F-F629-4C2E-9971-1B588198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A55-5B8E-485A-9B92-91D44CDE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18A2-461B-4329-BEB8-0C08DF4E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9FE6-C63B-4056-9DA0-EF2E0138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7927F-CD37-4CFB-8BDA-76CCD30F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4010-B2FA-4FBB-8018-8A55CF67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67E69-1C67-49E0-9BEF-2093C079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C4FF1-BB69-4B75-B49B-2DBA3113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620F-C1C2-4B5F-BB96-CDE93612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02B78-2B6F-452C-A71D-D4B340E1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548A-9C0C-402F-A10D-1DD6F0F1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3F21-CB75-4587-850F-7282F0BF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CE3-BD27-4B9A-8F15-F229AC15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4BE3-0532-4930-B58D-1213833F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9021F-06FE-4566-B549-6CDE64CD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50B0-B5C9-48E2-9E8D-714A380F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A614-6A09-4E0B-8B3A-A408EDB9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12D4A-4815-4F44-90B0-3A634A3E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5C643-24A8-49EB-95E6-01FFA427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9F20-0F23-4A1C-9F35-20CE2F5D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6576A-86AB-4CA0-8043-030FD062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F676C-50A0-46EB-9A77-30CCC02E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695-F6DA-4AB6-98F9-AC6FCD75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8B4-1D2C-46F2-B40B-6985BB1B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CCE-0BA7-44BB-B2F5-D6F04C1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5EA-22F4-49F3-81FB-A658D787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772-E84B-4B4B-B03E-97CE3E63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0679-BAC5-4227-90C2-95B6A67E619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7812-C0E8-4B8F-BB39-CD9BDD3EA9E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72FC-4170-4FAE-AD74-0ACE3DE3AE6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0F23-D6FE-4334-BCD2-6B589AADBAA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73120" y="1743120"/>
            <a:ext cx="7851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101957.jpg"/>
          <p:cNvPicPr/>
          <p:nvPr/>
        </p:nvPicPr>
        <p:blipFill>
          <a:blip r:embed="rId1"/>
          <a:stretch/>
        </p:blipFill>
        <p:spPr>
          <a:xfrm>
            <a:off x="-714240" y="0"/>
            <a:ext cx="985824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e9632"/>
                </a:solidFill>
                <a:latin typeface="Calibri"/>
              </a:rPr>
              <a:t>Лесотунд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сотундр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чередующиеся участки тундры на междуречьях и участки леса в долинах р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3" descr="Krasnoyarsk_kr_500000_310x195sm на сайт.jpg"/>
          <p:cNvPicPr/>
          <p:nvPr/>
        </p:nvPicPr>
        <p:blipFill>
          <a:blip r:embed="rId1"/>
          <a:stretch/>
        </p:blipFill>
        <p:spPr>
          <a:xfrm>
            <a:off x="-785880" y="-1285920"/>
            <a:ext cx="10787040" cy="87156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546422"/>
                </a:solidFill>
                <a:latin typeface="Calibri"/>
              </a:rPr>
              <a:t>Распо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она лесотундры протянулась узкой полосой (20—200 км) вдоль южной границы тундры от Кольского полуострова до Колымы. Находится в пределах субарктического климатического поя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3" descr="p200111.jpg"/>
          <p:cNvPicPr/>
          <p:nvPr/>
        </p:nvPicPr>
        <p:blipFill>
          <a:blip r:embed="rId1"/>
          <a:stretch/>
        </p:blipFill>
        <p:spPr>
          <a:xfrm>
            <a:off x="0" y="0"/>
            <a:ext cx="97156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800000"/>
                </a:solidFill>
                <a:latin typeface="Calibri"/>
              </a:rPr>
              <a:t>Растительный ми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 тундры отличается, прежде всего, характером растительности — в лесотундре произрастают низкорослая берёза, лиственница и ель. Значительные площади занимают торфяные болота. На юге лесотундра постепенно переходит в таёжный ле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4" descr="dart_n10.jpg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8adfff"/>
                </a:solidFill>
                <a:latin typeface="Calibri"/>
              </a:rPr>
              <a:t>Аркт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1714680"/>
            <a:ext cx="8229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́рктик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— единый физико-географический район земли, примыкающий к Северному полюсу и включающий окраины материков Евразии и Северной Америки, почти весь Северный Ледовитый океан с островами, а также прилегающие части Атлантического и Тихого океан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3" descr="загруженное"/>
          <p:cNvPicPr/>
          <p:nvPr/>
        </p:nvPicPr>
        <p:blipFill>
          <a:blip r:embed="rId1"/>
          <a:stretch/>
        </p:blipFill>
        <p:spPr>
          <a:xfrm>
            <a:off x="0" y="-648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спо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пределах зоны арктических пустынь расположены Земля Франца-Иосифа, Новосибирские острова, остров Врангеля, большие части Новой Земли и Северной Земли, а также ряд мелких островов Арктики. Арктические пустыни представляют собой бесплодные земли, скованные вечной мерзлотой и покрытые крупными ледниками (общая площадь покровного оледенения — более 55 тыс. км²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ae5e2c"/>
                </a:solidFill>
                <a:latin typeface="Calibri"/>
              </a:rPr>
              <a:t>Климат. Растительный мир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емпературы выше нуля держатся не более 50 суток. В самый теплый месяц температура не более +5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`C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чвы очень бедны гумусом. Растительность почти отсутствует и представлена преимущественно лишайниками. Порой видны цветковые растения – кустики камнеломок, маков, подушки куропаточьей трав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Животный ми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ивотный мир также крайне беден — там живут белые медведи, белухи, нарвалы, моржи, и тюлени. Летом на скалах — птичьи базары. Их создают чистики, кайры, гага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3" descr="Yamal tundra.jpg"/>
          <p:cNvPicPr/>
          <p:nvPr/>
        </p:nvPicPr>
        <p:blipFill>
          <a:blip r:embed="rId1"/>
          <a:stretch/>
        </p:blipFill>
        <p:spPr>
          <a:xfrm>
            <a:off x="-285840" y="0"/>
            <a:ext cx="1000152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e9632"/>
                </a:solidFill>
                <a:latin typeface="Calibri"/>
              </a:rPr>
              <a:t>Тунд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она тундр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это безлесные, низкорослые травы, кустарники и кустарнички, корни и основания ветвей которых скрыты в мохово-лишайниковой дернин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3" descr="kolvica_map.jpg"/>
          <p:cNvPicPr/>
          <p:nvPr/>
        </p:nvPicPr>
        <p:blipFill>
          <a:blip r:embed="rId1"/>
          <a:stretch/>
        </p:blipFill>
        <p:spPr>
          <a:xfrm>
            <a:off x="-214200" y="0"/>
            <a:ext cx="93376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b5395"/>
                </a:solidFill>
                <a:latin typeface="Calibri"/>
              </a:rPr>
              <a:t>Располож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она тундры охватывает около 10 % территории России и находится в пределах арктического и субарктического климатических поясов; простирается от границы с Финляндией на западе до Берингова пролива на востоке. Зона занимает неширокую прибрежную полосу на крайнем севере Европейской части России и достигает максимальной ширины 500 км в Сибири; значительную протяжённость имеет также на крайнем северо-востоке России, где на юг простирается до северной части полуострова Камчатка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1410_7885_640x4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7e9632"/>
                </a:solidFill>
                <a:latin typeface="Calibri"/>
              </a:rPr>
              <a:t>Климат. Растительный мир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ундра практически безлесна; вечная мерзлота залегает близко к поверхности и задерживает влагу, образующуюся при оттаивании верхнего слоя почвы. Годовая сумма осадков значительно превышает испаряемость. В результате сочетания низких температур с высокой влажностью растительность даёт мало органического материала, поэтому почвы крайне бедны и — из-за медленного разложения материала — сильно окислены. Типичная тундровая почва включает тонкий слой гумуса, под которым находится глеевый горизонт; ещё глубже — вечная мерзлота. Размещение растительности имеет дискретный характер; многочисленны лишайники, мхи, кустарнички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устарники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3" descr="caribou-in-tundra.jpg"/>
          <p:cNvPicPr/>
          <p:nvPr/>
        </p:nvPicPr>
        <p:blipFill>
          <a:blip r:embed="rId1"/>
          <a:stretch/>
        </p:blipFill>
        <p:spPr>
          <a:xfrm>
            <a:off x="0" y="0"/>
            <a:ext cx="9286920" cy="7500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ae5e2c"/>
                </a:solidFill>
                <a:latin typeface="Calibri"/>
              </a:rPr>
              <a:t>Животный мир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Животных в тундре много, но их видовой состав небогат. Самый ценный пушной зверь – песец. Встречается волк,, заяц-беляк, из птиц – белая куропатка, полярная сова. Но самое важное животное тундры – это, конечно, северный олен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6:28:26Z</dcterms:created>
  <dc:creator>Януська и Ируська</dc:creator>
  <dc:description/>
  <dc:language>en-US</dc:language>
  <cp:lastModifiedBy>Анна</cp:lastModifiedBy>
  <dcterms:modified xsi:type="dcterms:W3CDTF">2013-11-20T15:47:26Z</dcterms:modified>
  <cp:revision>7</cp:revision>
  <dc:subject/>
  <dc:title>Северные безлесные зоны России</dc:title>
</cp:coreProperties>
</file>