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3A5-87E2-4BC7-B70F-BA7A153A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87E-0D54-44EC-904C-9CBBA3D4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CE4-D90B-4AE3-B1A7-574A691D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1B4-ECA9-4ED8-9F03-F2F0BE64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4ECB-6FA0-4CEB-A8CD-2D2C20DF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0053-92A5-43A7-A09B-7A7F34C4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FEA5-F0F2-4E05-8781-140CA04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CED5-6202-4A9D-A231-AAD7B10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1D4C-01EF-4F69-BDF9-4F08D41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FD8E-B603-4EC3-9BDF-56D8BDF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DC5E-C195-4F18-AC25-73BAABC2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975-5A37-4450-8739-C9D6F58B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24F9-6897-4A9D-A48B-2E6D881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D2C9-DC74-429E-932F-E693AB6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36B5-B52A-4A29-AF2F-14C284CE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2175-B8F6-4656-BF45-F56DB096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440F-BDCB-4B37-831E-10E14DC1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FF1-BDD1-4C99-9E17-5555B79F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EE1-F6A5-41A2-A593-9A0D8016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334-6CBE-4335-B59F-34C03EF7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C54-4566-48E3-B72A-B0E96FD0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282-06B6-420D-8CD6-ECCD547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A6A-B771-4076-9839-2F3961A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EC1-13F8-49C5-B3E0-3DA6347F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8E0A-DA76-432F-9219-ABC963AB8009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9B75-A5EB-49FC-9030-A08EE1ECEAD1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84" name="Picture 4" descr="orange_circle"/>
          <p:cNvPicPr/>
          <p:nvPr/>
        </p:nvPicPr>
        <p:blipFill>
          <a:blip r:embed="rId2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penny_guy_walking_hg_clr"/>
          <p:cNvPicPr/>
          <p:nvPr/>
        </p:nvPicPr>
        <p:blipFill>
          <a:blip r:embed="rId3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88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8"/>
          <p:cNvSpPr/>
          <p:nvPr/>
        </p:nvSpPr>
        <p:spPr>
          <a:xfrm>
            <a:off x="3925440" y="1736640"/>
            <a:ext cx="461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912320" y="1341360"/>
            <a:ext cx="663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2907000" y="1484280"/>
            <a:ext cx="38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8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Лилия</cp:lastModifiedBy>
  <dcterms:modified xsi:type="dcterms:W3CDTF">2011-02-26T17:34:54Z</dcterms:modified>
  <cp:revision>3</cp:revision>
  <dc:subject/>
  <dc:title>Старинные русские деньги</dc:title>
</cp:coreProperties>
</file>