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6B5-DFF0-41B5-B36A-13885D18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075-8749-49C3-B743-3E1DBCF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9BB-A86A-4965-A845-4203A3D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5C7-9036-4094-B4AC-418D7C1D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E716-E408-47A6-8DA4-3AAF5837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7C2-7EA4-4927-A777-A83E0F09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28ED-EBFD-4F02-8C78-41EFC957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24C5-ED3F-4B90-A45C-9A6C0F0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623-D23C-485A-B753-A9BDAB5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E6CB-3D85-44C5-B3A1-99090ED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0184-E8B0-4DD8-B6BF-FC7DF19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F2F-8376-43C7-85CA-6E6AE96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A4C-D13B-4D0A-A5BB-2ECF3B0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DA9-AA15-4299-813A-CF80FCE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6D18-E9B4-4E09-8045-5DA67AFE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C79-46E3-497D-B622-AE035ADB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F90-F50D-4DCA-BD5D-A446AA1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123-CD00-4E53-8B42-505B672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8D7-746C-4D55-B290-16AF848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5B3-3005-44F8-8EC1-1AF5662E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BA4-444A-49EB-8374-0718C04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584-BBA2-42A5-B054-7F90DA5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4D3-0E27-425E-8C14-BEFB77F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DB5-C20F-4E40-AF7D-8796B3CF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966-94A5-486E-BB6F-28A08AC02826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4A47-5590-4CAB-91EA-E5CE31E57974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4" name="Picture 4" descr="orange_circle"/>
          <p:cNvPicPr/>
          <p:nvPr/>
        </p:nvPicPr>
        <p:blipFill>
          <a:blip r:embed="rId2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enny_guy_walking_hg_clr"/>
          <p:cNvPicPr/>
          <p:nvPr/>
        </p:nvPicPr>
        <p:blipFill>
          <a:blip r:embed="rId3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8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8"/>
          <p:cNvSpPr/>
          <p:nvPr/>
        </p:nvSpPr>
        <p:spPr>
          <a:xfrm>
            <a:off x="3925440" y="1736640"/>
            <a:ext cx="461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912320" y="1341360"/>
            <a:ext cx="663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907000" y="1484280"/>
            <a:ext cx="38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8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Лилия</cp:lastModifiedBy>
  <dcterms:modified xsi:type="dcterms:W3CDTF">2011-02-26T17:34:54Z</dcterms:modified>
  <cp:revision>3</cp:revision>
  <dc:subject/>
  <dc:title>Старинные русские деньги</dc:title>
</cp:coreProperties>
</file>