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wmf" ContentType="image/x-wmf"/>
  <Override PartName="/ppt/media/image4.jpeg" ContentType="image/jpeg"/>
  <Override PartName="/ppt/media/image5.wmf" ContentType="image/x-wmf"/>
  <Override PartName="/ppt/media/image6.png" ContentType="image/png"/>
  <Override PartName="/ppt/media/image11.png" ContentType="image/png"/>
  <Override PartName="/ppt/media/image12.jpeg" ContentType="image/jpeg"/>
  <Override PartName="/ppt/media/image7.wmf" ContentType="image/x-wmf"/>
  <Override PartName="/ppt/media/image8.wmf" ContentType="image/x-wmf"/>
  <Override PartName="/ppt/media/image9.wmf" ContentType="image/x-wmf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934B4-5597-4B82-AEAC-1C5C76215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929D8-8783-4AC5-8299-91BD0A1FB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08772-6B7C-4882-AF05-54DF3607E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C7F77-0FF8-4F0A-B14C-DEDE98440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1D393-219E-4CBE-86A8-3C194F79E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882A3-2792-44CF-8D15-C01D5EF32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6A546-3C12-4044-BC16-296BD5897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D8D45-6AC5-48DD-8751-518F94D1C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3EEE0-4890-4E76-83F8-490910684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C82BF-725C-42BF-BD03-F2D69C0EC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8118D-23CF-443E-BB7A-FF460363C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49954-5E51-42CC-8FF2-D79C245F9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B224A-856F-4EBC-A43F-D9A2E3605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FEC60-80F3-40E0-BAF1-6BF803591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92D5E-DB0B-423A-BB25-820A1F9DA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21B75-D172-457F-97EF-7D9713812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B78EE-3E4B-42C8-A932-32E79926A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515BEC-400A-438F-BB25-71970D6AC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6A3730-58E8-4F5C-97FC-14639B06B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A19EC0-556B-4A6B-A928-16753F0AE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936B9D-2E9B-4EA0-A693-91D864C74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46DBF0-8141-4499-B5A9-772D839A8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21761-B8AD-4E1C-8CEF-C72E0ECC0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46760B-EAE9-4084-BE22-70B8B3FC5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275353-E45E-44B8-B671-A810BEA62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EE20CA-2A73-4B3D-84B3-2E29493FE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4E3001-79C0-4A4B-AA5D-736FA8B43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C1C536-CD21-46A3-A190-BD211361A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535CDC-7007-48E0-836E-0A69C688D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B8C516-54DA-46D1-929D-BF10AB738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2FA082-29C6-46A1-AAAB-7320DF148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05784C-1B76-46E5-A1E7-3E8BCCFB4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44CDF4-E6AB-4B92-83D6-0C4F92B6B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369DD-5A97-4D6F-998F-D237DF268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A6C929-524B-4B18-BF95-27886E348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1A1A9D-02A3-48EC-BB05-FBF7CF322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8D32DB-6D35-4E7C-9CD8-20FB12D33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73CCFD-7FA7-45F3-B8E6-7392C4BF3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74260E-329D-4FDA-9037-130620FCA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24F465-2574-4831-A175-0A2030617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F50C9F-9693-4D64-B1B0-B52068409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8581E9-2D9A-45F3-84F8-AC88F3FE3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210344-C953-4D09-B7F6-8C5953E1F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98AE1-90BE-4F6D-954D-2C09DAB6E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BD710-019E-4C73-87A6-41A9822B1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DF8E9-E130-4B96-A405-D6E0021DE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1559A-190D-4B3E-B7E1-292BC23BD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B6EB7-EBEB-4614-A774-B6CDBA3F5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>
                <a:gd name="textAreaLeft" fmla="*/ 0 w 4427640"/>
                <a:gd name="textAreaRight" fmla="*/ 4428000 w 442764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>
                <a:gd name="textAreaLeft" fmla="*/ 0 w 482760"/>
                <a:gd name="textAreaRight" fmla="*/ 483120 w 482760"/>
                <a:gd name="textAreaTop" fmla="*/ 0 h 1176120"/>
                <a:gd name="textAreaBottom" fmla="*/ 1176480 h 1176120"/>
              </a:gdLst>
              <a:ahLst/>
              <a:rect l="textAreaLeft" t="textAreaTop" r="textAreaRight" b="textAreaBottom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>
                <a:gd name="textAreaLeft" fmla="*/ 0 w 498600"/>
                <a:gd name="textAreaRight" fmla="*/ 498960 w 498600"/>
                <a:gd name="textAreaTop" fmla="*/ 0 h 1217520"/>
                <a:gd name="textAreaBottom" fmla="*/ 1217880 h 1217520"/>
              </a:gdLst>
              <a:ahLst/>
              <a:rect l="textAreaLeft" t="textAreaTop" r="textAreaRight" b="textAreaBottom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>
                <a:gd name="textAreaLeft" fmla="*/ 0 w 436320"/>
                <a:gd name="textAreaRight" fmla="*/ 436680 w 436320"/>
                <a:gd name="textAreaTop" fmla="*/ 0 h 988920"/>
                <a:gd name="textAreaBottom" fmla="*/ 988920 h 988920"/>
              </a:gdLst>
              <a:ahLst/>
              <a:rect l="textAreaLeft" t="textAreaTop" r="textAreaRight" b="textAreaBottom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0 h 969840"/>
                <a:gd name="textAreaBottom" fmla="*/ 970200 h 969840"/>
              </a:gdLst>
              <a:ahLst/>
              <a:rect l="textAreaLeft" t="textAreaTop" r="textAreaRight" b="textAreaBottom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476280"/>
                <a:gd name="textAreaBottom" fmla="*/ 476640 h 476280"/>
              </a:gdLst>
              <a:ahLst/>
              <a:rect l="textAreaLeft" t="textAreaTop" r="textAreaRight" b="textAreaBottom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447840"/>
                <a:gd name="textAreaBottom" fmla="*/ 448200 h 447840"/>
              </a:gdLst>
              <a:ahLst/>
              <a:rect l="textAreaLeft" t="textAreaTop" r="textAreaRight" b="textAreaBottom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>
                <a:gd name="textAreaLeft" fmla="*/ 0 w 365040"/>
                <a:gd name="textAreaRight" fmla="*/ 365040 w 3650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6A64C-EB26-4578-969F-38214C07F60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>
                <a:gd name="textAreaLeft" fmla="*/ 0 w 4427640"/>
                <a:gd name="textAreaRight" fmla="*/ 4428000 w 442764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>
                <a:gd name="textAreaLeft" fmla="*/ 0 w 482760"/>
                <a:gd name="textAreaRight" fmla="*/ 483120 w 482760"/>
                <a:gd name="textAreaTop" fmla="*/ 0 h 1176120"/>
                <a:gd name="textAreaBottom" fmla="*/ 1176480 h 1176120"/>
              </a:gdLst>
              <a:ahLst/>
              <a:rect l="textAreaLeft" t="textAreaTop" r="textAreaRight" b="textAreaBottom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>
                <a:gd name="textAreaLeft" fmla="*/ 0 w 498600"/>
                <a:gd name="textAreaRight" fmla="*/ 498960 w 498600"/>
                <a:gd name="textAreaTop" fmla="*/ 0 h 1217520"/>
                <a:gd name="textAreaBottom" fmla="*/ 1217880 h 1217520"/>
              </a:gdLst>
              <a:ahLst/>
              <a:rect l="textAreaLeft" t="textAreaTop" r="textAreaRight" b="textAreaBottom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>
                <a:gd name="textAreaLeft" fmla="*/ 0 w 436320"/>
                <a:gd name="textAreaRight" fmla="*/ 436680 w 436320"/>
                <a:gd name="textAreaTop" fmla="*/ 0 h 988920"/>
                <a:gd name="textAreaBottom" fmla="*/ 988920 h 988920"/>
              </a:gdLst>
              <a:ahLst/>
              <a:rect l="textAreaLeft" t="textAreaTop" r="textAreaRight" b="textAreaBottom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0 h 969840"/>
                <a:gd name="textAreaBottom" fmla="*/ 970200 h 969840"/>
              </a:gdLst>
              <a:ahLst/>
              <a:rect l="textAreaLeft" t="textAreaTop" r="textAreaRight" b="textAreaBottom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476280"/>
                <a:gd name="textAreaBottom" fmla="*/ 476640 h 476280"/>
              </a:gdLst>
              <a:ahLst/>
              <a:rect l="textAreaLeft" t="textAreaTop" r="textAreaRight" b="textAreaBottom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447840"/>
                <a:gd name="textAreaBottom" fmla="*/ 448200 h 447840"/>
              </a:gdLst>
              <a:ahLst/>
              <a:rect l="textAreaLeft" t="textAreaTop" r="textAreaRight" b="textAreaBottom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>
                <a:gd name="textAreaLeft" fmla="*/ 0 w 365040"/>
                <a:gd name="textAreaRight" fmla="*/ 365040 w 3650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349FC-EC0E-4A3A-B658-0C6926F573C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15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>
                <a:gd name="textAreaLeft" fmla="*/ 0 w 4427640"/>
                <a:gd name="textAreaRight" fmla="*/ 4428000 w 442764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6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7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8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>
                <a:gd name="textAreaLeft" fmla="*/ 0 w 482760"/>
                <a:gd name="textAreaRight" fmla="*/ 483120 w 482760"/>
                <a:gd name="textAreaTop" fmla="*/ 0 h 1176120"/>
                <a:gd name="textAreaBottom" fmla="*/ 1176480 h 1176120"/>
              </a:gdLst>
              <a:ahLst/>
              <a:rect l="textAreaLeft" t="textAreaTop" r="textAreaRight" b="textAreaBottom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9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>
                <a:gd name="textAreaLeft" fmla="*/ 0 w 498600"/>
                <a:gd name="textAreaRight" fmla="*/ 498960 w 498600"/>
                <a:gd name="textAreaTop" fmla="*/ 0 h 1217520"/>
                <a:gd name="textAreaBottom" fmla="*/ 1217880 h 1217520"/>
              </a:gdLst>
              <a:ahLst/>
              <a:rect l="textAreaLeft" t="textAreaTop" r="textAreaRight" b="textAreaBottom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0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>
                <a:gd name="textAreaLeft" fmla="*/ 0 w 436320"/>
                <a:gd name="textAreaRight" fmla="*/ 436680 w 436320"/>
                <a:gd name="textAreaTop" fmla="*/ 0 h 988920"/>
                <a:gd name="textAreaBottom" fmla="*/ 988920 h 988920"/>
              </a:gdLst>
              <a:ahLst/>
              <a:rect l="textAreaLeft" t="textAreaTop" r="textAreaRight" b="textAreaBottom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1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0 h 969840"/>
                <a:gd name="textAreaBottom" fmla="*/ 970200 h 969840"/>
              </a:gdLst>
              <a:ahLst/>
              <a:rect l="textAreaLeft" t="textAreaTop" r="textAreaRight" b="textAreaBottom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2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3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476280"/>
                <a:gd name="textAreaBottom" fmla="*/ 476640 h 476280"/>
              </a:gdLst>
              <a:ahLst/>
              <a:rect l="textAreaLeft" t="textAreaTop" r="textAreaRight" b="textAreaBottom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4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447840"/>
                <a:gd name="textAreaBottom" fmla="*/ 448200 h 447840"/>
              </a:gdLst>
              <a:ahLst/>
              <a:rect l="textAreaLeft" t="textAreaTop" r="textAreaRight" b="textAreaBottom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5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6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7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>
                <a:gd name="textAreaLeft" fmla="*/ 0 w 365040"/>
                <a:gd name="textAreaRight" fmla="*/ 365040 w 3650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8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9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49815-86A6-45FA-AB43-02907E82379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E3919-30DE-4122-A29F-C7C243D5D93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image" Target="../media/image6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7.wmf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843280" y="3284280"/>
            <a:ext cx="575784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ffcc"/>
                </a:solidFill>
                <a:latin typeface="Arial"/>
              </a:rPr>
              <a:t>Страны мира: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2556000" y="4437000"/>
            <a:ext cx="640872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cc"/>
                </a:solidFill>
                <a:latin typeface="Arial"/>
              </a:rPr>
              <a:t>Атомная энергетик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Будущее атомной энергетики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По оценкам ЦНИИАТОМИНФОРМ, до конца 2030 года в мире будет введено в строй около 570 ГВт АЭС (в первых месяцах 2007 года этот показатель составил около 367 ГВт). В настоящий момент лидером по строительству новых блоков является Китай, который строит 6 энергоблоков. За ним идет Индия с 5 новыми блоками. Замыкает же тройку Россия – 3 блока. Намерения строить новые энергоблоки высказывают также и другие страны, в том числе из бывшего СССР и социалистического блока: Украина, Польша, Белоруссия. Оно и понятно, ведь один ядерный энергоблок сэкономит за год такое количество газа, стоимость которого эквивалентна 350 млн долларов США. Прежде всего, это важно для стран с малыми запасами невозобновляемых ресурсов. По данным Всемирной ядерной организации (WNA), рост мирового потребления нефти (с учетом падения добычи на действующих месторождениях планеты) потребует ввода новых источников с суммарным объёмом более 100 млн. баррелей в сутки. Это количество нефти должно будет располагаться на новых месторождениях размером в десять Саудовских Аравий. Таких месторождений на планете просто не существует. 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Будущее атомной энергетики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41" name="Picture 6" descr="Диаграмма2"/>
          <p:cNvPicPr/>
          <p:nvPr/>
        </p:nvPicPr>
        <p:blipFill>
          <a:blip r:embed="rId1"/>
          <a:stretch/>
        </p:blipFill>
        <p:spPr>
          <a:xfrm>
            <a:off x="1305000" y="1447920"/>
            <a:ext cx="6580080" cy="50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468360" y="1557360"/>
            <a:ext cx="8229600" cy="345600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удущее атомной энергетики теперь зависит от того, насколько эффективно и надежно будет осуществляться контроль за строительством и эксплуатацией АЭС, а также насколько успешно будет решен ряд других проблем, таких, как проблема удаления радиоактивных отходов. Оно зависит также от жизнеспособности ее сильных конкурентов – ТЭС, работающих на угле, новых энергосберегающих технологий и возобновляемых энергоресурс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83680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Энергетик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эта отрасль промышленности и народного хозяйства, занимающаяся получением, передачей, преобразованием и рациональным использованием энерги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 нее зависит состояние экономики любой страны. Сегодня проблема энергоснабжения стала одной из приоритетны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Атомная энергетика в мире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Невозобновляемость таких ресурсов как нефть, газ, уголь заставляет задуматься об альтернативных источниках электроэнергии, наиболее реальным из которых сегодня является атомная энергетика. Ее доля в мировой выработке электроэнергии составляет 16%. Больше половины этих 16% приходятся на США (103 энергоблока), Францию и Японию (59 и 54 энергоблока соответственно). Всего (по состоянию на конец 2006 года) в мире действуют 439 ядерных энергоблоков, еще 29 находятся в различных стадиях строительства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Структура выработки электроэнергии на разных видах электростанций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682560" y="1600200"/>
          <a:ext cx="7850160" cy="2367000"/>
        </p:xfrm>
        <a:graphic>
          <a:graphicData uri="http://schemas.openxmlformats.org/drawingml/2006/table">
            <a:tbl>
              <a:tblPr/>
              <a:tblGrid>
                <a:gridCol w="2592360"/>
                <a:gridCol w="2016360"/>
                <a:gridCol w="1081080"/>
                <a:gridCol w="1008000"/>
                <a:gridCol w="11523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Регионы мира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66"/>
                      </a:solidFill>
                    </a:lnL>
                    <a:lnR w="5760">
                      <a:solidFill>
                        <a:srgbClr val="006666"/>
                      </a:solidFill>
                    </a:lnR>
                    <a:lnT w="5760">
                      <a:solidFill>
                        <a:srgbClr val="006666"/>
                      </a:solidFill>
                    </a:lnT>
                    <a:lnB w="18720">
                      <a:solidFill>
                        <a:srgbClr val="006666"/>
                      </a:solidFill>
                    </a:lnB>
                    <a:solidFill>
                      <a:srgbClr val="33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Объемы выработки (трлн.кВт*ч)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66"/>
                      </a:solidFill>
                    </a:lnL>
                    <a:lnR w="5760">
                      <a:solidFill>
                        <a:srgbClr val="006666"/>
                      </a:solidFill>
                    </a:lnR>
                    <a:lnT w="5760">
                      <a:solidFill>
                        <a:srgbClr val="006666"/>
                      </a:solidFill>
                    </a:lnT>
                    <a:lnB w="18720">
                      <a:solidFill>
                        <a:srgbClr val="006666"/>
                      </a:solidFill>
                    </a:lnB>
                    <a:solidFill>
                      <a:srgbClr val="33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ТЭС,%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66"/>
                      </a:solidFill>
                    </a:lnL>
                    <a:lnR w="5760">
                      <a:solidFill>
                        <a:srgbClr val="006666"/>
                      </a:solidFill>
                    </a:lnR>
                    <a:lnT w="5760">
                      <a:solidFill>
                        <a:srgbClr val="006666"/>
                      </a:solidFill>
                    </a:lnT>
                    <a:lnB w="18720">
                      <a:solidFill>
                        <a:srgbClr val="006666"/>
                      </a:solidFill>
                    </a:lnB>
                    <a:solidFill>
                      <a:srgbClr val="33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ГЭС,%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66"/>
                      </a:solidFill>
                    </a:lnL>
                    <a:lnR w="5760">
                      <a:solidFill>
                        <a:srgbClr val="006666"/>
                      </a:solidFill>
                    </a:lnR>
                    <a:lnT w="5760">
                      <a:solidFill>
                        <a:srgbClr val="006666"/>
                      </a:solidFill>
                    </a:lnT>
                    <a:lnB w="18720">
                      <a:solidFill>
                        <a:srgbClr val="006666"/>
                      </a:solidFill>
                    </a:lnB>
                    <a:solidFill>
                      <a:srgbClr val="33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АЭС,%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66"/>
                      </a:solidFill>
                    </a:lnL>
                    <a:lnR w="5760">
                      <a:solidFill>
                        <a:srgbClr val="006666"/>
                      </a:solidFill>
                    </a:lnR>
                    <a:lnT w="5760">
                      <a:solidFill>
                        <a:srgbClr val="006666"/>
                      </a:solidFill>
                    </a:lnT>
                    <a:lnB w="18720">
                      <a:solidFill>
                        <a:srgbClr val="006666"/>
                      </a:solidFill>
                    </a:lnB>
                    <a:solidFill>
                      <a:srgbClr val="339966"/>
                    </a:solidFill>
                  </a:tcPr>
                </a:tc>
              </a:tr>
              <a:tr h="183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Мир в целом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Западная Европа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НГ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Западная Азия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Африка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ША, Канада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Латинская Америка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Австралия и Океания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66"/>
                      </a:solidFill>
                    </a:lnL>
                    <a:lnR w="5760">
                      <a:solidFill>
                        <a:srgbClr val="006666"/>
                      </a:solidFill>
                    </a:lnR>
                    <a:lnT w="18720">
                      <a:solidFill>
                        <a:srgbClr val="006666"/>
                      </a:solidFill>
                    </a:lnT>
                    <a:lnB w="5760">
                      <a:solidFill>
                        <a:srgbClr val="006666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,6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,0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,7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,1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,3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,7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,6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,2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66"/>
                      </a:solidFill>
                    </a:lnL>
                    <a:lnR w="5760">
                      <a:solidFill>
                        <a:srgbClr val="006666"/>
                      </a:solidFill>
                    </a:lnR>
                    <a:lnT w="18720">
                      <a:solidFill>
                        <a:srgbClr val="006666"/>
                      </a:solidFill>
                    </a:lnT>
                    <a:lnB w="5760">
                      <a:solidFill>
                        <a:srgbClr val="006666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3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5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5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9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1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6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3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9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66"/>
                      </a:solidFill>
                    </a:lnL>
                    <a:lnR w="5760">
                      <a:solidFill>
                        <a:srgbClr val="006666"/>
                      </a:solidFill>
                    </a:lnR>
                    <a:lnT w="18720">
                      <a:solidFill>
                        <a:srgbClr val="006666"/>
                      </a:solidFill>
                    </a:lnT>
                    <a:lnB w="5760">
                      <a:solidFill>
                        <a:srgbClr val="006666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3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8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7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8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5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1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66"/>
                      </a:solidFill>
                    </a:lnL>
                    <a:lnR w="5760">
                      <a:solidFill>
                        <a:srgbClr val="006666"/>
                      </a:solidFill>
                    </a:lnR>
                    <a:lnT w="18720">
                      <a:solidFill>
                        <a:srgbClr val="006666"/>
                      </a:solidFill>
                    </a:lnT>
                    <a:lnB w="5760">
                      <a:solidFill>
                        <a:srgbClr val="006666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0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2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3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8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66"/>
                      </a:solidFill>
                    </a:lnL>
                    <a:lnR w="5760">
                      <a:solidFill>
                        <a:srgbClr val="006666"/>
                      </a:solidFill>
                    </a:lnR>
                    <a:lnT w="18720">
                      <a:solidFill>
                        <a:srgbClr val="006666"/>
                      </a:solidFill>
                    </a:lnT>
                    <a:lnB w="5760">
                      <a:solidFill>
                        <a:srgbClr val="006666"/>
                      </a:solidFill>
                    </a:lnB>
                    <a:solidFill>
                      <a:srgbClr val="f9d8c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19" name="Содержимое 3"/>
          <p:cNvGraphicFramePr/>
          <p:nvPr/>
        </p:nvGraphicFramePr>
        <p:xfrm>
          <a:off x="1692360" y="4079880"/>
          <a:ext cx="5844960" cy="2251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0" name="Содержимое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2360" y="4079880"/>
                    <a:ext cx="5844960" cy="225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Экономическое значение атомной энергетики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История ядерной энергетики охватывает период более полувека, и за это время она уже стала традиционной отраслью энергетики, в настоящее время доля выработки электроэнергии на АЭС во многих странах достигает довольно больших значений. Сейчас в мире насчитывается 433 энергетических реактора общей мощностью 366,555 ГВт и 64 в стадии сооружения.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Ядерный сектор энергетики наиболее значителен в промышленно развитых странах, где недостаточно природных энергоресурсов — во Франции, Бельгии, Финляндии, Швеции, Болгарии Швейцарии. Эти страны производят от 20 до 80</a:t>
            </a:r>
            <a:r>
              <a:rPr b="0" lang="en-US" sz="1400" spc="-1" strike="noStrike">
                <a:solidFill>
                  <a:srgbClr val="eaeaea"/>
                </a:solidFill>
                <a:latin typeface="Verdana"/>
              </a:rPr>
              <a:t>%</a:t>
            </a: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 (во Франции) электроэнергии на АЭС.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В США на АЭС производят только 1/8 своей электроэнергии, однако это составляет около 20 % мирового производства.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Мировым лидером по доле в общей выработке является Франция (второе место по установленной мощности), в которой ядерная энергетика является национальным приоритетом — 74%.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На Украине вклад ядерной энергетики в общую выработку составляет почти 50 %.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Абсолютным лидером по использованию ядерной энергии являлась Литва. Единственная Игналинская АЭС, расположенная на её территории, вырабатывала электрической энергии больше, чем потребляла вся республика). Обладая её избытком (а в Литве есть и другие электростанции), «лишнюю» энергию отправляли на экспорт.</a:t>
            </a:r>
            <a:br>
              <a:rPr sz="1400"/>
            </a:b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Однако из-за сомнений в её безопасности — ИАЭС использовала энергоблоки того же типа, что и Чернобыльская АЭС — Игналинская АЭС была закрыта, сейчас решается вопрос о строительстве на той же площадке АЭС современного типа.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Обзор атомной энергетики по странам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224" name="Object 6"/>
          <p:cNvGraphicFramePr/>
          <p:nvPr/>
        </p:nvGraphicFramePr>
        <p:xfrm>
          <a:off x="2944800" y="1600200"/>
          <a:ext cx="3254400" cy="2189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5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944800" y="1600200"/>
                    <a:ext cx="3254400" cy="218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26" name="Picture 25" descr="800px-Nuclear_power_station"/>
          <p:cNvPicPr/>
          <p:nvPr/>
        </p:nvPicPr>
        <p:blipFill>
          <a:blip r:embed="rId4"/>
          <a:stretch/>
        </p:blipFill>
        <p:spPr>
          <a:xfrm>
            <a:off x="611280" y="1177920"/>
            <a:ext cx="7842240" cy="3979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7" name="Object 26"/>
          <p:cNvGraphicFramePr/>
          <p:nvPr/>
        </p:nvGraphicFramePr>
        <p:xfrm>
          <a:off x="250920" y="4941720"/>
          <a:ext cx="8569080" cy="1719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28" name="Object 2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50920" y="4941720"/>
                    <a:ext cx="8569080" cy="171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Количество действующих реакторов в мире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230" name="Object 5"/>
          <p:cNvGraphicFramePr/>
          <p:nvPr/>
        </p:nvGraphicFramePr>
        <p:xfrm>
          <a:off x="501480" y="1604880"/>
          <a:ext cx="8123400" cy="462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1480" y="1604880"/>
                    <a:ext cx="8123400" cy="462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Страны, лидирующие по количеству установленных мощностей АЭС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3" name="Text Box 13"/>
          <p:cNvSpPr/>
          <p:nvPr/>
        </p:nvSpPr>
        <p:spPr>
          <a:xfrm>
            <a:off x="3760560" y="5805360"/>
            <a:ext cx="15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В гигаваттах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graphicFrame>
        <p:nvGraphicFramePr>
          <p:cNvPr id="234" name="Object 14"/>
          <p:cNvGraphicFramePr/>
          <p:nvPr/>
        </p:nvGraphicFramePr>
        <p:xfrm>
          <a:off x="250920" y="2205000"/>
          <a:ext cx="8642160" cy="3408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5" name="Object 1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2205000"/>
                    <a:ext cx="8642160" cy="340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68360" y="33156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Доля атомной энергетики в общем производстве электроэнергии в различных странах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37" name="Picture 4" descr="800px-Nuclear_power_percentage"/>
          <p:cNvPicPr/>
          <p:nvPr/>
        </p:nvPicPr>
        <p:blipFill>
          <a:blip r:embed="rId1"/>
          <a:stretch/>
        </p:blipFill>
        <p:spPr>
          <a:xfrm>
            <a:off x="395280" y="2082960"/>
            <a:ext cx="8273880" cy="419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9T15:00:39Z</dcterms:created>
  <dc:creator>Алексей Шипилов, 10А1</dc:creator>
  <dc:description/>
  <dc:language>en-US</dc:language>
  <cp:lastModifiedBy>1</cp:lastModifiedBy>
  <dcterms:modified xsi:type="dcterms:W3CDTF">2012-11-29T07:19:04Z</dcterms:modified>
  <cp:revision>10</cp:revision>
  <dc:subject/>
  <dc:title>Атомная энергетика</dc:title>
</cp:coreProperties>
</file>