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BD3-4BB0-4DF7-878C-49D202DE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427-692E-4B89-8BC3-5ADBAC3E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627-977B-4B6C-BE79-7746C2CF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BBE-B42B-452E-A504-A0BCAD19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783B-FDFB-4DA2-B49E-7A34ECA7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EE80-DAD7-43BF-8AAA-F222E0E5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51F3-75AF-4F2B-B32F-07C1C7F1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E859-1449-4637-8B1C-F4F4C0F7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8E90-3B36-4992-BA0E-E58CBF03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B69C-B177-4262-A234-47C48A15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89EC-FF72-4165-8CB9-6734B00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B6F-5F67-4A35-BC1A-DF021ABD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E597-7E79-4A22-A4E7-B78E038E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4D24-0BAE-42AA-9B00-384C7F3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934B-3396-46D4-931D-705E3048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6630-9978-46D3-84A0-2943C983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1FD-B2C8-4E94-AF80-F0412B2C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4DC0-B134-49F8-80A7-8EF68E9F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F046C-E027-48FD-B9E3-9FD0EC44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5B5B-0D5D-4E60-8596-97602FD6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E2BC1-A3B3-47E6-92C8-A5ADC89C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D4E3-4D88-4574-9941-081395D2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671-01BE-4FE8-8BA3-23E3D6D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5997-797A-4BA2-A18D-5378B10B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12C3-9471-4BA8-9BDF-6E730211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3FEF-AF59-49C7-8542-25CE7A2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98A2-E894-4137-8CC1-D1F4065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B127-0177-4E95-B102-B6BA5E20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26F6-85BF-4E4B-84C3-6A511860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49B6-B3FD-4956-AC5A-69106F90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4662-E778-4C2D-BC40-918AB5AB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A93A-3614-4214-8889-5D4978C5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C284D-F6A7-475C-9B31-6D084117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253-27A3-4BE7-8CC9-AFD431FA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8FBDB-277A-4B2E-ABD3-5FED9716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B988F-188D-46E5-87A1-DB795B9A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B717-8EB8-4D96-897B-BBB72CD5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AD75D-735B-4DEF-BF3F-58FA995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D294-6072-41B2-A614-F0257EA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11896-CC30-4EE4-A7B0-4C309D9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EB4A-B875-4395-86FE-5E12D535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EB8C-A99C-41D1-88BF-2541005D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A8768-880A-4F59-B6A2-8D87730F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4B8-87EB-4543-9B60-AE574657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46A-4EC7-4726-82E6-C6FD93F9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C67-91EE-420F-9B7D-EAF1DBF5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8E8-67CC-42E7-BD44-4261416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033-9EAC-43E1-B23B-3AB97A1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1D0A-25C9-4F8C-BAC6-6CCCCB44C8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FA4E-1EAE-42AE-8F3D-C62F0CEB00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6B4B-768A-413B-BC67-7AFD1BE799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B408-276B-4DCD-943C-53FCBFC58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43280" y="3284280"/>
            <a:ext cx="5757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Arial"/>
              </a:rPr>
              <a:t>Страны мир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556000" y="4437000"/>
            <a:ext cx="6408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Атомная э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удущее атомной энергет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 оценкам ЦНИИАТОМИНФОРМ, до конца 2030 года в мире будет введено в строй около 570 ГВт АЭС (в первых месяцах 2007 года этот показатель составил около 367 ГВт). В настоящий момент лидером по строительству новых блоков является Китай, который строит 6 энергоблоков. За ним идет Индия с 5 новыми блоками. Замыкает же тройку Россия – 3 блока. Намерения строить новые энергоблоки высказывают также и другие страны, в том числе из бывшего СССР и социалистического блока: Украина, Польша, Белоруссия. Оно и понятно, ведь один ядерный энергоблок сэкономит за год такое количество газа, стоимость которого эквивалентна 350 млн долларов США. Прежде всего, это важно для стран с малыми запасами невозобновляемых ресурсов. По данным Всемирной ядерной организации (WNA), рост мирового потребления нефти (с учетом падения добычи на действующих месторождениях планеты) потребует ввода новых источников с суммарным объёмом более 100 млн. баррелей в сутки. Это количество нефти должно будет располагаться на новых месторождениях размером в десять Саудовских Аравий. Таких месторождений на планете просто не существует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удущее атомной энергет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1" name="Picture 6" descr="Диаграмма2"/>
          <p:cNvPicPr/>
          <p:nvPr/>
        </p:nvPicPr>
        <p:blipFill>
          <a:blip r:embed="rId1"/>
          <a:stretch/>
        </p:blipFill>
        <p:spPr>
          <a:xfrm>
            <a:off x="1305000" y="1447920"/>
            <a:ext cx="65800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456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щее атомной энергетики теперь зависит от того, насколько эффективно и надежно будет осуществляться контроль за строительством и эксплуатацией АЭС, а также насколько успешно будет решен ряд других проблем, таких, как проблема удаления радиоактивных отходов. Оно зависит также от жизнеспособности ее сильных конкурентов – ТЭС, работающих на угле, новых энергосберегающих технологий и возобновляемых энергоресур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нерге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а отрасль промышленности и народного хозяйства, занимающаяся получением, передачей, преобразованием и рациональным использованием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нее зависит состояние экономики любой страны. Сегодня проблема энергоснабжения стала одной из приорите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томная энергетика в мир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евозобновляемость таких ресурсов как нефть, газ, уголь заставляет задуматься об альтернативных источниках электроэнергии, наиболее реальным из которых сегодня является атомная энергетика. Ее доля в мировой выработке электроэнергии составляет 16%. Больше половины этих 16% приходятся на США (103 энергоблока), Францию и Японию (59 и 54 энергоблока соответственно). Всего (по состоянию на конец 2006 года) в мире действуют 439 ядерных энергоблоков, еще 29 находятся в различных стадиях строительств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руктура выработки электроэнергии на разных видах электростанц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2560" y="1600200"/>
          <a:ext cx="7850160" cy="2367000"/>
        </p:xfrm>
        <a:graphic>
          <a:graphicData uri="http://schemas.openxmlformats.org/drawingml/2006/table">
            <a:tbl>
              <a:tblPr/>
              <a:tblGrid>
                <a:gridCol w="2592360"/>
                <a:gridCol w="2016360"/>
                <a:gridCol w="1081080"/>
                <a:gridCol w="1008000"/>
                <a:gridCol w="1152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гионы ми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ъемы выработки (трлн.кВт*ч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ЭС,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ЭС,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ЭС,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р в це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дная Европ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Г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дная Аз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фрик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ША, Канад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атинская Америк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стралия и Оке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Содержимое 3"/>
          <p:cNvGraphicFramePr/>
          <p:nvPr/>
        </p:nvGraphicFramePr>
        <p:xfrm>
          <a:off x="1692360" y="4079880"/>
          <a:ext cx="5844960" cy="22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079880"/>
                    <a:ext cx="584496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кономическое значение атомной энергети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стория ядерной энергетики охватывает период более полувека, и за это время она уже стала традиционной отраслью энергетики, в настоящее время доля выработки электроэнергии на АЭС во многих странах достигает довольно больших значений. Сейчас в мире насчитывается 433 энергетических реактора общей мощностью 366,555 ГВт и 64 в стадии сооруже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Ядерный сектор энергетики наиболее значителен в промышленно развитых странах, где недостаточно природных энергоресурсов — во Франции, Бельгии, Финляндии, Швеции, Болгарии Швейцарии. Эти страны производят от 20 до 80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%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(во Франции) электроэнергии на АЭС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 США на АЭС производят только 1/8 своей электроэнергии, однако это составляет около 20 % мирового производств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ировым лидером по доле в общей выработке является Франция (второе место по установленной мощности), в которой ядерная энергетика является национальным приоритетом — 74%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а Украине вклад ядерной энергетики в общую выработку составляет почти 50 %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Абсолютным лидером по использованию ядерной энергии являлась Литва. Единственная Игналинская АЭС, расположенная на её территории, вырабатывала электрической энергии больше, чем потребляла вся республика). Обладая её избытком (а в Литве есть и другие электростанции), «лишнюю» энергию отправляли на экспорт.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Однако из-за сомнений в её безопасности — ИАЭС использовала энергоблоки того же типа, что и Чернобыльская АЭС — Игналинская АЭС была закрыта, сейчас решается вопрос о строительстве на той же площадке АЭС современного тип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зор атомной энергетики по страна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4" name="Object 6"/>
          <p:cNvGraphicFramePr/>
          <p:nvPr/>
        </p:nvGraphicFramePr>
        <p:xfrm>
          <a:off x="2944800" y="1600200"/>
          <a:ext cx="325440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600200"/>
                    <a:ext cx="3254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Picture 25" descr="800px-Nuclear_power_station"/>
          <p:cNvPicPr/>
          <p:nvPr/>
        </p:nvPicPr>
        <p:blipFill>
          <a:blip r:embed="rId4"/>
          <a:stretch/>
        </p:blipFill>
        <p:spPr>
          <a:xfrm>
            <a:off x="611280" y="1177920"/>
            <a:ext cx="7842240" cy="39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26"/>
          <p:cNvGraphicFramePr/>
          <p:nvPr/>
        </p:nvGraphicFramePr>
        <p:xfrm>
          <a:off x="250920" y="4941720"/>
          <a:ext cx="8569080" cy="17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4941720"/>
                    <a:ext cx="85690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личество действующих реакторов в мир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501480" y="1604880"/>
          <a:ext cx="812340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604880"/>
                    <a:ext cx="81234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раны, лидирующие по количеству установленных мощностей АЭС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3760560" y="5805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гигаватта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34" name="Object 14"/>
          <p:cNvGraphicFramePr/>
          <p:nvPr/>
        </p:nvGraphicFramePr>
        <p:xfrm>
          <a:off x="250920" y="2205000"/>
          <a:ext cx="8642160" cy="34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864216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3315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оля атомной энергетики в общем производстве электроэнергии в различных странах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7" name="Picture 4" descr="800px-Nuclear_power_percentage"/>
          <p:cNvPicPr/>
          <p:nvPr/>
        </p:nvPicPr>
        <p:blipFill>
          <a:blip r:embed="rId1"/>
          <a:stretch/>
        </p:blipFill>
        <p:spPr>
          <a:xfrm>
            <a:off x="395280" y="2082960"/>
            <a:ext cx="827388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5:00:39Z</dcterms:created>
  <dc:creator>Алексей Шипилов, 10А1</dc:creator>
  <dc:description/>
  <dc:language>en-US</dc:language>
  <cp:lastModifiedBy>1</cp:lastModifiedBy>
  <dcterms:modified xsi:type="dcterms:W3CDTF">2012-11-29T07:19:04Z</dcterms:modified>
  <cp:revision>10</cp:revision>
  <dc:subject/>
  <dc:title>Атомная энергетика</dc:title>
</cp:coreProperties>
</file>