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0155-E721-44EB-BEA2-362E7426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13D-300E-482A-BE5E-878DB7B2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E29-16FA-41A1-B55D-684C9DD7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05B-B190-48DA-BA46-D810C93D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2086-C6D1-4875-932B-5C41C5D7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480F-695E-4983-956E-23FC2D83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E18B-2085-401B-A0AD-7B0722B3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8EED-BAAC-4712-B93D-87C7E708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07DF-F6E3-4052-8672-05C8EA38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6852-D226-4A9A-8706-8D5DA517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6804-9ECD-4516-92E8-CA683F65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EA0-BFC1-4581-A968-6AF84975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6571-C510-4F3E-A07E-0BB0899A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0718-372C-445F-B8B1-93FABC84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EEA1-20B4-4A2D-A0EF-42C7AC86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4B37-4354-4505-BD39-D9A76177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6AD5-4749-448D-8595-81AFBFA0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EEB17-5F9B-426D-9961-EF00ED02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95D08-33E4-4082-9180-77C4C8DE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F94F-4EDF-4AD5-B11F-B035941D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BAE3C-9D0D-45F2-98BD-B06B80F5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E56F5-9EC4-499A-B9A0-2C0D31A6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989-3C2F-4D62-9304-26CCE7E0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91D6-4A98-46D5-BCFC-A4CC0102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EB97-410B-4EC4-B9DE-16170184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99064-4158-4FBD-960C-CE820EBF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A164D-DB4A-4FC8-87F0-0DDCA039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E6B2F-883C-4000-9BC5-BD092EF5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0886-64DD-4094-BD1D-74BCECB6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6B4A4-3352-405A-942E-3FA7DA8F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DC745-5DBF-4798-BE7F-2D0998F0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B5A8B-5EB4-42C1-A67D-35F15D91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E4EB2-A730-47CD-A4C6-E882DED9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D79-8C94-46CD-991F-EA77EC9C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2A87C-9F49-4961-B3BD-5AD7E73D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B6FDC-6845-423A-8C66-10FD32FD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8CC2B-4F76-4E8C-AF46-6748D183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C7094-522E-4752-A231-3812EDF9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078F6-C5CE-4550-9E64-BAE5723D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636C1-F9CB-448F-B048-BAB17423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FD29C-4F75-4C9B-B752-04F079BE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8D357-A1CE-478D-A208-4E073EC7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08AF-545E-4705-9D11-72922271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082-8649-4556-B1DA-203EBF97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22A-88D0-4DAF-8344-48367C56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154-DACD-433A-A5B0-3087630A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225-4A42-42CF-89AA-1C9C97CC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5A4-1023-4F3A-9A1E-AB5CFC16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5A3C-336C-4587-9775-D258B7D70B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D1A4-F49F-480C-9B7B-B5459C32BD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7795-094D-4D90-9E59-67F589C4D5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C952-EF19-43CF-B04E-3841A814A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43280" y="3284280"/>
            <a:ext cx="57578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cc"/>
                </a:solidFill>
                <a:latin typeface="Arial"/>
              </a:rPr>
              <a:t>Страны мир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556000" y="4437000"/>
            <a:ext cx="6408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Атомная энерге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удущее атомной энергет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о оценкам ЦНИИАТОМИНФОРМ, до конца 2030 года в мире будет введено в строй около 570 ГВт АЭС (в первых месяцах 2007 года этот показатель составил около 367 ГВт). В настоящий момент лидером по строительству новых блоков является Китай, который строит 6 энергоблоков. За ним идет Индия с 5 новыми блоками. Замыкает же тройку Россия – 3 блока. Намерения строить новые энергоблоки высказывают также и другие страны, в том числе из бывшего СССР и социалистического блока: Украина, Польша, Белоруссия. Оно и понятно, ведь один ядерный энергоблок сэкономит за год такое количество газа, стоимость которого эквивалентна 350 млн долларов США. Прежде всего, это важно для стран с малыми запасами невозобновляемых ресурсов. По данным Всемирной ядерной организации (WNA), рост мирового потребления нефти (с учетом падения добычи на действующих месторождениях планеты) потребует ввода новых источников с суммарным объёмом более 100 млн. баррелей в сутки. Это количество нефти должно будет располагаться на новых месторождениях размером в десять Саудовских Аравий. Таких месторождений на планете просто не существует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удущее атомной энергет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1" name="Picture 6" descr="Диаграмма2"/>
          <p:cNvPicPr/>
          <p:nvPr/>
        </p:nvPicPr>
        <p:blipFill>
          <a:blip r:embed="rId1"/>
          <a:stretch/>
        </p:blipFill>
        <p:spPr>
          <a:xfrm>
            <a:off x="1305000" y="1447920"/>
            <a:ext cx="65800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3456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щее атомной энергетики теперь зависит от того, насколько эффективно и надежно будет осуществляться контроль за строительством и эксплуатацией АЭС, а также насколько успешно будет решен ряд других проблем, таких, как проблема удаления радиоактивных отходов. Оно зависит также от жизнеспособности ее сильных конкурентов – ТЭС, работающих на угле, новых энергосберегающих технологий и возобновляемых энергоресур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нерге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а отрасль промышленности и народного хозяйства, занимающаяся получением, передачей, преобразованием и рациональным использованием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нее зависит состояние экономики любой страны. Сегодня проблема энергоснабжения стала одной из приоритет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томная энергетика в мир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евозобновляемость таких ресурсов как нефть, газ, уголь заставляет задуматься об альтернативных источниках электроэнергии, наиболее реальным из которых сегодня является атомная энергетика. Ее доля в мировой выработке электроэнергии составляет 16%. Больше половины этих 16% приходятся на США (103 энергоблока), Францию и Японию (59 и 54 энергоблока соответственно). Всего (по состоянию на конец 2006 года) в мире действуют 439 ядерных энергоблоков, еще 29 находятся в различных стадиях строительств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труктура выработки электроэнергии на разных видах электростанц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82560" y="1600200"/>
          <a:ext cx="7850160" cy="2367000"/>
        </p:xfrm>
        <a:graphic>
          <a:graphicData uri="http://schemas.openxmlformats.org/drawingml/2006/table">
            <a:tbl>
              <a:tblPr/>
              <a:tblGrid>
                <a:gridCol w="2592360"/>
                <a:gridCol w="2016360"/>
                <a:gridCol w="1081080"/>
                <a:gridCol w="1008000"/>
                <a:gridCol w="1152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егионы мир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ъемы выработки (трлн.кВт*ч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ЭС,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ЭС,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ЭС,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18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р в цел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адная Европ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Г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адная Аз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фрик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ША, Канад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атинская Америк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стралия и Океа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Содержимое 3"/>
          <p:cNvGraphicFramePr/>
          <p:nvPr/>
        </p:nvGraphicFramePr>
        <p:xfrm>
          <a:off x="1692360" y="4079880"/>
          <a:ext cx="5844960" cy="225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079880"/>
                    <a:ext cx="5844960" cy="22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кономическое значение атомной энергетик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стория ядерной энергетики охватывает период более полувека, и за это время она уже стала традиционной отраслью энергетики, в настоящее время доля выработки электроэнергии на АЭС во многих странах достигает довольно больших значений. Сейчас в мире насчитывается 433 энергетических реактора общей мощностью 366,555 ГВт и 64 в стадии сооружени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Ядерный сектор энергетики наиболее значителен в промышленно развитых странах, где недостаточно природных энергоресурсов — во Франции, Бельгии, Финляндии, Швеции, Болгарии Швейцарии. Эти страны производят от 20 до 80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%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(во Франции) электроэнергии на АЭС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 США на АЭС производят только 1/8 своей электроэнергии, однако это составляет около 20 % мирового производств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Мировым лидером по доле в общей выработке является Франция (второе место по установленной мощности), в которой ядерная энергетика является национальным приоритетом — 74%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На Украине вклад ядерной энергетики в общую выработку составляет почти 50 %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Абсолютным лидером по использованию ядерной энергии являлась Литва. Единственная Игналинская АЭС, расположенная на её территории, вырабатывала электрической энергии больше, чем потребляла вся республика). Обладая её избытком (а в Литве есть и другие электростанции), «лишнюю» энергию отправляли на экспорт.</a:t>
            </a: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Однако из-за сомнений в её безопасности — ИАЭС использовала энергоблоки того же типа, что и Чернобыльская АЭС — Игналинская АЭС была закрыта, сейчас решается вопрос о строительстве на той же площадке АЭС современного тип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бзор атомной энергетики по страна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24" name="Object 6"/>
          <p:cNvGraphicFramePr/>
          <p:nvPr/>
        </p:nvGraphicFramePr>
        <p:xfrm>
          <a:off x="2944800" y="1600200"/>
          <a:ext cx="325440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600200"/>
                    <a:ext cx="32544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Picture 25" descr="800px-Nuclear_power_station"/>
          <p:cNvPicPr/>
          <p:nvPr/>
        </p:nvPicPr>
        <p:blipFill>
          <a:blip r:embed="rId4"/>
          <a:stretch/>
        </p:blipFill>
        <p:spPr>
          <a:xfrm>
            <a:off x="611280" y="1177920"/>
            <a:ext cx="7842240" cy="39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Object 26"/>
          <p:cNvGraphicFramePr/>
          <p:nvPr/>
        </p:nvGraphicFramePr>
        <p:xfrm>
          <a:off x="250920" y="4941720"/>
          <a:ext cx="8569080" cy="17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4941720"/>
                    <a:ext cx="856908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оличество действующих реакторов в мир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30" name="Object 5"/>
          <p:cNvGraphicFramePr/>
          <p:nvPr/>
        </p:nvGraphicFramePr>
        <p:xfrm>
          <a:off x="501480" y="1604880"/>
          <a:ext cx="812340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604880"/>
                    <a:ext cx="812340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траны, лидирующие по количеству установленных мощностей АЭС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3760560" y="58053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гигаватта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34" name="Object 14"/>
          <p:cNvGraphicFramePr/>
          <p:nvPr/>
        </p:nvGraphicFramePr>
        <p:xfrm>
          <a:off x="250920" y="2205000"/>
          <a:ext cx="8642160" cy="34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05000"/>
                    <a:ext cx="864216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3315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оля атомной энергетики в общем производстве электроэнергии в различных странах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7" name="Picture 4" descr="800px-Nuclear_power_percentage"/>
          <p:cNvPicPr/>
          <p:nvPr/>
        </p:nvPicPr>
        <p:blipFill>
          <a:blip r:embed="rId1"/>
          <a:stretch/>
        </p:blipFill>
        <p:spPr>
          <a:xfrm>
            <a:off x="395280" y="2082960"/>
            <a:ext cx="827388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5:00:39Z</dcterms:created>
  <dc:creator>Алексей Шипилов, 10А1</dc:creator>
  <dc:description/>
  <dc:language>en-US</dc:language>
  <cp:lastModifiedBy>1</cp:lastModifiedBy>
  <dcterms:modified xsi:type="dcterms:W3CDTF">2012-11-29T07:19:04Z</dcterms:modified>
  <cp:revision>10</cp:revision>
  <dc:subject/>
  <dc:title>Атомная энергетика</dc:title>
</cp:coreProperties>
</file>