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28DDB-2E8D-478A-989C-4CF4E9503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A942-13F4-4108-B671-A2776FCB9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1863-BAEE-4F52-A2C4-64E88953C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FC2E-7DA1-4A86-8FAF-8FBA4331A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10A7-0567-4890-A252-5C60CBC85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9E1CD-0FCD-4F7E-89E2-985206A8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81048-3890-4194-BABA-E5A5429DD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59B6C-026F-4724-8D4A-3ECE2273A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5F947-D932-4716-B778-2D59D5ED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0B88-D757-4606-A1BD-BEF32E446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E61CD-B8C0-43AC-AB9A-4BD91C941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3067-A184-43CF-9512-E3636C86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723F-BED3-4563-BFE1-AAD2199BD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CD35-6654-4C33-8783-94B417FDF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9998-BE32-46C9-A2DC-59FC28FD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0969A-28A1-4B12-A359-6D9944ABA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F4AA5-E226-48D8-9012-C104D0DCB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69CDA8-DD28-4AB1-A781-C25257DF5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F39E5F-68BB-4A7E-8333-162A8FCC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1548E7-2EB1-40EF-BDDE-632411A78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51C97-3E6D-4DE1-8990-BAF0F3CC9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D6F7EA-6B93-41AC-ACF6-6E8ED7A2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4DD8B-F412-4C31-B9CD-94CD7192B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5A73F-07CC-46B3-86F7-EC57EE14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520EC-FB0D-4AA4-80A2-1A2A233C2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62324-3312-417B-8929-FCA07059A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432E2E-9CF8-4EEF-A8FD-3A4E973E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06E8E6-EA1C-4702-8FAB-72E4EA8BD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B77DCF-3AC9-4706-9452-3FC6F5C44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0F19BD-8500-47F1-8C27-4A664089B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6AAA3-B69C-4B64-8959-4C9590712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306EE-487C-49CD-8C8E-7B697046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B9441-1EF3-405A-999A-BD5797EC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8CA0A-5778-4F7D-8385-5FE2AB06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C016F5-F00A-4524-8861-2769B84F0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16D932-4784-4C5A-A165-D30DD0D3A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717AA2-9526-431A-8D20-E2C334074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0E845-FC1B-456C-9E8F-59312131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FE38E-343F-4F79-980C-FD316BDA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0DEE97-CC13-42E0-A876-62997671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EEEC2-ECC7-4FE5-B306-BAF0BE92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C9ADA-0B08-41B7-B192-D4B127D21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638B4-3781-476B-88D4-5984360B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6437D4-6F69-429D-9401-652198A69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EEA0-1E19-4042-ADAF-7E8294994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08A455-B383-48D0-8110-7152F1F4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984997-8745-4A3E-BAFD-AA6014B0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59438F-5738-418E-BDE6-BA8BEB4DF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B8010B-9132-483F-97FA-A561CA7D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3625F-AAEE-4B30-B4FB-4F21769D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71F478-700C-4CFB-AAE3-B0B69292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70BDC4-8AE9-405D-BC02-729087DB1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B9F354-60DC-426C-81C9-40333353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6A2B0D-1469-4DF7-B9C3-2AE216DC6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F94FF9-1E35-48D1-B02E-24306D102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9D1A-B4BB-41A2-ADC6-19AC46B25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8695E-EFF8-4F34-9B10-3BCD60840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D0C3-85D4-417D-A50C-26A3D6D2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E659-6C73-4189-99F8-C84238223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2BF7-14EF-4BD9-91F0-B0512667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06A17-E529-4B8C-BC01-F274C2E3C5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F89F-5391-410D-AB84-F0C40A4B1FB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F3D70-1D66-4A1F-84A6-1621180B0F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3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701CF-7299-4A17-A740-3D6025299F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8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2A6FC-DA59-4150-B933-EBF4A62546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Georgia"/>
              </a:rPr>
              <a:t>Правописание безударных окончаний имён существительных</a:t>
            </a:r>
            <a:br>
              <a:rPr sz="3600"/>
            </a:br>
            <a:r>
              <a:rPr b="1" lang="ru-RU" sz="3600" spc="-1" strike="noStrike">
                <a:solidFill>
                  <a:srgbClr val="0066ff"/>
                </a:solidFill>
                <a:latin typeface="Georgia"/>
              </a:rPr>
              <a:t>Игра «В Простоквашино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179280" y="4869000"/>
            <a:ext cx="4680000" cy="143964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Авто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Лихарева З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МОУ «Николо-Упская ОШ №37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003640" y="2637000"/>
            <a:ext cx="3610080" cy="36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500720" y="5229360"/>
            <a:ext cx="194292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улиц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каких окончаниях пишется эта букв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4000" y="1557360"/>
            <a:ext cx="1942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ноч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04000" y="3789360"/>
            <a:ext cx="187164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1557360"/>
            <a:ext cx="20862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еч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0920" y="2781360"/>
            <a:ext cx="1942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глуш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56000" y="2781360"/>
            <a:ext cx="1942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етрад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95640" y="4437000"/>
            <a:ext cx="194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иш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32360" y="6021360"/>
            <a:ext cx="194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двер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1557360"/>
            <a:ext cx="1942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едр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84720" y="1557360"/>
            <a:ext cx="35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40360" y="5229360"/>
            <a:ext cx="358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948360" y="1484280"/>
            <a:ext cx="194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еч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20000" y="2781360"/>
            <a:ext cx="1942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зем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716360" y="2781360"/>
            <a:ext cx="201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 подруг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19640" y="3573360"/>
            <a:ext cx="1942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рек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88000" y="3573360"/>
            <a:ext cx="358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00720" y="2781360"/>
            <a:ext cx="35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388360" y="1484280"/>
            <a:ext cx="35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388360" y="2781360"/>
            <a:ext cx="35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8244000" y="621036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3794"/>
                </a:moveTo>
                <a:lnTo>
                  <a:pt x="18994" y="10800"/>
                </a:lnTo>
                <a:lnTo>
                  <a:pt x="49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79280" y="3429000"/>
            <a:ext cx="3168720" cy="325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5435640" y="5300640"/>
            <a:ext cx="1942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плеч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В каких окончаниях пишется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эта букв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88000" y="3573360"/>
            <a:ext cx="194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деревн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32000" y="6021360"/>
            <a:ext cx="20862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соба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659640" y="4365720"/>
            <a:ext cx="2016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 матер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00360" y="5300640"/>
            <a:ext cx="1942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двер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95640" y="4437000"/>
            <a:ext cx="194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гос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867280" y="6021360"/>
            <a:ext cx="194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кош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88000" y="1557360"/>
            <a:ext cx="1942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тем..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84720" y="1557360"/>
            <a:ext cx="35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877080" y="5300640"/>
            <a:ext cx="35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eorgi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948360" y="1484280"/>
            <a:ext cx="194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ниг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20000" y="2781360"/>
            <a:ext cx="1944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ру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16360" y="2781360"/>
            <a:ext cx="201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кн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19640" y="3573360"/>
            <a:ext cx="1942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зер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16360" y="3573360"/>
            <a:ext cx="35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eorgi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27640" y="2781360"/>
            <a:ext cx="35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244000" y="1484280"/>
            <a:ext cx="358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317080" y="2781360"/>
            <a:ext cx="358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eorgi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8244000" y="621036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3794"/>
                </a:moveTo>
                <a:lnTo>
                  <a:pt x="18994" y="10800"/>
                </a:lnTo>
                <a:lnTo>
                  <a:pt x="49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3860640"/>
            <a:ext cx="2016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0" spc="-1" strike="noStrike">
                <a:solidFill>
                  <a:srgbClr val="ff0000"/>
                </a:solidFill>
                <a:latin typeface="Georgia"/>
              </a:rPr>
              <a:t>е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2592360" cy="383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564000" y="4941720"/>
            <a:ext cx="1942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дочер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В каких окончания пишется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эта букв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981000"/>
            <a:ext cx="1942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бабуш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564000" y="1557360"/>
            <a:ext cx="187164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0000"/>
                </a:solidFill>
                <a:latin typeface="Georgia"/>
              </a:rPr>
              <a:t>и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916280"/>
            <a:ext cx="20862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еревн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68360" y="2781360"/>
            <a:ext cx="1942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 Ди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348000" y="3860640"/>
            <a:ext cx="2160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город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516720" y="5013360"/>
            <a:ext cx="2089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до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348000" y="5877000"/>
            <a:ext cx="2087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 сын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867280" y="5950080"/>
            <a:ext cx="20876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мелоч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596360" y="5950080"/>
            <a:ext cx="3585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03640" y="4941720"/>
            <a:ext cx="35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88000" y="1052640"/>
            <a:ext cx="2016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 лен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227640" y="2924280"/>
            <a:ext cx="194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оч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042920" y="1844640"/>
            <a:ext cx="201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матер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84720" y="4005360"/>
            <a:ext cx="194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еч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380360" y="4005360"/>
            <a:ext cx="3585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84360" y="1844640"/>
            <a:ext cx="35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812000" y="1052640"/>
            <a:ext cx="358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524720" y="2924280"/>
            <a:ext cx="358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8244000" y="621036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3794"/>
                </a:moveTo>
                <a:lnTo>
                  <a:pt x="18994" y="10800"/>
                </a:lnTo>
                <a:lnTo>
                  <a:pt x="49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0" y="4005360"/>
            <a:ext cx="3168720" cy="225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492360" y="4869000"/>
            <a:ext cx="194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дяд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В каких окончаниях пишется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эта букв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8360" y="981000"/>
            <a:ext cx="1942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голов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564000" y="1557360"/>
            <a:ext cx="187164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ff0000"/>
                </a:solidFill>
                <a:latin typeface="Georgia"/>
              </a:rPr>
              <a:t>И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867280" y="1916280"/>
            <a:ext cx="20862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 коров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95280" y="2781360"/>
            <a:ext cx="2305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сьмо дяд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348000" y="3860640"/>
            <a:ext cx="2160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 Фёдор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516720" y="5013360"/>
            <a:ext cx="2089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двор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348000" y="5877000"/>
            <a:ext cx="2087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ляс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96000" y="5950080"/>
            <a:ext cx="20876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 радос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24720" y="5950080"/>
            <a:ext cx="358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32360" y="4869000"/>
            <a:ext cx="358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588000" y="1052640"/>
            <a:ext cx="2016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земл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227640" y="2924280"/>
            <a:ext cx="194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душ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42920" y="1844640"/>
            <a:ext cx="201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глуш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12000" y="4005360"/>
            <a:ext cx="24476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смелос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028000" y="4005360"/>
            <a:ext cx="358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1280" y="1844640"/>
            <a:ext cx="35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885080" y="1052640"/>
            <a:ext cx="358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667640" y="2924280"/>
            <a:ext cx="358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rcRect l="0" t="0" r="0" b="42386"/>
          <a:stretch/>
        </p:blipFill>
        <p:spPr>
          <a:xfrm>
            <a:off x="0" y="3789360"/>
            <a:ext cx="3313080" cy="279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5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3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11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doni MT Black"/>
              </a:rPr>
              <a:t>Приезжайте к нам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Bodoni MT Black"/>
              </a:rPr>
              <a:t>в Простоквашино</a:t>
            </a:r>
            <a:r>
              <a:rPr b="0" lang="ru-RU" sz="4400" spc="-1" strike="noStrike">
                <a:solidFill>
                  <a:srgbClr val="ffffff"/>
                </a:solidFill>
                <a:latin typeface="Bodoni MT Black"/>
              </a:rPr>
              <a:t>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4896000" cy="43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77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770" fill="hold"/>
                                        <p:tgtEl>
                                          <p:spTgt spid="3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0" dur="77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2" dur="77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13:50:46Z</dcterms:created>
  <dc:creator>Таня</dc:creator>
  <dc:description/>
  <dc:language>en-US</dc:language>
  <cp:lastModifiedBy>1</cp:lastModifiedBy>
  <dcterms:modified xsi:type="dcterms:W3CDTF">2010-12-06T12:14:17Z</dcterms:modified>
  <cp:revision>6</cp:revision>
  <dc:subject/>
  <dc:title>Слайд 1</dc:title>
</cp:coreProperties>
</file>