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BA74A-0EE3-4218-AE25-3E783ABF4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F7A5-928E-433F-8465-73829D77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7375-AF17-4215-9088-E8FF2E7C7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42D8-7BEA-42BA-9A37-7B79028ED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DB7A-9BCF-4426-B593-5CF6FC9D3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B1B2F-7B02-4A05-B6D3-167B1481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3ABF0-843E-4463-832C-CA81FC64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C119-8394-416D-AB4B-62F621EB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005DD-F044-445C-BE92-B53AB4B70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38CA0-80C3-4336-A9B5-46FC2A69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54288-A4D7-474F-87C4-1DED6142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F553-C649-436A-9B79-5053BF4DC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FE2E-8F37-4871-8C51-663331398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58F88-C567-4152-B46B-4B0C55AA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2123-B20B-4A44-96D7-CA7F16C7C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E1046-C567-42CE-8085-100932B19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9018-71ED-49A9-8289-25766E9FD9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B102DC-30F3-4B4B-A001-78B67671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6D6929-3427-4E10-BE93-99ABBA2D2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D111E9-CC12-4E60-8908-8C59DAFD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81245-1059-49B1-8A03-581E315A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18F070-5A7F-4A34-A2B5-ACB2E2EFF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AAC0-FDBB-46F6-A794-36EC7E59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C6854-9AAC-483E-8D64-B5A980463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A24CA2-DF1B-40AD-82DC-A20E6427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9B9B73-0B36-4D1A-9D0A-FFF662032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DA5F4-E2F8-4079-8827-C7B8D360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4DC4E7-24C2-4B20-BD79-45EF83AB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BEF5C7-0990-41ED-932F-3B6DC3094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FEBA73-B07A-4575-9B13-FAB7D2809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A5272-7357-4AD0-BC11-9137205B6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721578-531E-48AB-B933-8DB643417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228F3-D8F1-4511-A145-7BA3EDFAE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BDAF-D9B6-415B-8C0D-AD4A6F32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33621-A4DB-4CEC-933B-73096709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9F1694-0048-4D43-A6AF-1AA1E3B2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C559EC-ADAB-42F7-A624-269F40E70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4FE8C9-B5E0-4F6D-B869-86F61CD4E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4FA0F0-A915-430F-9DA4-8EBF9B1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A023F-53FA-48EB-A393-8A8EDED6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860387-C43F-4852-BE6E-16914F23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B933F-C9F4-4E1F-93E5-5E415E75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CF3AA-7495-4264-A97C-1B844CA8F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C4A1E2-9780-422E-914F-1E9C4FEEE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6BEC-9251-44F4-9EF6-3CF96C80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52D99-107C-47D0-8E1D-1CBA4291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F9D969-A136-47AD-955B-68EB68963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3E3F90-DD8D-47A6-9B17-E6EA59262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EF05AB-C2B8-4387-8BA4-6779BA12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3473B-8E6B-4FA4-B7C0-68416A42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0623F-441F-4A99-A0F0-A38A8546F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C3252-8717-4B78-A8E8-B25E6556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F08E19-BC50-4150-9188-F5588B7EC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E12D8-87D9-49AC-9648-23733F181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8D29B3-83D0-41DB-83D5-C6C48F5FB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47268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93BF6-6842-4161-AF52-C03040A88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29040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046920" y="182880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335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29040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046920" y="3938040"/>
            <a:ext cx="26251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0976B-58B9-4286-882C-AC259D877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4131-FDC4-448C-B9B2-8AB21D8B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1680" y="393804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BD75-EAEE-4907-B876-064BAD70A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1680" y="1828800"/>
            <a:ext cx="39787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3938040"/>
            <a:ext cx="81532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2EDEA-A659-4E59-80D5-D4E1D725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52323-6EF3-4DEF-B7C0-65F7BD9B0E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F5211-8D2F-4D76-8FE8-852AB9124C24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837720"/>
            <a:ext cx="6781680" cy="255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2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6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96F8F-D036-4B35-A296-7BC65AD1DAB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3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dt" idx="10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ftr" idx="11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1F21B-A9E9-4E29-8167-9AA71FB84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8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00E7-BB35-40B6-B6E7-F4319551F0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8eaa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ct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777240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Правописание безударных окончаний имён существительных</a:t>
            </a:r>
            <a:br>
              <a:rPr sz="3600"/>
            </a:br>
            <a:r>
              <a:rPr b="1" lang="ru-RU" sz="3600" spc="-1" strike="noStrike">
                <a:solidFill>
                  <a:srgbClr val="0066ff"/>
                </a:solidFill>
                <a:latin typeface="Georgia"/>
              </a:rPr>
              <a:t>Игра «В Простоквашино»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"/>
          <p:cNvSpPr/>
          <p:nvPr/>
        </p:nvSpPr>
        <p:spPr>
          <a:xfrm>
            <a:off x="179280" y="4869000"/>
            <a:ext cx="4680000" cy="1439640"/>
          </a:xfrm>
          <a:prstGeom prst="rect">
            <a:avLst/>
          </a:prstGeom>
          <a:solidFill>
            <a:srgbClr val="e8f0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Автор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Лихарева З.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Учитель начальных клас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Georgia"/>
              </a:rPr>
              <a:t>МОУ «Николо-Упская ОШ №37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5003640" y="2637000"/>
            <a:ext cx="3610080" cy="36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4500720" y="5229360"/>
            <a:ext cx="194292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улиц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 каких окончаниях пишется 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но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804000" y="3789360"/>
            <a:ext cx="187164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84360" y="1557360"/>
            <a:ext cx="2086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етра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995640" y="443700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ти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932360" y="6021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дв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788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ведр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1557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40360" y="522936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948360" y="148428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печ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2000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земл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716360" y="2781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подруг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19640" y="3573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рек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8000" y="357336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30072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8388360" y="148428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836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179280" y="3429000"/>
            <a:ext cx="3168720" cy="3255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6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4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8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5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63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69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81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5435640" y="530064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пл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х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588000" y="3573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ерев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32000" y="6021360"/>
            <a:ext cx="208620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соба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9640" y="4365720"/>
            <a:ext cx="20160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мат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700360" y="530064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дв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995640" y="443700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867280" y="602136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кош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88000" y="1557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 тем..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84720" y="1557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877080" y="5300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948360" y="1484280"/>
            <a:ext cx="19432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ниг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20000" y="2781360"/>
            <a:ext cx="194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ру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16360" y="278136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ок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419640" y="3573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оз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716360" y="3573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227640" y="278136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244000" y="148428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317080" y="2781360"/>
            <a:ext cx="358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4000" y="3860640"/>
            <a:ext cx="2016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0" spc="-1" strike="noStrike">
                <a:solidFill>
                  <a:srgbClr val="ff0000"/>
                </a:solidFill>
                <a:latin typeface="Georgia"/>
              </a:rPr>
              <a:t>е</a:t>
            </a:r>
            <a:endParaRPr b="0" lang="en-US" sz="2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324000" y="907920"/>
            <a:ext cx="2592360" cy="38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" dur="indefinite" restart="never" nodeType="tmRoot">
          <p:childTnLst>
            <p:seq>
              <p:cTn id="87" restart="whenNotActive" nodeType="interactiveSeq" fill="hold">
                <p:stCondLst>
                  <p:cond evt="onClick">
                    <p:tgtEl>
                      <p:spTgt spid="257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257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96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9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1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09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28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3564000" y="494172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доче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98100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бабуш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564000" y="1557360"/>
            <a:ext cx="1871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2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916280"/>
            <a:ext cx="20862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дерев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68360" y="278136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 Ди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48000" y="3860640"/>
            <a:ext cx="216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горо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516720" y="50133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348000" y="587700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сы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867280" y="595008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мелоч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596360" y="5950080"/>
            <a:ext cx="35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3640" y="494172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88000" y="1052640"/>
            <a:ext cx="201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лен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227640" y="292428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о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042920" y="184464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у матер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084720" y="400536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 печ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380360" y="4005360"/>
            <a:ext cx="3585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484360" y="1844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812000" y="105264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524720" y="29242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8244000" y="6210360"/>
            <a:ext cx="718920" cy="647640"/>
          </a:xfrm>
          <a:custGeom>
            <a:avLst/>
            <a:gdLst>
              <a:gd name="textAreaLeft" fmla="*/ 41760 w 718920"/>
              <a:gd name="textAreaRight" fmla="*/ 677160 w 71892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23976" h="21600">
                <a:moveTo>
                  <a:pt x="0" y="0"/>
                </a:moveTo>
                <a:lnTo>
                  <a:pt x="23976" y="0"/>
                </a:lnTo>
                <a:lnTo>
                  <a:pt x="23976" y="21600"/>
                </a:lnTo>
                <a:lnTo>
                  <a:pt x="0" y="21600"/>
                </a:lnTo>
                <a:close/>
              </a:path>
              <a:path fill="lightenLess" w="23976" h="21600">
                <a:moveTo>
                  <a:pt x="0" y="0"/>
                </a:moveTo>
                <a:lnTo>
                  <a:pt x="23976" y="0"/>
                </a:lnTo>
                <a:lnTo>
                  <a:pt x="22576" y="1400"/>
                </a:lnTo>
                <a:lnTo>
                  <a:pt x="1400" y="1400"/>
                </a:lnTo>
                <a:close/>
              </a:path>
              <a:path fill="darken" w="23976" h="21600">
                <a:moveTo>
                  <a:pt x="23976" y="0"/>
                </a:moveTo>
                <a:lnTo>
                  <a:pt x="23976" y="21600"/>
                </a:lnTo>
                <a:lnTo>
                  <a:pt x="22576" y="20200"/>
                </a:lnTo>
                <a:lnTo>
                  <a:pt x="22576" y="1400"/>
                </a:lnTo>
                <a:close/>
              </a:path>
              <a:path fill="darkenLess" w="23976" h="21600">
                <a:moveTo>
                  <a:pt x="239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76" y="20200"/>
                </a:lnTo>
                <a:close/>
              </a:path>
              <a:path fill="lighten" w="239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76" h="21600">
                <a:moveTo>
                  <a:pt x="4982" y="3794"/>
                </a:moveTo>
                <a:lnTo>
                  <a:pt x="18994" y="10800"/>
                </a:lnTo>
                <a:lnTo>
                  <a:pt x="498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0" y="4005360"/>
            <a:ext cx="3168720" cy="2255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1" dur="indefinite" restart="never" nodeType="tmRoot">
          <p:childTnLst>
            <p:seq>
              <p:cTn id="172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4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197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0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8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0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213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22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2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3492360" y="486900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ля дя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В каких окончаниях пишется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Georgia"/>
              </a:rPr>
              <a:t>эта буква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8360" y="981000"/>
            <a:ext cx="19429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гол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3564000" y="1557360"/>
            <a:ext cx="1871640" cy="19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0" spc="-1" strike="noStrike">
                <a:solidFill>
                  <a:srgbClr val="ff0000"/>
                </a:solidFill>
                <a:latin typeface="Georgia"/>
              </a:rPr>
              <a:t>И</a:t>
            </a:r>
            <a:endParaRPr b="0" lang="en-US" sz="1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867280" y="1916280"/>
            <a:ext cx="208620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кор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5280" y="2781360"/>
            <a:ext cx="2305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исьмо дяд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348000" y="3860640"/>
            <a:ext cx="2160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 Фёдор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6516720" y="5013360"/>
            <a:ext cx="208908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двор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3348000" y="5877000"/>
            <a:ext cx="208764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пляс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96000" y="5950080"/>
            <a:ext cx="208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ез рад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7524720" y="59500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932360" y="486900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588000" y="1052640"/>
            <a:ext cx="201636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 земл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27640" y="2924280"/>
            <a:ext cx="194328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д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1844640"/>
            <a:ext cx="201636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глуш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6012000" y="4005360"/>
            <a:ext cx="2447640" cy="57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т смелост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028000" y="400536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1280" y="1844640"/>
            <a:ext cx="358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885080" y="105264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667640" y="2924280"/>
            <a:ext cx="3589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2"/>
          <a:srcRect l="0" t="0" r="0" b="42386"/>
          <a:stretch/>
        </p:blipFill>
        <p:spPr>
          <a:xfrm>
            <a:off x="0" y="3789360"/>
            <a:ext cx="3313080" cy="2793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6" dur="indefinite" restart="never" nodeType="tmRoot">
          <p:childTnLst>
            <p:seq>
              <p:cTn id="25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58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9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1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3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7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1" restart="whenNotActive" nodeType="interactiveSeq" fill="hold">
                <p:stCondLst>
                  <p:cond evt="onClick">
                    <p:tgtEl>
                      <p:spTgt spid="305"/>
                    </p:tgtEl>
                  </p:cond>
                </p:stCondLst>
                <p:childTnLst>
                  <p:par>
                    <p:cTn id="282" fill="hold">
                      <p:stCondLst>
                        <p:cond evt="onClick">
                          <p:tgtEl>
                            <p:spTgt spid="305"/>
                          </p:tgtEl>
                        </p:cond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5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87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9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290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3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9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7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1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3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5" restart="whenNotActive" nodeType="interactiveSeq" fill="hold">
                <p:stCondLst>
                  <p:cond evt="onClick">
                    <p:tgtEl>
                      <p:spTgt spid="308"/>
                    </p:tgtEl>
                  </p:cond>
                </p:stCondLst>
                <p:childTnLst>
                  <p:par>
                    <p:cTn id="306" fill="hold">
                      <p:stCondLst>
                        <p:cond evt="onClick">
                          <p:tgtEl>
                            <p:spTgt spid="308"/>
                          </p:tgtEl>
                        </p:cond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7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18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3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324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9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330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5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336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10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ct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Приезжайте к нам </a:t>
            </a:r>
            <a:br>
              <a:rPr sz="4400"/>
            </a:br>
            <a:r>
              <a:rPr b="1" lang="ru-RU" sz="4400" spc="-1" strike="noStrike">
                <a:solidFill>
                  <a:srgbClr val="ffffff"/>
                </a:solidFill>
                <a:latin typeface="Bodoni MT Black"/>
              </a:rPr>
              <a:t>в Простоквашино</a:t>
            </a:r>
            <a:r>
              <a:rPr b="0" lang="ru-RU" sz="4400" spc="-1" strike="noStrike">
                <a:solidFill>
                  <a:srgbClr val="ffffff"/>
                </a:solidFill>
                <a:latin typeface="Bodoni MT Black"/>
              </a:rPr>
              <a:t>!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2268360" y="1700280"/>
            <a:ext cx="4896000" cy="432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77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8" dur="770" fill="hold"/>
                                        <p:tgtEl>
                                          <p:spTgt spid="32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50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52" dur="77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2000"/>
                            </p:stCondLst>
                            <p:childTnLst>
                              <p:par>
                                <p:cTn id="3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8T13:50:46Z</dcterms:created>
  <dc:creator>Таня</dc:creator>
  <dc:description/>
  <dc:language>en-US</dc:language>
  <cp:lastModifiedBy>1</cp:lastModifiedBy>
  <dcterms:modified xsi:type="dcterms:W3CDTF">2010-12-06T12:14:17Z</dcterms:modified>
  <cp:revision>6</cp:revision>
  <dc:subject/>
  <dc:title>Слайд 1</dc:title>
</cp:coreProperties>
</file>