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8E0-921A-42BC-8291-8BBF0DA8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27B-189E-452D-8EE8-2D590C18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EF0-C276-45F1-A24F-CC30D66F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F07-66FC-48D1-A180-2E83B362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4320-14EF-430D-AF31-6D60A6AD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ED82-39B9-4B36-B90E-5D04191F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29B5-D680-48DF-85AD-04E1466A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1DAC-0742-45E5-80D4-653DDF4D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913B-BF3E-46B4-B687-9B2D8B66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E4E7-53BB-4094-976C-D3669958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3315-EF4E-4D81-81A5-44218EF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E86-9178-40BA-B881-CAC064F7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532F-6083-4FA3-BEB7-64668807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449F-728F-4544-A585-D94BBFB2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D9EA-B7EC-4A7D-8ADF-F9DC6F74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2279-1EAE-435B-8A0A-ADC52DE1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8C26-0EA7-4DD1-A7D0-A2619840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B88-C159-4440-BD17-653DB82D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87B-315B-4FFA-928C-B11F9CB2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E27-311D-4C59-B6CF-51A97853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996-FDE5-4692-8A1C-C11C8F10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BA7-A816-42F1-B17A-2A33384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C45-FDB5-4F83-AE0C-42A296C6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A8C-D99B-45EE-AAD4-9642111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E749-4F9F-49E6-91F7-FAC2ADFEDD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E802-F64C-468D-BADE-0EC88063837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новационные технологии в автомобилестроени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33744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чины инноваций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читается, что ужесточение конкуренции на мировом рынке заставит автомобильные фирмы интенсифицировать научные разработки, обеспечивающие применение новых технологий. Рассматриваются инновационные технологии в области силового привода и безопасност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pt car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каждым днем на свете появляется все большее количество новых моделей автомобилей. Каждый из них отличается своей причудливой формой или типом топли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00720" y="2809800"/>
            <a:ext cx="464328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добство при вожд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 фирма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yota Motors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 Японии первыми разработали систему «контроля слепых зон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46432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мецкое качество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 примеру, концепт Volkswagen Ego вообще исключает обязанность водителя смотреть на дорогу, тем более что как такового лобового стекла у автомобиля вовсе нет. Концепт в изобилии оснащен датчиками, камерами, которые получше водителя следят за дорожной ситуацией, а управление автомобилем осуществляет «умная» система навигаци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24000" y="3897360"/>
            <a:ext cx="53294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лектромобил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последнее время стало появляться все больше электромобилей, работающих на электричестве, или авто с гибридными двигателям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да далеко не все электрокары являются маломощными. К примеру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di E-Tron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мея 4 электродвигателя обладает мощностью 373 л.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08560" y="2362320"/>
            <a:ext cx="2863800" cy="1911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05320" y="4300560"/>
            <a:ext cx="36594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езопасность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 больше инноваций появляется в области безопасности водителя и автомобил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последнее время стали чаще использоваться такие системы как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OFIX(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ля крепления детских кресе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и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IPS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для предотвращения травмирования ног водителя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2852640"/>
            <a:ext cx="44622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ключени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 каждым днем появляется все больше инноваций в области автомобилестроения, а это значит, что время, когда люди «пересядут» на автомобили будущего уже близко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95640" y="3789360"/>
            <a:ext cx="5545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19:12Z</dcterms:created>
  <dc:creator>Admin</dc:creator>
  <dc:description/>
  <dc:language>en-US</dc:language>
  <cp:lastModifiedBy>Admin</cp:lastModifiedBy>
  <dcterms:modified xsi:type="dcterms:W3CDTF">2011-12-11T17:59:24Z</dcterms:modified>
  <cp:revision>3</cp:revision>
  <dc:subject/>
  <dc:title>Инновации в автомобилестроении.</dc:title>
</cp:coreProperties>
</file>