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CAC-C11E-4C99-9CF2-E1E333A3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060-444B-4F9A-A2ED-2935143D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2FD-CF46-4CEC-B4CA-8682A0A6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7B0-D001-44A4-9862-7429589A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C9C6-04F7-40A9-BEE4-D4D76040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5F9-F49B-436F-8A40-D1C2E96D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1DC1-BBAB-4024-A77A-7667A685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0C64-2C98-47A0-B44A-54B53B33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D74-6E32-4C0C-BC62-6F2007A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4929-2161-40C4-9C52-BD86F35F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72C-5A84-4A3B-8BE9-9EAD65C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652-506D-4742-A113-BC864577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934F-7F1E-4F7E-9954-7A48A843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1FA-4F2C-4FCE-BEB8-6C12C81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9BF3-F401-4F0A-B33B-843E32EC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4658-28E2-47D7-B14E-D875B45B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F8C8-11FD-4C7D-93AE-CE4DBCFC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D01-C00A-422D-9373-4572585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7FC-3CAB-46FD-AFA1-DF66D17F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B58-1E7D-4345-85DB-0F4E38A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0D7-9E20-445D-B44F-FCC99DFE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850-B63E-4C3E-A9D7-CBC41D4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0AE-3185-472E-B29D-404C626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2BF-34FA-45F2-95F1-A2C0B1C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E8FA-FB83-400F-9034-02E1FE0696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76A6-7C75-4C4B-AD49-561530A5AD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новационные технологии в автомобилестроен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33744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чины инноваций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читается, что ужесточение конкуренции на мировом рынке заставит автомобильные фирмы интенсифицировать научные разработки, обеспечивающие применение новых технологий. Рассматриваются инновационные технологии в области силового привода и безопас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 ca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каждым днем на свете появляется все большее количество новых моделей автомобилей. Каждый из них отличается своей причудливой формой или типом топли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0720" y="2809800"/>
            <a:ext cx="4643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добство при вожд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 фирм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yota Motors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 Японии первыми разработали систему «контроля слепых зон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6432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мецкое каче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 примеру, концепт Volkswagen Ego вообще исключает обязанность водителя смотреть на дорогу, тем более что как такового лобового стекла у автомобиля вовсе нет. Концепт в изобилии оснащен датчиками, камерами, которые получше водителя следят за дорожной ситуацией, а управление автомобилем осуществляет «умная» система навиг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3897360"/>
            <a:ext cx="532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лектромобил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оследнее время стало появляться все больше электромобилей, работающих на электричестве, или авто с гибридными двигателя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да далеко не все электрокары являются маломощными. К примеру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di E-Tron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мея 4 электродвигателя обладает мощностью 373 л.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08560" y="2362320"/>
            <a:ext cx="2863800" cy="191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05320" y="4300560"/>
            <a:ext cx="36594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зопасность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больше инноваций появляется в области безопасности водителя и автомоби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оследнее время стали чаще использоваться такие системы как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OFIX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ля крепления детских кресе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PS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для предотвращения травмирования ног водителя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2852640"/>
            <a:ext cx="44622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ключе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 каждым днем появляется все больше инноваций в области автомобилестроения, а это значит, что время, когда люди «пересядут» на автомобили будущего уже близк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55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9:12Z</dcterms:created>
  <dc:creator>Admin</dc:creator>
  <dc:description/>
  <dc:language>en-US</dc:language>
  <cp:lastModifiedBy>Admin</cp:lastModifiedBy>
  <dcterms:modified xsi:type="dcterms:W3CDTF">2011-12-11T17:59:24Z</dcterms:modified>
  <cp:revision>3</cp:revision>
  <dc:subject/>
  <dc:title>Инновации в автомобилестроении.</dc:title>
</cp:coreProperties>
</file>