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72A-3A7C-4EC4-8D9E-EF5BDA51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2EE-915E-4BE9-B879-7DCB42E0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2FA-FC6A-4086-9F80-A505671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9D6-CCB5-4699-AC6E-01997EF9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176F-3F75-42A9-9A0B-EE128F60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46B4-DC5B-4C79-AA4A-305DFA9A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4D3F-C84D-46D0-9B0F-5DA0B84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E186-9C3F-47E5-A2AB-604D7D8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D18-AA43-4C95-BDC6-5D904C61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299E-B688-4292-AAAE-42A4AA3C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6389-A597-4937-9E35-64EB87D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044-6FFA-47E9-BB96-23D6E0DD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C7F0-11C8-4C44-881A-6E3ACB9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C99A-109B-440F-989E-4FF8265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E91A-D472-4CCD-8C95-E4C97D14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FC6-C9B7-42F3-AF77-0704F145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D29-F27F-4D50-B40B-BD88B293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768-7D00-4CA7-87E2-00AAF6A5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5CC-C89B-4D63-9709-2FE9424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410-B3AD-4A74-8C02-B3E88EF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5B6-61C4-4472-879E-B95B298D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56E-33AA-40CD-81AD-63B8750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B0A-EC79-4AD8-BCAE-3CED425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E0F-A812-46C6-BB00-7CE8D27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468E-1EDB-46C4-800F-57A71724C7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597-5357-4A4B-97A9-DC85A430BD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новационные технологии в автомобилестроен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33744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чины инноваций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читается, что ужесточение конкуренции на мировом рынке заставит автомобильные фирмы интенсифицировать научные разработки, обеспечивающие применение новых технологий. Рассматриваются инновационные технологии в области силового привода и безопас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 ca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каждым днем на свете появляется все большее количество новых моделей автомобилей. Каждый из них отличается своей причудливой формой или типом топли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0720" y="2809800"/>
            <a:ext cx="4643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добство при вожд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 фирм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yota Motors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 Японии первыми разработали систему «контроля слепых зон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6432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мецкое каче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 примеру, концепт Volkswagen Ego вообще исключает обязанность водителя смотреть на дорогу, тем более что как такового лобового стекла у автомобиля вовсе нет. Концепт в изобилии оснащен датчиками, камерами, которые получше водителя следят за дорожной ситуацией, а управление автомобилем осуществляет «умная» система навигац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3897360"/>
            <a:ext cx="532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лектромобил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оследнее время стало появляться все больше электромобилей, работающих на электричестве, или авто с гибридными двигателя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да далеко не все электрокары являются маломощными. К примеру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di E-Tron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мея 4 электродвигателя обладает мощностью 373 л.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08560" y="2362320"/>
            <a:ext cx="2863800" cy="191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05320" y="4300560"/>
            <a:ext cx="36594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зопасность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больше инноваций появляется в области безопасности водителя и автомоби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последнее время стали чаще использоваться такие системы как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OFIX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ля крепления детских кресе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PS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для предотвращения травмирования ног водителя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2852640"/>
            <a:ext cx="44622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ключе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 каждым днем появляется все больше инноваций в области автомобилестроения, а это значит, что время, когда люди «пересядут» на автомобили будущего уже близк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55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9:12Z</dcterms:created>
  <dc:creator>Admin</dc:creator>
  <dc:description/>
  <dc:language>en-US</dc:language>
  <cp:lastModifiedBy>Admin</cp:lastModifiedBy>
  <dcterms:modified xsi:type="dcterms:W3CDTF">2011-12-11T17:59:24Z</dcterms:modified>
  <cp:revision>3</cp:revision>
  <dc:subject/>
  <dc:title>Инновации в автомобилестроении.</dc:title>
</cp:coreProperties>
</file>