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716-2CB6-4DA3-BC19-EDC7EE69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332-A946-4B43-8E29-C1BC17DA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5E6-3A87-43EF-BC57-9E6EB30A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4FE-03BC-464B-A61A-EA8D22E6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2A9-CBA2-49AC-94FB-4DB67C95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BCC-9252-4CE3-AB36-034F2DE3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C61-3BDC-4266-A4E6-A0EF6AEA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51C-2705-482C-A0D0-8A2B22BF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550-D432-44D8-B331-7DC8208A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B96-7369-4AF2-A67B-EF68E258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8DB-A8FB-44B5-B8A4-F874438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EBF-139E-4718-A397-05BA91E8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71DF-D582-48C1-9550-D3646E5DF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rod.tomsk.ru/i/u/8897/prom_juravleva.gif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зготовление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ымковской игр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1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Картинка 6 из 260">
            <a:hlinkClick r:id="rId1"/>
          </p:cNvPr>
          <p:cNvPicPr/>
          <p:nvPr/>
        </p:nvPicPr>
        <p:blipFill>
          <a:blip r:embed="rId2"/>
          <a:srcRect l="0" t="12095" r="0" b="0"/>
          <a:stretch/>
        </p:blipFill>
        <p:spPr>
          <a:xfrm>
            <a:off x="0" y="214200"/>
            <a:ext cx="57070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D:\Лена\000086.jpg"/>
          <p:cNvPicPr/>
          <p:nvPr/>
        </p:nvPicPr>
        <p:blipFill>
          <a:blip r:embed="rId1"/>
          <a:stretch/>
        </p:blipFill>
        <p:spPr>
          <a:xfrm>
            <a:off x="-184320" y="0"/>
            <a:ext cx="932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Лена\5453-0-0-2557.jpg"/>
          <p:cNvPicPr/>
          <p:nvPr/>
        </p:nvPicPr>
        <p:blipFill>
          <a:blip r:embed="rId1"/>
          <a:srcRect l="21260" t="0" r="27878" b="0"/>
          <a:stretch/>
        </p:blipFill>
        <p:spPr>
          <a:xfrm>
            <a:off x="500040" y="0"/>
            <a:ext cx="35719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D:\Лена\427217.jpg"/>
          <p:cNvPicPr/>
          <p:nvPr/>
        </p:nvPicPr>
        <p:blipFill>
          <a:blip r:embed="rId2"/>
          <a:srcRect l="25197" t="0" r="26772" b="0"/>
          <a:stretch/>
        </p:blipFill>
        <p:spPr>
          <a:xfrm>
            <a:off x="5357880" y="617400"/>
            <a:ext cx="2997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15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Лена\90318878_0007011Nachinalosvsjososvistulekdljazabavydetej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94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Лена\c3f369d266a0.jpg"/>
          <p:cNvPicPr/>
          <p:nvPr/>
        </p:nvPicPr>
        <p:blipFill>
          <a:blip r:embed="rId2"/>
          <a:srcRect l="10236" t="17126" r="16535" b="0"/>
          <a:stretch/>
        </p:blipFill>
        <p:spPr>
          <a:xfrm>
            <a:off x="4786200" y="0"/>
            <a:ext cx="43578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Лена\87478143_1337766033_5396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Лена\1.jpg"/>
          <p:cNvPicPr/>
          <p:nvPr/>
        </p:nvPicPr>
        <p:blipFill>
          <a:blip r:embed="rId1"/>
          <a:stretch/>
        </p:blipFill>
        <p:spPr>
          <a:xfrm>
            <a:off x="4417920" y="0"/>
            <a:ext cx="47260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D:\Лена\IMG_0006_1.jpg"/>
          <p:cNvPicPr/>
          <p:nvPr/>
        </p:nvPicPr>
        <p:blipFill>
          <a:blip r:embed="rId2"/>
          <a:srcRect l="15827" t="0" r="18662" b="0"/>
          <a:stretch/>
        </p:blipFill>
        <p:spPr>
          <a:xfrm>
            <a:off x="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Лена\0002-002-Karapuz-didaktika.jpg"/>
          <p:cNvPicPr/>
          <p:nvPr/>
        </p:nvPicPr>
        <p:blipFill>
          <a:blip r:embed="rId1"/>
          <a:stretch/>
        </p:blipFill>
        <p:spPr>
          <a:xfrm>
            <a:off x="5000760" y="285840"/>
            <a:ext cx="4143240" cy="6054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:\Лена\cc1e4620f8-300x300.jpg"/>
          <p:cNvPicPr/>
          <p:nvPr/>
        </p:nvPicPr>
        <p:blipFill>
          <a:blip r:embed="rId2"/>
          <a:stretch/>
        </p:blipFill>
        <p:spPr>
          <a:xfrm>
            <a:off x="0" y="214200"/>
            <a:ext cx="514368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3"/>
          <p:cNvPicPr/>
          <p:nvPr/>
        </p:nvPicPr>
        <p:blipFill>
          <a:blip r:embed="rId1"/>
          <a:srcRect l="0" t="0" r="0" b="2620"/>
          <a:stretch/>
        </p:blipFill>
        <p:spPr>
          <a:xfrm>
            <a:off x="0" y="-243000"/>
            <a:ext cx="9540720" cy="7148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15960" y="649116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а Вятка. На том берегу располагалась раньше Дымковская слоб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2557440" y="6308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мковская слободка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5654520" cy="6924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5867280" y="0"/>
            <a:ext cx="3276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ую глину на игрушки собирали обычно весной после половодья на реке Вятке и смешивали ее с мелким, чистым речным песком, чтобы не трескалась при обжиге. Подготовка глины к работе не простое дело: ее рубят лопатой, множество раз переворачивают, заливают водой, снова перелопачивают, а раньше и ногами месили. Готовую глину раскатывают на шарики, из которых делают блины и сворачивают известным приемом основную форму нужной игр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6"/>
          <p:cNvPicPr/>
          <p:nvPr/>
        </p:nvPicPr>
        <p:blipFill>
          <a:blip r:embed="rId1"/>
          <a:srcRect l="0" t="0" r="0" b="2968"/>
          <a:stretch/>
        </p:blipFill>
        <p:spPr>
          <a:xfrm>
            <a:off x="0" y="0"/>
            <a:ext cx="5357880" cy="6872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508720" y="0"/>
            <a:ext cx="3635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нут блин, и получится колокол юбки для барыни. К ней «примажут» стан, ручки, голов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"/>
          <p:cNvPicPr/>
          <p:nvPr/>
        </p:nvPicPr>
        <p:blipFill>
          <a:blip r:embed="rId1"/>
          <a:srcRect l="0" t="0" r="0" b="3958"/>
          <a:stretch/>
        </p:blipFill>
        <p:spPr>
          <a:xfrm>
            <a:off x="0" y="0"/>
            <a:ext cx="5345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5651640" y="0"/>
            <a:ext cx="349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сят налепными оборками, витыми косицами, кокошником, шляпкой. Следы &lt;примазки&gt; при всем желании не заметишь: острой лучинкой мастерица ловко обрезает лишние кусочки глины, а сырой тряпкой все время «оглаживает» игрушку, и получается она ровная, гладкая, будто не руками сделанная, а отлитая в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53578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364000" y="0"/>
            <a:ext cx="378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грушка еще не готова. После лепки ее несколько дней сушили, затем 3-4 часа обжигали в русской печи и остужали. Сейчас для обжига используют муфельные п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0"/>
          <p:cNvPicPr/>
          <p:nvPr/>
        </p:nvPicPr>
        <p:blipFill>
          <a:blip r:embed="rId1"/>
          <a:srcRect l="3990" t="4535" r="3420" b="8063"/>
          <a:stretch/>
        </p:blipFill>
        <p:spPr>
          <a:xfrm>
            <a:off x="0" y="0"/>
            <a:ext cx="4786200" cy="5111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4786200" y="-50760"/>
            <a:ext cx="435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этап работы – обеливание. Игрушки погружали в раствор мелко молотого мела, разведенного на молоке, и ставили на сквозняк. Молоко быстро скисало, и на поверхности изделия образовывалась пленка казеинового клея, лучшего закрепителя мела. Красная глиняная игрушка превращалась в ослепительно белую и была готова для росписи. Узоры на игрушках наводили традиционные, что восходят к древним истокам: клетки, полоски, кружки, овалы, т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Admin</cp:lastModifiedBy>
  <dcterms:modified xsi:type="dcterms:W3CDTF">2012-10-25T14:48:20Z</dcterms:modified>
  <cp:revision>15</cp:revision>
  <dc:subject/>
  <dc:title>Слайд 1</dc:title>
</cp:coreProperties>
</file>