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92D-DD52-441F-A0C3-C5EBDD0C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8C1-5AC5-4595-8DC5-D90C2D4E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732-1B79-456B-A1F1-1BB48BFF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E10-B559-4BCF-9FE5-1C16677B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EF2-3E1B-4006-A583-8F95A667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0E8-2751-41C5-B974-BEE5AE79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012-229A-4D67-AA46-7BB08F4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D63-73FC-45C0-87D1-8B40EC4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B06-EAC9-4D0F-9005-CCF7E57E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0B2-A37F-4201-85B4-DFE65EA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112-30BB-47EC-9665-BE74811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3AF-55C9-41DA-B22C-5502F3EC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4615-B46E-4009-88E9-84892DC9F3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ическая разработка по дисциплине «Математика»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на тему «Физический и геометрический смысл производно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4005000"/>
            <a:ext cx="79912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а: преподаватель высшей категории Викул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ПОУ  «колледж «Красносельс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 20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на угловой коэффициент касатель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Дана 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3x²+5x-6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ординаты точки её графика, в которой угловой коэффициент касательной к нему равен «-7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Найдите угловой коэффициент касательной, проведённой к графику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4Cos x+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с абсцисс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/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BF7-CBA2-4745-9824-3ABFFC7F05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кас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‘(x)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5;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условию Ккас = -7, то 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х + 5 = -7; х = -2;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‘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*(-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5*(-2) – 6 = -4;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2; -4)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а ка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кас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‘(x)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Cosx + Sinx;               f ‘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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6 *Cos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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Sin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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6*1/2 + √3/2 = (6 + √3)/2 ;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к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6 + √3)/2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2ED-E482-4542-9223-43EC5ABD4A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висимость знаков производной от угла наклона каса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6219720" cy="2238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76360" y="2276640"/>
            <a:ext cx="6219720" cy="223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rcRect l="39374" t="20997" r="7874" b="0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14D-D8DD-400A-A1B6-7C4FB7388B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хождение значения производной в заданной точке по графику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359892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84720" y="2924280"/>
            <a:ext cx="46069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CB2-9999-40D1-A8E8-EDB77451FC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Century Schoolbook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= tg ACB = AB/BC = 10/5 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Century Schoolbook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g AB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=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/BC = - 3/12 =  -0,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3F6-3BA1-434A-BEDA-C84A17B8F1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авнение касатель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а функция y = f (x), которая имеет производную y = f ’(x) на отрез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a; b]. Тогда в любой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∈ (a; b) к графику этой функции можно провести касательную, которая задается уравнением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y = f ’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·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+ f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f ’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значение производной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f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значение сам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450-67EA-43D4-BEB0-988B9F7EBE1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ить уравнение касательной к графику функции   f (x) = 2sin x + 5 в точк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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9640" y="2349360"/>
            <a:ext cx="76438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f (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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) = 2sin (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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) + 5 = 2 + 5 = 7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 ’(x) = (2sin x + 5)’ = 2cos x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 ’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f ’(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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) = 2cos (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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) =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е касательной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y = 0 · (x −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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2) + 7 ⇒ 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B68-022B-4A68-AD7E-0E3D2F7AB5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язь свойств функции с её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25197" r="0" b="0"/>
          <a:stretch/>
        </p:blipFill>
        <p:spPr>
          <a:xfrm>
            <a:off x="611280" y="2060640"/>
            <a:ext cx="797868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C3C-AE63-4497-8CB2-1186BE2B1BF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следовать функцию на монотонность и экстремумы по графику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0" r="0" b="14426"/>
          <a:stretch/>
        </p:blipFill>
        <p:spPr>
          <a:xfrm>
            <a:off x="1908000" y="2593800"/>
            <a:ext cx="5599440" cy="36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A17-0436-409F-8D5A-43CF527209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f(x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ет на промежутк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-4]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4]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f(x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бывает на промежутк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= -4 и Х = 4 – точки максим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= -1 –точка миним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93E-ADAC-43F1-80AB-480B45E0F7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производной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смысл производной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касательной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войств функции с  её       производной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8E5-5155-4349-9642-A195475A85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ной функции в данной точке называется предел отношения приращения функции к приращению аргумента при условии ,что приращение аргумента стремится к н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8226" t="97493" r="0" b="0"/>
          <a:stretch/>
        </p:blipFill>
        <p:spPr>
          <a:xfrm>
            <a:off x="360360" y="2655720"/>
            <a:ext cx="4011480" cy="2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6696000" cy="13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EFF-F3AE-4177-BE08-3FCD5C7432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0" t="0" r="0" b="11737"/>
          <a:stretch/>
        </p:blipFill>
        <p:spPr>
          <a:xfrm>
            <a:off x="539640" y="836640"/>
            <a:ext cx="8028000" cy="51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779-E152-41CC-959C-BD156BC673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ческий смысл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материальная точка движется по закону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(t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скорость её движе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 (t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а производн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‘ (t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 (t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‘ (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ная от скорости – ускор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(t) = V‘ (t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есть ускорение равно второй производной от функции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t) = V‘ (t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“ (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BF5-DD9C-45ED-BDC1-AD55BB38AF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на физический смысл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Тело движется по прямой так, что расстояние от начальной точки изменяется по закон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5t +0,2t² -6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), г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ремя движения в секунда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йдите скорость тела через 5 секунд после начала дви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082-97F0-4B4D-9F3D-D41331872B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7320" y="7920"/>
            <a:ext cx="7569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Тело движется по прямой так, что расстояние от начальной точки изменяется по закон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t³ - 12t² + 7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), г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ремя движения в секундах. Через сколько секунд после начала движения ускорение тела будет равно 36 м/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Две материальные точки движутся по закона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,5t² -6t + 1;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S2 =0,5t² +2t -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акой момент времени их скорости будут рав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37F-0B83-4BEA-BE30-3B9487064E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739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t) = S‘(t) = 5+0,6t²;                        V(5) = 5+0,6*5² = 20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/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t) = S‘(t)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² -24t; a(t) = V‘(t) = S“(t) = 12t – 24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услови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t) = 36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t – 24 = 36;       t = 5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1(t) = S‘1(t) = 5t - 6;                      V2(t) = S‘2(t) = t+ 2;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услови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1(t) =V2(t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5t – 6 = t +2; t = 2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107-7D3F-4AF1-8C21-3B5C825913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 состоит в том, что значение производной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f (x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 угловому коэффициенту касательной к графику функции в точке с абсцисс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4941720"/>
            <a:ext cx="4824360" cy="98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D26-F8BF-4F8C-864C-6EA9655A3C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16:51:34Z</dcterms:created>
  <dc:creator>Викулина Е.В.</dc:creator>
  <dc:description/>
  <dc:language>en-US</dc:language>
  <cp:lastModifiedBy>User</cp:lastModifiedBy>
  <dcterms:modified xsi:type="dcterms:W3CDTF">2013-11-18T12:11:43Z</dcterms:modified>
  <cp:revision>8</cp:revision>
  <dc:subject/>
  <dc:title>Производная</dc:title>
</cp:coreProperties>
</file>