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BDA-DC35-439C-BAF9-6626ADF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B5A-C42E-4ACF-981D-0A7D380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E0D-C6C9-4B7B-A614-FFDEC689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186-AAD4-44B4-8E19-EDCE6994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9E03-9962-423C-9C85-5FA5D0AE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D0B-4DF3-449F-A694-F06E1EAA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24DB-6537-4CC4-B764-5F1989DC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380-BB25-4ED2-8411-6EAE513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DC82-6BD8-4A6E-AABA-0A27EC3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355-4F84-4960-A669-D9299BE2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D3C9-EF7A-43FC-8497-55BCEA70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C04-37ED-49A7-BA2E-8E1E486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A82-F0D5-4762-9251-30F76A1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4BE9-F56F-4F30-9550-355EEA4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DEF2-892A-4660-A768-4B2F13B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79FD-2D2E-4EC9-B06B-C0E74E39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C56F-709D-4749-80D3-609C33B0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4E1-63D7-4151-B008-C89BC6C1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71F-B2FC-493A-8243-A4735D1F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417-4B4A-4C38-8D26-F960A26E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F36-7D4A-45CC-8357-7C7502E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F20-2741-4DDF-B837-9887A2E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624-903A-4519-9623-DB92CF0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9B8-2D05-459A-B40A-64F6351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89FA-D66D-4683-B72C-0BD92C76C8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F05-83A8-4C21-819E-59FF4AE656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5600" y="1147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Опорные схемы по теме КИНЕМАТИ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одаватель физики Бардонова И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fizika.lang-gimn6.edusite.ru/DswMedia/9.jpg"/>
          <p:cNvPicPr/>
          <p:nvPr/>
        </p:nvPicPr>
        <p:blipFill>
          <a:blip r:embed="rId1"/>
          <a:stretch/>
        </p:blipFill>
        <p:spPr>
          <a:xfrm>
            <a:off x="468360" y="368280"/>
            <a:ext cx="82072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http://fizika.lang-gimn6.edusite.ru/DswMedia/1.jpg"/>
          <p:cNvPicPr/>
          <p:nvPr/>
        </p:nvPicPr>
        <p:blipFill>
          <a:blip r:embed="rId1"/>
          <a:stretch/>
        </p:blipFill>
        <p:spPr>
          <a:xfrm>
            <a:off x="90000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http://fizika.lang-gimn6.edusite.ru/DswMedia/2.jpg"/>
          <p:cNvPicPr/>
          <p:nvPr/>
        </p:nvPicPr>
        <p:blipFill>
          <a:blip r:embed="rId1"/>
          <a:stretch/>
        </p:blipFill>
        <p:spPr>
          <a:xfrm>
            <a:off x="826920" y="396720"/>
            <a:ext cx="77774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http://fizika.lang-gimn6.edusite.ru/DswMedia/3.jpg"/>
          <p:cNvPicPr/>
          <p:nvPr/>
        </p:nvPicPr>
        <p:blipFill>
          <a:blip r:embed="rId1"/>
          <a:stretch/>
        </p:blipFill>
        <p:spPr>
          <a:xfrm>
            <a:off x="539640" y="366840"/>
            <a:ext cx="813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http://fizika.lang-gimn6.edusite.ru/DswMedia/4.jpg"/>
          <p:cNvPicPr/>
          <p:nvPr/>
        </p:nvPicPr>
        <p:blipFill>
          <a:blip r:embed="rId1"/>
          <a:stretch/>
        </p:blipFill>
        <p:spPr>
          <a:xfrm>
            <a:off x="539640" y="450720"/>
            <a:ext cx="79930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http://fizika.lang-gimn6.edusite.ru/DswMedia/5.jpg"/>
          <p:cNvPicPr/>
          <p:nvPr/>
        </p:nvPicPr>
        <p:blipFill>
          <a:blip r:embed="rId1"/>
          <a:stretch/>
        </p:blipFill>
        <p:spPr>
          <a:xfrm>
            <a:off x="611280" y="460440"/>
            <a:ext cx="79214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http://fizika.lang-gimn6.edusite.ru/DswMedia/6.jpg"/>
          <p:cNvPicPr/>
          <p:nvPr/>
        </p:nvPicPr>
        <p:blipFill>
          <a:blip r:embed="rId1"/>
          <a:stretch/>
        </p:blipFill>
        <p:spPr>
          <a:xfrm>
            <a:off x="611280" y="422280"/>
            <a:ext cx="79930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http://fizika.lang-gimn6.edusite.ru/DswMedia/7.jpg"/>
          <p:cNvPicPr/>
          <p:nvPr/>
        </p:nvPicPr>
        <p:blipFill>
          <a:blip r:embed="rId1"/>
          <a:stretch/>
        </p:blipFill>
        <p:spPr>
          <a:xfrm>
            <a:off x="90000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http://fizika.lang-gimn6.edusite.ru/DswMedia/8.jpg"/>
          <p:cNvPicPr/>
          <p:nvPr/>
        </p:nvPicPr>
        <p:blipFill>
          <a:blip r:embed="rId1"/>
          <a:stretch/>
        </p:blipFill>
        <p:spPr>
          <a:xfrm>
            <a:off x="611280" y="422280"/>
            <a:ext cx="792144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5:20:25Z</dcterms:created>
  <dc:creator>пользователь</dc:creator>
  <dc:description/>
  <dc:language>en-US</dc:language>
  <cp:lastModifiedBy>пользователь</cp:lastModifiedBy>
  <dcterms:modified xsi:type="dcterms:W3CDTF">2013-11-22T15:29:22Z</dcterms:modified>
  <cp:revision>1</cp:revision>
  <dc:subject/>
  <dc:title>Опорные схемы по теме КИНЕМАТИКА</dc:title>
</cp:coreProperties>
</file>