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D32-4B58-469A-A4AB-DF23E02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C98-F561-4507-BD87-41C3B73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10D-6B1A-4AEA-A72F-30FDDF39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A4D-0EC2-4A92-B825-E31AF8FF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3DA-F735-477F-A7CA-0F651356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807A-F879-47AF-B390-2BC92FCB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3B0D-8AEF-49CA-A694-623EBC2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8641-9383-4988-904B-9697B54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9DB8-F2F0-4672-A37D-E268483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B9B-4907-4C4D-8BD5-379830C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805-9CB6-4F5A-A194-5423539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873-8C12-412E-86F2-97061F3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E7C6-1663-4A80-BBBF-7732427B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204E-319C-46EB-A129-D438910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CEF-714B-4AC0-9E4D-38BC050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427-1450-4EEF-B7BB-C203036B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257-B6AF-4064-B5A1-98BD546F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B93-E743-4E84-A129-6A19D0F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30A-AE75-48D6-B096-9783063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028-4211-46FE-A7CF-5877141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CFE-8735-477D-8DFE-8311250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59D-3E29-428E-A472-467B5FF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16B-B67A-4AA8-B45D-D798344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4BE-E101-4FE6-88B1-034C3BD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3E4-DDDD-4BCE-851F-8EB2436FF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A878-89D9-46D8-8203-A8B3ACAFA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600" y="1147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Опорные схемы по теме КИНЕМАТИ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 физики Бардонова И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fizika.lang-gimn6.edusite.ru/DswMedia/9.jpg"/>
          <p:cNvPicPr/>
          <p:nvPr/>
        </p:nvPicPr>
        <p:blipFill>
          <a:blip r:embed="rId1"/>
          <a:stretch/>
        </p:blipFill>
        <p:spPr>
          <a:xfrm>
            <a:off x="468360" y="368280"/>
            <a:ext cx="82072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http://fizika.lang-gimn6.edusite.ru/DswMedia/1.jpg"/>
          <p:cNvPicPr/>
          <p:nvPr/>
        </p:nvPicPr>
        <p:blipFill>
          <a:blip r:embed="rId1"/>
          <a:stretch/>
        </p:blipFill>
        <p:spPr>
          <a:xfrm>
            <a:off x="90000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ttp://fizika.lang-gimn6.edusite.ru/DswMedia/2.jpg"/>
          <p:cNvPicPr/>
          <p:nvPr/>
        </p:nvPicPr>
        <p:blipFill>
          <a:blip r:embed="rId1"/>
          <a:stretch/>
        </p:blipFill>
        <p:spPr>
          <a:xfrm>
            <a:off x="826920" y="396720"/>
            <a:ext cx="77774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http://fizika.lang-gimn6.edusite.ru/DswMedia/3.jpg"/>
          <p:cNvPicPr/>
          <p:nvPr/>
        </p:nvPicPr>
        <p:blipFill>
          <a:blip r:embed="rId1"/>
          <a:stretch/>
        </p:blipFill>
        <p:spPr>
          <a:xfrm>
            <a:off x="539640" y="36684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http://fizika.lang-gimn6.edusite.ru/DswMedia/4.jpg"/>
          <p:cNvPicPr/>
          <p:nvPr/>
        </p:nvPicPr>
        <p:blipFill>
          <a:blip r:embed="rId1"/>
          <a:stretch/>
        </p:blipFill>
        <p:spPr>
          <a:xfrm>
            <a:off x="539640" y="450720"/>
            <a:ext cx="79930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http://fizika.lang-gimn6.edusite.ru/DswMedia/5.jpg"/>
          <p:cNvPicPr/>
          <p:nvPr/>
        </p:nvPicPr>
        <p:blipFill>
          <a:blip r:embed="rId1"/>
          <a:stretch/>
        </p:blipFill>
        <p:spPr>
          <a:xfrm>
            <a:off x="611280" y="460440"/>
            <a:ext cx="7921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http://fizika.lang-gimn6.edusite.ru/DswMedia/6.jpg"/>
          <p:cNvPicPr/>
          <p:nvPr/>
        </p:nvPicPr>
        <p:blipFill>
          <a:blip r:embed="rId1"/>
          <a:stretch/>
        </p:blipFill>
        <p:spPr>
          <a:xfrm>
            <a:off x="611280" y="422280"/>
            <a:ext cx="79930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ttp://fizika.lang-gimn6.edusite.ru/DswMedia/7.jpg"/>
          <p:cNvPicPr/>
          <p:nvPr/>
        </p:nvPicPr>
        <p:blipFill>
          <a:blip r:embed="rId1"/>
          <a:stretch/>
        </p:blipFill>
        <p:spPr>
          <a:xfrm>
            <a:off x="90000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http://fizika.lang-gimn6.edusite.ru/DswMedia/8.jpg"/>
          <p:cNvPicPr/>
          <p:nvPr/>
        </p:nvPicPr>
        <p:blipFill>
          <a:blip r:embed="rId1"/>
          <a:stretch/>
        </p:blipFill>
        <p:spPr>
          <a:xfrm>
            <a:off x="611280" y="42228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5:20:25Z</dcterms:created>
  <dc:creator>пользователь</dc:creator>
  <dc:description/>
  <dc:language>en-US</dc:language>
  <cp:lastModifiedBy>пользователь</cp:lastModifiedBy>
  <dcterms:modified xsi:type="dcterms:W3CDTF">2013-11-22T15:29:22Z</dcterms:modified>
  <cp:revision>1</cp:revision>
  <dc:subject/>
  <dc:title>Опорные схемы по теме КИНЕМАТИКА</dc:title>
</cp:coreProperties>
</file>