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72E-6D56-4B15-9753-E6DF8C1F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549-1800-414C-B333-81BD1274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88A-7AFD-41F8-BB48-404ADB70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8B9-77CA-4EC4-B037-BDEC1818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B35-7A49-4210-81DA-3796B9AF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BD3-4073-4B4E-8F88-546E85B1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D21-25A8-423C-92F8-BC1BF5E9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28C-D875-4CD9-B138-A490C630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EA5-21F5-46B5-9F73-4E66F3DA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0A9-0A70-4E95-9D0E-D16626BB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E8D8-C262-4F6D-BD53-6124DF7D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2B7-13A6-4FCD-89E6-62BCC387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9168-E6F9-4BEA-8457-B20344C6F1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1642680"/>
            <a:ext cx="807264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рганизация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роектной и исследовательской деятельности в шко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5157360"/>
            <a:ext cx="6400800" cy="13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Calibri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1f497d"/>
                </a:solidFill>
                <a:latin typeface="Calibri"/>
              </a:rPr>
              <a:t>МБОУ –СОШ с.Кистен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Calibri"/>
              </a:rPr>
              <a:t>Трубникова Е.Е.</a:t>
            </a:r>
            <a:r>
              <a:rPr b="0" i="1" lang="ru-RU" sz="2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428760" y="0"/>
            <a:ext cx="828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оотношение проектирования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проектного метода организации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лок-схема: перфолента 2"/>
          <p:cNvSpPr/>
          <p:nvPr/>
        </p:nvSpPr>
        <p:spPr>
          <a:xfrm>
            <a:off x="857160" y="1785960"/>
            <a:ext cx="3000600" cy="121428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ек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лок-схема: перфолента 3"/>
          <p:cNvSpPr/>
          <p:nvPr/>
        </p:nvSpPr>
        <p:spPr>
          <a:xfrm>
            <a:off x="857160" y="4214880"/>
            <a:ext cx="3000600" cy="121428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трелка вправо 4" descr=""/>
          <p:cNvPicPr/>
          <p:nvPr/>
        </p:nvPicPr>
        <p:blipFill>
          <a:blip r:embed="rId1"/>
          <a:stretch/>
        </p:blipFill>
        <p:spPr>
          <a:xfrm>
            <a:off x="3859200" y="2182680"/>
            <a:ext cx="1432080" cy="554040"/>
          </a:xfrm>
          <a:prstGeom prst="rect">
            <a:avLst/>
          </a:prstGeom>
          <a:ln w="0">
            <a:noFill/>
          </a:ln>
        </p:spPr>
      </p:pic>
      <p:pic>
        <p:nvPicPr>
          <p:cNvPr id="65" name="Стрелка вправо 5" descr=""/>
          <p:cNvPicPr/>
          <p:nvPr/>
        </p:nvPicPr>
        <p:blipFill>
          <a:blip r:embed="rId2"/>
          <a:stretch/>
        </p:blipFill>
        <p:spPr>
          <a:xfrm>
            <a:off x="3859200" y="4681440"/>
            <a:ext cx="1432080" cy="567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с двумя вырезанными противолежащими углами 7"/>
          <p:cNvSpPr/>
          <p:nvPr/>
        </p:nvSpPr>
        <p:spPr>
          <a:xfrm>
            <a:off x="6000840" y="4286160"/>
            <a:ext cx="2500200" cy="1143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Главная ц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яснение сущности явления,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с двумя вырезанными противолежащими углами 8"/>
          <p:cNvSpPr/>
          <p:nvPr/>
        </p:nvSpPr>
        <p:spPr>
          <a:xfrm>
            <a:off x="5929200" y="1857240"/>
            <a:ext cx="2500560" cy="1143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Главная ц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ализация проектного замы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79280" y="260280"/>
            <a:ext cx="8678880" cy="60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оненты проектной и исследовательской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алитическ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вижение идеи и формулирование задачи, поиск гипотезы, обоснованный выбор способа, планирование своей деятельности, самоанали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зентационные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способов и форм наглядной презентации результатов деятельности, изготовление предметов наглядности, подготовка письменного отчёта о проделанной рабо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ммуникативные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ушать и понимать других, выражать себя, находить компромисс, взаимодействовать внутри груп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исковые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ходить информацию по каталогам, контекстный поиск, в Интернет, формулирование ключевых с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формационные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уктурирование информации, представление в различных формах, упорядоченное хранение и поис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дение инструментального эксперимента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рабочего места, проведение эксперимента, осмысление полученн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ценивание успешности обучающегося в выполнении проекта или исслед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пень самостоятельности в выполнении различных этапов работ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пень включённости в групповую работ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ческое использование предметных и общешкольных ЗУН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ичество новой информации использованной для выполнения проек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пень осмысления использованной информац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овень сложности и степень владения использованными методика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игинальность идеи, способа решения проблем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мысление проблемы проекта и формулирование цели проекта или исследова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овень организации и проведения презентации: устного сообщения, письменного отчёта, обеспечения объёктами нагляд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ческий подход в подготовке объектов наглядности презентац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ое и прикладное значение полученных результ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Таблица 1" descr=""/>
          <p:cNvPicPr/>
          <p:nvPr/>
        </p:nvPicPr>
        <p:blipFill>
          <a:blip r:embed="rId1"/>
          <a:stretch/>
        </p:blipFill>
        <p:spPr>
          <a:xfrm>
            <a:off x="176040" y="1054080"/>
            <a:ext cx="8291520" cy="52974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0" y="14292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ехнология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чебно-исследов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357120" y="285840"/>
            <a:ext cx="84297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е решающее звено этой новации —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итель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 носителя знаний и информации, учитель превращается в организатора деятельности, консультанта и коллегу по решению проблемы. Работа над учебным проектом или исследованием позволяет выстроить бесконфликтную педагогику, вместе с детьми вновь и вновь пережить вдохновение творчества, превратить процесс образовательный процесс из скучной принудиловки в результативную созидательную творческую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357120" y="285840"/>
            <a:ext cx="8429760" cy="64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ебный проект или исследование  для учащего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это возможность максимального раскрытия своего творческого потенциала. Это деятельность, позволит проявить себя индивидуально или в группе, попробовать свои силы, приложить свои знания, принести пользу, показать публично достигнутый результ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6"/>
          <p:cNvSpPr/>
          <p:nvPr/>
        </p:nvSpPr>
        <p:spPr>
          <a:xfrm>
            <a:off x="214200" y="182160"/>
            <a:ext cx="8786880" cy="82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нет-ресурсы по проблемам проектной и исследов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chools.keldysh.ru/labmro -  сайт лаборатории методики и информационной поддержки развития образования МИО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vernadsky.dnttm.r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— сайт Всероссийского Конкурса юношеских исследовательских работ им. В. И. Вернадско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issl.dnttm.r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— сайт журнала «Исследовательская работа школьник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konkurs.dnttm.r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— обзор исследовательских и научно-практических юношеских конференций, семинаров, конкур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resercher.ru 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ртал исследовательской деятельности уча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21420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е технологии формируют 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737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самостоятельно мыслить, добывать и применять зна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737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поиска, анализа и обработки информаци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737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двигать гипотезы, четко планировать действия, делать выводы, оценивать достигнутые результат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737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т взаимодействовать  с другими людьми, эффективно сотрудничать в групп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785880" y="14292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собы организации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2"/>
          <p:cNvSpPr/>
          <p:nvPr/>
        </p:nvSpPr>
        <p:spPr>
          <a:xfrm>
            <a:off x="2286000" y="1214280"/>
            <a:ext cx="4572000" cy="857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3"/>
          <p:cNvSpPr/>
          <p:nvPr/>
        </p:nvSpPr>
        <p:spPr>
          <a:xfrm>
            <a:off x="1071720" y="3500280"/>
            <a:ext cx="2571480" cy="785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продуктивный 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4"/>
          <p:cNvSpPr/>
          <p:nvPr/>
        </p:nvSpPr>
        <p:spPr>
          <a:xfrm>
            <a:off x="5500800" y="3500280"/>
            <a:ext cx="2571480" cy="785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дуктивный, творческий 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1106640" y="5429160"/>
            <a:ext cx="2500200" cy="7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лассно-уроч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5537160" y="5429160"/>
            <a:ext cx="25002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етод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10"/>
          <p:cNvCxnSpPr/>
          <p:nvPr/>
        </p:nvCxnSpPr>
        <p:spPr>
          <a:xfrm flipH="1">
            <a:off x="2356920" y="2143080"/>
            <a:ext cx="929520" cy="121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Прямая со стрелкой 14"/>
          <p:cNvCxnSpPr/>
          <p:nvPr/>
        </p:nvCxnSpPr>
        <p:spPr>
          <a:xfrm flipH="1">
            <a:off x="2355480" y="4430880"/>
            <a:ext cx="216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17"/>
          <p:cNvCxnSpPr/>
          <p:nvPr/>
        </p:nvCxnSpPr>
        <p:spPr>
          <a:xfrm flipH="1">
            <a:off x="6786360" y="4428720"/>
            <a:ext cx="216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" name="TextBox 18"/>
          <p:cNvSpPr/>
          <p:nvPr/>
        </p:nvSpPr>
        <p:spPr>
          <a:xfrm>
            <a:off x="3535200" y="242892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в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Прямая со стрелкой 23"/>
          <p:cNvCxnSpPr/>
          <p:nvPr/>
        </p:nvCxnSpPr>
        <p:spPr>
          <a:xfrm>
            <a:off x="5857920" y="2143080"/>
            <a:ext cx="929520" cy="121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42960" y="785880"/>
            <a:ext cx="77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следовательская деятельность обучающих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то работа учащихся над творческой, исследовательской задачей с заранее неизвестным решени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13840"/>
            <a:ext cx="8329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Основные  этапы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ановка проблем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учение теории, посвященной данной проблематик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бор методик исследования и практическое овладение им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бор собственного материал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го анализ и обобщение, научный комментарий, собственные выво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428760" y="642960"/>
            <a:ext cx="8072280" cy="55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ектная деятельность обучающихся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овместная учебно-познавательная, творческая или игровая деятельность учащихся, имеющая общую цель, согласованные методы, способы деятельности, направленная на достижение общего результата деятель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500040" y="714240"/>
            <a:ext cx="80010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Calibri"/>
              </a:rPr>
              <a:t>Условием проектной деятельност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вляется наличие заранее выработанных представлений о конечном продукте деятельности, этапов проектирования и реализации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571680" y="714240"/>
            <a:ext cx="82468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ектно-исследовательская деятельность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ятельность по проектированию собственного исслед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539640" y="189000"/>
            <a:ext cx="78580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Цель исследовательской деятельности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витие личности,  приобретение учащимся навыка исследования как универсального способа освоения действительности, развитии способности к исследовательскому типу мышления, активизации личностной позиции учащегося в образовательном процессе на основе самостоятельно получаемы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5:38:45Z</dcterms:created>
  <dc:creator>SAD</dc:creator>
  <dc:description/>
  <dc:language>en-US</dc:language>
  <cp:lastModifiedBy>BoSS</cp:lastModifiedBy>
  <dcterms:modified xsi:type="dcterms:W3CDTF">2013-11-22T16:23:56Z</dcterms:modified>
  <cp:revision>27</cp:revision>
  <dc:subject/>
  <dc:title>Организация  проектной и исследовательской деятельности в школе.</dc:title>
</cp:coreProperties>
</file>