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3607-8B0B-4D2C-93E4-EC7A162DB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80DF-8298-4E7B-A52C-7A43A674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87F6-F64E-4C09-9381-07A06F578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6080-A523-4199-82A2-580E54912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36F1-FBCF-487D-BC8A-EF1172A1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2488-10FD-4478-ABF2-B0B9B594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BA30-BEC5-4C9B-867B-87AD1C1C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2456-5AEC-4AB0-9794-4D3FFB1A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FA00-0B24-4F12-BDD9-A8A0E2A7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C5C6-BA3F-43ED-BD70-977F8CC0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4E33-9C6F-45AE-BBD5-312AA6FA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6EAD-5651-44AD-9372-E14F61EE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70C9-1F91-4CD0-8752-F48524CF77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1642680"/>
            <a:ext cx="807264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рганизация 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проектной и исследовательской деятельности в школ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68360" y="5157360"/>
            <a:ext cx="6400800" cy="13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97d"/>
                </a:solidFill>
                <a:latin typeface="Calibri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1f497d"/>
                </a:solidFill>
                <a:latin typeface="Calibri"/>
              </a:rPr>
              <a:t>МБОУ –СОШ с.Кистенд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97d"/>
                </a:solidFill>
                <a:latin typeface="Calibri"/>
              </a:rPr>
              <a:t>Трубникова Е.Е.</a:t>
            </a:r>
            <a:r>
              <a:rPr b="0" i="1" lang="ru-RU" sz="20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428760" y="0"/>
            <a:ext cx="828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Соотношение проектирования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проектного метода организации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Блок-схема: перфолента 2"/>
          <p:cNvSpPr/>
          <p:nvPr/>
        </p:nvSpPr>
        <p:spPr>
          <a:xfrm>
            <a:off x="857160" y="1785960"/>
            <a:ext cx="3000600" cy="1214280"/>
          </a:xfrm>
          <a:prstGeom prst="flowChartPunchedTap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ек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Блок-схема: перфолента 3"/>
          <p:cNvSpPr/>
          <p:nvPr/>
        </p:nvSpPr>
        <p:spPr>
          <a:xfrm>
            <a:off x="857160" y="4214880"/>
            <a:ext cx="3000600" cy="1214280"/>
          </a:xfrm>
          <a:prstGeom prst="flowChartPunchedTap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Стрелка вправо 4" descr=""/>
          <p:cNvPicPr/>
          <p:nvPr/>
        </p:nvPicPr>
        <p:blipFill>
          <a:blip r:embed="rId1"/>
          <a:stretch/>
        </p:blipFill>
        <p:spPr>
          <a:xfrm>
            <a:off x="3859200" y="2182680"/>
            <a:ext cx="1432080" cy="554040"/>
          </a:xfrm>
          <a:prstGeom prst="rect">
            <a:avLst/>
          </a:prstGeom>
          <a:ln w="0">
            <a:noFill/>
          </a:ln>
        </p:spPr>
      </p:pic>
      <p:pic>
        <p:nvPicPr>
          <p:cNvPr id="65" name="Стрелка вправо 5" descr=""/>
          <p:cNvPicPr/>
          <p:nvPr/>
        </p:nvPicPr>
        <p:blipFill>
          <a:blip r:embed="rId2"/>
          <a:stretch/>
        </p:blipFill>
        <p:spPr>
          <a:xfrm>
            <a:off x="3859200" y="4681440"/>
            <a:ext cx="1432080" cy="567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с двумя вырезанными противолежащими углами 7"/>
          <p:cNvSpPr/>
          <p:nvPr/>
        </p:nvSpPr>
        <p:spPr>
          <a:xfrm>
            <a:off x="6000840" y="4286160"/>
            <a:ext cx="2500200" cy="1143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Главная ц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уяснение сущности явления, ис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с двумя вырезанными противолежащими углами 8"/>
          <p:cNvSpPr/>
          <p:nvPr/>
        </p:nvSpPr>
        <p:spPr>
          <a:xfrm>
            <a:off x="5929200" y="1857240"/>
            <a:ext cx="2500560" cy="1143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Calibri"/>
              </a:rPr>
              <a:t>Главная ц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еализация проектного замы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179280" y="260280"/>
            <a:ext cx="8678880" cy="60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мпоненты проектной и исследовательской деятельнос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налитическ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движение идеи и формулирование задачи, поиск гипотезы, обоснованный выбор способа, планирование своей деятельности, самоанализ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езентационные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бор способов и форм наглядной презентации результатов деятельности, изготовление предметов наглядности, подготовка письменного отчёта о проделанной работ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ммуникативные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ушать и понимать других, выражать себя, находить компромисс, взаимодействовать внутри групп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исковые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ходить информацию по каталогам, контекстный поиск, в Интернет, формулирование ключевых сл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формационные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уктурирование информации, представление в различных формах, упорядоченное хранение и поис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ведение инструментального эксперимента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ганизация рабочего места, проведение эксперимента, осмысление полученных результ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ценивание успешности обучающегося в выполнении проекта или исслед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епень самостоятельности в выполнении различных этапов работы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епень включённости в групповую работу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ктическое использование предметных и общешкольных ЗУН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личество новой информации использованной для выполнения проект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епень осмысления использованной информаци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ровень сложности и степень владения использованными методикам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игинальность идеи, способа решения проблемы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мысление проблемы проекта и формулирование цели проекта или исследован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ровень организации и проведения презентации: устного сообщения, письменного отчёта, обеспечения объёктами наглядност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ворческий подход в подготовке объектов наглядности презентаци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циальное и прикладное значение полученных результат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Таблица 1" descr=""/>
          <p:cNvPicPr/>
          <p:nvPr/>
        </p:nvPicPr>
        <p:blipFill>
          <a:blip r:embed="rId1"/>
          <a:stretch/>
        </p:blipFill>
        <p:spPr>
          <a:xfrm>
            <a:off x="176040" y="1054080"/>
            <a:ext cx="8291520" cy="52974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2"/>
          <p:cNvSpPr/>
          <p:nvPr/>
        </p:nvSpPr>
        <p:spPr>
          <a:xfrm>
            <a:off x="0" y="142920"/>
            <a:ext cx="857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Технология 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учебно-исследователь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357120" y="285840"/>
            <a:ext cx="842976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ое решающее звено этой новации —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читель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 носителя знаний и информации, учитель превращается в организатора деятельности, консультанта и коллегу по решению проблемы. Работа над учебным проектом или исследованием позволяет выстроить бесконфликтную педагогику, вместе с детьми вновь и вновь пережить вдохновение творчества, превратить процесс образовательный процесс из скучной принудиловки в результативную созидательную творческую раб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357120" y="285840"/>
            <a:ext cx="8429760" cy="64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чебный проект или исследование  для учащегос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— это возможность максимального раскрытия своего творческого потенциала. Это деятельность, позволит проявить себя индивидуально или в группе, попробовать свои силы, приложить свои знания, принести пользу, показать публично достигнутый результа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6"/>
          <p:cNvSpPr/>
          <p:nvPr/>
        </p:nvSpPr>
        <p:spPr>
          <a:xfrm>
            <a:off x="214200" y="182160"/>
            <a:ext cx="8786880" cy="82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нет-ресурсы по проблемам проектной и исследователь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schools.keldysh.ru/labmro -  сайт лаборатории методики и информационной поддержки развития образования МИО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ww.vernadsky.dnttm.r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— сайт Всероссийского Конкурса юношеских исследовательских работ им. В. И. Вернадског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ww.issl.dnttm.r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— сайт журнала «Исследовательская работа школьника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ww.konkurs.dnttm.ru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— обзор исследовательских и научно-практических юношеских конференций, семинаров, конкурс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resercher.ru –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ртал исследовательской деятельности учащих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21420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ые технологии формируют 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737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самостоятельно мыслить, добывать и применять знания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737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ыки поиска, анализа и обработки информаци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737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ыдвигать гипотезы, четко планировать действия, делать выводы, оценивать достигнутые результаты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737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т взаимодействовать  с другими людьми, эффективно сотрудничать в групп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785880" y="14292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особы организации учеб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2"/>
          <p:cNvSpPr/>
          <p:nvPr/>
        </p:nvSpPr>
        <p:spPr>
          <a:xfrm>
            <a:off x="2286000" y="1214280"/>
            <a:ext cx="4572000" cy="8575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3"/>
          <p:cNvSpPr/>
          <p:nvPr/>
        </p:nvSpPr>
        <p:spPr>
          <a:xfrm>
            <a:off x="1071720" y="3500280"/>
            <a:ext cx="2571480" cy="785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епродуктивный спосо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4"/>
          <p:cNvSpPr/>
          <p:nvPr/>
        </p:nvSpPr>
        <p:spPr>
          <a:xfrm>
            <a:off x="5500800" y="3500280"/>
            <a:ext cx="2571480" cy="7858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одуктивный, творческий спосо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5"/>
          <p:cNvSpPr/>
          <p:nvPr/>
        </p:nvSpPr>
        <p:spPr>
          <a:xfrm>
            <a:off x="1106640" y="5429160"/>
            <a:ext cx="2500200" cy="714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Классно-урочн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6"/>
          <p:cNvSpPr/>
          <p:nvPr/>
        </p:nvSpPr>
        <p:spPr>
          <a:xfrm>
            <a:off x="5537160" y="5429160"/>
            <a:ext cx="25002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етод про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Прямая со стрелкой 10"/>
          <p:cNvCxnSpPr/>
          <p:nvPr/>
        </p:nvCxnSpPr>
        <p:spPr>
          <a:xfrm flipH="1">
            <a:off x="2356920" y="2143080"/>
            <a:ext cx="929520" cy="1215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1" name="Прямая со стрелкой 14"/>
          <p:cNvCxnSpPr/>
          <p:nvPr/>
        </p:nvCxnSpPr>
        <p:spPr>
          <a:xfrm flipH="1">
            <a:off x="2355480" y="4430880"/>
            <a:ext cx="2160" cy="786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Прямая со стрелкой 17"/>
          <p:cNvCxnSpPr/>
          <p:nvPr/>
        </p:nvCxnSpPr>
        <p:spPr>
          <a:xfrm flipH="1">
            <a:off x="6786360" y="4428720"/>
            <a:ext cx="2160" cy="78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3" name="TextBox 18"/>
          <p:cNvSpPr/>
          <p:nvPr/>
        </p:nvSpPr>
        <p:spPr>
          <a:xfrm>
            <a:off x="3535200" y="242892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во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Прямая со стрелкой 23"/>
          <p:cNvCxnSpPr/>
          <p:nvPr/>
        </p:nvCxnSpPr>
        <p:spPr>
          <a:xfrm>
            <a:off x="5857920" y="2143080"/>
            <a:ext cx="929520" cy="1215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42960" y="785880"/>
            <a:ext cx="7786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сследовательская деятельность обучающих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то работа учащихся над творческой, исследовательской задачей с заранее неизвестным решение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213840"/>
            <a:ext cx="83296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Основные  этапы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становка проблем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зучение теории, посвященной данной проблематик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дбор методик исследования и практическое овладение им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бор собственного материал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го анализ и обобщение, научный комментарий, собственные вывод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428760" y="642960"/>
            <a:ext cx="8072280" cy="55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оектная деятельность обучающихся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овместная учебно-познавательная, творческая или игровая деятельность учащихся, имеющая общую цель, согласованные методы, способы деятельности, направленная на достижение общего результата деятельно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500040" y="714240"/>
            <a:ext cx="8001000" cy="48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Calibri"/>
              </a:rPr>
              <a:t>Условием проектной деятельности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вляется наличие заранее выработанных представлений о конечном продукте деятельности, этапов проектирования и реализации про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571680" y="714240"/>
            <a:ext cx="824688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оектно-исследовательская деятельность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ятельность по проектированию собственного исслед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539640" y="189000"/>
            <a:ext cx="785808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Цель исследовательской деятельности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звитие личности,  приобретение учащимся навыка исследования как универсального способа освоения действительности, развитии способности к исследовательскому типу мышления, активизации личностной позиции учащегося в образовательном процессе на основе самостоятельно получаемых зн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5:38:45Z</dcterms:created>
  <dc:creator>SAD</dc:creator>
  <dc:description/>
  <dc:language>en-US</dc:language>
  <cp:lastModifiedBy>BoSS</cp:lastModifiedBy>
  <dcterms:modified xsi:type="dcterms:W3CDTF">2013-11-22T16:23:56Z</dcterms:modified>
  <cp:revision>27</cp:revision>
  <dc:subject/>
  <dc:title>Организация  проектной и исследовательской деятельности в школе.</dc:title>
</cp:coreProperties>
</file>